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4373-459C-49E7-8592-D1FCCBE71E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A354-18E5-49DF-A328-1D78D85071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00B-423B-4427-967F-470DBD06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AE5-9C6B-4421-B0BC-B7B7ADE3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6D7E9-3207-4DFA-A8AD-B610EA6E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31543-5952-483E-9336-5DCDF645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4E515-1D0D-4DB8-B8CE-83C6758A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95ED1-613F-44DA-9AFA-7BFDFB75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8332E-9B63-4C72-AE1F-E7D9F90D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EB89E-A00B-40C1-A9AB-078F286F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3BCCB-6AAC-43D4-A154-99806EB2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598D5-AE83-44C4-9ECC-975E0D20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3B7E5-FCEC-4C02-8A92-778E7AED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4328F-5AA8-4648-952A-EAF51813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E5F-E951-415A-BFF3-03FDFA57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B56A7-3EC3-475A-BDF0-DA84B0B3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33D64-9440-4821-B0CE-74445330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6C9A1-DD63-4569-810E-C45A856F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84F0C-3B73-4BD7-876D-63DC4CAE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2D0B2-0A1A-4C77-B373-E9F2D2BD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77D98-127D-46F8-A84C-03381876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185DB-136F-4633-B171-058A4947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020BA-737A-470D-B6CB-3F9F9C79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22C2A-EA4E-43C2-8424-35525ABC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19A52-465E-44D4-AE92-909BF5DF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7B4-D638-4802-9DC8-FABA7428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55162-18BE-498C-B15A-9AD456F0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13FE0-FDF1-4354-8F94-F55D6442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CFD0F-0DDA-48B1-897A-4E05F03C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BAFA0-B6E8-4876-BCDF-A34B3DE1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365C6-9138-4315-8144-559C6813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235D5-4F28-415B-985A-DD25CF08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7F8E3-1BAD-4AEE-AD08-F348E8F0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6E749-C0BA-4962-BCE9-9912FCBC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F053F-432F-4FA3-9DA5-E62B39ED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03378-7A22-46F5-9B3E-0071F77A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26AF-5E6C-469E-9265-949F2483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EE5E8-FB94-43D6-BD80-7C42891A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02839-9C2F-43FA-961D-7B5C58BC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7EA3B-9380-4C1D-A058-ECA86BCF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8B118-D300-481E-BA13-9258DDDB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3FB92-31D5-4A0F-9C6B-75030F80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38F73-32DE-4D87-B7C6-61B9CFCB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C99C0-49EB-4173-97D7-3DABA5AB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C88D2-22A3-4495-9357-26F03A42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1BAFB-E0C8-426F-B8DC-4DF95C4E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BE7F8-AC94-46F3-99E5-2C22A90D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BA5A-E481-4BBD-ACEB-20EF7A90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F10A9-BC60-4730-894A-6C4D9440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C4858-E08B-4B08-9F6E-B9ECDB1F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BC316-B807-46E9-A4F9-FA822498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2A6A2-DCC9-4C61-9462-5280EFC5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F353B-C9C2-4019-B932-B9A3393C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EF7AE-8CC7-4CC9-9C02-AD2BB023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A2C05-93D3-4654-B467-A8CBA2C0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51104-C743-4EBC-9EBC-0E5F75FC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CED11-C86B-4EC9-8A37-D600CCB0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4A8F4-C33C-4F6F-B165-50A5A080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F178-E325-4C63-AF2A-493266CB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4F10D-104D-4AFE-AF12-036B8D97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DBB33-4F1F-47CB-9228-958846A8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365AB0-7714-44F9-9099-3518049F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13836-F959-439A-97A6-419AC553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70B6A-6F59-4879-AD58-F2012D80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58606-2109-4823-A948-D9715988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6DD7E-9148-4174-9ECE-99EF13AE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2FDFB-A78F-4D2E-B8CB-9A53C06B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406C3-04F3-4D05-8993-3A0E9943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2F95CC-C3D1-40DF-B139-9F841662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3C1A-C9D9-4F01-A365-626C445E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B77B4-3CC2-441A-9C42-B428FAD2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B22C7-1009-4C65-BDB9-5956CCAE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BE18D-7661-44F8-B6FE-8489DE79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82D64-9FD8-4929-A519-A8241621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06CD90-2D9A-4EAA-8F02-84E75CF2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48A9F-7009-49C6-AAF1-DA1B5A48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45DE7-1957-4786-A781-D2F07DB5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D7643-24FF-49E6-A027-271994AC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34298-6766-4785-A02F-C75A810F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120CA-BF68-4744-80B5-D5866810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C484-24E6-4D55-8DB5-7E057551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B289D9-BB60-4EAD-88FF-2024D157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4B967-83E1-47D4-B2FC-BC8207AE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B57158-485B-4612-BCE9-D2B39961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C55C1-44FE-45CA-B727-B54FDE0F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C2A1E5-25E0-4299-93B6-EC174AEE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B6E1EC-44A8-4630-BAA3-6E9BA7A9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3D636A-7F9E-467E-8F5E-92CF1E2E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3CC063-91AD-4E51-8F1D-0CF37107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85D68-2378-45D2-B1F7-F6C00680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827FA7-9862-4AEF-8A3A-99C1DDC3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5172-1A62-4390-88B9-B25429F1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078E45-8431-4566-904E-FAB81BF3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4824EE-8D78-4C54-960B-91498B44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A6189-6AFA-4DC2-B63E-AB91D409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EA985-2522-42DF-9093-54BF8104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5AB6BB-7785-4485-BC9D-623F8653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BCB7A2-2B5D-44F4-BF9C-BF360FD2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6AB10-79C1-4012-9B6E-202FB587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67840-A48E-4103-A5B9-7568C177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7FC61-B7A5-4DC1-B923-F043F3D7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11CA6F-36A6-428C-A621-554D69B7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6FD1-B3B8-4562-966B-A424B342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93B27-03D3-4679-A7BC-8A903462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E68661-D793-4FE6-9064-BB280A1A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23B70-AAAE-488A-B0FA-E3EC4BDF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67E17E-F463-46B6-B7F3-AF0027E6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0098C4-3852-491F-9BE5-35168C86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07EFC4-E7B0-40DF-AB9C-2BE90E25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21E75-9367-4E4F-8F72-A368D80B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5E439D-96E0-402C-89DB-F261BF9D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E3E122-1664-48A7-86D9-F7D737AB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219FA2-C93B-4018-9778-C98A6B03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479-5888-441A-A913-5F35E9E3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F394-D11B-4150-8B9F-FBD72685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AAB9AE-4EEE-4382-BFE9-41D572D7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83F9CF-8810-4A41-A5C0-B7E4D223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51BF4-350A-483D-86A8-21C26490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8F0580-2874-458B-BEF3-B678E0A1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6A4ABE-ADAA-44BF-9112-AEBAE47A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805F-28C3-4B76-A4DB-CBF79DDC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F0CF-E6B5-4A08-94E2-2BB36D21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DA7D-4E68-4872-A066-292568A4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99BE-04B8-4850-8F33-A4C50B5C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53EC-AC35-4E85-9B60-242FFCD9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93160-0037-4DDF-96F5-871333FD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89746-AFA5-4EFE-A98A-466FBEC6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B8FAE-8D67-456B-98D5-DFF4F154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4C000-CBD6-4522-9466-4CB084DE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7BD-82EE-417D-960C-64FC7772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A59A0-4B1B-4C64-B769-65E917B9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F37AC-EAE9-4ED8-94B7-1B07A476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65048-9907-48AF-A507-4A1FD4B4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22E3-87E4-49E0-80BD-617CE108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57A0B-F5C3-42E0-8AE8-F654805F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46D61-F982-4878-B5AD-5963B087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FA01C-C675-42BF-B50F-B0E8667F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7A6EB-3BF1-43B3-AA7A-19A4E18C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64743-51AF-40E4-9778-6657EC67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C69C5-854D-4E45-A1C4-076C395B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A38-A567-4624-AC02-C91C6824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BE6D3-8E1F-4193-914E-AA536409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6123E-23BE-48A7-A2E1-51F64707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7D2A0-6981-408E-9408-B2B23E52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F7255-C72C-4298-B3D8-77E5C28E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742CF-74F1-4698-A07B-26CC959D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BDA63-7D55-45F5-897C-2B6A8AA8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5C4C-91B3-49EC-B4EB-62D11352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0DC42-16D7-47F2-A48B-8FFF3AA2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F3D69-58C4-49DE-A8E7-CB6707B7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C1FAB-8755-4D5C-A3DC-AB826B4D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AA4-E69B-4492-8FD5-6C0AA318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D57B0-B9F9-4F0B-B75E-37D8BDC1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9E351-1079-4081-9578-F65FB18A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8A068-232D-45E9-895D-ACE69059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765E7-F820-4165-AEA1-D6B69702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046AF-3E0B-4599-997C-E2B0D7C9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175FB-1AFC-4BD3-9811-1808EE46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3D8C6-7C91-409A-A232-2939486D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493F7-FF5D-45DD-8919-5EBA50C7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1705C-6E1A-4C7F-B058-203401DA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1E831-9E1A-45B6-9349-E9E89F79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F24-B048-4039-9D60-1DE0E092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2CC37-5325-49B4-9D7F-4128C761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FCCFA-A68C-48A9-B45E-F21D6FA1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90647-4D11-4EFC-8846-1EC8BA2F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78BCA-4536-44C4-A26D-67ADE140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07473-FCF9-4B35-8425-8B91670A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B2819-D06D-4ACC-8831-EA7146CC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7928B-52E2-47EA-A7BF-E4E7E0DF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D47CC-C7F8-4713-BD10-4987D92E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E538C-B57C-4C47-ABCE-7E21F606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B079A-CE30-40B1-AE9A-C0F0F5E6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B92-CA73-4B21-8A00-26D3E8DF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32DA4-4A76-48DB-B288-24AB28F9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3EE80-31F1-43B4-96E5-E48A2F0C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3712F-31BF-47C8-B25B-DE85348B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26BBA-1704-4218-83D1-ECF21B6C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89F0A-F8F3-420D-A7C4-291615D0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636A3-7768-48F4-B763-4D92FC4A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D86A0-B9BB-4DDA-96B6-935A1F58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6FF6D-6FE2-49BE-9CEA-B80C880B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CD44C-9EA2-4B03-B499-5C153DED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BBC08-B738-44B8-B737-081F8656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B2E-BE07-4C1F-9187-2D74F269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EF04F-7B52-4A9A-9BE6-661E5302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BB4C6-BEE4-47D6-99BD-E8BF099E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C15B0-3F7E-404B-B705-01F745D4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6497B-0300-4DC8-B80E-55E46BD5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C114D-3E04-40BB-80C2-1593953A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BBFEB-31B9-446C-A37A-1FAA9786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6D28A-E502-47B1-83B3-8AF9A36F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249F0-525D-4BE4-B2CE-D1597194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7EE6D-8B2F-469E-9D63-7C1DAE44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01785-5942-4217-957B-F10135EA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FB6-4AAA-4EDB-B881-C761262D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8BBCA-4A07-4C18-8A37-F2AB248C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0F4ED-5CEF-4911-9F1B-D1863B4D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CF674-0F22-4C38-846F-6D29F628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3F553-76E7-484D-8E23-80987F9A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82497-391A-4C08-8529-A70ECCF7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23A46-7CD9-462E-92C7-114E5EF5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8158E-3931-40B9-85F1-3BAF1295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3CDC2-F54C-420B-A9DE-53E96390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49AAD-95F4-420D-A05B-9F66C8D9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9F1AB-53A2-4287-90D3-A972D853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0288-F25E-4B22-A518-5B16AD3F59B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ED6E-6457-48CF-B39D-96689E65CB9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26ED-77A8-4C7C-A383-6274FD00CC7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C9D6-0B64-4FA4-A390-00D44845CCD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AED2-C508-433C-B50D-D3A1CD99FFB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5D0B-37E9-498F-B681-7973D9E7513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E6F3-93C9-4FBF-805B-D31574B90E1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A3F4-4174-4873-A7A6-4CA980E2F38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B24E-C717-4446-ADC5-67F3942BBD1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04D7-159A-452D-B4B0-92DC84C2ABC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1E1A-49EA-4B62-9EE0-AE73956AF2E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6C24-358C-49A0-8D09-84EB07F118A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999A-FF0F-4945-943A-2ED258A2AB0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65E9-B18F-418D-90ED-1446903CE0C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8061-94AA-4279-AC42-11D986BB787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A208-EC54-48B1-A2D0-D8E7EB6873B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E4BE-69DE-495A-B871-1210C2E34E9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lr=213&amp;noreask=1&amp;ed=1&amp;text=&#1087;&#1088;&#1086;&#1077;&#1082;&#1090;&#1085;&#1072;&#1103;%20&#1076;&#1077;&#1103;&#1090;&#1077;&#1083;&#1100;&#1085;&#1086;&#1089;&#1090;&#1100;%20&#1074;%201%20&#1082;&#1083;&#1072;&#1089;&#1089;&#1077;&amp;p=250&amp;img_url=stat16.privet.ru/lr/0b08a3d46ea0846f232dc75cb7941a49&amp;rpt=simag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lr=213&amp;noreask=1&amp;ed=1&amp;text=&#1087;&#1088;&#1086;&#1077;&#1082;&#1090;&#1085;&#1072;&#1103;%20&#1076;&#1077;&#1103;&#1090;&#1077;&#1083;&#1100;&#1085;&#1086;&#1089;&#1090;&#1100;%20&#1074;%201%20&#1082;&#1083;&#1072;&#1089;&#1089;&#1077;&amp;p=29&amp;img_url=www.moi-universitet.ru/resources/5220-original.jpeg&amp;rpt=simage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.allday.ru/uploads/posts/1191269027_c411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lr=213&amp;noreask=1&amp;ed=1&amp;text=&#1087;&#1088;&#1086;&#1077;&#1082;&#1090;&#1085;&#1072;&#1103;%20&#1076;&#1077;&#1103;&#1090;&#1077;&#1083;&#1100;&#1085;&#1086;&#1089;&#1090;&#1100;%20&#1074;%201%20&#1082;&#1083;&#1072;&#1089;&#1089;&#1077;&amp;p=92&amp;img_url=c.cards.imgsmail.ru/29/89/7abd2c3778e3b07601a321055efa8929.jpg&amp;rpt=simag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800" spc="-1" strike="noStrike">
                <a:solidFill>
                  <a:srgbClr val="1581aa"/>
                </a:solidFill>
                <a:latin typeface="Monotype Corsiva"/>
              </a:rPr>
              <a:t>Как рождается проект?</a:t>
            </a:r>
            <a:endParaRPr b="0" lang="en-US" sz="88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3924360" y="4168440"/>
            <a:ext cx="4782960" cy="17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одготовил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читель начальных классов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КОУ «Ботвиньевская ООШ»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троухова Е.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5" name="Picture 3" descr="D:\мамина папка\единая коллекция цифровых технологий\шаблоны для презентаций\Сказочные персонажи\люди и дети\c737eab67cfa.jpg"/>
          <p:cNvPicPr/>
          <p:nvPr/>
        </p:nvPicPr>
        <p:blipFill>
          <a:blip r:embed="rId1"/>
          <a:stretch/>
        </p:blipFill>
        <p:spPr>
          <a:xfrm>
            <a:off x="1042920" y="3008160"/>
            <a:ext cx="3384720" cy="3578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TextBox 1"/>
          <p:cNvSpPr/>
          <p:nvPr/>
        </p:nvSpPr>
        <p:spPr>
          <a:xfrm>
            <a:off x="1908000" y="69228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81aa"/>
                </a:solidFill>
                <a:latin typeface="Arial"/>
              </a:rPr>
              <a:t>Виды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Box 2"/>
          <p:cNvSpPr/>
          <p:nvPr/>
        </p:nvSpPr>
        <p:spPr>
          <a:xfrm>
            <a:off x="755640" y="1557360"/>
            <a:ext cx="79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краткосрочные проек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это могут быть проекты, предусмотренные для проведения на уроке или во внеурочное время для решения небольшой проблем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долгосрочные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предусматривающие решение достаточно сложной проблемы, требующей длительного наблюдения, постановки экспериментов, опытов, сбор данных, их обраб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TextBox 4"/>
          <p:cNvSpPr/>
          <p:nvPr/>
        </p:nvSpPr>
        <p:spPr>
          <a:xfrm>
            <a:off x="1908000" y="69228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81aa"/>
                </a:solidFill>
                <a:latin typeface="Arial"/>
              </a:rPr>
              <a:t>Типы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971640" y="1557000"/>
            <a:ext cx="7129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Исследовательские проекты 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Творческие проекты .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Ролево-игровые проект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Информационные проекты 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Практико-ориентированные проекты  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 txBox="1"/>
          <p:nvPr/>
        </p:nvSpPr>
        <p:spPr>
          <a:xfrm>
            <a:off x="1186920" y="1341360"/>
            <a:ext cx="7705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Исследовательские проекты.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Такие проекты требуют хорошо продуманной структуры, обозначенных целей, актуальности проекта для всех участников, продуманных методов, в том числе экспериментальных и опытных работ, методов обработки результатов. Исследовательские проекты – одна из наиболее распространенных форм данного вида деятельности.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ример: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практические и лабораторные работы, доклады,  выступления,  дневники наблюдения  и  т.д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1115640" y="134136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Творческие проекты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не имеют детально проработанной структуры совместной деятельности учащихся – она только намечается и далее развивается с требованиями к форме и жанру конечного результата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ример: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это может быть стенная газета, сценарий праздника, театрализации, видеофильм, плакат, ит.д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684360" y="119700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Ролево-игровые проекты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требуют большой подготовительной работы. Принятие решения осуществляется в игровой ситуации. Участники принимают на себя определенные роли, обусловленные характером и содержанием проекта. Это могут быть литературные персонажи или выдуманные герои. Результаты таких проектов чаще вырисовываются к моменту завершения действия. Степень творчества здесь очень высокая, но доминирующим видом деятельности все-таки является ролево-игровая, приключенческа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ример: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сценарий праздника, фрагмент урока, кроссворд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 txBox="1"/>
          <p:nvPr/>
        </p:nvSpPr>
        <p:spPr>
          <a:xfrm>
            <a:off x="755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Информационные проекты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направлены на сбор информации о каком-либо объекте, явлении, на ознакомление участников проекта с этой информацией, её анализ и обобщение фактов.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ример: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различные сообщения, доклад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3" name="Рисунок 3" descr="http://im4-tub-ru.yandex.net/i?id=398305358-61-72"/>
          <p:cNvPicPr/>
          <p:nvPr/>
        </p:nvPicPr>
        <p:blipFill>
          <a:blip r:embed="rId1"/>
          <a:stretch/>
        </p:blipFill>
        <p:spPr>
          <a:xfrm>
            <a:off x="5219640" y="3860640"/>
            <a:ext cx="3229200" cy="275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 txBox="1"/>
          <p:nvPr/>
        </p:nvSpPr>
        <p:spPr>
          <a:xfrm>
            <a:off x="684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Практико-ориентированные проекты 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отличает четко обозначенный с самого начала характер результата деятельности его участников. Этот результат обязательно должен быть ориентирован на социальные интересы самих участников. Этот проект требует четко продуманной структуры, которая может быть представлена в виде сценария, определения функции каждого участника и участия каждого из них в оформлении конечного результата. Целесообразно проводить поэтапные обсуждения, позволяющие координировать совместную деятельность участников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Пример: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 проект закона, справочный материал, программа действий, совместная экспедиция, наглядное пособие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Рисунок 3" descr="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226" name="TextBox 5"/>
          <p:cNvSpPr/>
          <p:nvPr/>
        </p:nvSpPr>
        <p:spPr>
          <a:xfrm>
            <a:off x="1908000" y="-28440"/>
            <a:ext cx="48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8" name="TextBox 4"/>
          <p:cNvSpPr/>
          <p:nvPr/>
        </p:nvSpPr>
        <p:spPr>
          <a:xfrm>
            <a:off x="2158920" y="30448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 txBox="1"/>
          <p:nvPr/>
        </p:nvSpPr>
        <p:spPr>
          <a:xfrm>
            <a:off x="4465800" y="259920"/>
            <a:ext cx="45734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учителя начальных классов эта работа является дополнительной нагрузкой но все окупается, в учащихся происходят изменения: на уроках они самостоятельно формулируют тему, цели, подбирают нужную информацию, раскованно выступают перед аудиторией. Увеличилось количество учащихся, владеющих компьютером, дети научились составлять презентации. Увеличилось количество посещений школьной библиотеки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0" name="Picture 2" descr="D:\мамина папка\единая коллекция цифровых технологий\шаблоны для презентаций\Сказочные персонажи\школа\ucheniki_w450_h468.jpg"/>
          <p:cNvPicPr/>
          <p:nvPr/>
        </p:nvPicPr>
        <p:blipFill>
          <a:blip r:embed="rId1"/>
          <a:stretch/>
        </p:blipFill>
        <p:spPr>
          <a:xfrm>
            <a:off x="179280" y="1268280"/>
            <a:ext cx="4286520" cy="4457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373040" y="813960"/>
            <a:ext cx="738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1581aa"/>
                </a:solidFill>
                <a:latin typeface="Monotype Corsiva"/>
              </a:rPr>
              <a:t>Проектная деятельность</a:t>
            </a:r>
            <a:endParaRPr b="0" lang="en-US" sz="54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228680" y="2060280"/>
            <a:ext cx="7670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роектная деятельность содержит: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анализ проблемы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постановка цели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выбор средств ее достижения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поиск и обработка информации, ее анализ и синтез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оценка полученных результатов и выводов.  </a:t>
            </a: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Целью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 проектной деятельности является понимание и применение учащимися знаний, умений и навыков, приобретенных при изучении различных предметов. 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8" name="Picture 1" descr="D:\мамина папка\единая коллекция цифровых технологий\шаблоны для презентаций\Сказочные персонажи\люди и дети\cont.gif"/>
          <p:cNvPicPr/>
          <p:nvPr/>
        </p:nvPicPr>
        <p:blipFill>
          <a:blip r:embed="rId1"/>
          <a:stretch/>
        </p:blipFill>
        <p:spPr>
          <a:xfrm>
            <a:off x="3276720" y="52560"/>
            <a:ext cx="2762280" cy="66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Прямоугольник 1"/>
          <p:cNvSpPr/>
          <p:nvPr/>
        </p:nvSpPr>
        <p:spPr>
          <a:xfrm>
            <a:off x="1476360" y="907920"/>
            <a:ext cx="74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2c48"/>
                </a:solidFill>
                <a:latin typeface="Arial"/>
              </a:rPr>
              <a:t>Проектное обучение не должно вытеснять классно-урочную систему и становиться некоторой панацеей, его следует использовать как дополнение к другим видам прямого или косвенного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Рисунок 2" descr="http://im0-tub-ru.yandex.net/i?id=471504341-24-72"/>
          <p:cNvPicPr/>
          <p:nvPr/>
        </p:nvPicPr>
        <p:blipFill>
          <a:blip r:embed="rId1"/>
          <a:stretch/>
        </p:blipFill>
        <p:spPr>
          <a:xfrm>
            <a:off x="2843280" y="3789360"/>
            <a:ext cx="3457440" cy="2741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Прямоугольник 1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875720" cy="92088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2" descr="D:\мамина папка\единая коллекция цифровых технологий\шаблоны для презентаций\Сказочные персонажи\школа\gpd.gif"/>
          <p:cNvPicPr/>
          <p:nvPr/>
        </p:nvPicPr>
        <p:blipFill>
          <a:blip r:embed="rId2"/>
          <a:stretch/>
        </p:blipFill>
        <p:spPr>
          <a:xfrm>
            <a:off x="2411280" y="2565360"/>
            <a:ext cx="4168800" cy="3848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756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581aa"/>
                </a:solidFill>
                <a:latin typeface="Monotype Corsiva"/>
              </a:rPr>
              <a:t>Принципы организации</a:t>
            </a:r>
            <a:r>
              <a:rPr b="0" lang="ru-RU" sz="3200" spc="-1" strike="noStrike">
                <a:solidFill>
                  <a:srgbClr val="1581aa"/>
                </a:solidFill>
                <a:latin typeface="Monotype Corsiva"/>
              </a:rPr>
              <a:t> проектной деятельности:</a:t>
            </a:r>
            <a:endParaRPr b="0" lang="en-US" sz="32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331640" y="1484280"/>
            <a:ext cx="7561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проект должен быть посильным для выполнения; 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создавать необходимые условия для успешного выполнения проектов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обеспечить руководство проектом со стороны педагогов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в том случае, если проект групповой каждый учащийся должен четко показать свой вклад в выполнение проекта, т.к. каждый участник проекта получает индивидуальную оценку; 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обязательная презентация результатов работы по проекту в той или иной форм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94000" y="3645000"/>
            <a:ext cx="8229600" cy="13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ек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это всегда исследование, поиск, изучение неизвестного.</a:t>
            </a:r>
            <a:endParaRPr b="0" lang="en-US" sz="28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2" name="TextBox 1"/>
          <p:cNvSpPr/>
          <p:nvPr/>
        </p:nvSpPr>
        <p:spPr>
          <a:xfrm>
            <a:off x="1494000" y="361800"/>
            <a:ext cx="797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тод проект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работа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я достижения решения проблемы, оформленная в виде конечного продук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2"/>
          <p:cNvSpPr/>
          <p:nvPr/>
        </p:nvSpPr>
        <p:spPr>
          <a:xfrm>
            <a:off x="1494000" y="1916280"/>
            <a:ext cx="821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ектный метод направлен на развитие критического мышления, умения работать с информацией, работать в коллекти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4" name="Picture 3" descr="D:\мамина папка\единая коллекция цифровых технологий\шаблоны для презентаций\Сказочные персонажи\люди и дети\1759414e3116.jpg"/>
          <p:cNvPicPr/>
          <p:nvPr/>
        </p:nvPicPr>
        <p:blipFill>
          <a:blip r:embed="rId1"/>
          <a:stretch/>
        </p:blipFill>
        <p:spPr>
          <a:xfrm>
            <a:off x="6084720" y="4292640"/>
            <a:ext cx="2262240" cy="2355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Рисунок 3" descr="http://im6-tub-ru.yandex.net/i?id=83415995-30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60280"/>
            <a:ext cx="2529000" cy="2370240"/>
          </a:xfrm>
          <a:prstGeom prst="rect">
            <a:avLst/>
          </a:prstGeom>
          <a:ln w="0">
            <a:noFill/>
          </a:ln>
        </p:spPr>
      </p:pic>
      <p:sp>
        <p:nvSpPr>
          <p:cNvPr id="1196" name="Прямоугольник 4"/>
          <p:cNvSpPr/>
          <p:nvPr/>
        </p:nvSpPr>
        <p:spPr>
          <a:xfrm>
            <a:off x="3059280" y="404640"/>
            <a:ext cx="60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2c48"/>
                </a:solidFill>
                <a:latin typeface="Arial"/>
              </a:rPr>
              <a:t>Метод проектов был разработан в начале XX века американским философом и педагогом Дж. Дьюи, а также его учеником В.Х. Килпатрик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7" name="Рисунок 5" descr="http://im4-tub-ru.yandex.net/i?id=218310856-14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4221000"/>
            <a:ext cx="1919520" cy="2365560"/>
          </a:xfrm>
          <a:prstGeom prst="rect">
            <a:avLst/>
          </a:prstGeom>
          <a:ln w="0">
            <a:noFill/>
          </a:ln>
        </p:spPr>
      </p:pic>
      <p:sp>
        <p:nvSpPr>
          <p:cNvPr id="1198" name="Прямоугольник 6"/>
          <p:cNvSpPr/>
          <p:nvPr/>
        </p:nvSpPr>
        <p:spPr>
          <a:xfrm>
            <a:off x="2987640" y="2276640"/>
            <a:ext cx="61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2c48"/>
                </a:solidFill>
                <a:latin typeface="Arial"/>
              </a:rPr>
              <a:t>В 1905 году русский педагог С.Т. Шацкий пытался использовать проектный метод в преподав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Прямоугольник 7"/>
          <p:cNvSpPr/>
          <p:nvPr/>
        </p:nvSpPr>
        <p:spPr>
          <a:xfrm>
            <a:off x="900000" y="378936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2c48"/>
                </a:solidFill>
                <a:latin typeface="Arial"/>
              </a:rPr>
              <a:t>Основной тезис современного понимания метода проектов, заключается в понимании учащимися, для чего им нужны получаемые знания, где и как они будут использовать их в свое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Прямоугольник 1"/>
          <p:cNvSpPr/>
          <p:nvPr/>
        </p:nvSpPr>
        <p:spPr>
          <a:xfrm>
            <a:off x="1465200" y="620640"/>
            <a:ext cx="741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- это комплекс взаимосвязанных действий, предпринимаемых для достижения определённой цели в течение заданного периода в рамках имеющихся возмож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i-main-pic" descr="Картинка 13 из 445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852640"/>
            <a:ext cx="2352960" cy="3003480"/>
          </a:xfrm>
          <a:prstGeom prst="rect">
            <a:avLst/>
          </a:prstGeom>
          <a:ln w="0">
            <a:noFill/>
          </a:ln>
        </p:spPr>
      </p:pic>
      <p:sp>
        <p:nvSpPr>
          <p:cNvPr id="1202" name="Rectangle 1"/>
          <p:cNvSpPr/>
          <p:nvPr/>
        </p:nvSpPr>
        <p:spPr>
          <a:xfrm>
            <a:off x="3249720" y="2522520"/>
            <a:ext cx="55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 проектной деятельностью понимаются разные виды деятельности, имеющие ряд общих призна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2"/>
          <p:cNvSpPr/>
          <p:nvPr/>
        </p:nvSpPr>
        <p:spPr>
          <a:xfrm>
            <a:off x="3139920" y="4096080"/>
            <a:ext cx="576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 Направлены на достижение конкретных ц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Включают в себя координированное выполнение взаимосвязанных дей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Имеют ограниченную протяженность во времени, с определенным началом и конц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. В определенной степени неповторимы и уникаль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9640" y="-9720"/>
            <a:ext cx="82072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1581aa"/>
                </a:solidFill>
                <a:latin typeface="Monotype Corsiva"/>
              </a:rPr>
              <a:t>  </a:t>
            </a:r>
            <a:r>
              <a:rPr b="1" lang="ru-RU" sz="4900" spc="-1" strike="noStrike">
                <a:solidFill>
                  <a:srgbClr val="1581aa"/>
                </a:solidFill>
                <a:latin typeface="Monotype Corsiva"/>
              </a:rPr>
              <a:t> </a:t>
            </a:r>
            <a:r>
              <a:rPr b="1" lang="ru-RU" sz="4900" spc="-1" strike="noStrike">
                <a:solidFill>
                  <a:srgbClr val="1581aa"/>
                </a:solidFill>
                <a:latin typeface="Monotype Corsiva"/>
              </a:rPr>
              <a:t>Существует проблема </a:t>
            </a:r>
            <a:br>
              <a:rPr sz="4900"/>
            </a:br>
            <a:endParaRPr b="0" lang="en-US" sz="49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85640" y="16268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Monotype Corsiva"/>
              </a:rPr>
              <a:t>Провести тщательное исследовани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3" marL="1403280" indent="-5904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" charset="2"/>
              <a:buChar char="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Monotype Corsiva"/>
              </a:rPr>
              <a:t>Разработать план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3" marL="1403280" indent="-5904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" charset="2"/>
              <a:buChar char="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Monotype Corsiva"/>
              </a:rPr>
              <a:t>Провести наблюдения, измерени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3" marL="1403280" indent="-5904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" charset="2"/>
              <a:buChar char="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Monotype Corsiva"/>
              </a:rPr>
              <a:t>Проанализировать результат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Monotype Corsiva"/>
              </a:rPr>
              <a:t>Сделать соответствующие вывод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Monotype Corsiva"/>
              </a:rPr>
              <a:t>Наглядно оформит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Monotype Corsiva"/>
              </a:rPr>
              <a:t>Результаты представит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3" marL="1403280" indent="-5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Monotype Corsiva"/>
              </a:rPr>
              <a:t>                    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6" name="AutoShape 61"/>
          <p:cNvSpPr/>
          <p:nvPr/>
        </p:nvSpPr>
        <p:spPr>
          <a:xfrm>
            <a:off x="352440" y="4859280"/>
            <a:ext cx="8494560" cy="1916280"/>
          </a:xfrm>
          <a:prstGeom prst="horizontalScroll">
            <a:avLst>
              <a:gd name="adj" fmla="val 14111"/>
            </a:avLst>
          </a:prstGeom>
          <a:solidFill>
            <a:srgbClr val="f1efd1"/>
          </a:solidFill>
          <a:ln w="28440">
            <a:solidFill>
              <a:srgbClr val="2e5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оект – это результат скоординиров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вместных действ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руппы или нескольких групп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AutoShape 62"/>
          <p:cNvSpPr/>
          <p:nvPr/>
        </p:nvSpPr>
        <p:spPr>
          <a:xfrm>
            <a:off x="3581280" y="779400"/>
            <a:ext cx="2232000" cy="720720"/>
          </a:xfrm>
          <a:prstGeom prst="downArrowCallout">
            <a:avLst>
              <a:gd name="adj1" fmla="val 77430"/>
              <a:gd name="adj2" fmla="val 77423"/>
              <a:gd name="adj3" fmla="val 16667"/>
              <a:gd name="adj4" fmla="val 66667"/>
            </a:avLst>
          </a:prstGeom>
          <a:solidFill>
            <a:srgbClr val="f1efd1"/>
          </a:solidFill>
          <a:ln w="38160">
            <a:solidFill>
              <a:srgbClr val="2e5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еобходи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Прямоугольник 1"/>
          <p:cNvSpPr/>
          <p:nvPr/>
        </p:nvSpPr>
        <p:spPr>
          <a:xfrm>
            <a:off x="1619280" y="477720"/>
            <a:ext cx="71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32c48"/>
                </a:solidFill>
                <a:latin typeface="Monotype Corsiva"/>
              </a:rPr>
              <a:t>Структура проекта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Рисунок 2" descr="http://im0-tub-ru.yandex.net/i?id=177567473-55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844640"/>
            <a:ext cx="3540240" cy="3386160"/>
          </a:xfrm>
          <a:prstGeom prst="rect">
            <a:avLst/>
          </a:prstGeom>
          <a:ln w="0">
            <a:noFill/>
          </a:ln>
        </p:spPr>
      </p:pic>
      <p:sp>
        <p:nvSpPr>
          <p:cNvPr id="1210" name="Rectangle 1"/>
          <p:cNvSpPr/>
          <p:nvPr/>
        </p:nvSpPr>
        <p:spPr>
          <a:xfrm>
            <a:off x="971640" y="1857600"/>
            <a:ext cx="54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остановка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Тема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остановка ц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остановка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Гипотеза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лан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одук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Прямоугольник 1"/>
          <p:cNvSpPr/>
          <p:nvPr/>
        </p:nvSpPr>
        <p:spPr>
          <a:xfrm>
            <a:off x="1692360" y="620640"/>
            <a:ext cx="65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32c48"/>
                </a:solidFill>
                <a:latin typeface="Monotype Corsiva"/>
              </a:rPr>
              <a:t>Стадии работы над проектом — это «пять П»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Прямоугольник 2"/>
          <p:cNvSpPr/>
          <p:nvPr/>
        </p:nvSpPr>
        <p:spPr>
          <a:xfrm>
            <a:off x="611280" y="2205000"/>
            <a:ext cx="374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5672"/>
                </a:solidFill>
                <a:latin typeface="Arial"/>
              </a:rPr>
              <a:t>Пробл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5672"/>
                </a:solidFill>
                <a:latin typeface="Arial"/>
              </a:rPr>
              <a:t>Проектирование (планировани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5672"/>
                </a:solidFill>
                <a:latin typeface="Arial"/>
              </a:rPr>
              <a:t>Поиск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5672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e5672"/>
                </a:solidFill>
                <a:latin typeface="Arial"/>
              </a:rPr>
              <a:t>Продук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5672"/>
                </a:solidFill>
                <a:latin typeface="Arial"/>
              </a:rPr>
              <a:t>Презен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рямоугольник 3"/>
          <p:cNvSpPr/>
          <p:nvPr/>
        </p:nvSpPr>
        <p:spPr>
          <a:xfrm>
            <a:off x="5005800" y="3267000"/>
            <a:ext cx="411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e5672"/>
                </a:solidFill>
                <a:latin typeface="Arial"/>
              </a:rPr>
              <a:t>Шестое «П» проекта —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5672"/>
                </a:solidFill>
                <a:latin typeface="Arial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4" name="Picture 2" descr="D:\мамина папка\единая коллекция цифровых технологий\шаблоны для презентаций\Сказочные персонажи\люди и дети\bb7840536a7f.jpg"/>
          <p:cNvPicPr/>
          <p:nvPr/>
        </p:nvPicPr>
        <p:blipFill>
          <a:blip r:embed="rId1"/>
          <a:stretch/>
        </p:blipFill>
        <p:spPr>
          <a:xfrm>
            <a:off x="4211640" y="4508640"/>
            <a:ext cx="4741920" cy="2147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13:34:53Z</dcterms:created>
  <dc:creator>Иванова</dc:creator>
  <dc:description/>
  <dc:language>en-US</dc:language>
  <cp:lastModifiedBy>Elena</cp:lastModifiedBy>
  <dcterms:modified xsi:type="dcterms:W3CDTF">2014-11-04T22:23:05Z</dcterms:modified>
  <cp:revision>35</cp:revision>
  <dc:subject/>
  <dc:title>Этапы работы над проектом</dc:title>
</cp:coreProperties>
</file>