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5AEA-09B0-49B4-8F0F-1FE747AEA8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F71F-D778-4489-87B6-B3E4F11430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146F-07A8-469D-B15D-332775D7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2583-2C47-41FF-8386-F77678D2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8E0B0-FE56-41FC-980F-649D9763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DB9C1-651C-4400-AF70-B9733994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F0944-197D-4410-8705-50D6809D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F3BDF-B19C-4AB6-933B-BD8C9B69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983DC-2BE7-4474-869D-3709CD39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76B4F-B9CB-4A87-9CD1-05C0A5DF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B33B1-F8E3-44F6-8650-D284DBE5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52971-D3BE-4E82-ACF0-5DD50582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24758-D9B0-465A-9B37-610DFA30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A3683-F2D4-48B0-8FDB-5733EC1A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A302-ED6D-4B07-91E6-7DB0A05B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0030C-13C1-496B-914D-12A0FB91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445B4-7EB1-4D04-8BF6-8237283C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EFAE4-4FED-45C7-896A-521F9873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08CB7-320F-4A87-8D74-2455C890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61A67-7718-4DBD-AD91-3C5EE6F1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CD297-3680-4C0C-A8E4-D582E592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2FA89-1703-4A9C-8620-B62B04B0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997D6-7AC3-421F-835C-C25D5CDE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9158D-202E-4B80-BC25-DA66BA81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193DB-304D-4838-9951-EE737EDF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6B6C-29D9-404E-8E38-AD26697F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8B17E-8A7C-4E91-9D04-CAFF7996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FBA8E-C15E-4DDC-80E0-1C105B68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703A7-F423-4DEB-A027-74737AF6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E13AE-936D-401B-8333-E69378B3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82AF4-61CA-4066-9C44-072714A2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8051E-5F83-4F82-A8EA-A6D15BCE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7BB58-49E8-4167-901A-FBF71B00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E7C26-E459-4953-AAFD-97E0141E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95026-F85A-4EA2-B5CA-15CFE8D4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70DAD-C81E-4FF8-8893-DC6FCEB0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5284-C7E0-4DE2-BE0A-F6D8E7A5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76391-4532-4A07-A7F5-D614BE02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3BA0E-100A-4163-AEFF-13783530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83FCC-CE68-4394-B89F-2C7AADD9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457B0-A67D-40DE-A4A6-8E812765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DDA9B-6DDC-4623-9C5F-1CB1C4A8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1F830-A092-46D7-923B-8FE02AFF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F85BC-3739-4986-9537-48590345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34CFA-601A-4658-9422-F00FBA4E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4ADA0-8F87-4D17-86B2-ACC79ED3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599CA-662C-448B-8378-1D13CBB0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4638-1634-4A4C-83B4-F5CC6535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17773-66F9-45C6-9133-E2C55915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DC882-24E4-499C-914F-82435727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8E5A4-2080-4411-889B-C754FF29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613EE-0E6B-4749-B2F4-CC43BA1C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2DE05-FE1D-4973-80F0-1A3E62DB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1A8451-284C-4933-B11C-723C6776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8EE16B-F019-4F40-AFA4-9957471B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D19B21-292D-4E76-8835-D42B7091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2CED19-22F6-45C7-A85D-34FE65E1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A84B5F-F308-4924-A503-E65651A2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9673-7C50-4561-858F-6956D4D7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2804AC-2CB8-49A4-A741-E91BD119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5D0CBF-65C1-4C94-B70A-5ADB23F9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588E67-57CE-4A82-B30F-ACB690D8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329CC0-49F1-4DD3-9FD1-76210598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01DBFB-BF4B-4341-BF66-810574AE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BEA407-C02B-4AD5-9E3F-5A80CA6A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37C417-1DEC-42AF-991E-CFAD3871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5F6D12-2ABC-46E4-A741-19F9B6E8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04C73A-575B-42D6-B976-EBEDA32A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B9C7A7-A54F-407C-9EC1-A1FFF72C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09FB-6665-4610-9F04-7BD573DB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175EA4-F484-4BC6-BA04-DBD03BF1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153C01-E432-4820-86F1-CD22C44A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A2A016-8E9D-40C3-805D-836605D4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0A2BF9-1D48-44DA-91E1-94EE4892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76BBD6-FF66-4D96-BD33-F1265C46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618824-EDE9-474B-AEDB-955B78F8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810706-5B8F-46A2-940A-7848E1FC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D08305-470D-4127-A6A9-24307CDE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766FF4-217F-4235-8D9A-72DCC8F3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C75266-1EEE-4457-864D-293A789C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E980-7EB8-4791-BFB6-9AE566BC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AAF74D-66E6-4BF1-9495-4AF98756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30846E-FE9D-41C0-B415-C5F0CB06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0F183D-01CF-4B0C-87FD-21C7C146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7D53E9-40AE-40E6-84CA-D0A5D3CC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1D5D3E-416C-43A5-8CB7-839DBAF6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8B9BDC-80E3-48D3-9723-0BF57A15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B11127-4C08-472A-B1FC-CC9F9D5F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41DABF-CA40-4C57-9E9D-D703F37D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A4CF36-3B63-45DD-8C1B-983546A3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D33B41-FD61-493A-9901-8DA45C69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5D58-2B82-4FED-9E71-FED2F1E2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EC8AF5-A6CF-4610-99A3-3B8BE863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27EB85-7EE2-48AE-BA01-5EE04BE0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E374DB-A6BE-4BF4-8221-1939892C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18058E-23DF-47EB-9247-051E1DAA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4694BB-31E2-4025-A96F-A5D546BD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B88C3B-D119-4235-9185-14BB25CD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E91218-0A62-4744-948C-37F5559D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C8F26F-1321-41A0-B36C-863E8066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11532A-0505-42CA-B661-CD41367B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B645A8-A71A-44FA-BE4A-70C8B84A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2327-C827-45B3-9C93-BD84DD85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F0A54F-2DC8-4AF9-B6BB-175F3511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F8CAE6-12E5-40F4-A185-4C8199EA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3CE18E-1276-4CE4-826C-7DE196E7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A28207-BD95-4A76-89B1-07B038E4E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40834E-6739-46C5-9331-6651905D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67EAD5-C03F-4DCF-A294-27875E3E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6C3F7E-C510-483B-9E65-BD5C82B1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4F1A91-8DA8-4184-B71D-2DE7CB29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FFB88C-8C50-49E4-A8EE-EF9F4217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969F81-341F-4D9B-9C88-A50AC5FF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043D-6642-4100-BEBC-67449D16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9C81-2430-4C01-A0C3-DF15DB05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492EA2-2B84-473D-927A-4F449124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A31680-67E4-49BC-9EBD-2415C84C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FC823F-ED27-4641-8BA9-EB9C33B3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45EF77-46AE-46D2-8F88-C1934522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16B4B2-CDB1-486E-B6A9-3C8F178F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1C10-B6D4-4897-8E1C-EDB306D2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22F6-1F02-4B21-9FEC-D566B27F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933E-AF6B-4572-A896-9BDC929C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3197-8DD7-417B-B2D0-0FBB5F2B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86C14-1855-449E-B185-9AAEF86A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966DE-0C09-4A72-898B-240FFD61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64722-6EAB-45B9-B441-4CE2B4D8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2700B-4B69-4D8C-BB2F-2F3B4192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017EF-5E58-499F-B8D5-F4704584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4275-E947-4B62-B3D8-3A8E2797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E65E1-3931-482D-9944-7406B9E8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92A47-66AD-4E8C-99D3-420D2C38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B0FD7-EDD5-4C99-BA51-FD58EB09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D8838-2293-4B35-9C27-73B29631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38BA3-0E33-4657-876B-E7B287DB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2A4E7-B38A-4F6B-91F3-6E5E39AE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DF5B7-A8DF-483D-B8C9-63BF469E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C49C5-6227-43C6-9703-7F3F5018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A2980-6677-4412-B5EF-F669AE99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6E95D-F850-4E37-A74C-90FBDAAA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5DE5-8CEB-47E1-9964-EFAC9E24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EBC99-D100-413D-912D-AECBC3C4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CE027-D087-435E-81C9-3B1AEEB9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79B19-411C-444E-848E-02E3306E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379D7-4EB2-42C3-BED9-F41991A2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53AC4-BA44-4FE6-ABB7-619A5C3A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D19E8-5300-4EAD-B721-0F38565A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8E7DA-DF42-44BF-A1EA-81913346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7AB24-C324-4712-9EBC-80668919B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78905-7810-49D6-B312-1FC77770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63132-A6EB-4A68-B6EC-B79B755E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BF93-5E5F-445C-922F-316B46AF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9B646-DC2E-459D-9439-E3ADB715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6EDF8-454A-451D-B658-F79A64A5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ECC7B-C1E3-456F-8F42-583C26FF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DD8D2-3A78-458D-BC3E-279D2778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6C15C-9809-4994-A541-1CE38671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F1B8E-80D8-4810-8ECB-2AC62AA9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3B3FC-CEAE-4F1D-9896-70F4F200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B390F-64C5-4E55-96B9-6F249686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82A13-247B-4758-AA99-CE626408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90B6D-9FB7-4B7F-B40B-5F0D1B79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7123-550B-4D52-85D2-FCAB80DA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85187-4671-4604-AA13-9C9884ED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2879C-11F2-4621-9C47-DD98D4E0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82918-AE12-4472-8AFF-63BD96D7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E381E-F00E-451D-A7D2-2EFAB939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5A9A2-C717-43B9-9C02-D59E33B2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CE983-F752-44F4-9D0E-2E03CE0D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7381D-71C5-4725-89A8-BDCC3159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71048-5BBE-4922-B2B3-18AC666F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B43B1-2CE1-4BB2-969F-FD14D658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1CB36-134C-4188-9DBC-0459EC00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2E26-C9A9-4547-ABCC-43788386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69922-AD79-4416-80A2-C80B288D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A2807-18A2-4C61-9218-1F24B752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BC2BE-F88E-4E3C-B3BF-18B2D42F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61F51-E97E-48AD-8BA2-CBD53816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7352C-8786-4626-90CC-E91E0F43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F5B07-4EB2-4DBB-814E-784A8030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BF296-9D26-4A38-95AB-9B61EE10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02460-549E-4E0D-BE5E-B1FB26F3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59446-07FC-48E2-8581-4BA0C030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6F409-9B30-4332-A94E-DF8EE389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9920-806B-4D68-8C61-CA4F59A7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475BE-79E1-485E-AD9A-3FB67D69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A5BF3-9C2E-4703-8B38-326AFAC9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BEF62-BFF6-44A0-A406-B28D1698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B6593-42FE-413C-8907-1AE645E3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D700F-2D64-4D30-B3ED-130FE83D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9E258-2A11-44DE-9D95-B638AB18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0FB57-3A3D-4993-8778-634A590C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FBF8F-A397-4CE6-B700-34436934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BD961-FF35-454D-B86E-1EAB87DA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4D1C2-F8D1-44AC-9FC2-CEA29F3F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1284-8DE6-40A6-8A45-55BFA0F8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DF6F7-24FD-417E-B862-38207229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EC14E-9C6F-4F44-9BFC-8C98A17B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527D7-DB3F-4D13-A511-A5C13589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BB18D-4C3E-4EE1-85A4-8AE737F8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904FB-10E5-47BD-95AC-AC5AEC58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E3854-6E7C-4008-809E-7AC9B7B1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A122F-889D-4ED5-99FD-11E8BAD4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8096E-9281-4BF7-95FE-5297AEEC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4824A-B283-471F-8DCB-A8E80494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63393-399D-4610-B415-2CDF7CD6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F460-BDCA-4643-9A29-190C1B750E2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90D5-2271-4B52-8846-E5E8B51CE75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5B76-E95D-44C1-8BC0-803EA3B29B1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9412-389F-4F8F-8F34-36E68E2F5E1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C956-C1C4-4F3B-9BB6-4565E0E9260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8989-37F2-4202-A611-DEE59883327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DE8B-B5C6-4AF7-A895-A1EB944B4C9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6BC7-0F0E-4BE4-A501-27C2AA621E7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D611-A933-47DE-8A1E-4AA8C5259B2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8A82-C1CE-4761-8C89-18DEB7DE72A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B7D8-8A43-4D49-8338-06C5FDB4B5A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398C-CC95-4D4B-A8D3-4A2773C5CF6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0D49-F235-411B-82A3-BAC76DDA9EB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ECBB-ED03-431F-9548-77D892FE3AC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6E12-3F61-4C3A-A191-CD4D3AA52BC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CB07-5C55-4D18-B13E-257063DAD1C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21FC-B163-4073-B0BB-5E1C2423595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lr=213&amp;noreask=1&amp;ed=1&amp;text=&#1087;&#1088;&#1086;&#1077;&#1082;&#1090;&#1085;&#1072;&#1103;%20&#1076;&#1077;&#1103;&#1090;&#1077;&#1083;&#1100;&#1085;&#1086;&#1089;&#1090;&#1100;%20&#1074;%201%20&#1082;&#1083;&#1072;&#1089;&#1089;&#1077;&amp;p=250&amp;img_url=stat16.privet.ru/lr/0b08a3d46ea0846f232dc75cb7941a49&amp;rpt=simage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yandex.ru/yandsearch?lr=213&amp;noreask=1&amp;ed=1&amp;text=&#1087;&#1088;&#1086;&#1077;&#1082;&#1090;&#1085;&#1072;&#1103;%20&#1076;&#1077;&#1103;&#1090;&#1077;&#1083;&#1100;&#1085;&#1086;&#1089;&#1090;&#1100;%20&#1074;%201%20&#1082;&#1083;&#1072;&#1089;&#1089;&#1077;&amp;p=29&amp;img_url=www.moi-universitet.ru/resources/5220-original.jpeg&amp;rpt=simage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.allday.ru/uploads/posts/1191269027_c4112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lr=213&amp;noreask=1&amp;ed=1&amp;text=&#1087;&#1088;&#1086;&#1077;&#1082;&#1090;&#1085;&#1072;&#1103;%20&#1076;&#1077;&#1103;&#1090;&#1077;&#1083;&#1100;&#1085;&#1086;&#1089;&#1090;&#1100;%20&#1074;%201%20&#1082;&#1083;&#1072;&#1089;&#1089;&#1077;&amp;p=92&amp;img_url=c.cards.imgsmail.ru/29/89/7abd2c3778e3b07601a321055efa8929.jpg&amp;rpt=simag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8800" spc="-1" strike="noStrike">
                <a:solidFill>
                  <a:srgbClr val="1581aa"/>
                </a:solidFill>
                <a:latin typeface="Monotype Corsiva"/>
              </a:rPr>
              <a:t>Как рождается проект?</a:t>
            </a:r>
            <a:endParaRPr b="0" lang="en-US" sz="88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3924360" y="4168440"/>
            <a:ext cx="4782960" cy="17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Подготовил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читель начальных классов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КОУ «Ботвиньевская ООШ»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строухова Е.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5" name="Picture 3" descr="D:\мамина папка\единая коллекция цифровых технологий\шаблоны для презентаций\Сказочные персонажи\люди и дети\c737eab67cfa.jpg"/>
          <p:cNvPicPr/>
          <p:nvPr/>
        </p:nvPicPr>
        <p:blipFill>
          <a:blip r:embed="rId1"/>
          <a:stretch/>
        </p:blipFill>
        <p:spPr>
          <a:xfrm>
            <a:off x="1042920" y="3008160"/>
            <a:ext cx="3384720" cy="3578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TextBox 1"/>
          <p:cNvSpPr/>
          <p:nvPr/>
        </p:nvSpPr>
        <p:spPr>
          <a:xfrm>
            <a:off x="1908000" y="69228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581aa"/>
                </a:solidFill>
                <a:latin typeface="Arial"/>
              </a:rPr>
              <a:t>Виды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Box 2"/>
          <p:cNvSpPr/>
          <p:nvPr/>
        </p:nvSpPr>
        <p:spPr>
          <a:xfrm>
            <a:off x="755640" y="1557360"/>
            <a:ext cx="79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краткосрочные проек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это могут быть проекты, предусмотренные для проведения на уроке или во внеурочное время для решения небольшой проблем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долгосрочные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предусматривающие решение достаточно сложной проблемы, требующей длительного наблюдения, постановки экспериментов, опытов, сбор данных, их обрабо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TextBox 4"/>
          <p:cNvSpPr/>
          <p:nvPr/>
        </p:nvSpPr>
        <p:spPr>
          <a:xfrm>
            <a:off x="1908000" y="69228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581aa"/>
                </a:solidFill>
                <a:latin typeface="Arial"/>
              </a:rPr>
              <a:t>Типы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971640" y="1557000"/>
            <a:ext cx="712944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Исследовательские проекты 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Творческие проекты .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Ролево-игровые проекты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Информационные проекты 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Практико-ориентированные проекты  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 txBox="1"/>
          <p:nvPr/>
        </p:nvSpPr>
        <p:spPr>
          <a:xfrm>
            <a:off x="1186920" y="1341360"/>
            <a:ext cx="7705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Исследовательские проекты.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Такие проекты требуют хорошо продуманной структуры, обозначенных целей, актуальности проекта для всех участников, продуманных методов, в том числе экспериментальных и опытных работ, методов обработки результатов. Исследовательские проекты – одна из наиболее распространенных форм данного вида деятельности.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Пример: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 практические и лабораторные работы, доклады,  выступления,  дневники наблюдения  и  т.д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 txBox="1"/>
          <p:nvPr/>
        </p:nvSpPr>
        <p:spPr>
          <a:xfrm>
            <a:off x="1115640" y="1341360"/>
            <a:ext cx="75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Творческие проекты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не имеют детально проработанной структуры совместной деятельности учащихся – она только намечается и далее развивается с требованиями к форме и жанру конечного результата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Пример: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это может быть стенная газета, сценарий праздника, театрализации, видеофильм, плакат, ит.д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 txBox="1"/>
          <p:nvPr/>
        </p:nvSpPr>
        <p:spPr>
          <a:xfrm>
            <a:off x="684360" y="119700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Ролево-игровые проекты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требуют большой подготовительной работы. Принятие решения осуществляется в игровой ситуации. Участники принимают на себя определенные роли, обусловленные характером и содержанием проекта. Это могут быть литературные персонажи или выдуманные герои. Результаты таких проектов чаще вырисовываются к моменту завершения действия. Степень творчества здесь очень высокая, но доминирующим видом деятельности все-таки является ролево-игровая, приключенческа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Пример: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 сценарий праздника, фрагмент урока, кроссворды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 txBox="1"/>
          <p:nvPr/>
        </p:nvSpPr>
        <p:spPr>
          <a:xfrm>
            <a:off x="755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Информационные проекты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направлены на сбор информации о каком-либо объекте, явлении, на ознакомление участников проекта с этой информацией, её анализ и обобщение фактов.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Пример: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 различные сообщения, доклады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23" name="Рисунок 3" descr="http://im4-tub-ru.yandex.net/i?id=398305358-61-72"/>
          <p:cNvPicPr/>
          <p:nvPr/>
        </p:nvPicPr>
        <p:blipFill>
          <a:blip r:embed="rId1"/>
          <a:stretch/>
        </p:blipFill>
        <p:spPr>
          <a:xfrm>
            <a:off x="5219640" y="3860640"/>
            <a:ext cx="3229200" cy="2751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 txBox="1"/>
          <p:nvPr/>
        </p:nvSpPr>
        <p:spPr>
          <a:xfrm>
            <a:off x="684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Практико-ориентированные проекты 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отличает четко обозначенный с самого начала характер результата деятельности его участников. Этот результат обязательно должен быть ориентирован на социальные интересы самих участников. Этот проект требует четко продуманной структуры, которая может быть представлена в виде сценария, определения функции каждого участника и участия каждого из них в оформлении конечного результата. Целесообразно проводить поэтапные обсуждения, позволяющие координировать совместную деятельность участников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Пример: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 проект закона, справочный материал, программа действий, совместная экспедиция, наглядное пособие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Рисунок 3" descr=""/>
          <p:cNvPicPr/>
          <p:nvPr/>
        </p:nvPicPr>
        <p:blipFill>
          <a:blip r:embed="rId1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1226" name="TextBox 5"/>
          <p:cNvSpPr/>
          <p:nvPr/>
        </p:nvSpPr>
        <p:spPr>
          <a:xfrm>
            <a:off x="1908000" y="-28440"/>
            <a:ext cx="48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Наши прое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8" name="TextBox 4"/>
          <p:cNvSpPr/>
          <p:nvPr/>
        </p:nvSpPr>
        <p:spPr>
          <a:xfrm>
            <a:off x="2158920" y="30448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Наши прое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 txBox="1"/>
          <p:nvPr/>
        </p:nvSpPr>
        <p:spPr>
          <a:xfrm>
            <a:off x="4465800" y="259920"/>
            <a:ext cx="45734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ля учителя начальных классов эта работа является дополнительной нагрузкой но все окупается, в учащихся происходят изменения: на уроках они самостоятельно формулируют тему, цели, подбирают нужную информацию, раскованно выступают перед аудиторией. Увеличилось количество учащихся, владеющих компьютером, дети научились составлять презентации. Увеличилось количество посещений школьной библиотеки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30" name="Picture 2" descr="D:\мамина папка\единая коллекция цифровых технологий\шаблоны для презентаций\Сказочные персонажи\школа\ucheniki_w450_h468.jpg"/>
          <p:cNvPicPr/>
          <p:nvPr/>
        </p:nvPicPr>
        <p:blipFill>
          <a:blip r:embed="rId1"/>
          <a:stretch/>
        </p:blipFill>
        <p:spPr>
          <a:xfrm>
            <a:off x="179280" y="1268280"/>
            <a:ext cx="4286520" cy="4457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373040" y="813960"/>
            <a:ext cx="738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1581aa"/>
                </a:solidFill>
                <a:latin typeface="Monotype Corsiva"/>
              </a:rPr>
              <a:t>Проектная деятельность</a:t>
            </a:r>
            <a:endParaRPr b="0" lang="en-US" sz="54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1228680" y="2060280"/>
            <a:ext cx="76708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Проектная деятельность содержит: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- анализ проблемы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- постановка цели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- выбор средств ее достижения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- поиск и обработка информации, ее анализ и синтез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- оценка полученных результатов и выводов.  </a:t>
            </a:r>
            <a:br>
              <a:rPr sz="2400"/>
            </a:br>
            <a:r>
              <a:rPr b="1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Целью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 проектной деятельности является понимание и применение учащимися знаний, умений и навыков, приобретенных при изучении различных предметов. 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8" name="Picture 1" descr="D:\мамина папка\единая коллекция цифровых технологий\шаблоны для презентаций\Сказочные персонажи\люди и дети\cont.gif"/>
          <p:cNvPicPr/>
          <p:nvPr/>
        </p:nvPicPr>
        <p:blipFill>
          <a:blip r:embed="rId1"/>
          <a:stretch/>
        </p:blipFill>
        <p:spPr>
          <a:xfrm>
            <a:off x="3276720" y="52560"/>
            <a:ext cx="2762280" cy="666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Прямоугольник 1"/>
          <p:cNvSpPr/>
          <p:nvPr/>
        </p:nvSpPr>
        <p:spPr>
          <a:xfrm>
            <a:off x="1476360" y="907920"/>
            <a:ext cx="748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2c48"/>
                </a:solidFill>
                <a:latin typeface="Arial"/>
              </a:rPr>
              <a:t>Проектное обучение не должно вытеснять классно-урочную систему и становиться некоторой панацеей, его следует использовать как дополнение к другим видам прямого или косвенного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2" name="Рисунок 2" descr="http://im0-tub-ru.yandex.net/i?id=471504341-24-72"/>
          <p:cNvPicPr/>
          <p:nvPr/>
        </p:nvPicPr>
        <p:blipFill>
          <a:blip r:embed="rId1"/>
          <a:stretch/>
        </p:blipFill>
        <p:spPr>
          <a:xfrm>
            <a:off x="2843280" y="3789360"/>
            <a:ext cx="3457440" cy="2741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Прямоугольник 1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875720" cy="92088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2" descr="D:\мамина папка\единая коллекция цифровых технологий\шаблоны для презентаций\Сказочные персонажи\школа\gpd.gif"/>
          <p:cNvPicPr/>
          <p:nvPr/>
        </p:nvPicPr>
        <p:blipFill>
          <a:blip r:embed="rId2"/>
          <a:stretch/>
        </p:blipFill>
        <p:spPr>
          <a:xfrm>
            <a:off x="2411280" y="2565360"/>
            <a:ext cx="4168800" cy="3848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331640" y="333360"/>
            <a:ext cx="7561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1581aa"/>
                </a:solidFill>
                <a:latin typeface="Monotype Corsiva"/>
              </a:rPr>
              <a:t>Принципы организации</a:t>
            </a:r>
            <a:r>
              <a:rPr b="0" lang="ru-RU" sz="3200" spc="-1" strike="noStrike">
                <a:solidFill>
                  <a:srgbClr val="1581aa"/>
                </a:solidFill>
                <a:latin typeface="Monotype Corsiva"/>
              </a:rPr>
              <a:t> проектной деятельности:</a:t>
            </a:r>
            <a:endParaRPr b="0" lang="en-US" sz="32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1331640" y="1484280"/>
            <a:ext cx="7561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- проект должен быть посильным для выполнения; 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- создавать необходимые условия для успешного выполнения проектов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- обеспечить руководство проектом со стороны педагогов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- в том случае, если проект групповой каждый учащийся должен четко показать свой вклад в выполнение проекта, т.к. каждый участник проекта получает индивидуальную оценку; 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- обязательная презентация результатов работы по проекту в той или иной форме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494000" y="3645000"/>
            <a:ext cx="8229600" cy="13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ек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– это всегда исследование, поиск, изучение неизвестного.</a:t>
            </a:r>
            <a:endParaRPr b="0" lang="en-US" sz="28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92" name="TextBox 1"/>
          <p:cNvSpPr/>
          <p:nvPr/>
        </p:nvSpPr>
        <p:spPr>
          <a:xfrm>
            <a:off x="1494000" y="361800"/>
            <a:ext cx="797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тод проекто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работа учащих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я достижения решения проблемы, оформленная в виде конечного продук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Box 2"/>
          <p:cNvSpPr/>
          <p:nvPr/>
        </p:nvSpPr>
        <p:spPr>
          <a:xfrm>
            <a:off x="1494000" y="1916280"/>
            <a:ext cx="821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ектный метод направлен на развитие критического мышления, умения работать с информацией, работать в коллекти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4" name="Picture 3" descr="D:\мамина папка\единая коллекция цифровых технологий\шаблоны для презентаций\Сказочные персонажи\люди и дети\1759414e3116.jpg"/>
          <p:cNvPicPr/>
          <p:nvPr/>
        </p:nvPicPr>
        <p:blipFill>
          <a:blip r:embed="rId1"/>
          <a:stretch/>
        </p:blipFill>
        <p:spPr>
          <a:xfrm>
            <a:off x="6084720" y="4292640"/>
            <a:ext cx="2262240" cy="2355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5" name="Рисунок 3" descr="http://im6-tub-ru.yandex.net/i?id=83415995-30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60280"/>
            <a:ext cx="2529000" cy="2370240"/>
          </a:xfrm>
          <a:prstGeom prst="rect">
            <a:avLst/>
          </a:prstGeom>
          <a:ln w="0">
            <a:noFill/>
          </a:ln>
        </p:spPr>
      </p:pic>
      <p:sp>
        <p:nvSpPr>
          <p:cNvPr id="1196" name="Прямоугольник 4"/>
          <p:cNvSpPr/>
          <p:nvPr/>
        </p:nvSpPr>
        <p:spPr>
          <a:xfrm>
            <a:off x="3059280" y="404640"/>
            <a:ext cx="60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32c48"/>
                </a:solidFill>
                <a:latin typeface="Arial"/>
              </a:rPr>
              <a:t>Метод проектов был разработан в начале XX века американским философом и педагогом Дж. Дьюи, а также его учеником В.Х. Килпатрик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7" name="Рисунок 5" descr="http://im4-tub-ru.yandex.net/i?id=218310856-14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48360" y="4221000"/>
            <a:ext cx="1919520" cy="2365560"/>
          </a:xfrm>
          <a:prstGeom prst="rect">
            <a:avLst/>
          </a:prstGeom>
          <a:ln w="0">
            <a:noFill/>
          </a:ln>
        </p:spPr>
      </p:pic>
      <p:sp>
        <p:nvSpPr>
          <p:cNvPr id="1198" name="Прямоугольник 6"/>
          <p:cNvSpPr/>
          <p:nvPr/>
        </p:nvSpPr>
        <p:spPr>
          <a:xfrm>
            <a:off x="2987640" y="2276640"/>
            <a:ext cx="61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32c48"/>
                </a:solidFill>
                <a:latin typeface="Arial"/>
              </a:rPr>
              <a:t>В 1905 году русский педагог С.Т. Шацкий пытался использовать проектный метод в преподава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Прямоугольник 7"/>
          <p:cNvSpPr/>
          <p:nvPr/>
        </p:nvSpPr>
        <p:spPr>
          <a:xfrm>
            <a:off x="900000" y="378936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32c48"/>
                </a:solidFill>
                <a:latin typeface="Arial"/>
              </a:rPr>
              <a:t>Основной тезис современного понимания метода проектов, заключается в понимании учащимися, для чего им нужны получаемые знания, где и как они будут использовать их в своей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Прямоугольник 1"/>
          <p:cNvSpPr/>
          <p:nvPr/>
        </p:nvSpPr>
        <p:spPr>
          <a:xfrm>
            <a:off x="1465200" y="620640"/>
            <a:ext cx="741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- это комплекс взаимосвязанных действий, предпринимаемых для достижения определённой цели в течение заданного периода в рамках имеющихся возмож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1" name="i-main-pic" descr="Картинка 13 из 445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852640"/>
            <a:ext cx="2352960" cy="3003480"/>
          </a:xfrm>
          <a:prstGeom prst="rect">
            <a:avLst/>
          </a:prstGeom>
          <a:ln w="0">
            <a:noFill/>
          </a:ln>
        </p:spPr>
      </p:pic>
      <p:sp>
        <p:nvSpPr>
          <p:cNvPr id="1202" name="Rectangle 1"/>
          <p:cNvSpPr/>
          <p:nvPr/>
        </p:nvSpPr>
        <p:spPr>
          <a:xfrm>
            <a:off x="3249720" y="2522520"/>
            <a:ext cx="55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 проектной деятельностью понимаются разные виды деятельности, имеющие ряд общих призна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2"/>
          <p:cNvSpPr/>
          <p:nvPr/>
        </p:nvSpPr>
        <p:spPr>
          <a:xfrm>
            <a:off x="3139920" y="4096080"/>
            <a:ext cx="5761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. Направлены на достижение конкретных ц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.Включают в себя координированное выполнение взаимосвязанных действ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. Имеют ограниченную протяженность во времени, с определенным началом и конц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4. В определенной степени неповторимы и уникаль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09640" y="-9720"/>
            <a:ext cx="82072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1581aa"/>
                </a:solidFill>
                <a:latin typeface="Monotype Corsiva"/>
              </a:rPr>
              <a:t>  </a:t>
            </a:r>
            <a:r>
              <a:rPr b="1" lang="ru-RU" sz="4900" spc="-1" strike="noStrike">
                <a:solidFill>
                  <a:srgbClr val="1581aa"/>
                </a:solidFill>
                <a:latin typeface="Monotype Corsiva"/>
              </a:rPr>
              <a:t> </a:t>
            </a:r>
            <a:r>
              <a:rPr b="1" lang="ru-RU" sz="4900" spc="-1" strike="noStrike">
                <a:solidFill>
                  <a:srgbClr val="1581aa"/>
                </a:solidFill>
                <a:latin typeface="Monotype Corsiva"/>
              </a:rPr>
              <a:t>Существует проблема </a:t>
            </a:r>
            <a:br>
              <a:rPr sz="4900"/>
            </a:br>
            <a:endParaRPr b="0" lang="en-US" sz="49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485640" y="16268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Monotype Corsiva"/>
              </a:rPr>
              <a:t>Провести тщательное исследовани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3" marL="1403280" indent="-59040">
              <a:lnSpc>
                <a:spcPct val="80000"/>
              </a:lnSpc>
              <a:spcBef>
                <a:spcPts val="1001"/>
              </a:spcBef>
              <a:buClr>
                <a:srgbClr val="353535"/>
              </a:buClr>
              <a:buFont typeface="Wingdings" charset="2"/>
              <a:buChar char="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Monotype Corsiva"/>
              </a:rPr>
              <a:t>Разработать план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3" marL="1403280" indent="-59040">
              <a:lnSpc>
                <a:spcPct val="80000"/>
              </a:lnSpc>
              <a:spcBef>
                <a:spcPts val="1001"/>
              </a:spcBef>
              <a:buClr>
                <a:srgbClr val="353535"/>
              </a:buClr>
              <a:buFont typeface="Wingdings" charset="2"/>
              <a:buChar char="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Monotype Corsiva"/>
              </a:rPr>
              <a:t>Провести наблюдения, измерения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3" marL="1403280" indent="-59040">
              <a:lnSpc>
                <a:spcPct val="80000"/>
              </a:lnSpc>
              <a:spcBef>
                <a:spcPts val="1001"/>
              </a:spcBef>
              <a:buClr>
                <a:srgbClr val="353535"/>
              </a:buClr>
              <a:buFont typeface="Wingdings" charset="2"/>
              <a:buChar char="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Monotype Corsiva"/>
              </a:rPr>
              <a:t>Проанализировать результаты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Monotype Corsiva"/>
              </a:rPr>
              <a:t>Сделать соответствующие выводы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Monotype Corsiva"/>
              </a:rPr>
              <a:t>Наглядно оформить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Monotype Corsiva"/>
              </a:rPr>
              <a:t>Результаты представить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3" marL="1403280" indent="-590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Monotype Corsiva"/>
              </a:rPr>
              <a:t>                      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Monotype Corsiva"/>
              </a:rPr>
              <a:t>                                                                                                                                                                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6" name="AutoShape 61"/>
          <p:cNvSpPr/>
          <p:nvPr/>
        </p:nvSpPr>
        <p:spPr>
          <a:xfrm>
            <a:off x="352440" y="4859280"/>
            <a:ext cx="8494560" cy="1916280"/>
          </a:xfrm>
          <a:prstGeom prst="horizontalScroll">
            <a:avLst>
              <a:gd name="adj" fmla="val 14111"/>
            </a:avLst>
          </a:prstGeom>
          <a:solidFill>
            <a:srgbClr val="f1efd1"/>
          </a:solidFill>
          <a:ln w="28440">
            <a:solidFill>
              <a:srgbClr val="2e5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роект – это результат скоординирова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овместных действ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группы или нескольких групп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AutoShape 62"/>
          <p:cNvSpPr/>
          <p:nvPr/>
        </p:nvSpPr>
        <p:spPr>
          <a:xfrm>
            <a:off x="3581280" y="779400"/>
            <a:ext cx="2232000" cy="720720"/>
          </a:xfrm>
          <a:prstGeom prst="downArrowCallout">
            <a:avLst>
              <a:gd name="adj1" fmla="val 77430"/>
              <a:gd name="adj2" fmla="val 77423"/>
              <a:gd name="adj3" fmla="val 16667"/>
              <a:gd name="adj4" fmla="val 66667"/>
            </a:avLst>
          </a:prstGeom>
          <a:solidFill>
            <a:srgbClr val="f1efd1"/>
          </a:solidFill>
          <a:ln w="38160">
            <a:solidFill>
              <a:srgbClr val="2e5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еобходи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Прямоугольник 1"/>
          <p:cNvSpPr/>
          <p:nvPr/>
        </p:nvSpPr>
        <p:spPr>
          <a:xfrm>
            <a:off x="1619280" y="477720"/>
            <a:ext cx="716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32c48"/>
                </a:solidFill>
                <a:latin typeface="Monotype Corsiva"/>
              </a:rPr>
              <a:t>Структура проекта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Рисунок 2" descr="http://im0-tub-ru.yandex.net/i?id=177567473-55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1844640"/>
            <a:ext cx="3540240" cy="3386160"/>
          </a:xfrm>
          <a:prstGeom prst="rect">
            <a:avLst/>
          </a:prstGeom>
          <a:ln w="0">
            <a:noFill/>
          </a:ln>
        </p:spPr>
      </p:pic>
      <p:sp>
        <p:nvSpPr>
          <p:cNvPr id="1210" name="Rectangle 1"/>
          <p:cNvSpPr/>
          <p:nvPr/>
        </p:nvSpPr>
        <p:spPr>
          <a:xfrm>
            <a:off x="971640" y="1857600"/>
            <a:ext cx="54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Постановка пробл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Тема про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Постановка ц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остановка зада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Гипотеза иссле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План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одук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Прямоугольник 1"/>
          <p:cNvSpPr/>
          <p:nvPr/>
        </p:nvSpPr>
        <p:spPr>
          <a:xfrm>
            <a:off x="1692360" y="620640"/>
            <a:ext cx="65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32c48"/>
                </a:solidFill>
                <a:latin typeface="Monotype Corsiva"/>
              </a:rPr>
              <a:t>Стадии работы над проектом — это «пять П»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Прямоугольник 2"/>
          <p:cNvSpPr/>
          <p:nvPr/>
        </p:nvSpPr>
        <p:spPr>
          <a:xfrm>
            <a:off x="611280" y="2205000"/>
            <a:ext cx="374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5672"/>
                </a:solidFill>
                <a:latin typeface="Arial"/>
              </a:rPr>
              <a:t>Пробл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5672"/>
                </a:solidFill>
                <a:latin typeface="Arial"/>
              </a:rPr>
              <a:t>Проектирование (планировани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5672"/>
                </a:solidFill>
                <a:latin typeface="Arial"/>
              </a:rPr>
              <a:t>Поиск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5672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e5672"/>
                </a:solidFill>
                <a:latin typeface="Arial"/>
              </a:rPr>
              <a:t>Продук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5672"/>
                </a:solidFill>
                <a:latin typeface="Arial"/>
              </a:rPr>
              <a:t>Презент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Прямоугольник 3"/>
          <p:cNvSpPr/>
          <p:nvPr/>
        </p:nvSpPr>
        <p:spPr>
          <a:xfrm>
            <a:off x="5005800" y="3267000"/>
            <a:ext cx="411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e5672"/>
                </a:solidFill>
                <a:latin typeface="Arial"/>
              </a:rPr>
              <a:t>Шестое «П» проекта —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5672"/>
                </a:solidFill>
                <a:latin typeface="Arial"/>
              </a:rPr>
              <a:t>Портфол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4" name="Picture 2" descr="D:\мамина папка\единая коллекция цифровых технологий\шаблоны для презентаций\Сказочные персонажи\люди и дети\bb7840536a7f.jpg"/>
          <p:cNvPicPr/>
          <p:nvPr/>
        </p:nvPicPr>
        <p:blipFill>
          <a:blip r:embed="rId1"/>
          <a:stretch/>
        </p:blipFill>
        <p:spPr>
          <a:xfrm>
            <a:off x="4211640" y="4508640"/>
            <a:ext cx="4741920" cy="2147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8T13:34:53Z</dcterms:created>
  <dc:creator>Иванова</dc:creator>
  <dc:description/>
  <dc:language>en-US</dc:language>
  <cp:lastModifiedBy>Elena</cp:lastModifiedBy>
  <dcterms:modified xsi:type="dcterms:W3CDTF">2014-11-04T22:23:05Z</dcterms:modified>
  <cp:revision>35</cp:revision>
  <dc:subject/>
  <dc:title>Этапы работы над проектом</dc:title>
</cp:coreProperties>
</file>