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84B-19D5-4581-8EB9-5BAA05F5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AA1-6BB3-41AA-B44F-2518F50B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B27-2739-48E9-90B3-495378F7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DEFE-6088-4882-BD64-F8BC4591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812F-EA75-4350-BE1E-4B744D37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378-B1A2-4B18-96D7-1003F76F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58D-F1A6-4FCE-A199-391465C7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F421-9EFF-4ACA-BB53-31D81A01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B52-B8DF-4824-A81D-F69FFB21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EF8-FA3C-4665-A339-D86C054A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741-1183-4350-A69A-138404C9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05A-418D-4B55-A067-7A2E9F4A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B9D1-C438-49A1-A89A-A135BBDDB3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cdn.gollos.com/3772/Prod/1107094/Logo/638074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Documents and Settings\Администратор\Рабочий стол\заготовки слайдов\Ramki-otkrytki-dlja-fotoshopa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000080" y="-325080"/>
            <a:ext cx="5929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96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</a:t>
            </a:r>
            <a:r>
              <a:rPr b="0" lang="tt-RU" sz="9600" spc="-1" strike="noStrike">
                <a:solidFill>
                  <a:srgbClr val="002060"/>
                </a:solidFill>
                <a:latin typeface="Times New Roman"/>
                <a:ea typeface="Calibri"/>
              </a:rPr>
              <a:t>Халык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96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tt-RU" sz="9600" spc="-1" strike="noStrike">
                <a:solidFill>
                  <a:srgbClr val="002060"/>
                </a:solidFill>
                <a:latin typeface="Times New Roman"/>
                <a:ea typeface="Calibri"/>
              </a:rPr>
              <a:t>авыз иҗат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л шомарткычлар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авазларны д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өрес әйтер өчен кулланыла торган ши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ъри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әсәрлә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33cc33"/>
                </a:solidFill>
                <a:latin typeface="Calibri"/>
              </a:rPr>
              <a:t>               </a:t>
            </a:r>
            <a:r>
              <a:rPr b="0" lang="tt-RU" sz="3200" spc="-1" strike="noStrike">
                <a:solidFill>
                  <a:srgbClr val="33cc33"/>
                </a:solidFill>
                <a:latin typeface="Calibri"/>
              </a:rPr>
              <a:t>Карамага кар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арама, карама,карамага карам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арамага карасаң, ике күзең кар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( карама – ясе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акмакл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бию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өчен яки күңел ачу өчен әйтелә торган халык иҗаты әсәрлә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ие,бие,бие әле,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иегәнең юк әл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Сине матур бии диләр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иетеп карыйк ә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Челтәр икән якас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игрәк матур тәңкәс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Аккош микән,былбыл микә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Моны үстергән әнкә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tt-RU" sz="4800" spc="-1" strike="noStrike">
                <a:solidFill>
                  <a:srgbClr val="ff0000"/>
                </a:solidFill>
                <a:latin typeface="Calibri"/>
              </a:rPr>
              <a:t>Санамышлар </a:t>
            </a:r>
            <a:r>
              <a:rPr b="0" lang="tt-RU" sz="4800" spc="-1" strike="noStrike">
                <a:solidFill>
                  <a:srgbClr val="000099"/>
                </a:solidFill>
                <a:latin typeface="Calibri"/>
              </a:rPr>
              <a:t>– кайбер уенны башлап җибәргәндә балалар арасында әйтелә торган үзенә бер төр тезем сүзләр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Санамыш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33cc33"/>
                </a:solidFill>
                <a:latin typeface="Calibri"/>
              </a:rPr>
              <a:t>          </a:t>
            </a:r>
            <a:r>
              <a:rPr b="0" lang="tt-RU" sz="3200" spc="-1" strike="noStrike">
                <a:solidFill>
                  <a:srgbClr val="33cc33"/>
                </a:solidFill>
                <a:latin typeface="Calibri"/>
              </a:rPr>
              <a:t>Кура җилә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660066"/>
                </a:solidFill>
                <a:latin typeface="Calibri"/>
              </a:rPr>
              <a:t>Бер  чиләк, ике чилә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660066"/>
                </a:solidFill>
                <a:latin typeface="Calibri"/>
              </a:rPr>
              <a:t>Өч чиләк, дүрт чилә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660066"/>
                </a:solidFill>
                <a:latin typeface="Calibri"/>
              </a:rPr>
              <a:t>Биш чиләк,алты чилә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660066"/>
                </a:solidFill>
                <a:latin typeface="Calibri"/>
              </a:rPr>
              <a:t>Җиде чиләк,сигез чилә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660066"/>
                </a:solidFill>
                <a:latin typeface="Calibri"/>
              </a:rPr>
              <a:t>Тугыз чиләк – кура җиләк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tt-RU" sz="4400" spc="-1" strike="noStrike">
                <a:solidFill>
                  <a:srgbClr val="ff0000"/>
                </a:solidFill>
                <a:latin typeface="Calibri"/>
              </a:rPr>
              <a:t>Табышмак – зиһен ачкыч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660066"/>
                </a:solidFill>
                <a:latin typeface="Calibri"/>
              </a:rPr>
              <a:t>     </a:t>
            </a:r>
            <a:r>
              <a:rPr b="0" lang="tt-RU" sz="4400" spc="-1" strike="noStrike">
                <a:solidFill>
                  <a:srgbClr val="660066"/>
                </a:solidFill>
                <a:latin typeface="Calibri"/>
              </a:rPr>
              <a:t>Төп мәг</a:t>
            </a:r>
            <a:r>
              <a:rPr b="0" lang="ru-RU" sz="4400" spc="-1" strike="noStrike">
                <a:solidFill>
                  <a:srgbClr val="660066"/>
                </a:solidFill>
                <a:latin typeface="Calibri"/>
              </a:rPr>
              <a:t>ънәсен  уйлап белергә кирәк булган нәфис сүзне табышмак дилә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99"/>
                </a:solidFill>
                <a:latin typeface="Calibri"/>
              </a:rPr>
              <a:t>Җире ак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99"/>
                </a:solidFill>
                <a:latin typeface="Calibri"/>
              </a:rPr>
              <a:t>Орлыгы кара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99"/>
                </a:solidFill>
                <a:latin typeface="Calibri"/>
              </a:rPr>
              <a:t>Кул белән чәчәләр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99"/>
                </a:solidFill>
                <a:latin typeface="Calibri"/>
              </a:rPr>
              <a:t>Авыз белән җыялар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Картинка 1 из 12505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928800"/>
            <a:ext cx="1857240" cy="1928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660066"/>
                </a:solidFill>
                <a:latin typeface="Calibri"/>
              </a:rPr>
              <a:t>Агач түгел – яфраклы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660066"/>
                </a:solidFill>
                <a:latin typeface="Calibri"/>
              </a:rPr>
              <a:t>Күлмәк түгел – тегелгән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660066"/>
                </a:solidFill>
                <a:latin typeface="Calibri"/>
              </a:rPr>
              <a:t>Кеше түгел – сөйли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660066"/>
                </a:solidFill>
                <a:latin typeface="Calibri"/>
              </a:rPr>
              <a:t>Нәрсә ул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7" descr="C:\Documents and Settings\Администратор\Рабочий стол\заготовки слайдов\картинки\Безымянный2.jpg"/>
          <p:cNvPicPr/>
          <p:nvPr/>
        </p:nvPicPr>
        <p:blipFill>
          <a:blip r:embed="rId2"/>
          <a:stretch/>
        </p:blipFill>
        <p:spPr>
          <a:xfrm>
            <a:off x="3714840" y="3000240"/>
            <a:ext cx="3429000" cy="1800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</a:t>
            </a: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әзәк – күңел ачкыч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tt-RU" sz="3200" spc="-1" strike="noStrike">
                <a:solidFill>
                  <a:srgbClr val="33cc33"/>
                </a:solidFill>
                <a:latin typeface="Calibri"/>
              </a:rPr>
              <a:t>Саф  һавада йө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660066"/>
                </a:solidFill>
                <a:latin typeface="Calibri"/>
              </a:rPr>
              <a:t>Алсу, нигә дәресеңне әзерләмәдең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660066"/>
                </a:solidFill>
                <a:latin typeface="Calibri"/>
              </a:rPr>
              <a:t>Ут юк и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660066"/>
                </a:solidFill>
                <a:latin typeface="Calibri"/>
              </a:rPr>
              <a:t>Ә телевизор карадыңмы соң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660066"/>
                </a:solidFill>
                <a:latin typeface="Calibri"/>
              </a:rPr>
              <a:t>Аны бит мин караңгыда карад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C:\Documents and Settings\Администратор\Рабочий стол\заготовки слайдов\nabor_fonov_12\20-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285840" y="357120"/>
            <a:ext cx="8572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7030a0"/>
                </a:solidFill>
                <a:latin typeface="Times New Roman"/>
                <a:ea typeface="Calibri"/>
              </a:rPr>
              <a:t>Халык авыз иҗаты әсәрләр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1.Бишек җырла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2.Такмак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.Такмаза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4.Санамыш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5.Табышмак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6.Мәкальлә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7.Әкиятлә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8.Мәсәллә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9.Тизәйткечлә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10.Мәзәклә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Documents and Settings\Администратор\Рабочий стол\заготовки слайдов\nabor_fonov_12\20-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285840" y="357120"/>
            <a:ext cx="8572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</a:t>
            </a:r>
            <a:r>
              <a:rPr b="1" i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Кайбер әкиятләрнең,табышма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i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җыр, такмак, санамыш, мәзәк, бишек җырларының авторы бер генә кеше түгел, ә бик күп кешеләр була. Андый әсәрләрне халык иҗаты диләр. Бу әсәрләр бик борынгы чорлардан ук телдән телгә күчеп килгән, шуңа күрә аларны </a:t>
            </a:r>
            <a:r>
              <a:rPr b="1" i="1" lang="tt-RU" sz="3600" spc="-1" strike="noStrike">
                <a:solidFill>
                  <a:srgbClr val="660066"/>
                </a:solidFill>
                <a:latin typeface="Times New Roman"/>
                <a:ea typeface="Calibri"/>
              </a:rPr>
              <a:t>халык авыз иҗаты</a:t>
            </a:r>
            <a:r>
              <a:rPr b="1" i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дип тә йөртәлә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tt-RU" sz="4000" spc="-1" strike="noStrike">
                <a:solidFill>
                  <a:srgbClr val="ff0000"/>
                </a:solidFill>
                <a:latin typeface="Calibri"/>
              </a:rPr>
              <a:t>Мәкал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ь </a:t>
            </a: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– халыкны</a:t>
            </a:r>
            <a:r>
              <a:rPr b="0" lang="tt-RU" sz="4000" spc="-1" strike="noStrike">
                <a:solidFill>
                  <a:srgbClr val="000099"/>
                </a:solidFill>
                <a:latin typeface="Calibri"/>
              </a:rPr>
              <a:t>ң тормыш тәҗрибәсен туплаган кыска, тирән мәг</a:t>
            </a: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ънәле төгәл җөмләләр ул.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Мәкальне</a:t>
            </a:r>
            <a:r>
              <a:rPr b="0" lang="tt-RU" sz="4000" spc="-1" strike="noStrike">
                <a:solidFill>
                  <a:srgbClr val="000099"/>
                </a:solidFill>
                <a:latin typeface="Calibri"/>
              </a:rPr>
              <a:t>ң </a:t>
            </a:r>
            <a:r>
              <a:rPr b="0" lang="tt-RU" sz="4000" spc="-1" strike="noStrike">
                <a:solidFill>
                  <a:srgbClr val="ff0000"/>
                </a:solidFill>
                <a:latin typeface="Calibri"/>
              </a:rPr>
              <a:t>төп мәг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ънәсе </a:t>
            </a:r>
            <a:r>
              <a:rPr b="0" lang="tt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“</a:t>
            </a:r>
            <a:r>
              <a:rPr b="0" lang="tt-RU" sz="4000" spc="-1" strike="noStrike">
                <a:solidFill>
                  <a:srgbClr val="000099"/>
                </a:solidFill>
                <a:latin typeface="Calibri"/>
                <a:ea typeface="Times New Roman"/>
              </a:rPr>
              <a:t>сөйләп,әйтеп бирү</a:t>
            </a:r>
            <a:r>
              <a:rPr b="0" lang="tt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”</a:t>
            </a:r>
            <a:r>
              <a:rPr b="0" lang="tt-RU" sz="4000" spc="-1" strike="noStrike">
                <a:solidFill>
                  <a:srgbClr val="000099"/>
                </a:solidFill>
                <a:latin typeface="Calibri"/>
                <a:ea typeface="Times New Roman"/>
              </a:rPr>
              <a:t>дигәнне аңлата.Төп максаты – фикер әйтү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әкал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ьл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ә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Тән биргән дә а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Сөт биргән дә а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Тел биргән дә а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өй биргән дә 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Ата –анаң чын дустың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Дус – ишләрең юлдашың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Администратор\Рабочий стол\заготовки слайдов\nabor_fonov_12\15-12.jpg"/>
          <p:cNvPicPr/>
          <p:nvPr/>
        </p:nvPicPr>
        <p:blipFill>
          <a:blip r:embed="rId2"/>
          <a:stretch/>
        </p:blipFill>
        <p:spPr>
          <a:xfrm>
            <a:off x="-285840" y="-228600"/>
            <a:ext cx="9715680" cy="73152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500040" y="214200"/>
            <a:ext cx="842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шек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яшь баланы тирб</a:t>
            </a:r>
            <a:r>
              <a:rPr b="0" lang="tt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әтеп йоклату өчен махсус җайланып эшләнгән асылмалы ятак яки йоклату уры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:\Documents and Settings\Администратор\Рабочий стол\бишек4.jpg"/>
          <p:cNvPicPr/>
          <p:nvPr/>
        </p:nvPicPr>
        <p:blipFill>
          <a:blip r:embed="rId3"/>
          <a:stretch/>
        </p:blipFill>
        <p:spPr>
          <a:xfrm>
            <a:off x="285840" y="3214800"/>
            <a:ext cx="4214880" cy="3643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Documents and Settings\Администратор\Рабочий стол\бишек6.jpeg"/>
          <p:cNvPicPr/>
          <p:nvPr/>
        </p:nvPicPr>
        <p:blipFill>
          <a:blip r:embed="rId4"/>
          <a:stretch/>
        </p:blipFill>
        <p:spPr>
          <a:xfrm>
            <a:off x="5072040" y="2714760"/>
            <a:ext cx="4071960" cy="4143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Documents and Settings\Администратор\Рабочий стол\заготовки слайдов\nabor_fonov_12\15-12.jpg"/>
          <p:cNvPicPr/>
          <p:nvPr/>
        </p:nvPicPr>
        <p:blipFill>
          <a:blip r:embed="rId2"/>
          <a:stretch/>
        </p:blipFill>
        <p:spPr>
          <a:xfrm>
            <a:off x="-285840" y="-228600"/>
            <a:ext cx="971568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500040" y="214200"/>
            <a:ext cx="86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tt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шек җыры </a:t>
            </a:r>
            <a:r>
              <a:rPr b="0" lang="tt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бишектәге баланы тирбәтеп йоклатканда, юатканда җырлана торган җы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:\Documents and Settings\Администратор\Рабочий стол\бишек1.jpg"/>
          <p:cNvPicPr/>
          <p:nvPr/>
        </p:nvPicPr>
        <p:blipFill>
          <a:blip r:embed="rId3"/>
          <a:stretch/>
        </p:blipFill>
        <p:spPr>
          <a:xfrm>
            <a:off x="2500200" y="3643200"/>
            <a:ext cx="4572000" cy="3214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Бишек җыр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t-RU" sz="4800" spc="-1" strike="noStrike">
                <a:solidFill>
                  <a:srgbClr val="00b050"/>
                </a:solidFill>
                <a:latin typeface="Calibri"/>
              </a:rPr>
              <a:t>Әлли – бәлли бәүкәем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b050"/>
                </a:solidFill>
                <a:latin typeface="Calibri"/>
              </a:rPr>
              <a:t>Җан йөрәгем, нәнкәем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b050"/>
                </a:solidFill>
                <a:latin typeface="Calibri"/>
              </a:rPr>
              <a:t>Рәхәт кенә тынычла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b050"/>
                </a:solidFill>
                <a:latin typeface="Calibri"/>
              </a:rPr>
              <a:t>Йоклап китәр бәбкәем.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2286000" y="42876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шек җырл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Әлли – бәлли итәр б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Йокыларга китәр 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әү – бәү итеп,күз йомы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рәп кенә китәр 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лма кебек тәгәрә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Үсеп буйга җитәр б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быйлары артынн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әктәпләргә китәр 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әктәпләрдә укыгач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алим булып җитәр 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21:03:56Z</dcterms:created>
  <dc:creator>XTreme</dc:creator>
  <dc:description/>
  <dc:language>en-US</dc:language>
  <cp:lastModifiedBy>User</cp:lastModifiedBy>
  <dcterms:modified xsi:type="dcterms:W3CDTF">2015-04-05T16:35:46Z</dcterms:modified>
  <cp:revision>64</cp:revision>
  <dc:subject/>
  <dc:title>Слайд 1</dc:title>
</cp:coreProperties>
</file>