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D9A-6983-4325-93EB-8BFDF6D7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709-8748-4A91-BAD1-D748F856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C84-1FCC-46C3-838E-A4689A76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767-CED0-4CCB-9EF7-D11C68D7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977-6995-4F75-A4D5-5BD16F4C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2B7-6E31-4CEA-AE28-263E8C1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006-DA33-4825-8B80-79AFEC69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EBA-F7B5-4E4F-8FD7-3282ACE6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BBB-23B3-41BD-89E5-A1D597D1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842-B5B7-4E68-993F-18FF811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5CB-CBC8-45B8-BE5B-0A6E6A0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99B-20A0-47F3-8397-0AF41AF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51C7-EF16-4F55-8FCD-55A8CAAE15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cdn.gollos.com/3772/Prod/1107094/Logo/638074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Documents and Settings\Администратор\Рабочий стол\заготовки слайдов\Ramki-otkrytki-dlja-fotoshop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000080" y="-325080"/>
            <a:ext cx="5929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Халык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авыз иҗат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л шомарткычла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авазларны д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рес әйтер өчен кулланыла торган ши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ъри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сәрлә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               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Карамага ка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арама, карама,карамага кара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арамага карасаң, ике күзең кар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( карама – ясе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акмакл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ию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чен яки күңел ачу өчен әйтелә торган халык иҗаты әсәрлә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,бие,бие әле,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гәнең юк әл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ине матур бии дилә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теп карыйк ә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Челтәр икән якас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грәк матур тәңкәс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ккош микән,былбыл микә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оны үстергән әнкә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tt-RU" sz="4800" spc="-1" strike="noStrike">
                <a:solidFill>
                  <a:srgbClr val="ff0000"/>
                </a:solidFill>
                <a:latin typeface="Calibri"/>
              </a:rPr>
              <a:t>Санамышлар </a:t>
            </a: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– кайбер уенны башлап җибәргәндә балалар арасында әйтелә торган үзенә бер төр тезем сүзлә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Санамы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          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Кура җилә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Бер  чиләк, ике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Өч чиләк, дүрт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Биш чиләк,алты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Җиде чиләк,сигез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Тугыз чиләк – кура җилә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tt-RU" sz="4400" spc="-1" strike="noStrike">
                <a:solidFill>
                  <a:srgbClr val="ff0000"/>
                </a:solidFill>
                <a:latin typeface="Calibri"/>
              </a:rPr>
              <a:t>Табышмак – зиһен ачкыч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tt-RU" sz="4400" spc="-1" strike="noStrike">
                <a:solidFill>
                  <a:srgbClr val="660066"/>
                </a:solidFill>
                <a:latin typeface="Calibri"/>
              </a:rPr>
              <a:t>Төп мәг</a:t>
            </a:r>
            <a:r>
              <a:rPr b="0" lang="ru-RU" sz="4400" spc="-1" strike="noStrike">
                <a:solidFill>
                  <a:srgbClr val="660066"/>
                </a:solidFill>
                <a:latin typeface="Calibri"/>
              </a:rPr>
              <a:t>ънәсен  уйлап белергә кирәк булган нәфис сүзне табышмак дилә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Җире а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Орлыгы кар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Кул белән чәчәләр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Авыз белән җыяла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Картинка 1 из 1250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928800"/>
            <a:ext cx="1857240" cy="1928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Агач түгел – яфракл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Күлмәк түгел – тегелгән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Кеше түгел – сөйли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Нәрсә ул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C:\Documents and Settings\Администратор\Рабочий стол\заготовки слайдов\картинки\Безымянный2.jpg"/>
          <p:cNvPicPr/>
          <p:nvPr/>
        </p:nvPicPr>
        <p:blipFill>
          <a:blip r:embed="rId2"/>
          <a:stretch/>
        </p:blipFill>
        <p:spPr>
          <a:xfrm>
            <a:off x="3714840" y="3000240"/>
            <a:ext cx="3429000" cy="18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әзәк – күңел ачкыч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tt-RU" sz="3200" spc="-1" strike="noStrike">
                <a:solidFill>
                  <a:srgbClr val="33cc33"/>
                </a:solidFill>
                <a:latin typeface="Calibri"/>
              </a:rPr>
              <a:t>Саф  һавада йө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Алсу, нигә дәресеңне әзерләмәде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Ут юк 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Ә телевизор карадыңмы со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Аны бит мин караңгыда карад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Documents and Settings\Администратор\Рабочий стол\заготовки слайдов\nabor_fonov_12\20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285840" y="357120"/>
            <a:ext cx="8572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Халык авыз иҗаты әсәрлә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.Бишек җырл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2.Такмак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.Такмаз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4.Санамыш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5.Табышмак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6.Мәкаль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7.Әкият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.Мәсәл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9.Тизәйткеч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0.Мәзәк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Администратор\Рабочий стол\заготовки слайдов\nabor_fonov_12\20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285840" y="357120"/>
            <a:ext cx="8572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йбер әкиятләрнең,табышм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җыр, такмак, санамыш, мәзәк, бишек җырларының авторы бер генә кеше түгел, ә бик күп кешеләр була. Андый әсәрләрне халык иҗаты диләр. Бу әсәрләр бик борынгы чорлардан ук телдән телгә күчеп килгән, шуңа күрә аларны </a:t>
            </a:r>
            <a:r>
              <a:rPr b="1" i="1" lang="tt-RU" sz="3600" spc="-1" strike="noStrike">
                <a:solidFill>
                  <a:srgbClr val="660066"/>
                </a:solidFill>
                <a:latin typeface="Times New Roman"/>
                <a:ea typeface="Calibri"/>
              </a:rPr>
              <a:t>халык авыз иҗаты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дип тә йөртәлә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tt-RU" sz="4000" spc="-1" strike="noStrike">
                <a:solidFill>
                  <a:srgbClr val="ff0000"/>
                </a:solidFill>
                <a:latin typeface="Calibri"/>
              </a:rPr>
              <a:t>Мәкал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ь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– халыкны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</a:rPr>
              <a:t>ң тормыш тәҗрибәсен туплаган кыска, тирән мәг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ънәле төгәл җөмләләр ул.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Мәкальне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</a:rPr>
              <a:t>ң </a:t>
            </a:r>
            <a:r>
              <a:rPr b="0" lang="tt-RU" sz="4000" spc="-1" strike="noStrike">
                <a:solidFill>
                  <a:srgbClr val="ff0000"/>
                </a:solidFill>
                <a:latin typeface="Calibri"/>
              </a:rPr>
              <a:t>төп мәг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ънәсе </a:t>
            </a:r>
            <a:r>
              <a:rPr b="0" lang="tt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“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сөйләп,әйтеп бирү</a:t>
            </a:r>
            <a:r>
              <a:rPr b="0" lang="tt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”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игәнне аңлата.Төп максаты – фикер әйтү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әкал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ьл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ә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ән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өт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ел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өй биргән дә 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та –анаң чын дустың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Дус – ишләрең юлдашың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Администратор\Рабочий стол\заготовки слайдов\nabor_fonov_12\15-12.jpg"/>
          <p:cNvPicPr/>
          <p:nvPr/>
        </p:nvPicPr>
        <p:blipFill>
          <a:blip r:embed="rId2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00040" y="214200"/>
            <a:ext cx="842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яшь баланы тирб</a:t>
            </a:r>
            <a:r>
              <a:rPr b="0" lang="tt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әтеп йоклату өчен махсус җайланып эшләнгән асылмалы ятак яки йоклату уры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Documents and Settings\Администратор\Рабочий стол\бишек4.jpg"/>
          <p:cNvPicPr/>
          <p:nvPr/>
        </p:nvPicPr>
        <p:blipFill>
          <a:blip r:embed="rId3"/>
          <a:stretch/>
        </p:blipFill>
        <p:spPr>
          <a:xfrm>
            <a:off x="285840" y="3214800"/>
            <a:ext cx="4214880" cy="364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Documents and Settings\Администратор\Рабочий стол\бишек6.jpeg"/>
          <p:cNvPicPr/>
          <p:nvPr/>
        </p:nvPicPr>
        <p:blipFill>
          <a:blip r:embed="rId4"/>
          <a:stretch/>
        </p:blipFill>
        <p:spPr>
          <a:xfrm>
            <a:off x="5072040" y="2714760"/>
            <a:ext cx="4071960" cy="4143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Администратор\Рабочий стол\заготовки слайдов\nabor_fonov_12\15-12.jpg"/>
          <p:cNvPicPr/>
          <p:nvPr/>
        </p:nvPicPr>
        <p:blipFill>
          <a:blip r:embed="rId2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00040" y="21420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tt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җыры </a:t>
            </a:r>
            <a:r>
              <a:rPr b="0" lang="tt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бишектәге баланы тирбәтеп йоклатканда, юатканда җырлана торган җы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Администратор\Рабочий стол\бишек1.jpg"/>
          <p:cNvPicPr/>
          <p:nvPr/>
        </p:nvPicPr>
        <p:blipFill>
          <a:blip r:embed="rId3"/>
          <a:stretch/>
        </p:blipFill>
        <p:spPr>
          <a:xfrm>
            <a:off x="2500200" y="3643200"/>
            <a:ext cx="4572000" cy="3214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Бишек җыр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Әлли – бәлли бәүкәе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Җан йөрәгем, нәнкәе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Рәхәт кенә тынычла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Йоклап китәр бәбкәем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2286000" y="42876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җырл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Әлли – бәлли итәр б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Йокыларга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әү – бәү итеп,күз йом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әп кенә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ма кебек тәгәрә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Үсеп буйга җитәр б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быйлары артынн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әктәпләргә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әктәпләрдә укыга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алим булып җ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21:03:56Z</dcterms:created>
  <dc:creator>XTreme</dc:creator>
  <dc:description/>
  <dc:language>en-US</dc:language>
  <cp:lastModifiedBy>User</cp:lastModifiedBy>
  <dcterms:modified xsi:type="dcterms:W3CDTF">2015-04-05T16:35:46Z</dcterms:modified>
  <cp:revision>64</cp:revision>
  <dc:subject/>
  <dc:title>Слайд 1</dc:title>
</cp:coreProperties>
</file>