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448-88A5-432D-915E-50055E55F3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0B0-7565-44F1-8595-8C02054E73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DADF-9F6B-484A-A16C-9BCF534937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CD89-8301-486E-BA76-51155B257B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AC85-E9D7-429E-935B-398A6F082E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7EA5-69B3-4FF7-9A8E-8A962F4F2D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AA1-F726-477F-B89D-0F576F6342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C03A-2921-4FCF-A04A-F95BA6A3F1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FD2-2C93-4868-8CD5-74B465CA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F41-BF07-419B-8CD2-4C2D7251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7BA-6512-4A97-AF68-06826331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7AE-E118-4029-B265-894F08E0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AA9-3D7B-41C2-A9CE-97E117D2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6F3C-FC69-423F-8666-830260A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E7C7-D074-4FB4-8094-0C34CC90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468E-27F4-49C0-BB18-95BED9A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63B3-C228-4EC5-9D21-6088495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57F7-966E-4E2E-9B2B-E2B1D695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9086-34DB-483A-8817-EB5D65F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CAF-062D-4CD6-A702-BFC8676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1936-E621-44A1-9F48-90B0CD52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35C1-1C64-45E2-8ACD-8A5B2A8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93F-D63B-4D6C-BCF0-ED6B41FB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6DA-F3DD-49B2-AAF2-7A923F17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1F0-603C-495D-95F9-55983193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11E9-8C97-448A-A2B0-85AD4D7E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1072-0C01-48AA-BCF7-BC718179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E42B-57EC-45FA-87A6-4B842301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7EB4-1AC6-4E5D-85F2-79D3329A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CCFD-0128-4916-8CAA-9EAD6FE3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5B8-6F03-47E4-B20B-4DBC11B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B392-94D3-4765-A8E7-47625BB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5D6D-ACF2-4FA1-BEEB-2CFB9BA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C2B1-DCE4-4A65-9FAC-DF61E07F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47E8-78B0-41FB-89B5-D277703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41B3-B2BE-4CB9-8177-1FDD754B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E104-66ED-45E4-A9E9-FD2B6E80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3ABE-C3E1-4C27-8B91-6F467F76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E8A88-B887-4A52-86DF-CEFB8683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C690-07E2-47D6-BCBC-8FFC186F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AC71-8B96-4B33-AAB6-7849B8C6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FA5-D4F3-4BD5-92CE-64F17B7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CF998-0FC8-40D2-B597-18639C2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2017-05CA-430E-8419-0D68E0A5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5B0B-5604-4D04-9552-2A05804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118B-D03F-47FC-AB99-FFBB617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12DF-1641-4F79-83FA-E55314F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F089-11C8-45BB-A916-AD1BA247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3062-9411-486C-85EC-D1B3A4FC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37DE-D95D-403E-B952-1469D57B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7E309-F765-4A07-8DDF-BB1A1523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FB6-68E2-4F44-BF01-C77C0720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E31-1D45-43DF-AEDF-FBA78B39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0B7-C4D2-44A0-9981-DB97B03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628-0C97-4BE2-96B3-41323FA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D3F-1275-4D77-9424-BFD74C8B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3873-CAF5-4037-91F1-A6C2DC1AF6E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129-9EFF-4CB4-9664-0D33A219AD8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9441-A0DD-4010-B161-96DEACC9C20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0A35-7AC2-4109-B0F0-C829FB33664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00AC-CB68-4C2F-8707-9E8E15767FD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9E7-6CF2-41D0-90CD-3CB4E1FD494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A910-DC56-493E-82D1-1584214FE02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9DE4-3081-4AAA-8609-3DD56315EAF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Cambria Math"/>
                <a:ea typeface="Cambria Math"/>
              </a:rPr>
              <a:t>КИСЛОРОД</a:t>
            </a:r>
            <a:endParaRPr b="0" lang="en-US" sz="9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3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mbria Math"/>
                <a:ea typeface="Cambria Math"/>
              </a:rPr>
              <a:t>КИСЛОРОД КАК ЭЛЕМЕНТ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.  Элемент кислород находится в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I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руппе, главной подгруппе,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ериоде, порядковый номер №8,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r =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. Строение атома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= 8; 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= 8; ē = 8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алентность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степень окисления -2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(редко +2; +1; -1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. Входит в состав оксидов, оснований, солей, кислот, органических веществ, в том числе живых организмов-   до 65% по массе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708440" y="6591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Рисунок 8" descr="Безымянный11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352680" y="2971800"/>
            <a:ext cx="1600200" cy="762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p:transition spd="slow" advTm="3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mbria Math"/>
                <a:ea typeface="Cambria Math"/>
              </a:rPr>
              <a:t>КИСЛОРОД КАК ЭЛЕМЕНТ (ПРОДОЛЖЕНИЕ)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В земной коре его 49% по массе, в гидросфере –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%  по массе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5. В составе воздуха (в виде простого вещества) –  20-21% по объёму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Состав воздуха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О</a:t>
            </a:r>
            <a:r>
              <a:rPr b="0" lang="ru-RU" sz="1700" spc="-1" strike="noStrike">
                <a:solidFill>
                  <a:srgbClr val="00b0f0"/>
                </a:solidFill>
                <a:latin typeface="Georgia"/>
              </a:rPr>
              <a:t>2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 – 20-21 %; 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N</a:t>
            </a:r>
            <a:r>
              <a:rPr b="0" lang="en-US" sz="1700" spc="-1" strike="noStrike">
                <a:solidFill>
                  <a:srgbClr val="00b0f0"/>
                </a:solidFill>
                <a:latin typeface="Georgia"/>
              </a:rPr>
              <a:t>2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</a:rPr>
              <a:t>78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%; 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CO</a:t>
            </a:r>
            <a:r>
              <a:rPr b="0" lang="en-US" sz="1700" spc="-1" strike="noStrike">
                <a:solidFill>
                  <a:srgbClr val="00b0f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</a:rPr>
              <a:t>0,03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%,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f0"/>
                </a:solidFill>
                <a:latin typeface="Georgia"/>
              </a:rPr>
              <a:t>остальное приходится на инертные газы, пары воды, примес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68580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слород является самым распространённым элементом нашей планеты. По весу на его долю приходится примерно половина общей массы всех элементов земной кор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0" descr="H:\Черновики\Рисунки\nat1.gif"/>
          <p:cNvPicPr/>
          <p:nvPr/>
        </p:nvPicPr>
        <p:blipFill>
          <a:blip r:embed="rId1"/>
          <a:stretch/>
        </p:blipFill>
        <p:spPr>
          <a:xfrm>
            <a:off x="1752480" y="3124080"/>
            <a:ext cx="5639040" cy="214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ФИЗИЧЕСКИЕ СВОЙСТВ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144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Газ - без цвета, вкуса и запаха; в 100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 H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растворяется 3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 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(н.у.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ип= -183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;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л = -219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по воздуху = 1,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давлении 760 мм. рт.ст. и температур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3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ислород сжижается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afc9a"/>
                </a:solidFill>
                <a:latin typeface="Cambria Math"/>
                <a:ea typeface="Cambria Math"/>
              </a:rPr>
              <a:t>      </a:t>
            </a:r>
            <a:endParaRPr b="0" lang="en-US" sz="5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H:\Черновики\Рисунки\Oxygen1.jpg"/>
          <p:cNvPicPr/>
          <p:nvPr/>
        </p:nvPicPr>
        <p:blipFill>
          <a:blip r:embed="rId1"/>
          <a:stretch/>
        </p:blipFill>
        <p:spPr>
          <a:xfrm>
            <a:off x="1905120" y="3352680"/>
            <a:ext cx="522576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mbria Math"/>
                <a:ea typeface="Cambria Math"/>
              </a:rPr>
              <a:t>ХИМИЧЕСКИЕ СВОЙСТВА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520" y="5028840"/>
            <a:ext cx="2210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 Narrow"/>
              </a:rPr>
              <a:t>С неметаллам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Содержимое 6"/>
          <p:cNvSpPr/>
          <p:nvPr/>
        </p:nvSpPr>
        <p:spPr>
          <a:xfrm>
            <a:off x="5486400" y="3879720"/>
            <a:ext cx="3200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000"/>
                </a:solidFill>
                <a:latin typeface="Arial Narrow"/>
              </a:rPr>
              <a:t>Со сложными веществам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FeS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+ 11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Fe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+ 8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S + 3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2S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+ 2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C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+ 2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C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+ 2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666880" y="5212440"/>
            <a:ext cx="25909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С металл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Cu + O</a:t>
            </a:r>
            <a:r>
              <a:rPr b="0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–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Cu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228600" y="1371600"/>
            <a:ext cx="861048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аимодействие веществ с кислородом называется окисл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кислородом реагируют все элементы, кром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во всех реакциях (кроме взаимодействия со фтором) кислород - окислите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Неустойчив: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Сильный окислитель: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KI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KOH +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есцвечивает красящие вещества, отражает УФ - лучи, уничтожает микроорганиз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Image62"/>
          <p:cNvPicPr/>
          <p:nvPr/>
        </p:nvPicPr>
        <p:blipFill>
          <a:blip r:embed="rId1"/>
          <a:stretch/>
        </p:blipFill>
        <p:spPr>
          <a:xfrm>
            <a:off x="2895480" y="3505320"/>
            <a:ext cx="1905120" cy="1550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ОСОБЫ ПОЛУЧЕНИЯ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ромышленный способ (перегонка жидкого воздуха)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Лабораторный способ (разложение некоторых кислородосодержащих веществ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KCl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–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;MnO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2KCl + 3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–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MnO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 +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 Narrow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 Narrow"/>
              </a:rPr>
              <a:t>Получение   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3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о время грозы (в природе), (в лаборатории) в озонаторе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990720" y="3124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Рисунок 11" descr="99999.JPG"/>
          <p:cNvPicPr/>
          <p:nvPr/>
        </p:nvPicPr>
        <p:blipFill>
          <a:blip r:embed="rId1"/>
          <a:stretch/>
        </p:blipFill>
        <p:spPr>
          <a:xfrm>
            <a:off x="3186000" y="3886200"/>
            <a:ext cx="207180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mbria Math"/>
                <a:ea typeface="Cambria Math"/>
              </a:rPr>
              <a:t>СПОСОБЫ ПОЛУЧЕНИЯ КИСЛОРОДА (ПРОДОЛЖЕНИЕ)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ерманганата калия при нагревании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K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–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+ 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Разложение этой соли идёт при нагревании её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ыше 20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eorgia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грев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K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Narrow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оверка собравшегос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ислород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Picture 12" descr="IMG_3353"/>
          <p:cNvPicPr/>
          <p:nvPr/>
        </p:nvPicPr>
        <p:blipFill>
          <a:blip r:embed="rId1"/>
          <a:stretch/>
        </p:blipFill>
        <p:spPr>
          <a:xfrm>
            <a:off x="533520" y="2895480"/>
            <a:ext cx="411480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IMG_3355"/>
          <p:cNvPicPr/>
          <p:nvPr/>
        </p:nvPicPr>
        <p:blipFill>
          <a:blip r:embed="rId2"/>
          <a:stretch/>
        </p:blipFill>
        <p:spPr>
          <a:xfrm>
            <a:off x="4648320" y="28954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43000" y="1980720"/>
            <a:ext cx="775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ытеснение воды                    вытеснение воздуха       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-7668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mbria Math"/>
                <a:ea typeface="Cambria Math"/>
              </a:rPr>
              <a:t>СПОСОБЫ СОБИРАНИЯ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2" name="Picture 13" descr="Image59-1"/>
          <p:cNvPicPr/>
          <p:nvPr/>
        </p:nvPicPr>
        <p:blipFill>
          <a:blip r:embed="rId1"/>
          <a:stretch/>
        </p:blipFill>
        <p:spPr>
          <a:xfrm>
            <a:off x="609480" y="990720"/>
            <a:ext cx="1424160" cy="152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Image59-3"/>
          <p:cNvPicPr/>
          <p:nvPr/>
        </p:nvPicPr>
        <p:blipFill>
          <a:blip r:embed="rId2"/>
          <a:stretch/>
        </p:blipFill>
        <p:spPr>
          <a:xfrm>
            <a:off x="5867280" y="9144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Image59-2"/>
          <p:cNvPicPr/>
          <p:nvPr/>
        </p:nvPicPr>
        <p:blipFill>
          <a:blip r:embed="rId3"/>
          <a:stretch/>
        </p:blipFill>
        <p:spPr>
          <a:xfrm>
            <a:off x="2514600" y="914400"/>
            <a:ext cx="2743200" cy="1066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19160" y="28656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1. В промышленности кислород получают из воздуха. Воздух представляет собой смесь различных газов, основные компоненты в нем – азот и кислород. Для получения кислорода воздух под давлением сжижают. Так как температура кипения жидкого азота (-196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С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 ниже температуры кипения жидкого кислорода (-183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°C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, то азот испаряется раньше кислорода. Жидкий кислород отделяют от испарившегося азота и хранят в стальных баллонах под давлением 15 М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18148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mbria Math"/>
                <a:ea typeface="Cambria Math"/>
              </a:rPr>
              <a:t>ПРИМЕНЕНИЕ КИСЛОРОД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05320" y="6091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Находит широкое применение в медицине и промышленност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При высотных полётах лётчиков снабжают специальными приборами с кислородом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При многих лёгочных и сердечных заболеваниях, а также при операциях дают вдыхать кислород из кислородных подушек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Кислородом в баллонах снабжают подводные лодк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Горение рыхлого горючего материала, пропитанного жидким кислородом, сопровождается взрывом, что даёт возможность применять кислород при взрывных работах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Жидкий кислород применяют в реактивных двигателях, в автогенной сварке и резке металлов, даже под водой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8" name="Picture 5" descr="H:\Черновики\tan2.JPG"/>
          <p:cNvPicPr/>
          <p:nvPr/>
        </p:nvPicPr>
        <p:blipFill>
          <a:blip r:embed="rId1"/>
          <a:stretch/>
        </p:blipFill>
        <p:spPr>
          <a:xfrm>
            <a:off x="33480" y="533520"/>
            <a:ext cx="3292200" cy="388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{EF2CE4E6-BCA7-400A-9278-E06A32B27DA2}"/>
          <p:cNvPicPr/>
          <p:nvPr/>
        </p:nvPicPr>
        <p:blipFill>
          <a:blip r:embed="rId2"/>
          <a:stretch/>
        </p:blipFill>
        <p:spPr>
          <a:xfrm>
            <a:off x="50760" y="4538520"/>
            <a:ext cx="3257640" cy="2078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1:56:0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