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4587-C919-4614-960D-3C078CBAF9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5BFB-4FE7-4C42-B2EC-F05FBCECB6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DD68-2588-4D8B-B146-5C8DF8DAD9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CA98-EDD9-49F0-A526-BAD1027BBF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FC5A-2E27-4564-A292-ECF4EC947F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DC66-BA2F-4BEA-B4B6-755C913C4B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011C-331F-49F1-8182-2A1376F1AAA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14BA-0703-4356-9A9F-F052100C3C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AAF-2020-4339-A0CF-71257C59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00F-407E-459B-AF2E-38CAFEF8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45B-FF05-46A0-AAD7-909CC4BD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4E5-141C-40BD-B521-F0D61983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97FE-9612-4AB7-AF06-AF7D255A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D343-6087-44FE-88F8-CD1D13D8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32D8-F599-485F-951D-7A077DD3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4D8D-C449-4735-903B-43FD2C91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9720-A302-45E1-91C8-B1D1DFC2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09CA-EEF6-4D17-A565-2D99E138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C809-3B65-45B7-BF74-E7DCE88A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2D4-ABBA-457C-B9E6-C9EAE4C8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DCE7-8485-4D38-8305-AF862B10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CD98-36E9-4A29-9C6B-5E7D8204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10A2-A342-4CF8-B69F-BD46B289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CFDB-F461-444A-A1C7-9051CE49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037D-4C71-4257-97AC-E78AA972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1480-F548-4556-B003-0ABEC10B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3100-F246-428E-B6FF-54B946A6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DD6DC-A0D6-4242-9B67-B30656B5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5D789-3CD2-482B-972D-71096B7B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ED2BA-4E6E-4954-BB54-689752CC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784-623E-4AD5-B6A3-08761CBD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1CEE-B23F-4D25-ABF7-C900592A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F6D72-B18A-4A53-9F0D-75A6E57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ADC73-16BC-4272-9601-8E8327B0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AE1FA-146E-4CE9-8A72-7195F6AA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7D1D-2DAF-43ED-A337-2F86D100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EA82-98C1-4F5D-A8C9-9DED2568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58C4-E627-485A-92B9-65028B70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0CD9A-4B57-4503-9EDB-0F962934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BECB3-CA81-41B4-8B0B-DAC89355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681C0-600B-4A9C-98C4-E13E3DD4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0AD-09A4-47FE-B1F2-1E9A6F46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0972A-17F8-4B5B-B94F-6F71B229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74EC-274B-4C32-8B5D-A763485B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844A0-BBC1-4484-80C7-9062BD8D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3F3B5-AD2C-44AB-96BE-C605F2DB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811CE-864D-437B-B421-D43CD978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23C1C-1484-4E3B-94A9-2BAAB845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50410-3A50-4F74-AED3-98D9ADA8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05D5E-87BD-4223-98D2-0E3F6E18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F3E66-F706-4D96-9A77-A1FFF86A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690-9106-4CEB-93E9-7B724FAA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34F-7328-46A2-831C-AD32309E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212-1B73-4493-AE20-BDAE0E34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7DE-F019-4974-A923-14D36610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C4C-281C-4033-A2B3-D2BB6CF6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C526-687D-4B78-AE1F-5B6541A4A500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87E8-DFE2-4A92-8F9F-CE0671D83F8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6E93-B8BE-474A-9059-A4082DF254A3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F94C-8430-4773-B8CA-CF324C2261F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CAE1-73A2-41FA-BBFD-E839C3B0C357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7CD5-E9F5-47C6-9C4A-302130AF702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86EB-87C1-4068-90EA-515E8069E83D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0110-0E6A-46A4-BFDB-E1A1DCA8BEC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Cambria Math"/>
                <a:ea typeface="Cambria Math"/>
              </a:rPr>
              <a:t>КИСЛОРОД</a:t>
            </a:r>
            <a:endParaRPr b="0" lang="en-US" sz="9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3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mbria Math"/>
                <a:ea typeface="Cambria Math"/>
              </a:rPr>
              <a:t>КИСЛОРОД КАК ЭЛЕМЕНТ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.  Элемент кислород находится в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VI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группе, главной подгруппе,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периоде, порядковый номер №8,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r =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. Строение атома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= 8; 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= 8; ē = 8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алентность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степень окисления -2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(редко +2; +1; -1)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. Входит в состав оксидов, оснований, солей, кислот, органических веществ, в том числе живых организмов-   до 65% по массе.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708440" y="6591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Рисунок 8" descr="Безымянный11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352680" y="2971800"/>
            <a:ext cx="1600200" cy="762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p:transition spd="slow" advTm="3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mbria Math"/>
                <a:ea typeface="Cambria Math"/>
              </a:rPr>
              <a:t>КИСЛОРОД КАК ЭЛЕМЕНТ (ПРОДОЛЖЕНИЕ)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90720" y="1371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Georgi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Georgia"/>
              </a:rPr>
              <a:t>В земной коре его 49% по массе, в гидросфере –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89</a:t>
            </a:r>
            <a:r>
              <a:rPr b="0" lang="ru-RU" sz="1700" spc="-1" strike="noStrike">
                <a:solidFill>
                  <a:srgbClr val="ffffff"/>
                </a:solidFill>
                <a:latin typeface="Georgia"/>
              </a:rPr>
              <a:t>%  по массе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Georgia"/>
              </a:rPr>
              <a:t>5. В составе воздуха (в виде простого вещества) –  20-21% по объёму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Georgia"/>
              </a:rPr>
              <a:t>Состав воздуха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Georgia"/>
              </a:rPr>
              <a:t>О</a:t>
            </a:r>
            <a:r>
              <a:rPr b="0" lang="ru-RU" sz="1700" spc="-1" strike="noStrike">
                <a:solidFill>
                  <a:srgbClr val="00b0f0"/>
                </a:solidFill>
                <a:latin typeface="Georgia"/>
              </a:rPr>
              <a:t>2</a:t>
            </a:r>
            <a:r>
              <a:rPr b="0" lang="ru-RU" sz="2400" spc="-1" strike="noStrike">
                <a:solidFill>
                  <a:srgbClr val="00b0f0"/>
                </a:solidFill>
                <a:latin typeface="Georgia"/>
              </a:rPr>
              <a:t> – 20-21 %; 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N</a:t>
            </a:r>
            <a:r>
              <a:rPr b="0" lang="en-US" sz="1700" spc="-1" strike="noStrike">
                <a:solidFill>
                  <a:srgbClr val="00b0f0"/>
                </a:solidFill>
                <a:latin typeface="Georgia"/>
              </a:rPr>
              <a:t>2</a:t>
            </a:r>
            <a:r>
              <a:rPr b="0" lang="ru-RU" sz="2400" spc="-1" strike="noStrike">
                <a:solidFill>
                  <a:srgbClr val="00b0f0"/>
                </a:solidFill>
                <a:latin typeface="Georgia"/>
              </a:rPr>
              <a:t> –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</a:rPr>
              <a:t>78</a:t>
            </a:r>
            <a:r>
              <a:rPr b="0" lang="ru-RU" sz="2400" spc="-1" strike="noStrike">
                <a:solidFill>
                  <a:srgbClr val="00b0f0"/>
                </a:solidFill>
                <a:latin typeface="Georgia"/>
              </a:rPr>
              <a:t>%; 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CO</a:t>
            </a:r>
            <a:r>
              <a:rPr b="0" lang="en-US" sz="1700" spc="-1" strike="noStrike">
                <a:solidFill>
                  <a:srgbClr val="00b0f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00b0f0"/>
                </a:solidFill>
                <a:latin typeface="Georgia"/>
              </a:rPr>
              <a:t> –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</a:rPr>
              <a:t>0,03</a:t>
            </a:r>
            <a:r>
              <a:rPr b="0" lang="ru-RU" sz="2400" spc="-1" strike="noStrike">
                <a:solidFill>
                  <a:srgbClr val="00b0f0"/>
                </a:solidFill>
                <a:latin typeface="Georgia"/>
              </a:rPr>
              <a:t>%,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b0f0"/>
                </a:solidFill>
                <a:latin typeface="Georgia"/>
              </a:rPr>
              <a:t>остальное приходится на инертные газы, пары воды, примес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685800" y="5410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слород является самым распространённым элементом нашей планеты. По весу на его долю приходится примерно половина общей массы всех элементов земной кор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0" descr="H:\Черновики\Рисунки\nat1.gif"/>
          <p:cNvPicPr/>
          <p:nvPr/>
        </p:nvPicPr>
        <p:blipFill>
          <a:blip r:embed="rId1"/>
          <a:stretch/>
        </p:blipFill>
        <p:spPr>
          <a:xfrm>
            <a:off x="1752480" y="3124080"/>
            <a:ext cx="5639040" cy="2143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ФИЗИЧЕСКИЕ СВОЙСТВ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144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Газ - без цвета, вкуса и запаха; в 100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V H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растворяется 3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V O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(н.у.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кип= -183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;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пл = -219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по воздуху = 1,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давлении 760 мм. рт.ст. и температуре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3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ислород сжижается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afc9a"/>
                </a:solidFill>
                <a:latin typeface="Cambria Math"/>
                <a:ea typeface="Cambria Math"/>
              </a:rPr>
              <a:t>      </a:t>
            </a:r>
            <a:endParaRPr b="0" lang="en-US" sz="5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H:\Черновики\Рисунки\Oxygen1.jpg"/>
          <p:cNvPicPr/>
          <p:nvPr/>
        </p:nvPicPr>
        <p:blipFill>
          <a:blip r:embed="rId1"/>
          <a:stretch/>
        </p:blipFill>
        <p:spPr>
          <a:xfrm>
            <a:off x="1905120" y="3352680"/>
            <a:ext cx="5225760" cy="3313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mbria Math"/>
                <a:ea typeface="Cambria Math"/>
              </a:rPr>
              <a:t>ХИМИЧЕСКИЕ СВОЙСТВА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0520" y="5028840"/>
            <a:ext cx="2210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 Narrow"/>
              </a:rPr>
              <a:t>С неметаллам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C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67120" indent="-267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67120" indent="-267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Содержимое 6"/>
          <p:cNvSpPr/>
          <p:nvPr/>
        </p:nvSpPr>
        <p:spPr>
          <a:xfrm>
            <a:off x="5486400" y="3879720"/>
            <a:ext cx="3200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c000"/>
                </a:solidFill>
                <a:latin typeface="Arial Narrow"/>
              </a:rPr>
              <a:t>Со сложными веществами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FeS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ru-RU" sz="2100" spc="-1" strike="noStrike">
                <a:solidFill>
                  <a:srgbClr val="ffffff"/>
                </a:solidFill>
                <a:latin typeface="Arial Narrow"/>
              </a:rPr>
              <a:t> + 11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ru-RU" sz="21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100" spc="-1" strike="noStrike">
                <a:solidFill>
                  <a:srgbClr val="ffffff"/>
                </a:solidFill>
                <a:latin typeface="Arial Narrow"/>
              </a:rPr>
              <a:t> 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Fe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ru-RU" sz="2100" spc="-1" strike="noStrike">
                <a:solidFill>
                  <a:srgbClr val="ffffff"/>
                </a:solidFill>
                <a:latin typeface="Arial Narrow"/>
              </a:rPr>
              <a:t> + 8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SO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2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S + 3O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2SO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+ 2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C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+ 2O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CO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 + 2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666880" y="5212440"/>
            <a:ext cx="25909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С металл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g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Cu + O</a:t>
            </a:r>
            <a:r>
              <a:rPr b="0" lang="en-US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–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Cu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228600" y="1371600"/>
            <a:ext cx="861048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заимодействие веществ с кислородом называется окисл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кислородом реагируют все элементы, кром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во всех реакциях (кроме взаимодействия со фтором) кислород - окислител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Неустойчив: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Сильный окислитель: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KI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KOH +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есцвечивает красящие вещества, отражает УФ - лучи, уничтожает микроорганиз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Image62"/>
          <p:cNvPicPr/>
          <p:nvPr/>
        </p:nvPicPr>
        <p:blipFill>
          <a:blip r:embed="rId1"/>
          <a:stretch/>
        </p:blipFill>
        <p:spPr>
          <a:xfrm>
            <a:off x="2895480" y="3505320"/>
            <a:ext cx="1905120" cy="1550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ПОСОБЫ ПОЛУЧЕНИЯ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Промышленный способ (перегонка жидкого воздуха)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Лабораторный способ (разложение некоторых кислородосодержащих веществ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2KCl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–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;MnO2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2KCl + 3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–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MnO2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 +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 Narrow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c000"/>
                </a:solidFill>
                <a:latin typeface="Arial Narrow"/>
              </a:rPr>
              <a:t>Получение   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 Narrow"/>
              </a:rPr>
              <a:t>3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Во время грозы (в природе), (в лаборатории) в озонаторе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990720" y="3124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Рисунок 11" descr="99999.JPG"/>
          <p:cNvPicPr/>
          <p:nvPr/>
        </p:nvPicPr>
        <p:blipFill>
          <a:blip r:embed="rId1"/>
          <a:stretch/>
        </p:blipFill>
        <p:spPr>
          <a:xfrm>
            <a:off x="3186000" y="3886200"/>
            <a:ext cx="207180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mbria Math"/>
                <a:ea typeface="Cambria Math"/>
              </a:rPr>
              <a:t>СПОСОБЫ ПОЛУЧЕНИЯ КИСЛОРОДА (ПРОДОЛЖЕНИЕ)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40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ерманганата калия при нагревании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2K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–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</a:rPr>
              <a:t>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+ 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Разложение этой соли идёт при нагревании её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ыше 200</a:t>
            </a:r>
            <a:r>
              <a:rPr b="0" lang="ru-RU" sz="2000" spc="-1" strike="noStrike" baseline="30000">
                <a:solidFill>
                  <a:srgbClr val="ffffff"/>
                </a:solidFill>
                <a:latin typeface="Georgia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С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грев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2K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Narrow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оверка собравшегося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ислорода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8" name="Picture 12" descr="IMG_3353"/>
          <p:cNvPicPr/>
          <p:nvPr/>
        </p:nvPicPr>
        <p:blipFill>
          <a:blip r:embed="rId1"/>
          <a:stretch/>
        </p:blipFill>
        <p:spPr>
          <a:xfrm>
            <a:off x="533520" y="2895480"/>
            <a:ext cx="4114800" cy="2857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IMG_3355"/>
          <p:cNvPicPr/>
          <p:nvPr/>
        </p:nvPicPr>
        <p:blipFill>
          <a:blip r:embed="rId2"/>
          <a:stretch/>
        </p:blipFill>
        <p:spPr>
          <a:xfrm>
            <a:off x="4648320" y="28954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143000" y="1980720"/>
            <a:ext cx="7750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ытеснение воды                    вытеснение воздуха         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Narrow"/>
              </a:rPr>
              <a:t>   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  <a:p>
            <a:pPr marL="51840" indent="-51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-7668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mbria Math"/>
                <a:ea typeface="Cambria Math"/>
              </a:rPr>
              <a:t>СПОСОБЫ СОБИРАНИЯ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2" name="Picture 13" descr="Image59-1"/>
          <p:cNvPicPr/>
          <p:nvPr/>
        </p:nvPicPr>
        <p:blipFill>
          <a:blip r:embed="rId1"/>
          <a:stretch/>
        </p:blipFill>
        <p:spPr>
          <a:xfrm>
            <a:off x="609480" y="990720"/>
            <a:ext cx="1424160" cy="1523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Image59-3"/>
          <p:cNvPicPr/>
          <p:nvPr/>
        </p:nvPicPr>
        <p:blipFill>
          <a:blip r:embed="rId2"/>
          <a:stretch/>
        </p:blipFill>
        <p:spPr>
          <a:xfrm>
            <a:off x="5867280" y="914400"/>
            <a:ext cx="1676520" cy="1066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Image59-2"/>
          <p:cNvPicPr/>
          <p:nvPr/>
        </p:nvPicPr>
        <p:blipFill>
          <a:blip r:embed="rId3"/>
          <a:stretch/>
        </p:blipFill>
        <p:spPr>
          <a:xfrm>
            <a:off x="2514600" y="914400"/>
            <a:ext cx="2743200" cy="10666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19160" y="2865600"/>
            <a:ext cx="89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1. В промышленности кислород получают из воздуха. Воздух представляет собой смесь различных газов, основные компоненты в нем – азот и кислород. Для получения кислорода воздух под давлением сжижают. Так как температура кипения жидкого азота (-196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°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С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) ниже температуры кипения жидкого кислорода (-183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°C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), то азот испаряется раньше кислорода. Жидкий кислород отделяют от испарившегося азота и хранят в стальных баллонах под давлением 15 МП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18148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mbria Math"/>
                <a:ea typeface="Cambria Math"/>
              </a:rPr>
              <a:t>ПРИМЕНЕНИЕ КИСЛОРОДА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05320" y="6091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Narrow"/>
              </a:rPr>
              <a:t>Находит широкое применение в медицине и промышленности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Narrow"/>
              </a:rPr>
              <a:t>При высотных полётах лётчиков снабжают специальными приборами с кислородом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Narrow"/>
              </a:rPr>
              <a:t>При многих лёгочных и сердечных заболеваниях, а также при операциях дают вдыхать кислород из кислородных подушек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Narrow"/>
              </a:rPr>
              <a:t>Кислородом в баллонах снабжают подводные лодки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Narrow"/>
              </a:rPr>
              <a:t>Горение рыхлого горючего материала, пропитанного жидким кислородом, сопровождается взрывом, что даёт возможность применять кислород при взрывных работах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Narrow"/>
              </a:rPr>
              <a:t>Жидкий кислород применяют в реактивных двигателях, в автогенной сварке и резке металлов, даже под водой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8" name="Picture 5" descr="H:\Черновики\tan2.JPG"/>
          <p:cNvPicPr/>
          <p:nvPr/>
        </p:nvPicPr>
        <p:blipFill>
          <a:blip r:embed="rId1"/>
          <a:stretch/>
        </p:blipFill>
        <p:spPr>
          <a:xfrm>
            <a:off x="33480" y="533520"/>
            <a:ext cx="3292200" cy="3886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{EF2CE4E6-BCA7-400A-9278-E06A32B27DA2}"/>
          <p:cNvPicPr/>
          <p:nvPr/>
        </p:nvPicPr>
        <p:blipFill>
          <a:blip r:embed="rId2"/>
          <a:stretch/>
        </p:blipFill>
        <p:spPr>
          <a:xfrm>
            <a:off x="50760" y="4538520"/>
            <a:ext cx="3257640" cy="2078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1:56:05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