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8637-2D67-4B3D-BB0A-CC37DB63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ADEB-4045-4971-8038-ECC29736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A186-632C-4B46-9AC3-E368BF37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EE47-8DF1-4C0D-BB6F-537A4C3B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B4F3-3C5D-4DF5-93C9-F172B298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F600-6CC1-4E67-8EE8-B77A7B0A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D83B-863A-4020-A1B7-DDD16702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AE5-9539-445F-AB38-F042854B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7E19-37B3-4E9D-808C-2CB28938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E888-F29C-48E0-9F11-AED92D3C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84D6-68EE-4248-A34D-B3523FCE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CDD8-38E5-4AFB-98BF-22C77FA5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B713-3B12-41CC-BF88-03BA50DDFD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743200" y="5891040"/>
            <a:ext cx="6400800" cy="9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скарова Наиля Марат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итель информа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Rectangle 1" descr=""/>
          <p:cNvPicPr/>
          <p:nvPr/>
        </p:nvPicPr>
        <p:blipFill>
          <a:blip r:embed="rId1"/>
          <a:stretch/>
        </p:blipFill>
        <p:spPr>
          <a:xfrm>
            <a:off x="291960" y="109440"/>
            <a:ext cx="7937640" cy="2000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2206800" y="1494000"/>
            <a:ext cx="446868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357120" y="857160"/>
            <a:ext cx="84297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абаченко Т.С. Проблемы когнитивного обучения в педагогическом образовании / СПО. – №2, 2007, с. 2-4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ершадский М.Е. Когнитивная образовательная технология: построение когнитивной модели учащегося и ее использование для проектирования учебного процесса / Школьные технологии. - № 5, 2005, с.73 - 83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Бершадский М.Е. Возможные направления интеграции образовательных и информационно-коммуникационных технологий / Педагогические технологии. - № 1, 2006, с.29 – 50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лсо Р. Когнитивная психология. М.: Триволла. - 1996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айссер У. Познание и реальность. Смысль и принципы когнитивной психологии. Благовещенск: БГК им. И.А. Бодуэна де Куртензи. - 1998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Бершадский М.Е. Когнитивные смыслы образования / Школьные технологии. - № 5, 2005, с.13 – 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642960" y="1214280"/>
            <a:ext cx="821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eduteacherzv.ucoz.ru/publ/innovacionnye_tekhnologii_obuchenija/kognitivnaja_pedagogicheskaja_tekhnologija/3-1-0-10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u.wikipedia.org/wiki/%D0%97%D0%B0%D0%B3%D0%BB%D0%B0%D0%B2%D0%BD%D0%B0%D1%8F_%D1%81%D1%82%D1%80%D0%B0%D0%BD%D0%B8%D1%86%D0%B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cognitivist.ru/er/novice/058.x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3143160" y="63036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- источн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57120" y="544320"/>
            <a:ext cx="8215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нитивист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когнитивная наука) (лат.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gniti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познание) — междисциплинарное научное направление, объединяющее теорию познания, когнитивную психологию, нейрофизиологию, когнитивную лингвистику и теорию искусственного интеллекта. ( источник- Википедия 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"Когнитивный"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казывает на отношение к знаниям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"cognoscer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" в переводе с латыни - "знать, узнавать"), а говоря определеннее, к способам получения знаний человеком и способам их сохранения в его сознан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1071720" y="428760"/>
            <a:ext cx="7072200" cy="5303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4286160" y="345960"/>
            <a:ext cx="46436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фере познавательной деятельности когнитивные технологии базируются на положениях когнитивной психолог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ременных исследованиях интеллекта вместо понятий «внимание», «память», «мышление», которые характеризуют познавательную деятельность человека, используется термин «когнитивный». Этот термин означает «познавательный». М.Е. Бершадский с этим не соглашается. Поэтому дословный перевод слова «когнитивный» как «познавательный» будет неточным. Ведь когнитивная психология изучает процессы восприятия, переработки, хранения и применения информации человеком при взаимодействии с внешним миром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31800" y="1071720"/>
            <a:ext cx="3297240" cy="421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500040" y="428760"/>
            <a:ext cx="8215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цель когнитивной психологи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нтеллектуальное развитие обучаемых в процессе усвоения систематического научного содержа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706840" y="2279520"/>
            <a:ext cx="373032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14200" y="357120"/>
            <a:ext cx="8643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нитивная психология породила новое направление в педагогике – когнитивные технологии обучения. Под когнитивными педагогическими технологиями мы понимаем учебный процесс интеллектуального развития обучаемых, имеющий модульную структу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643040" y="2214720"/>
            <a:ext cx="5715000" cy="3568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642960" y="428760"/>
            <a:ext cx="7929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 из центральных понятий когнитивной технологии – понятие когнитивные схе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science-education.ru/i/2012/2/Dashinskaya/image001.jpg"/>
          <p:cNvPicPr/>
          <p:nvPr/>
        </p:nvPicPr>
        <p:blipFill>
          <a:blip r:embed="rId1"/>
          <a:stretch/>
        </p:blipFill>
        <p:spPr>
          <a:xfrm>
            <a:off x="1285920" y="1785960"/>
            <a:ext cx="6305400" cy="363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223360" y="4857840"/>
            <a:ext cx="47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1 Структура когнитивной технологии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9"/>
          <p:cNvGrpSpPr/>
          <p:nvPr/>
        </p:nvGrpSpPr>
        <p:grpSpPr>
          <a:xfrm>
            <a:off x="214200" y="571680"/>
            <a:ext cx="8643960" cy="3714480"/>
            <a:chOff x="214200" y="571680"/>
            <a:chExt cx="8643960" cy="3714480"/>
          </a:xfrm>
        </p:grpSpPr>
        <p:sp>
          <p:nvSpPr>
            <p:cNvPr id="56" name="Прямоугольник 15"/>
            <p:cNvSpPr/>
            <p:nvPr/>
          </p:nvSpPr>
          <p:spPr>
            <a:xfrm>
              <a:off x="1115640" y="1492560"/>
              <a:ext cx="5231520" cy="278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14200" y="571680"/>
              <a:ext cx="515880" cy="37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6709320" y="571680"/>
              <a:ext cx="509760" cy="37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7529040" y="571680"/>
              <a:ext cx="509760" cy="37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8348400" y="571680"/>
              <a:ext cx="509760" cy="37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Прямоугольник 8"/>
            <p:cNvSpPr/>
            <p:nvPr/>
          </p:nvSpPr>
          <p:spPr>
            <a:xfrm>
              <a:off x="1115640" y="588240"/>
              <a:ext cx="1071360" cy="56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дуль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Прямоугольник 9"/>
            <p:cNvSpPr/>
            <p:nvPr/>
          </p:nvSpPr>
          <p:spPr>
            <a:xfrm>
              <a:off x="2502360" y="588240"/>
              <a:ext cx="1071360" cy="56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дуль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Прямоугольник 10"/>
            <p:cNvSpPr/>
            <p:nvPr/>
          </p:nvSpPr>
          <p:spPr>
            <a:xfrm>
              <a:off x="5275800" y="588240"/>
              <a:ext cx="1071360" cy="56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дуль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Прямоугольник 11"/>
            <p:cNvSpPr/>
            <p:nvPr/>
          </p:nvSpPr>
          <p:spPr>
            <a:xfrm>
              <a:off x="3889080" y="588240"/>
              <a:ext cx="1071360" cy="56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оугольник 12"/>
            <p:cNvSpPr/>
            <p:nvPr/>
          </p:nvSpPr>
          <p:spPr>
            <a:xfrm>
              <a:off x="1559880" y="1731960"/>
              <a:ext cx="3652920" cy="525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лок входного мониторинг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Прямоугольник 13"/>
            <p:cNvSpPr/>
            <p:nvPr/>
          </p:nvSpPr>
          <p:spPr>
            <a:xfrm>
              <a:off x="1559880" y="2636280"/>
              <a:ext cx="3652920" cy="525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оретический блок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Прямоугольник 14"/>
            <p:cNvSpPr/>
            <p:nvPr/>
          </p:nvSpPr>
          <p:spPr>
            <a:xfrm>
              <a:off x="1559880" y="3540600"/>
              <a:ext cx="3652920" cy="525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цессуальный блок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Стрелка вправо 16"/>
            <p:cNvSpPr/>
            <p:nvPr/>
          </p:nvSpPr>
          <p:spPr>
            <a:xfrm>
              <a:off x="2187360" y="796680"/>
              <a:ext cx="315000" cy="208440"/>
            </a:xfrm>
            <a:prstGeom prst="rightArrow">
              <a:avLst>
                <a:gd name="adj1" fmla="val 50000"/>
                <a:gd name="adj2" fmla="val 4533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Стрелка вправо 17"/>
            <p:cNvSpPr/>
            <p:nvPr/>
          </p:nvSpPr>
          <p:spPr>
            <a:xfrm>
              <a:off x="3574080" y="796680"/>
              <a:ext cx="315000" cy="208440"/>
            </a:xfrm>
            <a:prstGeom prst="rightArrow">
              <a:avLst>
                <a:gd name="adj1" fmla="val 50000"/>
                <a:gd name="adj2" fmla="val 4533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Стрелка вправо 18"/>
            <p:cNvSpPr/>
            <p:nvPr/>
          </p:nvSpPr>
          <p:spPr>
            <a:xfrm>
              <a:off x="4960800" y="796680"/>
              <a:ext cx="315000" cy="208440"/>
            </a:xfrm>
            <a:prstGeom prst="rightArrow">
              <a:avLst>
                <a:gd name="adj1" fmla="val 50000"/>
                <a:gd name="adj2" fmla="val 4533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Стрелка вниз 19"/>
            <p:cNvSpPr/>
            <p:nvPr/>
          </p:nvSpPr>
          <p:spPr>
            <a:xfrm>
              <a:off x="1557000" y="1144800"/>
              <a:ext cx="189000" cy="347760"/>
            </a:xfrm>
            <a:prstGeom prst="downArrow">
              <a:avLst>
                <a:gd name="adj1" fmla="val 50000"/>
                <a:gd name="adj2" fmla="val 552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Стрелка вниз 20"/>
            <p:cNvSpPr/>
            <p:nvPr/>
          </p:nvSpPr>
          <p:spPr>
            <a:xfrm>
              <a:off x="2943720" y="1144800"/>
              <a:ext cx="189000" cy="347760"/>
            </a:xfrm>
            <a:prstGeom prst="downArrow">
              <a:avLst>
                <a:gd name="adj1" fmla="val 50000"/>
                <a:gd name="adj2" fmla="val 552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Стрелка вниз 21"/>
            <p:cNvSpPr/>
            <p:nvPr/>
          </p:nvSpPr>
          <p:spPr>
            <a:xfrm>
              <a:off x="5717160" y="1144800"/>
              <a:ext cx="189000" cy="347760"/>
            </a:xfrm>
            <a:prstGeom prst="downArrow">
              <a:avLst>
                <a:gd name="adj1" fmla="val 50000"/>
                <a:gd name="adj2" fmla="val 552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Стрелка вниз 22"/>
            <p:cNvSpPr/>
            <p:nvPr/>
          </p:nvSpPr>
          <p:spPr>
            <a:xfrm>
              <a:off x="3258720" y="2257560"/>
              <a:ext cx="189000" cy="347760"/>
            </a:xfrm>
            <a:prstGeom prst="downArrow">
              <a:avLst>
                <a:gd name="adj1" fmla="val 50000"/>
                <a:gd name="adj2" fmla="val 552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Стрелка вниз 23"/>
            <p:cNvSpPr/>
            <p:nvPr/>
          </p:nvSpPr>
          <p:spPr>
            <a:xfrm>
              <a:off x="3258720" y="3161880"/>
              <a:ext cx="189000" cy="347760"/>
            </a:xfrm>
            <a:prstGeom prst="downArrow">
              <a:avLst>
                <a:gd name="adj1" fmla="val 50000"/>
                <a:gd name="adj2" fmla="val 552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Правая фигурная скобка 24"/>
            <p:cNvSpPr/>
            <p:nvPr/>
          </p:nvSpPr>
          <p:spPr>
            <a:xfrm>
              <a:off x="6347520" y="588240"/>
              <a:ext cx="315000" cy="3686760"/>
            </a:xfrm>
            <a:custGeom>
              <a:avLst/>
              <a:gdLst>
                <a:gd name="textAreaLeft" fmla="*/ 0 w 315000"/>
                <a:gd name="textAreaRight" fmla="*/ 113760 w 315000"/>
                <a:gd name="textAreaTop" fmla="*/ 9000 h 3686760"/>
                <a:gd name="textAreaBottom" fmla="*/ 3677760 h 368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5"/>
                    <a:pt x="10800" y="170"/>
                  </a:cubicBezTo>
                  <a:lnTo>
                    <a:pt x="10800" y="10630"/>
                  </a:lnTo>
                  <a:cubicBezTo>
                    <a:pt x="10800" y="10715"/>
                    <a:pt x="16200" y="10800"/>
                    <a:pt x="21600" y="10800"/>
                  </a:cubicBezTo>
                  <a:cubicBezTo>
                    <a:pt x="16200" y="10800"/>
                    <a:pt x="10800" y="10885"/>
                    <a:pt x="10800" y="10970"/>
                  </a:cubicBezTo>
                  <a:lnTo>
                    <a:pt x="10800" y="21430"/>
                  </a:lnTo>
                  <a:cubicBezTo>
                    <a:pt x="10800" y="21515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Правая фигурная скобка 26"/>
            <p:cNvSpPr/>
            <p:nvPr/>
          </p:nvSpPr>
          <p:spPr>
            <a:xfrm>
              <a:off x="674280" y="588240"/>
              <a:ext cx="315000" cy="3686760"/>
            </a:xfrm>
            <a:custGeom>
              <a:avLst/>
              <a:gdLst>
                <a:gd name="textAreaLeft" fmla="*/ 0 w 315000"/>
                <a:gd name="textAreaRight" fmla="*/ 113760 w 315000"/>
                <a:gd name="textAreaTop" fmla="*/ 9000 h 3686760"/>
                <a:gd name="textAreaBottom" fmla="*/ 3677760 h 368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5"/>
                    <a:pt x="10800" y="170"/>
                  </a:cubicBezTo>
                  <a:lnTo>
                    <a:pt x="10800" y="10630"/>
                  </a:lnTo>
                  <a:cubicBezTo>
                    <a:pt x="10800" y="10715"/>
                    <a:pt x="16200" y="10800"/>
                    <a:pt x="21600" y="10800"/>
                  </a:cubicBezTo>
                  <a:cubicBezTo>
                    <a:pt x="16200" y="10800"/>
                    <a:pt x="10800" y="10885"/>
                    <a:pt x="10800" y="10970"/>
                  </a:cubicBezTo>
                  <a:lnTo>
                    <a:pt x="10800" y="21430"/>
                  </a:lnTo>
                  <a:cubicBezTo>
                    <a:pt x="10800" y="21515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Правая фигурная скобка 27"/>
            <p:cNvSpPr/>
            <p:nvPr/>
          </p:nvSpPr>
          <p:spPr>
            <a:xfrm>
              <a:off x="7166880" y="588240"/>
              <a:ext cx="315000" cy="3686760"/>
            </a:xfrm>
            <a:custGeom>
              <a:avLst/>
              <a:gdLst>
                <a:gd name="textAreaLeft" fmla="*/ 0 w 315000"/>
                <a:gd name="textAreaRight" fmla="*/ 113760 w 315000"/>
                <a:gd name="textAreaTop" fmla="*/ 9000 h 3686760"/>
                <a:gd name="textAreaBottom" fmla="*/ 3677760 h 368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5"/>
                    <a:pt x="10800" y="170"/>
                  </a:cubicBezTo>
                  <a:lnTo>
                    <a:pt x="10800" y="10630"/>
                  </a:lnTo>
                  <a:cubicBezTo>
                    <a:pt x="10800" y="10715"/>
                    <a:pt x="16200" y="10800"/>
                    <a:pt x="21600" y="10800"/>
                  </a:cubicBezTo>
                  <a:cubicBezTo>
                    <a:pt x="16200" y="10800"/>
                    <a:pt x="10800" y="10885"/>
                    <a:pt x="10800" y="10970"/>
                  </a:cubicBezTo>
                  <a:lnTo>
                    <a:pt x="10800" y="21430"/>
                  </a:lnTo>
                  <a:cubicBezTo>
                    <a:pt x="10800" y="21515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Правая фигурная скобка 28"/>
            <p:cNvSpPr/>
            <p:nvPr/>
          </p:nvSpPr>
          <p:spPr>
            <a:xfrm>
              <a:off x="7986240" y="588240"/>
              <a:ext cx="315000" cy="3686760"/>
            </a:xfrm>
            <a:custGeom>
              <a:avLst/>
              <a:gdLst>
                <a:gd name="textAreaLeft" fmla="*/ 0 w 315000"/>
                <a:gd name="textAreaRight" fmla="*/ 113760 w 315000"/>
                <a:gd name="textAreaTop" fmla="*/ 9000 h 3686760"/>
                <a:gd name="textAreaBottom" fmla="*/ 3677760 h 368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5"/>
                    <a:pt x="10800" y="170"/>
                  </a:cubicBezTo>
                  <a:lnTo>
                    <a:pt x="10800" y="10630"/>
                  </a:lnTo>
                  <a:cubicBezTo>
                    <a:pt x="10800" y="10715"/>
                    <a:pt x="16200" y="10800"/>
                    <a:pt x="21600" y="10800"/>
                  </a:cubicBezTo>
                  <a:cubicBezTo>
                    <a:pt x="16200" y="10800"/>
                    <a:pt x="10800" y="10885"/>
                    <a:pt x="10800" y="10970"/>
                  </a:cubicBezTo>
                  <a:lnTo>
                    <a:pt x="10800" y="21430"/>
                  </a:lnTo>
                  <a:cubicBezTo>
                    <a:pt x="10800" y="21515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2011320" y="438120"/>
            <a:ext cx="554184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7:10:26Z</dcterms:created>
  <dc:creator>Админ</dc:creator>
  <dc:description/>
  <dc:language>en-US</dc:language>
  <cp:lastModifiedBy>Админ</cp:lastModifiedBy>
  <dcterms:modified xsi:type="dcterms:W3CDTF">2013-03-26T09:27:26Z</dcterms:modified>
  <cp:revision>15</cp:revision>
  <dc:subject/>
  <dc:title>Слайд 1</dc:title>
</cp:coreProperties>
</file>