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F78-2BA4-4410-9685-F1C8E1DC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F3F-D8DA-475B-9965-830DE67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854-12C6-4F02-9A07-50315E7D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6D7-70DA-4CE7-8D9B-D2C81171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872-5C6D-4E66-AB86-4FEE13A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E47-0038-4755-907B-6DDD00F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DE8-803E-4912-B473-4DADCFF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D9B-09DF-41A2-82B3-3257D6C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1C3-D3A9-4036-BABD-98EC33D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3CF-469C-4B3B-9E2E-D83E52E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291-88A9-4829-B8E0-85D26BF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FF8-1E82-41D1-855B-C2E9370C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B55B-67EB-49C0-B737-E212F7645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891040"/>
            <a:ext cx="640080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скарова Наиля Мара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793764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206800" y="1494000"/>
            <a:ext cx="4468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57120" y="857160"/>
            <a:ext cx="842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баченко Т.С. Проблемы когнитивного обучения в педагогическом образовании / СПО. – №2, 2007, с. 2-4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ршадский М.Е. Когнитивная образовательная технология: построение когнитивной модели учащегося и ее использование для проектирования учебного процесса / Школьные технологии. - № 5, 2005, с.73 - 83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ршадский М.Е. Возможные направления интеграции образовательных и информационно-коммуникационных технологий / Педагогические технологии. - № 1, 2006, с.29 – 50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лсо Р. Когнитивная психология. М.: Триволла. - 1996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ссер У. Познание и реальность. Смысль и принципы когнитивной психологии. Благовещенск: БГК им. И.А. Бодуэна де Куртензи. - 1998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ершадский М.Е. Когнитивные смыслы образования / Школьные технологии. - № 5, 2005, с.13 –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642960" y="121428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eduteacherzv.ucoz.ru/publ/innovacionnye_tekhnologii_obuchenija/kognitivnaja_pedagogicheskaja_tekhnologija/3-1-0-1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7%D0%B0%D0%B3%D0%BB%D0%B0%D0%B2%D0%BD%D0%B0%D1%8F_%D1%81%D1%82%D1%80%D0%B0%D0%BD%D0%B8%D1%86%D0%B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ognitivist.ru/er/novice/058.x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143160" y="6303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57120" y="544320"/>
            <a:ext cx="821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гнитивная наука) (лат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знание) — междисциплинарное научное направление, объединяющее теорию познания, когнитивную психологию, нейрофизиологию, когнитивную лингвистику и теорию искусственного интеллекта. ( источник- Википедия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Когнитивный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ывает на отношение к знаниям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cognosc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 в переводе с латыни - "знать, узнавать"), а говоря определеннее, к способам получения знаний человеком и способам их сохранения в его созна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7072200" cy="5303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86160" y="345960"/>
            <a:ext cx="4643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познавательной деятельности когнитивные технологии базируются на положениях когнитивной псих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исследованиях интеллекта вместо понятий «внимание», «память», «мышление», которые характеризуют познавательную деятельность человека, используется термин «когнитивный». Этот термин означает «познавательный». М.Е. Бершадский с этим не соглашается. Поэтому дословный перевод слова «когнитивный» как «познавательный» будет неточным. Ведь когнитивная психология изучает процессы восприятия, переработки, хранения и применения информации человеком при взаимодействии с внешним миром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31800" y="1071720"/>
            <a:ext cx="3297240" cy="421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00040" y="428760"/>
            <a:ext cx="821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когнитивной психолог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нтеллектуальное развитие обучаемых в процессе усвоения систематического научного содерж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6840" y="2279520"/>
            <a:ext cx="37303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35712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ая психология породила новое направление в педагогике – когнитивные технологии обучения. Под когнитивными педагогическими технологиями мы понимаем учебный процесс интеллектуального развития обучаемых, имеющий модульную структу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571500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42960" y="428760"/>
            <a:ext cx="7929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центральных понятий когнитивной технологии – понятие когнитивные сх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science-education.ru/i/2012/2/Dashinskaya/image001.jpg"/>
          <p:cNvPicPr/>
          <p:nvPr/>
        </p:nvPicPr>
        <p:blipFill>
          <a:blip r:embed="rId1"/>
          <a:stretch/>
        </p:blipFill>
        <p:spPr>
          <a:xfrm>
            <a:off x="1285920" y="1785960"/>
            <a:ext cx="63054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223360" y="485784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Структура когнитивной технологии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9"/>
          <p:cNvGrpSpPr/>
          <p:nvPr/>
        </p:nvGrpSpPr>
        <p:grpSpPr>
          <a:xfrm>
            <a:off x="214200" y="571680"/>
            <a:ext cx="8643960" cy="3714480"/>
            <a:chOff x="214200" y="571680"/>
            <a:chExt cx="8643960" cy="3714480"/>
          </a:xfrm>
        </p:grpSpPr>
        <p:sp>
          <p:nvSpPr>
            <p:cNvPr id="56" name="Прямоугольник 15"/>
            <p:cNvSpPr/>
            <p:nvPr/>
          </p:nvSpPr>
          <p:spPr>
            <a:xfrm>
              <a:off x="1115640" y="1492560"/>
              <a:ext cx="5231520" cy="278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4200" y="571680"/>
              <a:ext cx="51588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70932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52904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8348400" y="571680"/>
              <a:ext cx="50976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111564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9"/>
            <p:cNvSpPr/>
            <p:nvPr/>
          </p:nvSpPr>
          <p:spPr>
            <a:xfrm>
              <a:off x="250236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10"/>
            <p:cNvSpPr/>
            <p:nvPr/>
          </p:nvSpPr>
          <p:spPr>
            <a:xfrm>
              <a:off x="527580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уль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оугольник 11"/>
            <p:cNvSpPr/>
            <p:nvPr/>
          </p:nvSpPr>
          <p:spPr>
            <a:xfrm>
              <a:off x="3889080" y="588240"/>
              <a:ext cx="1071360" cy="56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12"/>
            <p:cNvSpPr/>
            <p:nvPr/>
          </p:nvSpPr>
          <p:spPr>
            <a:xfrm>
              <a:off x="1559880" y="173196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ок входного мониторинг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13"/>
            <p:cNvSpPr/>
            <p:nvPr/>
          </p:nvSpPr>
          <p:spPr>
            <a:xfrm>
              <a:off x="1559880" y="263628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оретический бл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14"/>
            <p:cNvSpPr/>
            <p:nvPr/>
          </p:nvSpPr>
          <p:spPr>
            <a:xfrm>
              <a:off x="1559880" y="3540600"/>
              <a:ext cx="365292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ссуальный бл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Стрелка вправо 16"/>
            <p:cNvSpPr/>
            <p:nvPr/>
          </p:nvSpPr>
          <p:spPr>
            <a:xfrm>
              <a:off x="218736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Стрелка вправо 17"/>
            <p:cNvSpPr/>
            <p:nvPr/>
          </p:nvSpPr>
          <p:spPr>
            <a:xfrm>
              <a:off x="357408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трелка вправо 18"/>
            <p:cNvSpPr/>
            <p:nvPr/>
          </p:nvSpPr>
          <p:spPr>
            <a:xfrm>
              <a:off x="4960800" y="796680"/>
              <a:ext cx="315000" cy="208440"/>
            </a:xfrm>
            <a:prstGeom prst="rightArrow">
              <a:avLst>
                <a:gd name="adj1" fmla="val 50000"/>
                <a:gd name="adj2" fmla="val 4533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Стрелка вниз 19"/>
            <p:cNvSpPr/>
            <p:nvPr/>
          </p:nvSpPr>
          <p:spPr>
            <a:xfrm>
              <a:off x="155700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Стрелка вниз 20"/>
            <p:cNvSpPr/>
            <p:nvPr/>
          </p:nvSpPr>
          <p:spPr>
            <a:xfrm>
              <a:off x="294372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трелка вниз 21"/>
            <p:cNvSpPr/>
            <p:nvPr/>
          </p:nvSpPr>
          <p:spPr>
            <a:xfrm>
              <a:off x="5717160" y="114480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Стрелка вниз 22"/>
            <p:cNvSpPr/>
            <p:nvPr/>
          </p:nvSpPr>
          <p:spPr>
            <a:xfrm>
              <a:off x="3258720" y="225756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Стрелка вниз 23"/>
            <p:cNvSpPr/>
            <p:nvPr/>
          </p:nvSpPr>
          <p:spPr>
            <a:xfrm>
              <a:off x="3258720" y="3161880"/>
              <a:ext cx="189000" cy="347760"/>
            </a:xfrm>
            <a:prstGeom prst="downArrow">
              <a:avLst>
                <a:gd name="adj1" fmla="val 50000"/>
                <a:gd name="adj2" fmla="val 552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авая фигурная скобка 24"/>
            <p:cNvSpPr/>
            <p:nvPr/>
          </p:nvSpPr>
          <p:spPr>
            <a:xfrm>
              <a:off x="634752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авая фигурная скобка 26"/>
            <p:cNvSpPr/>
            <p:nvPr/>
          </p:nvSpPr>
          <p:spPr>
            <a:xfrm>
              <a:off x="67428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авая фигурная скобка 27"/>
            <p:cNvSpPr/>
            <p:nvPr/>
          </p:nvSpPr>
          <p:spPr>
            <a:xfrm>
              <a:off x="716688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авая фигурная скобка 28"/>
            <p:cNvSpPr/>
            <p:nvPr/>
          </p:nvSpPr>
          <p:spPr>
            <a:xfrm>
              <a:off x="7986240" y="588240"/>
              <a:ext cx="315000" cy="3686760"/>
            </a:xfrm>
            <a:custGeom>
              <a:avLst/>
              <a:gdLst>
                <a:gd name="textAreaLeft" fmla="*/ 0 w 315000"/>
                <a:gd name="textAreaRight" fmla="*/ 113760 w 315000"/>
                <a:gd name="textAreaTop" fmla="*/ 9000 h 3686760"/>
                <a:gd name="textAreaBottom" fmla="*/ 3677760 h 36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"/>
                    <a:pt x="10800" y="170"/>
                  </a:cubicBezTo>
                  <a:lnTo>
                    <a:pt x="10800" y="10630"/>
                  </a:lnTo>
                  <a:cubicBezTo>
                    <a:pt x="10800" y="10715"/>
                    <a:pt x="16200" y="10800"/>
                    <a:pt x="21600" y="10800"/>
                  </a:cubicBezTo>
                  <a:cubicBezTo>
                    <a:pt x="16200" y="10800"/>
                    <a:pt x="10800" y="10885"/>
                    <a:pt x="10800" y="10970"/>
                  </a:cubicBezTo>
                  <a:lnTo>
                    <a:pt x="10800" y="21430"/>
                  </a:lnTo>
                  <a:cubicBezTo>
                    <a:pt x="10800" y="2151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011320" y="438120"/>
            <a:ext cx="55418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7:10:26Z</dcterms:created>
  <dc:creator>Админ</dc:creator>
  <dc:description/>
  <dc:language>en-US</dc:language>
  <cp:lastModifiedBy>Админ</cp:lastModifiedBy>
  <dcterms:modified xsi:type="dcterms:W3CDTF">2013-03-26T09:27:26Z</dcterms:modified>
  <cp:revision>15</cp:revision>
  <dc:subject/>
  <dc:title>Слайд 1</dc:title>
</cp:coreProperties>
</file>