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9E5-73DB-4F64-A2F3-1B58150E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E20-CBBB-4762-A29A-998102A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721-BD67-46AD-8227-8071F7D8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367-2E38-48F5-AFD2-3EA8BAEF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A67-8FE1-44C6-9D64-1C99B05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741-1ED0-4FDD-8D42-B215702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B34-263F-4D83-8DFE-192E73C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FA8-13BA-4327-ADDB-0D70B51E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6CF-0C21-4413-938B-E393B6E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EF3-D4DE-41FC-BB93-A3F20C6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D86-3EC2-44F8-A4B4-2A8A26E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155-D952-40D6-8A2E-FF843C5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922-2EF1-445B-A8BA-F1603D7CDFD6}" type="slidenum"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12880"/>
            <a:ext cx="7772400" cy="1935000"/>
          </a:xfrm>
          <a:prstGeom prst="rect">
            <a:avLst/>
          </a:prstGeom>
          <a:solidFill>
            <a:srgbClr val="e5dedb">
              <a:alpha val="56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9302a"/>
                </a:solidFill>
                <a:latin typeface="Monotype Corsiva"/>
              </a:rPr>
              <a:t>Крестьяне-борцы, Ермил Гирин в поэме Н.А. Некрасова «Кому на Руси жить хорошо».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4890960" y="266760"/>
            <a:ext cx="4040280" cy="34369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А потому терпели мы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Что мы - богатыри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том богатырство русское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Ты думаешь, Матренушка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Мужик - не богатырь?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жизнь его не ратная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смерть ему не писана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бою - а богатырь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97000" y="1084320"/>
            <a:ext cx="40478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4579920" y="76320"/>
            <a:ext cx="4351320" cy="67816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Кабак... острог в Буй-городе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Там я учился грамоте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ка решили нас.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Решенье вышла: каторга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И плети предварительно;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Не выдрали – помазали»…</a:t>
            </a:r>
            <a:br>
              <a:rPr sz="2600"/>
            </a:b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А жизнь была нелегкая.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Лет двадцать строгой каторги, Лет двадцать поселения.»…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По манифесту царскому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пал опять на родину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ристроил эту горенку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И здесь давно живу.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куда были денежки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Любили деда, холили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Теперь в глаза плюют!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Эх вы, Аники-воины!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Со стариками, с бабами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Вам только воевать...»</a:t>
            </a:r>
            <a:br>
              <a:rPr sz="2800"/>
            </a:b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rcRect l="4023" t="1033" r="2460" b="4407"/>
          <a:stretch/>
        </p:blipFill>
        <p:spPr>
          <a:xfrm>
            <a:off x="297000" y="871560"/>
            <a:ext cx="37414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4556160" y="1413000"/>
            <a:ext cx="4138560" cy="44431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Матрена Тимофеевна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Осанистая женщина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Широкая и плотная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Лет тридцати осьми.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расива; волос с проседью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Глаза большие, строг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Ресницы богатейш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Сурова и смугла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1"/>
          <a:srcRect l="3699" t="9065" r="55601" b="19339"/>
          <a:stretch/>
        </p:blipFill>
        <p:spPr>
          <a:xfrm>
            <a:off x="326880" y="1413000"/>
            <a:ext cx="4023000" cy="530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520" y="348840"/>
            <a:ext cx="5162760" cy="9241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Матрена Тимофеев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3943440" y="503280"/>
            <a:ext cx="5032440" cy="59958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горы с места сдвинулись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Упали на головушку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бог стрелой громовою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о гневе грудь пронзил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 мне — тиха, невидима —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ошла гроза душевная,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По мне обиды смертные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ошли неотплаченные.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плеть по мне прошла!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Темницы растворилися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 миру вздох прошел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Такой ли громкий, радостный!..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А к нашей женской волюшке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сё нет и нет ключей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179280" y="893880"/>
            <a:ext cx="35956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9640" y="2201760"/>
            <a:ext cx="6373800" cy="11210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4822560"/>
            <a:ext cx="788688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езентацию подготовила и выполнила Елькина Н.В., учитель </a:t>
            </a: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 квалификационной категори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г. Нижневартовск,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ОУ «Специальная школа №1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96840" y="98280"/>
            <a:ext cx="4879800" cy="615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7120" y="2034720"/>
            <a:ext cx="4083120" cy="29638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«На столбовой дороженьке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Сошлись семь мужиков: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Сошлися — и заспорили: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Кому живется весело,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Вольготно на Руси?»</a:t>
            </a:r>
            <a:endParaRPr b="0" lang="en-US" sz="3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1120" y="220680"/>
            <a:ext cx="788688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зображение народа в главах  «Сельская ярмонка», «Пьяная ночь».</a:t>
            </a: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06200" y="1671480"/>
            <a:ext cx="4508640" cy="3341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4765680" y="1671480"/>
            <a:ext cx="4309920" cy="334188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106200" y="5013360"/>
            <a:ext cx="4508640" cy="9302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«Сельская ярмонка»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4581360" y="5013360"/>
            <a:ext cx="4510080" cy="9302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      </a:t>
            </a: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«Пьяная ночь»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6520" y="365040"/>
            <a:ext cx="861876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Реформа 1861 года.</a:t>
            </a:r>
            <a:br>
              <a:rPr sz="44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Н.А. Некрасов в поэме пишет что реформа 1861 года народу  обещанной свободы не дала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rcRect l="9169" t="11223" r="9500" b="8336"/>
          <a:stretch/>
        </p:blipFill>
        <p:spPr>
          <a:xfrm>
            <a:off x="289080" y="1882800"/>
            <a:ext cx="5035320" cy="351936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5540400" y="1882800"/>
            <a:ext cx="3405240" cy="41148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Добра ты, царска грамота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 не при нас ты писана...»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А я к тому теперича: </a:t>
            </a:r>
            <a:br>
              <a:rPr sz="44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веник дрянь, Иван Ильич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А погуляет по полу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уда как напылит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0640" y="357120"/>
            <a:ext cx="294480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Яким Нагой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rcRect l="35587" t="24667" r="31500" b="7559"/>
          <a:stretch/>
        </p:blipFill>
        <p:spPr>
          <a:xfrm>
            <a:off x="639720" y="182880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3905280" y="1828800"/>
            <a:ext cx="5018040" cy="461016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В деревне Босове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Яким Нагой живет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Он до смерти работает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о полусмерти пьет!.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Яким, старик убогоньки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Живал когда-то в Питере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а угодил в тюрьму: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 купцом тягаться вздумалось! Как  липочка ободранны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ернулся он на родину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за соху взялся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" y="357120"/>
            <a:ext cx="372276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Ермила Гирин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5394240" y="1303200"/>
            <a:ext cx="3643560" cy="450396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семь лет мирской  копеечки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Под ноготь не зажал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В семь лет не тронул правого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Не допустил виновному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Душой не покривил..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rcRect l="10892" t="0" r="13554" b="0"/>
          <a:stretch/>
        </p:blipFill>
        <p:spPr>
          <a:xfrm>
            <a:off x="212760" y="1820880"/>
            <a:ext cx="47102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23960" y="753840"/>
            <a:ext cx="4575240" cy="52434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С Ермилой Гириным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Соседи были мы.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! был мужик единственный!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мел он все, что надобно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ля счастья: и спокойств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деньги, и почет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чет завидный, истинный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купленный ни деньгами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и страхом: строгой правдою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Умом и добротой!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 только, повторяю вам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апрасно вы проходит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 остроге он сидит...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rcRect l="8973" t="3495" r="6213" b="7251"/>
          <a:stretch/>
        </p:blipFill>
        <p:spPr>
          <a:xfrm>
            <a:off x="277920" y="708120"/>
            <a:ext cx="369252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Савелий – богатырь святорусский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650880" y="1973160"/>
            <a:ext cx="3243240" cy="466416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4019400" y="1973160"/>
            <a:ext cx="5032440" cy="47167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С большущей сивой гривою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Чай, двадцать лет не стриженно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 большущей бородо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ед на медведя смахивал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Особенно как из лесу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огнувшись, выходил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Его "клейменым, каторжным" Честил родной сынок.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4624560" y="203040"/>
            <a:ext cx="4024080" cy="26164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"Я каторжником был"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- "Ты, дедушка?"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- "Я, внученька!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Я в землю немца Фогеля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Христьяна Христианыча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Живого закопал..."</a:t>
            </a: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264960" y="3006720"/>
            <a:ext cx="53895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User</cp:lastModifiedBy>
  <dcterms:modified xsi:type="dcterms:W3CDTF">2015-10-07T09:25:12Z</dcterms:modified>
  <cp:revision>37</cp:revision>
  <dc:subject/>
  <dc:title>Презентация PowerPoint</dc:title>
</cp:coreProperties>
</file>