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5.gif" ContentType="image/gif"/>
  <Override PartName="/ppt/media/image7.jpeg" ContentType="image/jpeg"/>
  <Override PartName="/ppt/media/image19.jpeg" ContentType="image/jpeg"/>
  <Override PartName="/ppt/media/image29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1.jpeg" ContentType="image/jpeg"/>
  <Override PartName="/ppt/media/image38.gif" ContentType="image/gif"/>
  <Override PartName="/ppt/media/image15.jpeg" ContentType="image/jpeg"/>
  <Override PartName="/ppt/media/image6.jpeg" ContentType="image/jpeg"/>
  <Override PartName="/ppt/media/image27.jpeg" ContentType="image/jpeg"/>
  <Override PartName="/ppt/media/drumroll.wav" ContentType="audio/x-wav"/>
  <Override PartName="/ppt/media/image3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C3C-626F-4BC0-AC0E-6FDDDCE2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2A3-6D3B-497E-91C9-1F5AF1D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CFA-2AE6-4D38-B508-62E3653A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94F-EBC6-494A-9E31-EA7CF0D9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B59-F9B4-4E43-A7B7-0750F74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E74-27FF-4350-A2D1-7DCD83FD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AB4-CFD8-443C-8332-B6FB598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25F-7EC2-43F1-BFE3-5BB34B76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3AC-98A5-4337-AAD5-8B5FF3B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636-5B5C-4965-9448-3684E44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013-88ED-43E7-B36D-A7F48970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825-3598-4844-95CB-3D90CE0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882D-9D5E-441B-90AE-E6D4F869BDF5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ЦДО 005.avi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grpSp>
        <p:nvGrpSpPr>
          <p:cNvPr id="42" name="Заголовок 1"/>
          <p:cNvGrpSpPr/>
          <p:nvPr/>
        </p:nvGrpSpPr>
        <p:grpSpPr>
          <a:xfrm>
            <a:off x="281160" y="2919240"/>
            <a:ext cx="8581680" cy="1086120"/>
            <a:chOff x="281160" y="2919240"/>
            <a:chExt cx="8581680" cy="1086120"/>
          </a:xfrm>
        </p:grpSpPr>
        <p:pic>
          <p:nvPicPr>
            <p:cNvPr id="4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81160" y="2919240"/>
              <a:ext cx="858168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85840" y="2928960"/>
              <a:ext cx="85723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БЪЕДИНЕНИЕ «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РАКТОРИСТ»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Rectangle 5"/>
          <p:cNvSpPr/>
          <p:nvPr/>
        </p:nvSpPr>
        <p:spPr>
          <a:xfrm>
            <a:off x="3786120" y="290520"/>
            <a:ext cx="4557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«Собраться вместе — это начало.      Держаться вместе — это прогр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Работать вместе — это успе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5429160" y="4111560"/>
            <a:ext cx="185760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4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nimated gifs : Tractors"/>
          <p:cNvPicPr/>
          <p:nvPr/>
        </p:nvPicPr>
        <p:blipFill>
          <a:blip r:embed="rId1"/>
          <a:stretch/>
        </p:blipFill>
        <p:spPr>
          <a:xfrm>
            <a:off x="214200" y="5857920"/>
            <a:ext cx="869652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:\ТЕХНИКИ - ФОТОАРХИВ\ЗНЯТИЕ- ЭКСКУРСИЯ В  ДО ТРАКТОРИСТ НА БАЗЕ ООО ИВОЛГА 004.jpg"/>
          <p:cNvPicPr/>
          <p:nvPr/>
        </p:nvPicPr>
        <p:blipFill>
          <a:blip r:embed="rId2"/>
          <a:stretch/>
        </p:blipFill>
        <p:spPr>
          <a:xfrm>
            <a:off x="500040" y="428760"/>
            <a:ext cx="390528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L:\ТЕХНИКИ - ФОТОАРХИВ\ЗНЯТИЕ- ЭКСКУРСИЯ В  ДО ТРАКТОРИСТ НА БАЗЕ ООО ИВОЛГА 006.jpg"/>
          <p:cNvPicPr/>
          <p:nvPr/>
        </p:nvPicPr>
        <p:blipFill>
          <a:blip r:embed="rId3"/>
          <a:stretch/>
        </p:blipFill>
        <p:spPr>
          <a:xfrm>
            <a:off x="4894200" y="3214800"/>
            <a:ext cx="3821040" cy="25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L:\ТЕХНИКИ - ФОТОАРХИВ\ЗНЯТИЕ-ЭКСКУРСИЯ  В  ДО ТРАКТОРИСТ НА БАЗЕ ООО ИВОЛГА.jpg"/>
          <p:cNvPicPr/>
          <p:nvPr/>
        </p:nvPicPr>
        <p:blipFill>
          <a:blip r:embed="rId4"/>
          <a:stretch/>
        </p:blipFill>
        <p:spPr>
          <a:xfrm>
            <a:off x="500040" y="3214800"/>
            <a:ext cx="3898800" cy="257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L:\ТЕХНИКИ - ФОТОАРХИВ\ЗНЯТИЕ- ЭКСКУРСИЯ В  ДО ТРАКТОРИСТ НА БАЗЕ ООО ИВОЛГА 005.jpg"/>
          <p:cNvPicPr/>
          <p:nvPr/>
        </p:nvPicPr>
        <p:blipFill>
          <a:blip r:embed="rId5"/>
          <a:stretch/>
        </p:blipFill>
        <p:spPr>
          <a:xfrm>
            <a:off x="4857840" y="428760"/>
            <a:ext cx="3857400" cy="25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36360"/>
            <a:ext cx="8302320" cy="19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L:\ДЛЯ ПРЕЗЕНТАЦИИ\ТРАКТОРИСТЫ. ЭКЗАМЕН 2014\SAM_0166.JPG"/>
          <p:cNvPicPr/>
          <p:nvPr/>
        </p:nvPicPr>
        <p:blipFill>
          <a:blip r:embed="rId2"/>
          <a:stretch/>
        </p:blipFill>
        <p:spPr>
          <a:xfrm>
            <a:off x="30503880" y="300024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:\ДЛЯ ПРЕЗЕНТАЦИИ\ТРАКТОРИСТЫ. ЭКЗАМЕН 2014\SAM_0161.JPG"/>
          <p:cNvPicPr/>
          <p:nvPr/>
        </p:nvPicPr>
        <p:blipFill>
          <a:blip r:embed="rId3"/>
          <a:stretch/>
        </p:blipFill>
        <p:spPr>
          <a:xfrm>
            <a:off x="714240" y="2166840"/>
            <a:ext cx="3160800" cy="416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F:\ДЛЯ ПРЕЗЕНТАЦИИ\ТРАКТОРИСТЫ. ЭКЗАМЕН 2014\SAM_0163.JPG"/>
          <p:cNvPicPr/>
          <p:nvPr/>
        </p:nvPicPr>
        <p:blipFill>
          <a:blip r:embed="rId4"/>
          <a:stretch/>
        </p:blipFill>
        <p:spPr>
          <a:xfrm>
            <a:off x="4714920" y="2027160"/>
            <a:ext cx="4178160" cy="428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E:\Анимация\Technic_23.gif"/>
          <p:cNvPicPr/>
          <p:nvPr/>
        </p:nvPicPr>
        <p:blipFill>
          <a:blip r:embed="rId5"/>
          <a:stretch/>
        </p:blipFill>
        <p:spPr>
          <a:xfrm>
            <a:off x="3786120" y="5276880"/>
            <a:ext cx="1428840" cy="137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БЪЕДИНЕНИЕ «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Т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АКТОРИСТ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 rot="20508600">
            <a:off x="-58320" y="3240"/>
            <a:ext cx="1357200" cy="145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:\ОБРАЗОВАНИЕ. НАУКА. КАРЬЕРА 1\ЦДО СПЕКТР 044.jpg"/>
          <p:cNvPicPr/>
          <p:nvPr/>
        </p:nvPicPr>
        <p:blipFill>
          <a:blip r:embed="rId2"/>
          <a:stretch/>
        </p:blipFill>
        <p:spPr>
          <a:xfrm>
            <a:off x="285840" y="1785960"/>
            <a:ext cx="5432400" cy="368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ohn Deere Tractor Clipart Car Accessories, Parts, Automotiv…"/>
          <p:cNvPicPr/>
          <p:nvPr/>
        </p:nvPicPr>
        <p:blipFill>
          <a:blip r:embed="rId3"/>
          <a:stretch/>
        </p:blipFill>
        <p:spPr>
          <a:xfrm>
            <a:off x="4857840" y="3357720"/>
            <a:ext cx="4000320" cy="33336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5857920" y="1571760"/>
            <a:ext cx="300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ambria"/>
              </a:rPr>
              <a:t>1992 год</a:t>
            </a:r>
            <a:r>
              <a:rPr b="1" lang="ru-RU" sz="2800" spc="-1" strike="noStrike">
                <a:solidFill>
                  <a:srgbClr val="7030a0"/>
                </a:solidFill>
                <a:latin typeface="Cambria"/>
              </a:rPr>
              <a:t> – на базе Центра открыто д/о «ТРАКТОРИСТ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50560" y="272880"/>
            <a:ext cx="8713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«ТРАКТОРИСТ»</a:t>
            </a:r>
            <a:br>
              <a:rPr sz="3600"/>
            </a:b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ПЕДАГОГИ 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СТЕПАНОВ Н.В. </a:t>
            </a: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И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МОВЧАН В.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08772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5003640" y="1484280"/>
            <a:ext cx="388944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1f67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481f67"/>
                </a:solidFill>
                <a:latin typeface="Cambria"/>
              </a:rPr>
              <a:t>За все время существования объединения профессию</a:t>
            </a:r>
            <a:r>
              <a:rPr b="0" lang="en-GB" sz="2000" spc="-1" strike="noStrike">
                <a:solidFill>
                  <a:srgbClr val="481f67"/>
                </a:solidFill>
                <a:latin typeface="Cambria"/>
              </a:rPr>
              <a:t> «Тракторист категории «В,С» </a:t>
            </a:r>
            <a:r>
              <a:rPr b="0" lang="ru-RU" sz="2000" spc="-1" strike="noStrike">
                <a:solidFill>
                  <a:srgbClr val="481f67"/>
                </a:solidFill>
                <a:latin typeface="Cambria"/>
              </a:rPr>
              <a:t>получили более  300 старшеклассник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" name="Picture 3" descr="F:\ОБРАЗОВАНИЕ. НАУКА. КАРЬЕРА 1\ЦДО СПЕКТР 044.jpg"/>
          <p:cNvPicPr/>
          <p:nvPr/>
        </p:nvPicPr>
        <p:blipFill>
          <a:blip r:embed="rId2"/>
          <a:stretch/>
        </p:blipFill>
        <p:spPr>
          <a:xfrm>
            <a:off x="324000" y="5013360"/>
            <a:ext cx="232884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ФОТОАРХИВ СПЕКТР\DSCN1124.JPG"/>
          <p:cNvPicPr/>
          <p:nvPr/>
        </p:nvPicPr>
        <p:blipFill>
          <a:blip r:embed="rId3"/>
          <a:stretch/>
        </p:blipFill>
        <p:spPr>
          <a:xfrm>
            <a:off x="3419640" y="501336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006"/>
          <p:cNvPicPr/>
          <p:nvPr/>
        </p:nvPicPr>
        <p:blipFill>
          <a:blip r:embed="rId4"/>
          <a:stretch/>
        </p:blipFill>
        <p:spPr>
          <a:xfrm>
            <a:off x="6227640" y="4941720"/>
            <a:ext cx="25448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713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mbria"/>
              </a:rPr>
              <a:t>«ТРАКТОРИСТ»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28680" y="642960"/>
            <a:ext cx="4786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Онилов Сергей Васильевич – основатель д/о «Тракторист» и первый преподавате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1" name="Picture 2" descr="L:\ДЛЯ ПРЕЗЕНТАЦИИ\ВЕТЕРАНЫ\ОНИЛОВ С.В   Юный водитель транспортных средств кат. А.jpg"/>
          <p:cNvPicPr/>
          <p:nvPr/>
        </p:nvPicPr>
        <p:blipFill>
          <a:blip r:embed="rId1"/>
          <a:stretch/>
        </p:blipFill>
        <p:spPr>
          <a:xfrm>
            <a:off x="285840" y="1214280"/>
            <a:ext cx="3476520" cy="52149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4"/>
          <p:cNvGrpSpPr/>
          <p:nvPr/>
        </p:nvGrpSpPr>
        <p:grpSpPr>
          <a:xfrm>
            <a:off x="4000680" y="2428920"/>
            <a:ext cx="4174920" cy="2784600"/>
            <a:chOff x="4000680" y="2428920"/>
            <a:chExt cx="4174920" cy="2784600"/>
          </a:xfrm>
        </p:grpSpPr>
        <p:pic>
          <p:nvPicPr>
            <p:cNvPr id="63" name="Picture 5" descr=""/>
            <p:cNvPicPr/>
            <p:nvPr/>
          </p:nvPicPr>
          <p:blipFill>
            <a:blip r:embed="rId2"/>
            <a:stretch/>
          </p:blipFill>
          <p:spPr>
            <a:xfrm>
              <a:off x="4000680" y="2428920"/>
              <a:ext cx="4174920" cy="27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4000680" y="2428920"/>
              <a:ext cx="4174920" cy="27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 Box 3"/>
          <p:cNvSpPr/>
          <p:nvPr/>
        </p:nvSpPr>
        <p:spPr>
          <a:xfrm>
            <a:off x="4000680" y="53578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mbria"/>
              </a:rPr>
              <a:t>Онилов Сергей Васильевич с воспитанниками д/о «Тракторист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:\ТЕХНИКИ - ФОТОАРХИВ\ЗНЯТИЕ- ЭКСКУРСИЯ В  ДО ТРАКТОРИСТ НА БАЗЕ ООО ИВОЛГА 008.jpg"/>
          <p:cNvPicPr/>
          <p:nvPr/>
        </p:nvPicPr>
        <p:blipFill>
          <a:blip r:embed="rId1"/>
          <a:stretch/>
        </p:blipFill>
        <p:spPr>
          <a:xfrm>
            <a:off x="357120" y="285840"/>
            <a:ext cx="5486400" cy="35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L:\ТЕХНИКИ - ФОТОАРХИВ\ОНИЛОВ С.В. - СОЗДАТЕЛЬ И ПЕРВЫЙ РУКОВОДИТЕЛЬ ДО ТРАКТОРИСТ.jpg"/>
          <p:cNvPicPr/>
          <p:nvPr/>
        </p:nvPicPr>
        <p:blipFill>
          <a:blip r:embed="rId2"/>
          <a:srcRect l="0" t="4841" r="2271" b="0"/>
          <a:stretch/>
        </p:blipFill>
        <p:spPr>
          <a:xfrm>
            <a:off x="3500280" y="3000240"/>
            <a:ext cx="5267520" cy="346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Ag Connection Newsletter, May 2001"/>
          <p:cNvPicPr/>
          <p:nvPr/>
        </p:nvPicPr>
        <p:blipFill>
          <a:blip r:embed="rId3"/>
          <a:stretch/>
        </p:blipFill>
        <p:spPr>
          <a:xfrm>
            <a:off x="714240" y="4214880"/>
            <a:ext cx="2372040" cy="201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&quot;Мир Конкурсов&quot;"/>
          <p:cNvPicPr/>
          <p:nvPr/>
        </p:nvPicPr>
        <p:blipFill>
          <a:blip r:embed="rId4"/>
          <a:stretch/>
        </p:blipFill>
        <p:spPr>
          <a:xfrm>
            <a:off x="6572160" y="571680"/>
            <a:ext cx="1571760" cy="194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F:\ДЛЯ ПРЕЗЕНТАЦИИ\DSC01224рпп.jpg"/>
          <p:cNvPicPr/>
          <p:nvPr/>
        </p:nvPicPr>
        <p:blipFill>
          <a:blip r:embed="rId1"/>
          <a:stretch/>
        </p:blipFill>
        <p:spPr>
          <a:xfrm>
            <a:off x="428760" y="357120"/>
            <a:ext cx="3859200" cy="5110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42920" y="557208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ЕПАНОВ 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ОЛАЙ 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ИМИ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ПОДАЕТ В Д/О «ТРАКТОРИСТ» С 2014 Г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F:\ДЛЯ ПРЕЗЕНТАЦИИ\педагоги\Изображение 015.jpg"/>
          <p:cNvPicPr/>
          <p:nvPr/>
        </p:nvPicPr>
        <p:blipFill>
          <a:blip r:embed="rId2"/>
          <a:stretch/>
        </p:blipFill>
        <p:spPr>
          <a:xfrm>
            <a:off x="5429160" y="428760"/>
            <a:ext cx="3346560" cy="4998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4920" y="5715000"/>
            <a:ext cx="42861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ВЧАН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ИМИР НИКОЛАЕВИЧ 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педагог-инструктор по практическому вождению трактор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Motor Animation"/>
          <p:cNvPicPr/>
          <p:nvPr/>
        </p:nvPicPr>
        <p:blipFill>
          <a:blip r:embed="rId3"/>
          <a:stretch/>
        </p:blipFill>
        <p:spPr>
          <a:xfrm>
            <a:off x="0" y="3786120"/>
            <a:ext cx="2214720" cy="193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Tractor Graphics and Animated Gifs. Tractor"/>
          <p:cNvPicPr/>
          <p:nvPr/>
        </p:nvPicPr>
        <p:blipFill>
          <a:blip r:embed="rId4"/>
          <a:stretch/>
        </p:blipFill>
        <p:spPr>
          <a:xfrm>
            <a:off x="7165800" y="3857760"/>
            <a:ext cx="197820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36360"/>
            <a:ext cx="830232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ahrzeuge"/>
          <p:cNvPicPr/>
          <p:nvPr/>
        </p:nvPicPr>
        <p:blipFill>
          <a:blip r:embed="rId2"/>
          <a:stretch/>
        </p:blipFill>
        <p:spPr>
          <a:xfrm>
            <a:off x="500040" y="35712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Fahrzeuge"/>
          <p:cNvPicPr/>
          <p:nvPr/>
        </p:nvPicPr>
        <p:blipFill>
          <a:blip r:embed="rId3"/>
          <a:stretch/>
        </p:blipFill>
        <p:spPr>
          <a:xfrm>
            <a:off x="7786800" y="35712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Текст 3"/>
          <p:cNvSpPr/>
          <p:nvPr/>
        </p:nvSpPr>
        <p:spPr>
          <a:xfrm>
            <a:off x="857160" y="6143760"/>
            <a:ext cx="3500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На занятии по ПД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L:\ТЕХНИКИ - ФОТОАРХИВ\ПРАКТИЧЕСКОЕ ЗАНЯТИЕ ПО ВОЖДЕНИЮ ТРАКТОРА 001.jpg"/>
          <p:cNvPicPr/>
          <p:nvPr/>
        </p:nvPicPr>
        <p:blipFill>
          <a:blip r:embed="rId4"/>
          <a:stretch/>
        </p:blipFill>
        <p:spPr>
          <a:xfrm>
            <a:off x="4214880" y="1357200"/>
            <a:ext cx="4572000" cy="348480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571680" y="1785960"/>
            <a:ext cx="35002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На практическом занятии по вож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L:\ТЕХНИКИ - ФОТОАРХИВ\ЗАНЯТИЕ ПО ПДД В ДО ТРАКТОРИСТ.jpg"/>
          <p:cNvPicPr/>
          <p:nvPr/>
        </p:nvPicPr>
        <p:blipFill>
          <a:blip r:embed="rId5"/>
          <a:stretch/>
        </p:blipFill>
        <p:spPr>
          <a:xfrm>
            <a:off x="357120" y="2765520"/>
            <a:ext cx="457200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L:\ТЕХНИКИ - ФОТОАРХИВ\ФОТОАРХИВ. ОНИЛОВ С.В. - САМЫЙ ПЕРВЫЙ РУКОВОДИТЕЛЬ ДО ТРАКТОРИСТ.jpg"/>
          <p:cNvPicPr/>
          <p:nvPr/>
        </p:nvPicPr>
        <p:blipFill>
          <a:blip r:embed="rId1"/>
          <a:stretch/>
        </p:blipFill>
        <p:spPr>
          <a:xfrm>
            <a:off x="714240" y="357120"/>
            <a:ext cx="7643880" cy="5591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57240" y="5643360"/>
            <a:ext cx="5486400" cy="804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На экскурсию в СПК «Иванинское»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Фото на фоне нашей легендарной «Кубани»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28880" y="5786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Занятие – экскурсия  в ООО «Иволг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7" name="Picture 2" descr="L:\ТЕХНИКИ - ФОТОАРХИВ\ЗНЯТИЕ- ЭКСКУРСИЯ В  ДО ТРАКТОРИСТ НА БАЗЕ ООО ИВОЛГА 002.jpg"/>
          <p:cNvPicPr/>
          <p:nvPr/>
        </p:nvPicPr>
        <p:blipFill>
          <a:blip r:embed="rId1"/>
          <a:stretch/>
        </p:blipFill>
        <p:spPr>
          <a:xfrm>
            <a:off x="428760" y="357120"/>
            <a:ext cx="3603600" cy="529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:\ТЕХНИКИ - ФОТОАРХИВ\ЗНЯТИЕ- ЭКСКУРСИЯ В  ДО ТРАКТОРИСТ НА БАЗЕ ООО ИВОЛГА 003.jpg"/>
          <p:cNvPicPr/>
          <p:nvPr/>
        </p:nvPicPr>
        <p:blipFill>
          <a:blip r:embed="rId2"/>
          <a:stretch/>
        </p:blipFill>
        <p:spPr>
          <a:xfrm>
            <a:off x="4643280" y="357120"/>
            <a:ext cx="3614760" cy="545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0:07:45Z</dcterms:created>
  <dc:creator>admin</dc:creator>
  <dc:description/>
  <dc:language>en-US</dc:language>
  <cp:lastModifiedBy>Лариса</cp:lastModifiedBy>
  <dcterms:modified xsi:type="dcterms:W3CDTF">2015-10-08T06:53:53Z</dcterms:modified>
  <cp:revision>26</cp:revision>
  <dc:subject/>
  <dc:title>ОБЪЕДИНЕНИЕ «ТРАКТОРИСТ»</dc:title>
</cp:coreProperties>
</file>