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CDC3-CCFF-47DD-B1E8-F48DEEF6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5F2-E12B-4A9C-9DD1-1AFAE6BE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C56-BE87-446A-9238-679AEB2C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7A5E-058D-43F2-AD8C-2746FFFE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B9F2-3656-42F6-82EC-27D2DA40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96A1-01C5-4FBA-AF3B-1FCA2678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C34E-9EDC-4485-B086-3E26F877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D25E-F33E-4350-9345-4EDEC68F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A374-1F6E-45BF-B33C-F953E646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4478-2BDB-4A16-A186-9817F7A5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DE5E-E260-4797-BF0B-3ED06E7C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DFD-5CB4-4668-A762-A012BB47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25B3-ECE1-4C0E-B14C-3712E9F0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5F78-9FE9-46AF-8ED9-5198A01E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CEC2-749D-4466-8203-F81571F9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17E7-6087-456B-83EF-C2DA3943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B677-D90B-491A-B599-F92BD187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C994E-17E4-46D5-9880-BF5B91D7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432A8-350A-4E04-9799-7C61F4BC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BCE30-D8FF-4810-8B3E-29B21B00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FC0E0-B53F-4975-9958-13CB622A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64F81-76EA-4A7A-9D17-8432C423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628-61A3-4A0D-82D1-11FB4418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CEFFE-B9A4-42E6-B792-1C7F21EF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DF26A-5052-443F-B888-79AFB27C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23BC0-CC0B-4C61-86A4-72FDB805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4216F-5057-415E-AA07-BCEBBBD6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1F875-2EED-43D8-A0A0-D739C7AA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EB73F-F4DC-47D1-97A5-C57308B7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B978A-6D94-4AE2-BA30-DFFA320C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32A8-7B51-4642-9A1C-3D56636A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F4C-6210-407E-981F-F9180AE8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ADE-4392-4FB7-B170-E26E0205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DE7-6F66-48AC-A338-B4181294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2D4E-523B-44CE-AE85-8CA8A25A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878-4BDE-44B1-9A2C-B0BE6CE5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A5DE-E3A0-4966-A254-20B117FAE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rId2" action="ppaction://hlinksldjump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70EF-4BE8-4D72-9D5F-EB3AA91262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A1E9-0646-462A-80CC-1BA5D67BB9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02920" y="4076640"/>
            <a:ext cx="6256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я урока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фимова Алл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У школа №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5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сков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50920" y="1125360"/>
            <a:ext cx="8640720" cy="258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0017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фология для пятиклашек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227640" y="1413000"/>
            <a:ext cx="1944720" cy="2952720"/>
          </a:xfrm>
          <a:prstGeom prst="octagon">
            <a:avLst>
              <a:gd name="adj" fmla="val 29287"/>
            </a:avLst>
          </a:prstGeom>
          <a:solidFill>
            <a:srgbClr val="ed6e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ма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3573360"/>
            <a:ext cx="3240360" cy="2376720"/>
          </a:xfrm>
          <a:prstGeom prst="flowChartDecision">
            <a:avLst/>
          </a:prstGeom>
          <a:solidFill>
            <a:srgbClr val="712b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м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ум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«Студенты», очень серьёзные и «сложные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7636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</a:rPr>
              <a:t>причас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апа – глаго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ма – прилагатель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140360" y="1844280"/>
            <a:ext cx="43876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</a:rPr>
              <a:t>деепричас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апа – глаго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ма – нареч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740"/>
                            </p:stCondLst>
                            <p:childTnLst>
                              <p:par>
                                <p:cTn id="17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48016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главных, вполне самостоятель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ей речи есть и свои помощни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уги, </a:t>
            </a:r>
            <a:r>
              <a:rPr b="1" i="1" lang="en-US" sz="4400" spc="-1" strike="noStrike">
                <a:solidFill>
                  <a:srgbClr val="003399"/>
                </a:solidFill>
                <a:latin typeface="Arial"/>
              </a:rPr>
              <a:t>служебные части реч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предлоги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(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, на, из, до,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союз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(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, а, но, чтобы, ес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частиц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ы, ли, же, не, ни, даж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6920" y="260280"/>
            <a:ext cx="7632720" cy="1582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0017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жебные части речи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100"/>
                            </p:stCondLst>
                            <p:childTnLst>
                              <p:par>
                                <p:cTn id="18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160"/>
                            </p:stCondLst>
                            <p:childTnLst>
                              <p:par>
                                <p:cTn id="18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300"/>
                            </p:stCondLst>
                            <p:childTnLst>
                              <p:par>
                                <p:cTn id="1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800"/>
                            </p:stCondLst>
                            <p:childTnLst>
                              <p:par>
                                <p:cTn id="2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1412640"/>
            <a:ext cx="83739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х богатство, определя-                       их обязанность – служи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щее самостоятельность                               обслуж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71280" cy="7272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2720"/>
              <a:gd name="textAreaBottom" fmla="*/ 68400 h 72720"/>
            </a:gdLst>
            <a:ahLst/>
            <a:rect l="textAreaLeft" t="textAreaTop" r="textAreaRight" b="textAreaBottom"/>
            <a:pathLst>
              <a:path w="21600" h="22034">
                <a:moveTo>
                  <a:pt x="0" y="0"/>
                </a:moveTo>
                <a:lnTo>
                  <a:pt x="21600" y="0"/>
                </a:lnTo>
                <a:lnTo>
                  <a:pt x="21600" y="22034"/>
                </a:lnTo>
                <a:lnTo>
                  <a:pt x="0" y="22034"/>
                </a:lnTo>
                <a:close/>
              </a:path>
              <a:path fill="lightenLess" w="21600" h="220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34">
                <a:moveTo>
                  <a:pt x="21600" y="0"/>
                </a:moveTo>
                <a:lnTo>
                  <a:pt x="21600" y="22034"/>
                </a:lnTo>
                <a:lnTo>
                  <a:pt x="20200" y="20634"/>
                </a:lnTo>
                <a:lnTo>
                  <a:pt x="20200" y="1400"/>
                </a:lnTo>
                <a:close/>
              </a:path>
              <a:path fill="darkenLess" w="21600" h="22034">
                <a:moveTo>
                  <a:pt x="21600" y="22034"/>
                </a:moveTo>
                <a:lnTo>
                  <a:pt x="0" y="22034"/>
                </a:lnTo>
                <a:lnTo>
                  <a:pt x="1400" y="20634"/>
                </a:lnTo>
                <a:lnTo>
                  <a:pt x="20200" y="20634"/>
                </a:lnTo>
                <a:close/>
              </a:path>
              <a:path fill="lighten" w="21600" h="22034">
                <a:moveTo>
                  <a:pt x="0" y="220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34"/>
                </a:lnTo>
                <a:close/>
              </a:path>
              <a:path fill="darken" w="21600" h="22034">
                <a:moveTo>
                  <a:pt x="3794" y="11017"/>
                </a:moveTo>
                <a:lnTo>
                  <a:pt x="17806" y="4011"/>
                </a:lnTo>
                <a:lnTo>
                  <a:pt x="17806" y="18024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55640" y="189000"/>
            <a:ext cx="6962760" cy="63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002b8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е самостоятельных 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002b83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547640" y="836640"/>
            <a:ext cx="691380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0017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ей речи от служебных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8000" y="1844640"/>
            <a:ext cx="4751280" cy="4176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) общее граммат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 для существ.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е предмета,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аг. – признака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) морфологические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род, число, падеж, время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) синтаксические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в предложении – подлежа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зуемое, определение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360" y="1773360"/>
            <a:ext cx="3960720" cy="3889080"/>
          </a:xfrm>
          <a:prstGeom prst="vertic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27640" y="1844640"/>
            <a:ext cx="4608360" cy="4176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их призна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имею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258920" y="1989000"/>
            <a:ext cx="2879640" cy="43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fefefe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остоятельные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fefefe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940360" y="1989000"/>
            <a:ext cx="2165400" cy="50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fefefe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жебные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fefefe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500"/>
                            </p:stCondLst>
                            <p:childTnLst>
                              <p:par>
                                <p:cTn id="2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400"/>
                            </p:stCondLst>
                            <p:childTnLst>
                              <p:par>
                                <p:cTn id="2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3200"/>
                            </p:stCondLst>
                            <p:childTnLst>
                              <p:par>
                                <p:cTn id="2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600"/>
                            </p:stCondLst>
                            <p:childTnLst>
                              <p:par>
                                <p:cTn id="2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3300"/>
                            </p:stCondLst>
                            <p:childTnLst>
                              <p:par>
                                <p:cTn id="2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6700"/>
                            </p:stCondLst>
                            <p:childTnLst>
                              <p:par>
                                <p:cTn id="2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900"/>
                            </p:stCondLst>
                            <p:childTnLst>
                              <p:par>
                                <p:cTn id="27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800"/>
                            </p:stCondLst>
                            <p:childTnLst>
                              <p:par>
                                <p:cTn id="27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780"/>
                            </p:stCondLst>
                            <p:childTnLst>
                              <p:par>
                                <p:cTn id="28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200"/>
                            </p:stCondLst>
                            <p:childTnLst>
                              <p:par>
                                <p:cTn id="2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ть в Морфологии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и бездельник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</a:rPr>
              <a:t>                          </a:t>
            </a:r>
            <a:r>
              <a:rPr b="1" i="1" lang="en-US" sz="4000" spc="-1" strike="noStrike">
                <a:solidFill>
                  <a:srgbClr val="003399"/>
                </a:solidFill>
                <a:latin typeface="Arial"/>
              </a:rPr>
              <a:t>междомет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и могут выражать лишь эмоции, больше ни на что не способ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47640" y="189000"/>
            <a:ext cx="6562800" cy="952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00174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обая часть речи</a:t>
            </a:r>
            <a:endParaRPr b="1" lang="en-US" sz="66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6200000">
            <a:off x="5794920" y="4509000"/>
            <a:ext cx="1944720" cy="1800360"/>
          </a:xfrm>
          <a:prstGeom prst="cloud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2380200">
            <a:off x="1258560" y="1268280"/>
            <a:ext cx="1655640" cy="1800360"/>
          </a:xfrm>
          <a:prstGeom prst="cloud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c5cef3"/>
              </a:gs>
              <a:gs pos="100000">
                <a:srgbClr val="003399"/>
              </a:gs>
            </a:gsLst>
            <a:lin ang="30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р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63640" y="4797360"/>
            <a:ext cx="2592360" cy="1368360"/>
          </a:xfrm>
          <a:prstGeom prst="cloud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спод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олезная информ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рогой друг! Ты познакомился с необыкновенными обитателя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еты </a:t>
            </a: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Морфолог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частя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реч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ы всегда их узнавать, выучи, пожалуйста, это стихотвор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Весёлая грам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уществительное –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школ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Просыпается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гла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 прилагательным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весё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овый школьный день при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600"/>
                            </p:stCondLst>
                            <p:childTnLst>
                              <p:par>
                                <p:cTn id="3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700"/>
                            </p:stCondLst>
                            <p:childTnLst>
                              <p:par>
                                <p:cTn id="3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500"/>
                            </p:stCondLst>
                            <p:childTnLst>
                              <p:par>
                                <p:cTn id="3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1600"/>
                            </p:stCondLst>
                            <p:childTnLst>
                              <p:par>
                                <p:cTn id="3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920"/>
                            </p:stCondLst>
                            <p:childTnLst>
                              <p:par>
                                <p:cTn id="35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1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780"/>
                            </p:stCondLst>
                            <p:childTnLst>
                              <p:par>
                                <p:cTn id="35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700"/>
                            </p:stCondLst>
                            <p:childTnLst>
                              <p:par>
                                <p:cTn id="35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834920" y="259920"/>
            <a:ext cx="742788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стали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мы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  местоим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ьёт числительное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сем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За ученье, без сомнень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иниматься надо вс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ы наречием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отли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уроках дорож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облюдаем мы привы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исциплину и реж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Не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н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- у нас част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м их надо повтор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 при этом не лен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 ни часу не теря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9000"/>
                            </p:stCondLst>
                            <p:childTnLst>
                              <p:par>
                                <p:cTn id="3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1900"/>
                            </p:stCondLst>
                            <p:childTnLst>
                              <p:par>
                                <p:cTn id="3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9800"/>
                            </p:stCondLst>
                            <p:childTnLst>
                              <p:par>
                                <p:cTn id="4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2400"/>
                            </p:stCondLst>
                            <p:childTnLst>
                              <p:par>
                                <p:cTn id="4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5100"/>
                            </p:stCondLst>
                            <p:childTnLst>
                              <p:par>
                                <p:cTn id="4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7900"/>
                            </p:stCondLst>
                            <p:childTnLst>
                              <p:par>
                                <p:cTn id="4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600"/>
                            </p:stCondLst>
                            <p:childTnLst>
                              <p:par>
                                <p:cTn id="4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900"/>
                            </p:stCondLst>
                            <p:childTnLst>
                              <p:par>
                                <p:cTn id="43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800"/>
                            </p:stCondLst>
                            <p:childTnLst>
                              <p:par>
                                <p:cTn id="44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2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700"/>
                            </p:stCondLst>
                            <p:childTnLst>
                              <p:par>
                                <p:cTn id="44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5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580"/>
                            </p:stCondLst>
                            <p:childTnLst>
                              <p:par>
                                <p:cTn id="44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8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400"/>
                            </p:stCondLst>
                            <p:childTnLst>
                              <p:par>
                                <p:cTn id="45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1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200"/>
                            </p:stCondLst>
                            <p:childTnLst>
                              <p:par>
                                <p:cTn id="45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4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060"/>
                            </p:stCondLst>
                            <p:childTnLst>
                              <p:par>
                                <p:cTn id="45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7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6880"/>
                            </p:stCondLst>
                            <p:childTnLst>
                              <p:par>
                                <p:cTn id="45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0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7720"/>
                            </p:stCondLst>
                            <p:childTnLst>
                              <p:par>
                                <p:cTn id="46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3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8580"/>
                            </p:stCondLst>
                            <p:childTnLst>
                              <p:par>
                                <p:cTn id="46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9420"/>
                            </p:stCondLst>
                            <p:childTnLst>
                              <p:par>
                                <p:cTn id="46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9" dur="5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979280" y="404640"/>
            <a:ext cx="6635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сле школы, как извест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ы  катаемся в сан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десь особенно умест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ждометья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ох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ах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по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 тёплой п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вторя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асти ре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. Высо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200"/>
                            </p:stCondLst>
                            <p:childTnLst>
                              <p:par>
                                <p:cTn id="4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800"/>
                            </p:stCondLst>
                            <p:childTnLst>
                              <p:par>
                                <p:cTn id="4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700"/>
                            </p:stCondLst>
                            <p:childTnLst>
                              <p:par>
                                <p:cTn id="4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1200"/>
                            </p:stCondLst>
                            <p:childTnLst>
                              <p:par>
                                <p:cTn id="4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2700"/>
                            </p:stCondLst>
                            <p:childTnLst>
                              <p:par>
                                <p:cTn id="5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4700"/>
                            </p:stCondLst>
                            <p:childTnLst>
                              <p:par>
                                <p:cTn id="5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6500"/>
                            </p:stCondLst>
                            <p:childTnLst>
                              <p:par>
                                <p:cTn id="5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8400"/>
                            </p:stCondLst>
                            <p:childTnLst>
                              <p:par>
                                <p:cTn id="5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940"/>
                            </p:stCondLst>
                            <p:childTnLst>
                              <p:par>
                                <p:cTn id="53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760"/>
                            </p:stCondLst>
                            <p:childTnLst>
                              <p:par>
                                <p:cTn id="53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640"/>
                            </p:stCondLst>
                            <p:childTnLst>
                              <p:par>
                                <p:cTn id="53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9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440"/>
                            </p:stCondLst>
                            <p:childTnLst>
                              <p:par>
                                <p:cTn id="54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040"/>
                            </p:stCondLst>
                            <p:childTnLst>
                              <p:par>
                                <p:cTn id="54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5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740"/>
                            </p:stCondLst>
                            <p:childTnLst>
                              <p:par>
                                <p:cTn id="54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400"/>
                            </p:stCondLst>
                            <p:childTnLst>
                              <p:par>
                                <p:cTn id="55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Оглав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Лингвистика и морф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амостоятельные част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лужебные част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тличие самостоятельных частей речи от служеб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Особая часть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олезн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489600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ажаемый пятиклассни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как новичок, первооткрыватель, астронавт  отправляешься на малоизученную пока тобою план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82972"/>
                </a:solidFill>
                <a:latin typeface="Arial"/>
              </a:rPr>
              <a:t>Лингви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нгвис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ла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нг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«язык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)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ка о язы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859280" y="1125360"/>
            <a:ext cx="4381560" cy="11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003399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Лингвистика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003399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68680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т он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Морфология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осударство в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Лингвистик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где живут удивительные существа – части р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Морфологи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здел лингвистики, изучающий части ре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829040" y="981000"/>
            <a:ext cx="431496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003399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Морфология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003399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бя принимают в гостях и желают успешной учёбы самые «знатные» её жители –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амостоятельные части ре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42920" y="189000"/>
            <a:ext cx="71946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1746"/>
                    </a:gs>
                    <a:gs pos="100000">
                      <a:srgbClr val="003399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остоятельные части речи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001746"/>
                  </a:gs>
                  <a:gs pos="100000">
                    <a:srgbClr val="003399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4076640"/>
            <a:ext cx="1008000" cy="1150920"/>
          </a:xfrm>
          <a:prstGeom prst="smileyFace">
            <a:avLst>
              <a:gd name="adj" fmla="val 9282"/>
            </a:avLst>
          </a:prstGeom>
          <a:solidFill>
            <a:srgbClr val="188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5157720"/>
            <a:ext cx="1225440" cy="1224000"/>
          </a:xfrm>
          <a:prstGeom prst="triangle">
            <a:avLst>
              <a:gd name="adj" fmla="val 50000"/>
            </a:avLst>
          </a:prstGeom>
          <a:solidFill>
            <a:srgbClr val="122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4000" y="4149720"/>
            <a:ext cx="1800000" cy="936720"/>
          </a:xfrm>
          <a:custGeom>
            <a:avLst/>
            <a:gdLst>
              <a:gd name="textAreaLeft" fmla="*/ 395640 w 1800000"/>
              <a:gd name="textAreaRight" fmla="*/ 1404360 w 1800000"/>
              <a:gd name="textAreaTop" fmla="*/ 205920 h 936720"/>
              <a:gd name="textAreaBottom" fmla="*/ 73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162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м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6000" y="3357720"/>
            <a:ext cx="647640" cy="1295280"/>
          </a:xfrm>
          <a:prstGeom prst="flowChartOr">
            <a:avLst/>
          </a:prstGeom>
          <a:solidFill>
            <a:srgbClr val="d4d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4005360"/>
            <a:ext cx="792360" cy="1557360"/>
          </a:xfrm>
          <a:prstGeom prst="flowChartConnector">
            <a:avLst/>
          </a:prstGeom>
          <a:solidFill>
            <a:srgbClr val="d4d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сёл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3573360"/>
            <a:ext cx="1152360" cy="649440"/>
          </a:xfrm>
          <a:custGeom>
            <a:avLst/>
            <a:gdLst>
              <a:gd name="textAreaLeft" fmla="*/ 253440 w 1152360"/>
              <a:gd name="textAreaRight" fmla="*/ 898920 w 1152360"/>
              <a:gd name="textAreaTop" fmla="*/ 142560 h 649440"/>
              <a:gd name="textAreaBottom" fmla="*/ 50688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162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оль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04000" y="4149720"/>
            <a:ext cx="865080" cy="863640"/>
          </a:xfrm>
          <a:prstGeom prst="triangle">
            <a:avLst>
              <a:gd name="adj" fmla="val 50000"/>
            </a:avLst>
          </a:prstGeom>
          <a:solidFill>
            <a:srgbClr val="122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812000" y="4005360"/>
            <a:ext cx="719280" cy="792000"/>
          </a:xfrm>
          <a:prstGeom prst="smileyFace">
            <a:avLst>
              <a:gd name="adj" fmla="val 9282"/>
            </a:avLst>
          </a:prstGeom>
          <a:solidFill>
            <a:srgbClr val="188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77080" y="5445000"/>
            <a:ext cx="1727280" cy="936720"/>
          </a:xfrm>
          <a:prstGeom prst="flowChartDecision">
            <a:avLst/>
          </a:prstGeom>
          <a:solidFill>
            <a:srgbClr val="712b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ума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ума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4653000"/>
            <a:ext cx="936720" cy="1584360"/>
          </a:xfrm>
          <a:prstGeom prst="octagon">
            <a:avLst>
              <a:gd name="adj" fmla="val 29287"/>
            </a:avLst>
          </a:prstGeom>
          <a:solidFill>
            <a:srgbClr val="ed6e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ума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5516640"/>
            <a:ext cx="1657080" cy="863640"/>
          </a:xfrm>
          <a:prstGeom prst="rect">
            <a:avLst/>
          </a:prstGeom>
          <a:solidFill>
            <a:srgbClr val="d51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ып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1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9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066920" y="0"/>
            <a:ext cx="476388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               </a:t>
            </a: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имя 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это его подружк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имя прилага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всегда рядом, живут в дружбе и согла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Ро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1413000"/>
            <a:ext cx="1368360" cy="1584360"/>
          </a:xfrm>
          <a:prstGeom prst="smileyFace">
            <a:avLst>
              <a:gd name="adj" fmla="val 9282"/>
            </a:avLst>
          </a:prstGeom>
          <a:solidFill>
            <a:srgbClr val="188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76360" y="4292640"/>
            <a:ext cx="1079640" cy="2160720"/>
          </a:xfrm>
          <a:prstGeom prst="flowChartConnector">
            <a:avLst/>
          </a:prstGeom>
          <a:solidFill>
            <a:srgbClr val="d4d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ё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42920" y="404640"/>
            <a:ext cx="2847960" cy="9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то? Что?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9640" y="3213000"/>
            <a:ext cx="3581640" cy="9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ой? Чей?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a7b8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3624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й «деловой» жител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рфолог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        </a:t>
            </a:r>
            <a:r>
              <a:rPr b="1" i="1" lang="ru-RU" sz="3600" spc="-1" strike="noStrike">
                <a:solidFill>
                  <a:srgbClr val="003399"/>
                </a:solidFill>
                <a:latin typeface="Arial"/>
              </a:rPr>
              <a:t>глаг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всё время в действии, в дви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иН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003399"/>
                </a:solidFill>
                <a:latin typeface="Arial"/>
              </a:rPr>
              <a:t>наречи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изменно в своих взглядах и принципах, следит за соблюдением законов в государстве и их постоян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Юр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11640" y="2133720"/>
            <a:ext cx="1800360" cy="1150920"/>
          </a:xfrm>
          <a:prstGeom prst="rect">
            <a:avLst/>
          </a:prstGeom>
          <a:solidFill>
            <a:srgbClr val="d51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ып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51280" y="4869000"/>
            <a:ext cx="1584360" cy="1512720"/>
          </a:xfrm>
          <a:prstGeom prst="triangle">
            <a:avLst>
              <a:gd name="adj" fmla="val 50000"/>
            </a:avLst>
          </a:prstGeom>
          <a:solidFill>
            <a:srgbClr val="122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716360" y="333360"/>
            <a:ext cx="24955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то делать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12000" y="1125360"/>
            <a:ext cx="26953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то сделать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24360" y="3500280"/>
            <a:ext cx="46861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де? Куда? Когда?Откуда?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292720" y="4653000"/>
            <a:ext cx="345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чему? Зачем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04000" y="5661000"/>
            <a:ext cx="14382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Как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a7b8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0.07067 0.007 0.16933 0.025 0.168 C 0.051 0.168 0.053 -0.16267 0.084 -0.164 C 0.112 -0.164 0.097 0.12533 0.124 0.124 C 0.152 0.124 0.137 -0.08533 0.167 -0.08533 C 0.194 -0.08533 0.179 0.056 0.203 0.056 C 0.226 0.056 0.214 -0.052 0.235 -0.052 C 0.247 -0.052 0.248 -0.02267 0.249 0 E">
                                      <p:cBhvr>
                                        <p:cTn id="94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640" y="4076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43280" y="2492280"/>
            <a:ext cx="3095640" cy="1366920"/>
          </a:xfrm>
          <a:custGeom>
            <a:avLst/>
            <a:gdLst>
              <a:gd name="textAreaLeft" fmla="*/ 680760 w 3095640"/>
              <a:gd name="textAreaRight" fmla="*/ 2414880 w 3095640"/>
              <a:gd name="textAreaTop" fmla="*/ 300600 h 1366920"/>
              <a:gd name="textAreaBottom" fmla="*/ 106632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162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м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 rot="21034800">
            <a:off x="826920" y="1915920"/>
            <a:ext cx="1203480" cy="11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001746"/>
                    </a:gs>
                  </a:gsLst>
                  <a:lin ang="5964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-й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001746"/>
                  </a:gs>
                </a:gsLst>
                <a:lin ang="5964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 rot="970800">
            <a:off x="6300360" y="3499920"/>
            <a:ext cx="167652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1cb09b"/>
                    </a:gs>
                    <a:gs pos="100000">
                      <a:srgbClr val="0c5147"/>
                    </a:gs>
                  </a:gsLst>
                  <a:lin ang="4428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%</a:t>
            </a:r>
            <a:endParaRPr b="1" lang="en-US" sz="6600" spc="1" strike="noStrike">
              <a:ln w="0">
                <a:noFill/>
              </a:ln>
              <a:gradFill rotWithShape="0">
                <a:gsLst>
                  <a:gs pos="0">
                    <a:srgbClr val="1cb09b"/>
                  </a:gs>
                  <a:gs pos="100000">
                    <a:srgbClr val="0c5147"/>
                  </a:gs>
                </a:gsLst>
                <a:lin ang="4428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835280" y="3573360"/>
            <a:ext cx="6858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19975e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19975e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 rot="1576800">
            <a:off x="6732360" y="2133720"/>
            <a:ext cx="158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001746"/>
                    </a:gs>
                  </a:gsLst>
                  <a:lin ang="3822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 г.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001746"/>
                  </a:gs>
                </a:gsLst>
                <a:lin ang="3822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55640" y="549360"/>
            <a:ext cx="76104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колько? Который по счёту?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50920" y="46720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                    </a:t>
            </a:r>
            <a:r>
              <a:rPr b="1" i="1" lang="ru-RU" sz="3600" spc="-1" strike="noStrike">
                <a:solidFill>
                  <a:srgbClr val="003399"/>
                </a:solidFill>
                <a:latin typeface="Arial"/>
              </a:rPr>
              <a:t>имя числи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 подсчит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аНк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a8b9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4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250" autoRev="1" fill="hold"/>
                                        <p:tgtEl>
                                          <p:spTgt spid="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250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5589720"/>
            <a:ext cx="2737080" cy="1008000"/>
          </a:xfrm>
          <a:custGeom>
            <a:avLst/>
            <a:gdLst>
              <a:gd name="textAreaLeft" fmla="*/ 601920 w 2737080"/>
              <a:gd name="textAreaRight" fmla="*/ 2135160 w 2737080"/>
              <a:gd name="textAreaTop" fmla="*/ 221400 h 1008000"/>
              <a:gd name="textAreaBottom" fmla="*/ 7866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162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380360" y="2133720"/>
            <a:ext cx="1295280" cy="2089080"/>
          </a:xfrm>
          <a:prstGeom prst="flowChartOr">
            <a:avLst/>
          </a:prstGeom>
          <a:solidFill>
            <a:srgbClr val="d4d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24360" y="4005360"/>
            <a:ext cx="1729080" cy="1655640"/>
          </a:xfrm>
          <a:prstGeom prst="triangle">
            <a:avLst>
              <a:gd name="adj" fmla="val 50000"/>
            </a:avLst>
          </a:prstGeom>
          <a:solidFill>
            <a:srgbClr val="122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5640" y="2708280"/>
            <a:ext cx="1368360" cy="1512720"/>
          </a:xfrm>
          <a:prstGeom prst="smileyFace">
            <a:avLst>
              <a:gd name="adj" fmla="val 9282"/>
            </a:avLst>
          </a:prstGeom>
          <a:solidFill>
            <a:srgbClr val="188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вот и их наследники, очень похожие на своих родителей,..  </a:t>
            </a:r>
            <a:r>
              <a:rPr b="1" i="1" lang="en-US" sz="4000" spc="-1" strike="noStrike">
                <a:solidFill>
                  <a:srgbClr val="003399"/>
                </a:solidFill>
                <a:latin typeface="Arial"/>
              </a:rPr>
              <a:t>местоим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23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Школьники»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хож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илагательное -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хож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хож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ислитель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хож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ре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609300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12368"/>
                </a:moveTo>
                <a:lnTo>
                  <a:pt x="17806" y="5362"/>
                </a:lnTo>
                <a:lnTo>
                  <a:pt x="17806" y="19375"/>
                </a:lnTo>
                <a:close/>
              </a:path>
            </a:pathLst>
          </a:custGeom>
          <a:gradFill rotWithShape="0">
            <a:gsLst>
              <a:gs pos="0">
                <a:srgbClr val="1b2e8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250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6:11:28Z</dcterms:created>
  <dc:creator>Olga</dc:creator>
  <dc:description/>
  <dc:language>en-US</dc:language>
  <cp:lastModifiedBy>Катя</cp:lastModifiedBy>
  <dcterms:modified xsi:type="dcterms:W3CDTF">2015-10-08T16:37:09Z</dcterms:modified>
  <cp:revision>30</cp:revision>
  <dc:subject/>
  <dc:title>Слайд 1</dc:title>
</cp:coreProperties>
</file>