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82E-F117-4CF1-BE88-C9CFAB5F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7E6-331C-4D31-A2E2-9C79BE8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2C7-F338-431A-A70D-D471AFF3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765-BFD4-4351-A874-9D13010D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958A-5E1F-4AC4-AAFD-55D3CC1A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47FA-13C5-4781-8884-455ED1CF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B166-E037-4E42-8A53-40D84DEC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B80B-2E72-4B59-8C57-9490B861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33F8-9CD2-4871-A651-E0241B50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8412-93C0-43B2-8603-6BBC38D5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679A-89F8-4DCB-A23F-FD9B03E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C84-C5C4-4815-80D2-586CAD9F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A1DB-B437-4A4F-AC25-BF8523E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A321-9A2E-47E2-A548-868B048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FDF3-0C8E-4009-ABF1-C6AA2BB3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B0E-8B12-4AC8-976A-CBF34E6B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FBD8-0C1F-4418-99F1-9072191B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B6DE5-E396-4346-B201-21D28FBF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D3F07-2FA2-4746-88B0-6A7E2A1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5A3B9-10C3-4F8E-830C-42474BBB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3295F-EFA7-4E6A-A4C3-4FE310F7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F8146-3AA2-4812-BF32-843D389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FF4-942A-4A84-97F8-22D853FC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991D8-8391-4AAB-BE57-7656F674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77707-893C-43AD-9D65-E492CEBC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6CD3A-E971-426A-A86F-7D67419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C41C3-6326-4D23-BD2C-CD88DFA7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27532-A824-4E45-A504-F8BCA81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46ED9-C7C6-47DA-803F-C4F0C914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63D20-B023-425B-A69D-69E8C4E6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6FF-B8A1-4977-B081-14ECCD2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F9F-9CFE-4409-9FFF-55C142CA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5E8-12A8-4D32-961D-72B7CEF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E07-C59F-46CF-B659-0E6223A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22B-5E40-44E8-99CE-2856803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30A-B053-41F4-A7E2-C9C3E812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D66-E986-4372-BA61-FF5D7DD1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4E08-F20A-494B-947A-11FDCD675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4F3F-4AFE-4962-AC3E-B6310B29B1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02920" y="4076640"/>
            <a:ext cx="6256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урока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фимова Алл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У школа №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ско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920" y="1125360"/>
            <a:ext cx="8640720" cy="25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фология для пятиклашек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227640" y="1413000"/>
            <a:ext cx="1944720" cy="2952720"/>
          </a:xfrm>
          <a:prstGeom prst="octagon">
            <a:avLst>
              <a:gd name="adj" fmla="val 29287"/>
            </a:avLst>
          </a:prstGeom>
          <a:solidFill>
            <a:srgbClr val="ed6e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м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573360"/>
            <a:ext cx="3240360" cy="2376720"/>
          </a:xfrm>
          <a:prstGeom prst="flowChartDecision">
            <a:avLst/>
          </a:prstGeom>
          <a:solidFill>
            <a:srgbClr val="712b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м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ум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«Студенты», очень серьёзные и «сложные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76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апа – глаг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ма – прилаг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40360" y="1844280"/>
            <a:ext cx="43876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дее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апа – глаг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ма – нареч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40"/>
                            </p:stCondLst>
                            <p:childTnLst>
                              <p:par>
                                <p:cTn id="1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4801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главных, вполне самостоятель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ей речи есть и свои помощн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ги, </a:t>
            </a:r>
            <a:r>
              <a:rPr b="1" i="1" lang="en-US" sz="4400" spc="-1" strike="noStrike">
                <a:solidFill>
                  <a:srgbClr val="003399"/>
                </a:solidFill>
                <a:latin typeface="Arial"/>
              </a:rPr>
              <a:t>служебные части ре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предлоги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, на, из, до,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союз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(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, а, но, чтобы, ес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частиц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, ли, же, не, ни, да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6920" y="260280"/>
            <a:ext cx="7632720" cy="158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жебные части реч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"/>
                            </p:stCondLst>
                            <p:childTnLst>
                              <p:par>
                                <p:cTn id="18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60"/>
                            </p:stCondLst>
                            <p:childTnLst>
                              <p:par>
                                <p:cTn id="18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3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8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3739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х богатство, определя-                       их обязанность – служ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щее самостоятельность                               обслуж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71280" cy="727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2720"/>
              <a:gd name="textAreaBottom" fmla="*/ 68400 h 72720"/>
            </a:gdLst>
            <a:ahLst/>
            <a:rect l="textAreaLeft" t="textAreaTop" r="textAreaRight" b="textAreaBottom"/>
            <a:pathLst>
              <a:path w="21600" h="22034">
                <a:moveTo>
                  <a:pt x="0" y="0"/>
                </a:moveTo>
                <a:lnTo>
                  <a:pt x="21600" y="0"/>
                </a:lnTo>
                <a:lnTo>
                  <a:pt x="21600" y="22034"/>
                </a:lnTo>
                <a:lnTo>
                  <a:pt x="0" y="22034"/>
                </a:lnTo>
                <a:close/>
              </a:path>
              <a:path fill="lightenLess" w="21600" h="22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34">
                <a:moveTo>
                  <a:pt x="21600" y="0"/>
                </a:moveTo>
                <a:lnTo>
                  <a:pt x="21600" y="22034"/>
                </a:lnTo>
                <a:lnTo>
                  <a:pt x="20200" y="20634"/>
                </a:lnTo>
                <a:lnTo>
                  <a:pt x="20200" y="1400"/>
                </a:lnTo>
                <a:close/>
              </a:path>
              <a:path fill="darkenLess" w="21600" h="22034">
                <a:moveTo>
                  <a:pt x="21600" y="22034"/>
                </a:moveTo>
                <a:lnTo>
                  <a:pt x="0" y="22034"/>
                </a:lnTo>
                <a:lnTo>
                  <a:pt x="1400" y="20634"/>
                </a:lnTo>
                <a:lnTo>
                  <a:pt x="20200" y="20634"/>
                </a:lnTo>
                <a:close/>
              </a:path>
              <a:path fill="lighten" w="21600" h="22034">
                <a:moveTo>
                  <a:pt x="0" y="22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34"/>
                </a:lnTo>
                <a:close/>
              </a:path>
              <a:path fill="darken" w="21600" h="22034">
                <a:moveTo>
                  <a:pt x="3794" y="11017"/>
                </a:moveTo>
                <a:lnTo>
                  <a:pt x="17806" y="4011"/>
                </a:lnTo>
                <a:lnTo>
                  <a:pt x="17806" y="18024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640" y="189000"/>
            <a:ext cx="696276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2b8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е самостоятельных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2b8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47640" y="83664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ей речи от служебных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844640"/>
            <a:ext cx="4751280" cy="41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общее грамма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для существ.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 предмета,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аг. – признака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морфолог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род, число, падеж, время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синтакс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в предложении – подлежа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уемое, определение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773360"/>
            <a:ext cx="3960720" cy="3889080"/>
          </a:xfrm>
          <a:prstGeom prst="vertic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1844640"/>
            <a:ext cx="4608360" cy="41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х призн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258920" y="198900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efef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ые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fefefe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940360" y="1989000"/>
            <a:ext cx="216540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efef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жебные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fefefe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6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33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70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"/>
                            </p:stCondLst>
                            <p:childTnLst>
                              <p:par>
                                <p:cTn id="27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00"/>
                            </p:stCondLst>
                            <p:childTnLst>
                              <p:par>
                                <p:cTn id="2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780"/>
                            </p:stCondLst>
                            <p:childTnLst>
                              <p:par>
                                <p:cTn id="28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2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ь в Морфологи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и бездельник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                          </a:t>
            </a: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междомет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могут выражать лишь эмоции, больше ни на что не способ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47640" y="189000"/>
            <a:ext cx="65628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обая часть речи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5794920" y="4509000"/>
            <a:ext cx="1944720" cy="1800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380200">
            <a:off x="1258560" y="1268280"/>
            <a:ext cx="1655640" cy="1800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c5cef3"/>
              </a:gs>
              <a:gs pos="100000">
                <a:srgbClr val="003399"/>
              </a:gs>
            </a:gsLst>
            <a:lin ang="30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4797360"/>
            <a:ext cx="2592360" cy="1368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по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лезная информ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рогой друг! Ты познакомился с необыкновенными обитателя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еты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Морф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частя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ре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всегда их узнавать, выучи, пожалуйста, это стихотвор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Весёлая грам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уществительное –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школ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росыпаетс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гла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 прилагательным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весё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вый школьный день при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700"/>
                            </p:stCondLst>
                            <p:childTnLst>
                              <p:par>
                                <p:cTn id="3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600"/>
                            </p:stCondLst>
                            <p:childTnLst>
                              <p:par>
                                <p:cTn id="3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20"/>
                            </p:stCondLst>
                            <p:childTnLst>
                              <p:par>
                                <p:cTn id="3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780"/>
                            </p:stCondLst>
                            <p:childTnLst>
                              <p:par>
                                <p:cTn id="35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700"/>
                            </p:stCondLst>
                            <p:childTnLst>
                              <p:par>
                                <p:cTn id="3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834920" y="259920"/>
            <a:ext cx="74278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тали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мы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 местоим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ьёт числительное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сем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 ученье, без сомнен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ниматься надо вс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ы наречием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от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уроках доро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людаем мы прив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исциплину и ре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Не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н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- у нас час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м их надо повтор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при этом не лен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ни часу не теря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3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900"/>
                            </p:stCondLst>
                            <p:childTnLst>
                              <p:par>
                                <p:cTn id="3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800"/>
                            </p:stCondLst>
                            <p:childTnLst>
                              <p:par>
                                <p:cTn id="4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2400"/>
                            </p:stCondLst>
                            <p:childTnLst>
                              <p:par>
                                <p:cTn id="4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10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900"/>
                            </p:stCondLst>
                            <p:childTnLst>
                              <p:par>
                                <p:cTn id="4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6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00"/>
                            </p:stCondLst>
                            <p:childTnLst>
                              <p:par>
                                <p:cTn id="43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4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80"/>
                            </p:stCondLst>
                            <p:childTnLst>
                              <p:par>
                                <p:cTn id="4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400"/>
                            </p:stCondLst>
                            <p:childTnLst>
                              <p:par>
                                <p:cTn id="4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200"/>
                            </p:stCondLst>
                            <p:childTnLst>
                              <p:par>
                                <p:cTn id="45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60"/>
                            </p:stCondLst>
                            <p:childTnLst>
                              <p:par>
                                <p:cTn id="4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880"/>
                            </p:stCondLst>
                            <p:childTnLst>
                              <p:par>
                                <p:cTn id="45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720"/>
                            </p:stCondLst>
                            <p:childTnLst>
                              <p:par>
                                <p:cTn id="46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580"/>
                            </p:stCondLst>
                            <p:childTnLst>
                              <p:par>
                                <p:cTn id="46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420"/>
                            </p:stCondLst>
                            <p:childTnLst>
                              <p:par>
                                <p:cTn id="4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979280" y="404640"/>
            <a:ext cx="66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сле школы, как извест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 катаемся в са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особенно умест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ждометья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ах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п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тёплой п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торя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асти ре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. Высо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200"/>
                            </p:stCondLst>
                            <p:childTnLst>
                              <p:par>
                                <p:cTn id="4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800"/>
                            </p:stCondLst>
                            <p:childTnLst>
                              <p:par>
                                <p:cTn id="4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700"/>
                            </p:stCondLst>
                            <p:childTnLst>
                              <p:par>
                                <p:cTn id="4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1200"/>
                            </p:stCondLst>
                            <p:childTnLst>
                              <p:par>
                                <p:cTn id="4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2700"/>
                            </p:stCondLst>
                            <p:childTnLst>
                              <p:par>
                                <p:cTn id="5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700"/>
                            </p:stCondLst>
                            <p:childTnLst>
                              <p:par>
                                <p:cTn id="5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84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40"/>
                            </p:stCondLst>
                            <p:childTnLst>
                              <p:par>
                                <p:cTn id="53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760"/>
                            </p:stCondLst>
                            <p:childTnLst>
                              <p:par>
                                <p:cTn id="53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640"/>
                            </p:stCondLst>
                            <p:childTnLst>
                              <p:par>
                                <p:cTn id="53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440"/>
                            </p:stCondLst>
                            <p:childTnLst>
                              <p:par>
                                <p:cTn id="54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40"/>
                            </p:stCondLst>
                            <p:childTnLst>
                              <p:par>
                                <p:cTn id="54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740"/>
                            </p:stCondLst>
                            <p:childTnLst>
                              <p:par>
                                <p:cTn id="5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400"/>
                            </p:stCondLst>
                            <p:childTnLst>
                              <p:par>
                                <p:cTn id="5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Лингвистика и морф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амостоятель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личие самостоятельных частей речи от служеб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Особая 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лез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8960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аемый пятикласс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как новичок, первооткрыватель, астронавт  отправляешься на малоизученную пока тобою план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82972"/>
                </a:solidFill>
                <a:latin typeface="Arial"/>
              </a:rPr>
              <a:t>Лингв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нгв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нг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«язык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)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 о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59280" y="1125360"/>
            <a:ext cx="438156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003399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Лингвистик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003399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 о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орфолог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сударство в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Лингвистик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где живут удивительные существа – части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орфологи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дел лингвистики, изучающий части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29040" y="981000"/>
            <a:ext cx="431496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003399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Морфология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003399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бя принимают в гостях и желают успешной учёбы самые «знатные» её жители –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амостоятельные части ре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89000"/>
            <a:ext cx="71946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1746"/>
                    </a:gs>
                    <a:gs pos="100000">
                      <a:srgbClr val="003399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ые части речи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1746"/>
                  </a:gs>
                  <a:gs pos="100000">
                    <a:srgbClr val="003399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076640"/>
            <a:ext cx="1008000" cy="115092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5157720"/>
            <a:ext cx="1225440" cy="122400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149720"/>
            <a:ext cx="1800000" cy="936720"/>
          </a:xfrm>
          <a:custGeom>
            <a:avLst/>
            <a:gdLst>
              <a:gd name="textAreaLeft" fmla="*/ 395640 w 1800000"/>
              <a:gd name="textAreaRight" fmla="*/ 1404360 w 180000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3357720"/>
            <a:ext cx="647640" cy="1295280"/>
          </a:xfrm>
          <a:prstGeom prst="flowChar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4005360"/>
            <a:ext cx="792360" cy="1557360"/>
          </a:xfrm>
          <a:prstGeom prst="flowChartConnec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сёл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3573360"/>
            <a:ext cx="1152360" cy="649440"/>
          </a:xfrm>
          <a:custGeom>
            <a:avLst/>
            <a:gdLst>
              <a:gd name="textAreaLeft" fmla="*/ 253440 w 1152360"/>
              <a:gd name="textAreaRight" fmla="*/ 898920 w 1152360"/>
              <a:gd name="textAreaTop" fmla="*/ 142560 h 649440"/>
              <a:gd name="textAreaBottom" fmla="*/ 5068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4149720"/>
            <a:ext cx="865080" cy="86364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12000" y="4005360"/>
            <a:ext cx="719280" cy="79200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7080" y="5445000"/>
            <a:ext cx="1727280" cy="936720"/>
          </a:xfrm>
          <a:prstGeom prst="flowChartDecision">
            <a:avLst/>
          </a:prstGeom>
          <a:solidFill>
            <a:srgbClr val="712b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м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ум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4653000"/>
            <a:ext cx="936720" cy="1584360"/>
          </a:xfrm>
          <a:prstGeom prst="octagon">
            <a:avLst>
              <a:gd name="adj" fmla="val 29287"/>
            </a:avLst>
          </a:prstGeom>
          <a:solidFill>
            <a:srgbClr val="ed6e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м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5516640"/>
            <a:ext cx="1657080" cy="863640"/>
          </a:xfrm>
          <a:prstGeom prst="rect">
            <a:avLst/>
          </a:prstGeom>
          <a:solidFill>
            <a:srgbClr val="d51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ып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066920" y="0"/>
            <a:ext cx="476388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            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его подруж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всегда рядом, живут в дружбе и согла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о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413000"/>
            <a:ext cx="1368360" cy="158436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4292640"/>
            <a:ext cx="1079640" cy="2160720"/>
          </a:xfrm>
          <a:prstGeom prst="flowChartConnec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ё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42920" y="404640"/>
            <a:ext cx="28479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? Что?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9640" y="3213000"/>
            <a:ext cx="358164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ой? Чей?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7b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3624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й «деловой» жител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рф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гла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сё время в действии, в дви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нареч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изменно в своих взглядах и принципах, следит за соблюдением законов в государстве и их постоя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Юр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2133720"/>
            <a:ext cx="1800360" cy="1150920"/>
          </a:xfrm>
          <a:prstGeom prst="rect">
            <a:avLst/>
          </a:prstGeom>
          <a:solidFill>
            <a:srgbClr val="d51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ып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4869000"/>
            <a:ext cx="1584360" cy="151272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716360" y="333360"/>
            <a:ext cx="24955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делать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12000" y="1125360"/>
            <a:ext cx="26953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сделать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24360" y="3500280"/>
            <a:ext cx="46861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? Куда? Когда?Откуда?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292720" y="465300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ему? Зачем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04000" y="5661000"/>
            <a:ext cx="14382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Как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7b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7067 0.007 0.16933 0.025 0.168 C 0.051 0.168 0.053 -0.16267 0.084 -0.164 C 0.112 -0.164 0.097 0.12533 0.124 0.124 C 0.152 0.124 0.137 -0.08533 0.167 -0.08533 C 0.194 -0.08533 0.179 0.056 0.203 0.056 C 0.226 0.056 0.214 -0.052 0.235 -0.052 C 0.247 -0.052 0.248 -0.02267 0.249 0 E">
                                      <p:cBhvr>
                                        <p:cTn id="9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640" y="4076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2492280"/>
            <a:ext cx="3095640" cy="1366920"/>
          </a:xfrm>
          <a:custGeom>
            <a:avLst/>
            <a:gdLst>
              <a:gd name="textAreaLeft" fmla="*/ 680760 w 3095640"/>
              <a:gd name="textAreaRight" fmla="*/ 2414880 w 3095640"/>
              <a:gd name="textAreaTop" fmla="*/ 300600 h 1366920"/>
              <a:gd name="textAreaBottom" fmla="*/ 106632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 rot="21034800">
            <a:off x="826920" y="1915920"/>
            <a:ext cx="1203480" cy="11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96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й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96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 rot="970800">
            <a:off x="6300360" y="3499920"/>
            <a:ext cx="167652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1cb09b"/>
                    </a:gs>
                    <a:gs pos="100000">
                      <a:srgbClr val="0c5147"/>
                    </a:gs>
                  </a:gsLst>
                  <a:lin ang="4428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%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1cb09b"/>
                  </a:gs>
                  <a:gs pos="100000">
                    <a:srgbClr val="0c5147"/>
                  </a:gs>
                </a:gsLst>
                <a:lin ang="4428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835280" y="3573360"/>
            <a:ext cx="685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19975e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19975e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1576800">
            <a:off x="6732360" y="2133720"/>
            <a:ext cx="15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382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 г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382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549360"/>
            <a:ext cx="7610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олько? Который по счёту?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4672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                  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имя числ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подсчи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Нк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8b9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5589720"/>
            <a:ext cx="2737080" cy="100800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221400 h 1008000"/>
              <a:gd name="textAreaBottom" fmla="*/ 786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0360" y="2133720"/>
            <a:ext cx="1295280" cy="2089080"/>
          </a:xfrm>
          <a:prstGeom prst="flowChar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4005360"/>
            <a:ext cx="1729080" cy="165564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2708280"/>
            <a:ext cx="1368360" cy="151272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от и их наследники, очень похожие на своих родителей,..  </a:t>
            </a: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3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Школьники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лагательное -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исли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6:11:28Z</dcterms:created>
  <dc:creator>Olga</dc:creator>
  <dc:description/>
  <dc:language>en-US</dc:language>
  <cp:lastModifiedBy>Катя</cp:lastModifiedBy>
  <dcterms:modified xsi:type="dcterms:W3CDTF">2015-10-08T16:37:09Z</dcterms:modified>
  <cp:revision>30</cp:revision>
  <dc:subject/>
  <dc:title>Слайд 1</dc:title>
</cp:coreProperties>
</file>