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DD8-2EAA-4DE6-B67D-7DC1198F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5EF-804A-470C-BB3A-EAE6ABDD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C943BA-5EA6-4EBF-8B53-80144372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BA23FE-F93F-44F7-896A-CCBF9AC3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CE19ED-01A2-4227-B20E-AF565A6B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A353A5-7334-4C8C-8F76-4759A39F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16EC9E-649E-4863-A018-9B7EE724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485CEF-2BA9-4C55-87C3-073E9D53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6BE7E5-4851-4A9F-B9E5-64653D13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4D49B8-ACDD-4984-B63F-B156D7B4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487AC9-620C-426C-8021-93D13E87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972B51-FB02-4354-AEA8-F244E573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EAC-4F96-4E4C-A24D-FF0543FD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B14E7C-D371-4622-AF77-DAB59E0E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F4C050-9C4A-4AEF-ADBC-8542CCE7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42A3CF-207E-4E89-A70D-4739F43F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433F7E-4844-499E-8938-3D1A35BD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F150D5-1047-4A9C-83D5-6C1838CE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B1150B-1FFE-413B-A17B-B5CBB1D3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6069A1-D180-4EEC-B366-98101990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23DAA6-1816-4FAD-A4A1-0AA7A712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69D34C-D632-4448-87A2-140176B4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A296ED-BCE5-49B2-86A1-8BA98FD8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34A-F2CC-401C-9782-5DD1D161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59DAF3-92BA-4597-8B99-4387BA84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39D61-FEEE-45FE-9BAD-6DED8810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71C68-C35F-4E1C-AACB-DA23213D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591B6-C2C4-4E11-A83B-51902B89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6B64D-1030-4009-B916-627A6899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46521-C474-4FCF-925F-E387820C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B4094-3B95-4442-8269-41EAF5A5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6D5AF-880E-4310-8298-EB3C21EC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937FD-D5D8-4BE9-B74A-39638B1A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B0002-CAB1-4994-9003-31BB417B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E65E-5BFF-489B-98CC-9DBBEED9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BDA00-5D3D-401A-A87B-5840E388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BF695-556F-4C62-8BF8-E6BEBD7E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716E7-72AD-4AC2-915A-1453513E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A3592-3CE2-4DD7-8689-F6C730F1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F4050-6918-4D3D-ABE6-2A62B819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B6F0F-D9B1-4D43-B281-150F3EF6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2746E-79D4-4DB5-A4D4-7BD6EF23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62EE5-020B-4B5B-A747-DE7A4345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30DFE-1E67-4648-B7DE-6339026B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FB019-AA2B-484A-8042-0D6E8EDD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21D7-1BBF-4414-9EF7-2B7402CD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37081-BE06-4C3B-9998-0E0ED6B6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510E5-24B9-446D-A058-1AE3A538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A8D0B-6477-409A-BC8D-68ACA3A8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CB890-F1C7-4F8E-852A-9B421CD9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CFDD7-5C6C-4A7E-AA3C-D4871EA1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FC2D-6F43-4E1B-9867-41D7408C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C01C-7164-4D32-9138-288101E4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AE48-2975-4C47-9B65-FB31A40C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B08A-177B-46BB-8F5A-F82B296B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5057-4C18-44E0-AC3C-FF5E1190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CA0-A7AC-46FD-84D4-AF3C1112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B8E1-6E33-4CAA-9CFD-BA713394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2B6C-0288-43B7-8C4E-DDA757EA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BE51-2200-4669-AD99-8350C184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6C05-907A-431F-8C71-9758E21F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2E2E-9782-4EFC-B1AE-B7561444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23BE7-C6A7-4C52-B409-CB2139E9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1A213-C59D-48BB-9C46-5D06F61B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20D1D-B73D-4A48-A66F-7891F88D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E6A0C-3E58-46C5-8BA2-0EC3A0D6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FD024-B9AB-4A09-963F-BCB7A175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848-D3CD-43B3-A6F4-8BC20F09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EFCB5-08E3-4838-A7B3-776F1175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D1F0A-127F-457E-8BF0-1629708D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45730-52DE-45E0-86A4-117A7AF8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5EB6C-E76A-4B26-9F28-1C2CDFF2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F0BC1-251B-4DEC-9B45-2B82B93C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63CCA-66AE-4682-9DE0-AA81B0D9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6AFBC-06E4-433D-93F2-2020DEB1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65902-6713-4ECE-B12A-AC154026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76ADB-4E28-424D-8F92-3B0C26F3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2F8E5-C6A6-4A4F-AA06-2A402722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558-3296-4FE9-BCE7-07B56282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1DCD7-14A9-41D4-AFAB-43695331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2EEF9-4211-4929-BAC2-EBABEBD8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7C393-0E13-4CDC-BC6F-4893FFC2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A693E-1791-4DBD-9149-0D8764A2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EC015-6B09-4D1E-B152-5EBD15EA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2DCC0-0330-4B36-8FF1-F588F6F0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BB789-9868-4C08-8D3A-13FDB36A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B2341-E3BD-4F98-A575-9B094C4A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35733-2726-4514-A61E-877DA60F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08016-56CA-43F8-9349-C120E3A3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9AD-7EA3-42B1-9E89-95650885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39D95-C986-475F-A095-37E78AF8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57951-9900-4F1B-A1C0-7DEA2C87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0B46B-2C4B-4991-9EB1-F3BBF83E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85990-0AFE-46A5-ADE4-E5671AEF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81F23-5E10-4517-9A7D-65FB853E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36B0B-D408-4796-B393-70B869F7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5BD8E-851F-467A-8CEE-BD11B94F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D0667-13C9-47E0-851B-193CE8BA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AF8F3-9978-4BD3-8F3F-25C50C78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E3229-050A-47A0-8F96-37371DA6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E45-4039-4D3A-A6BC-ADA1A210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E9FF7-0EBF-4138-AE26-7AB33D6A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56FE0-AD9F-482F-A13F-80FC39BA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E73AC-1DD5-4683-96D1-695E84E5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AD5A4-BD3C-4D5D-8E5F-5CA06F7F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FAC5B-D0D3-475B-83CA-10059D85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54BB2-8DB8-4919-83B8-F3D48781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B1CA7-D9D1-4D45-A678-AA6E4842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EE381-B6BD-4EBA-BBB7-74181905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20262-C5F1-48C1-9858-35E61AE8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331AC-36E0-4678-A945-DF52AA94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33E1-04C2-4710-AB67-A86D3DA4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76D7C-F01F-4772-AF79-B492AC4D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6847B-4A6A-4E06-B35D-BA23698C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853A8-4143-4D45-B7CC-DA258650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0751F9-DDE2-48F4-9671-8C7B05A1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5A4E7C-F5F5-4001-96AE-40269080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69016C-9E25-4D4C-8027-200FA3B0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FF94AF-C53A-4414-B68C-507C76DF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939867-2021-46BF-86CD-BCC5B3A9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986B53-DAA9-49DE-801E-882B1389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25D28-C975-41B2-A55B-22956B4E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28D-AB50-4736-A072-0D873A3F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3A5621-BFB0-4888-AC6D-473A875B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FB0EB-3CF9-4C53-BBBE-F736206C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E64BEF-F962-4576-BEA2-DED2FAB2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05344-2BF7-4C1F-B841-E906B97D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8DC3D3-5EE1-42C4-BF41-86CC1610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B7F14-E77B-4B1C-8963-CD77C0B1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58283-9BFD-4C95-93DC-AD5E28FB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B9D64-8F7D-425E-BF30-6BF0ECE0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A9428-8BF1-462C-AE88-2ED67288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C7B28-31A7-4CF5-9E80-F2250D6A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686-FA32-4285-A5B3-F6470D49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C8322-20C7-40FB-80B3-1ACF8729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0E5F9-8769-4AE0-9E44-5B0FF84E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5EE32-0982-4F7E-99E4-49E09068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25707-3A37-460A-AC3E-E99A39EE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6CF34-544E-450F-A2F1-26C574AF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3B174-1C5C-4A21-8EA8-D54CD5A5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4FC61-88F8-48E1-965C-D960494F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FC0D9F-2220-4BAE-8B2E-6E476F73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C78461-2ADD-4B78-8FF5-9AE9FC00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F7A263-0701-4451-900A-81BD7BC8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9372-82E2-4D91-A55F-EF1064DD067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116E-4806-4548-A4C2-D7EB67BDDDB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BBC6-E5A9-4E57-BEEC-638A238390A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3D34-26C8-409A-8A69-0A04B9A5CB7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FF50-031B-44FC-B312-529DE771C14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34DC-D0D9-4E32-B914-6CDDE43711C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AE88-2151-4D51-ABA8-2C1ABEE1A76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E889-BBD2-4314-8975-42799D93F81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8704-C099-49B4-9660-BD0790A423B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08B5-9A0B-4E69-A65A-CBE6CCD2C1C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E2BC-351C-44DA-AA2F-C5C09A3455F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5918-1DA9-46CC-AEA6-20F78C08E5D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 rot="176400">
            <a:off x="2310840" y="131760"/>
            <a:ext cx="51814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МУЛЬТИК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5" name="Прямоугольник 4"/>
          <p:cNvSpPr/>
          <p:nvPr/>
        </p:nvSpPr>
        <p:spPr>
          <a:xfrm rot="20347200">
            <a:off x="5138280" y="488952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f0"/>
                </a:solidFill>
                <a:latin typeface="Arial"/>
              </a:rPr>
              <a:t>МУЛЬ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5" descr="http://www.groteck.ru/attachments/news/25228/animazia.bmp"/>
          <p:cNvPicPr/>
          <p:nvPr/>
        </p:nvPicPr>
        <p:blipFill>
          <a:blip r:embed="rId1"/>
          <a:stretch/>
        </p:blipFill>
        <p:spPr>
          <a:xfrm>
            <a:off x="1905120" y="4343400"/>
            <a:ext cx="2381040" cy="18288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http://dozor.com.ua/content/documents/11338/1133733/thumb-article-419x315-f20f.jpg"/>
          <p:cNvPicPr/>
          <p:nvPr/>
        </p:nvPicPr>
        <p:blipFill>
          <a:blip r:embed="rId2"/>
          <a:stretch/>
        </p:blipFill>
        <p:spPr>
          <a:xfrm rot="19728000">
            <a:off x="372600" y="1614240"/>
            <a:ext cx="3048120" cy="22906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9" descr="http://s.fishki.net/upload/post/201502/17/1431336/3.jpg"/>
          <p:cNvPicPr/>
          <p:nvPr/>
        </p:nvPicPr>
        <p:blipFill>
          <a:blip r:embed="rId3"/>
          <a:stretch/>
        </p:blipFill>
        <p:spPr>
          <a:xfrm>
            <a:off x="3352680" y="1676520"/>
            <a:ext cx="3283200" cy="25714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1" descr="http://i.ytimg.com/vi/t8TcXTjZ4gc/maxresdefault.jpg"/>
          <p:cNvPicPr/>
          <p:nvPr/>
        </p:nvPicPr>
        <p:blipFill>
          <a:blip r:embed="rId4"/>
          <a:stretch/>
        </p:blipFill>
        <p:spPr>
          <a:xfrm rot="21057600">
            <a:off x="6484680" y="1708200"/>
            <a:ext cx="2512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388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32c16"/>
                </a:solidFill>
                <a:latin typeface="Century Schoolbook"/>
              </a:rPr>
              <a:t>ПОЖЕЛАНИЯ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09480" y="1143000"/>
            <a:ext cx="73152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Серьёзно подходить к выбору  мультфильма, так как зрительные образы оказывают сильное влияние на психику ребёнк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Использовать в работе с детьми отечественные и некоторые зарубежные мультфильмы, воспитывающие в ребёнке доброту, умение ценить дружбу, учащие искренности и преданност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Оградить детей от просмотра мультфильмов с переизбытком насильственных и агрессивных сцен, с динамическими сценами и яркими вспышками, где герои могут по несколько раз умирать и воскресат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Всегда помнить, что мультипликация – это эффективное средство как в случае решения благородных задач воспитания, так и в случае манипулирования и скрытого управле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Подзаголовок 3"/>
          <p:cNvSpPr/>
          <p:nvPr/>
        </p:nvSpPr>
        <p:spPr>
          <a:xfrm>
            <a:off x="1981080" y="1523880"/>
            <a:ext cx="61722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2c16"/>
                </a:solidFill>
                <a:latin typeface="Century Schoolbook"/>
              </a:rPr>
              <a:t>Составил: педагог-психолог ГБДОУ детского сада № 18 Горшенина В.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1599840" y="6858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Century Schoolbook"/>
              </a:rPr>
              <a:t>Работа основанная на мультипликации 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Century Schoolbook"/>
              </a:rPr>
              <a:t>реализованная в рамках дополнительного образования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Century Schoolbook"/>
              </a:rPr>
              <a:t>способствует формированию у детей первичных представлений о добре и зле, доброжелательности, отзывчивости и искренности, трудолюбие, доверия, правдивости, прощении ,радушии, уважении, честности. Через сравнение себя с героями, ребята учатся позитивно воспринимать себя, справляться со своими трудностями, уважительно относиться к другим. Работа над мультфильмами способствует развитию мышления, воображения, памят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32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1" i="1" lang="ru-RU" sz="2800" spc="-1" strike="noStrike">
                <a:solidFill>
                  <a:srgbClr val="b0129d"/>
                </a:solidFill>
                <a:latin typeface="Century Schoolbook"/>
              </a:rPr>
              <a:t>«О ЩЕДРОСТИ И ЖАДНОСТИ</a:t>
            </a:r>
            <a:r>
              <a:rPr b="1" i="1" lang="ru-RU" sz="2800" spc="-1" strike="noStrike">
                <a:solidFill>
                  <a:srgbClr val="575f6d"/>
                </a:solidFill>
                <a:latin typeface="Century Schoolbook"/>
              </a:rPr>
              <a:t>»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Задача: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формирование у детей нравственных качеств, таких как доброжелательность, отзывчивость, умение учитывать интересы и мнения других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Цель: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развивать умение оценивать как свои поступки, так и поступки других людей. Подвести к пониманию, что жадным быть плохо. А щедрым хорошо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римеры: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«Горшочек каши», «Золотая рыбка», «Двенадцать месяцев», «Лиса и заяц», «Мешок яблок», «Чьи в лесу шишки»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5f6d"/>
                </a:solidFill>
                <a:latin typeface="Century Schoolbook"/>
              </a:rPr>
              <a:t>«О ДОБРОТЕ»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ча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формирование у детей отрицательного отношения к злости, жадности и зави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воспитывать у детей желание совершать добрые поступки. Учить размышлять о разных сторонах жизни и свойствах человеческого характера. Развивать внимание, наблюдательность, зрительную память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имеры: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 Цветик - семицветик», « Аленький цветочек», «Дядя Стёпа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                        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«О ДРУЖБЕ»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6" name="Прямоугольник 3"/>
          <p:cNvSpPr/>
          <p:nvPr/>
        </p:nvSpPr>
        <p:spPr>
          <a:xfrm>
            <a:off x="2286000" y="14590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5"/>
          <p:cNvSpPr/>
          <p:nvPr/>
        </p:nvSpPr>
        <p:spPr>
          <a:xfrm>
            <a:off x="914400" y="1981080"/>
            <a:ext cx="723888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крыть смысл понятия «Дружба» , способствовать сплочению детского коллектива, научить ребят внимательному и доброжелательному отношению друг к другу, действовать сообща, доверять друг другу, переживать дружеские чувства. Сформировать адекватные формы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 Бременские музыканты», « Кот Леопольд», « Смешарики», « Малыш и Карлсон», « Вини-пух», « Львёнок и черепаха», «38 попугае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219320" y="11430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воспитание внимательности, сочувствия, развитие умения вовремя прийти на помощ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« Крошка Енот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1371600" y="1447560"/>
            <a:ext cx="5410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дача: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воспитание у детей смелости, инициативности, развитие желания защищать слабых, помогая старши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приобщить к нормам и правилам взаимоотношений со сверстниками. Воспитывать самостоятельность, инициативность, культуру общения, дружеские взаимоотнош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имеры: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«Снежная королева», «Легко ли быть храбрым», « Гуси-лебеди», «У страха глаза велики», « Соломенный бычок»,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« Храбрый оленёнок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0" name="Прямоугольник 4"/>
          <p:cNvSpPr/>
          <p:nvPr/>
        </p:nvSpPr>
        <p:spPr>
          <a:xfrm flipV="1">
            <a:off x="2286000" y="3834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5"/>
          <p:cNvSpPr/>
          <p:nvPr/>
        </p:nvSpPr>
        <p:spPr>
          <a:xfrm>
            <a:off x="2286000" y="609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 О храбрости и трус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0880" y="228960"/>
            <a:ext cx="8382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« О правде и лжи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ча: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ние у детей нравственных качеств, таких как  честность и справедлив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формировать  у детей понятие «  Правда» и «Ложь», умение выражать характер в художественном слове. Помочь осознать и усвоить, что говорить правду бояться не нужно, а ложь надо обходить стороной. Способствовать развитию связной речи, внимания, логического мышления. Воспитывать чувство сопереживания, желание помочь товарищу. Повысить у детей самооцен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ры: «Буратино», «Чужая шуба», «Маленький Мук», «Лиса и медведь», « Лиса и волк», « Огурцы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800" spc="-1" strike="noStrike">
                <a:solidFill>
                  <a:srgbClr val="bd0707"/>
                </a:solidFill>
                <a:latin typeface="Century Schoolbook"/>
              </a:rPr>
              <a:t>« О ЛЕНИ И ТРУДОЛЮБИИ»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Прямоугольник 3"/>
          <p:cNvSpPr/>
          <p:nvPr/>
        </p:nvSpPr>
        <p:spPr>
          <a:xfrm>
            <a:off x="1143000" y="1066680"/>
            <a:ext cx="6477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спитание  ценностного отношения к собственному труду и труду други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ершенствовать нравственное развитие детей путём воспитания навыков трудолюбия. Закрепить понятие « Лень» и «Трудолюбие». Дать представление о том, что слово « надо» - есть чувство ответственности и долга. Помочь детям понять смысл пословиц о труде. Научить различать « хорошие» и «плохие» поступки. Воспитывать у детей желание знать и соблюдать правила поведения в детском са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Ох и Ах», « Лень», «Песенка Мышонка», «Мороз Иванович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Вовочка в Тридевятом царств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6e5a"/>
                </a:solidFill>
                <a:latin typeface="Century Schoolbook"/>
              </a:rPr>
              <a:t>« О ХВАСТОВСТВЕ И СКРОМНОСТИ»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Прямоугольник 4"/>
          <p:cNvSpPr/>
          <p:nvPr/>
        </p:nvSpPr>
        <p:spPr>
          <a:xfrm>
            <a:off x="1066680" y="99072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рекция настроения и отдельных черт характера реб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ширить и углубить представление о проявлении такого нравственного качества, как доброта, искренность, скромность. Воспитывать желание быть добрым, отзывчивым, внимательным к окружающим. Помочь понять детям, что добрые дела и благородные поступки совершаются не из-за хвастовства и чувства гордыни, и не из-за желания любой ценой заслужить похвалу, а для того, чтобы действительно помочь, искренне поддержать друга в трудную мину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« Муравьишка - Хвастунишка», «Дудочка и кувшинчик», « Три поросёнка», «Так сойдёт», «Братец Кролик и братец Ли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05:42:42Z</dcterms:created>
  <dc:creator>user17</dc:creator>
  <dc:description/>
  <dc:language>en-US</dc:language>
  <cp:lastModifiedBy>Вера</cp:lastModifiedBy>
  <cp:lastPrinted>2012-05-24T09:12:05Z</cp:lastPrinted>
  <dcterms:modified xsi:type="dcterms:W3CDTF">2015-10-07T22:40:59Z</dcterms:modified>
  <cp:revision>44</cp:revision>
  <dc:subject/>
  <dc:title>Социально-игровой проект</dc:title>
</cp:coreProperties>
</file>