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A29-48F6-47C1-B272-ED1F3151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FE2-DE45-479E-B7C9-6CFBBFB5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DB06B-8442-4849-92B0-DA732E12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6E75E6-FA13-4D7B-9251-C72E67F1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B570F4-B961-41FE-A32F-2BB7720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39BD4-C6A7-4B1D-981C-0A0719A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0B269-3DAC-4C4A-B3B1-3A5D717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8C8AE9-0C37-425E-AA4B-E8E8908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BB8E4-1248-4008-A9E0-E9D2E65B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51393-E98A-424D-BFDD-A3355916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08C25A-563A-4FAA-BADC-7EF6A5C1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25AF0-1677-48E1-A69A-B357D18D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9D1-FEF0-4AAA-8FCA-0863B47D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28A429-DE0F-4C9B-8E83-24C9F4D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BC4453-603F-46BD-9ED1-AD555DA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DED89-869A-4F35-AD37-43F4B260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24D6B0-696F-4834-96BE-CD396A3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1A15AC-9876-4890-9F5B-B0DA091C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48456-D5A3-4D17-9585-4F1BF3B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36702E-455A-4122-89E8-F9D050B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7FD2D2-B03B-48EA-86E8-5DC8697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058B48-CBE7-49D6-9348-DC2FCFF1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24A3A0-BC02-4F64-AD13-E2A8FFDA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490-D465-4CE2-A0BB-EDDAB319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265866-65C5-41F5-B7A4-09A5E897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6B36F-8161-44B7-BBEB-FE9FD527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2F52B-C7F3-41BD-A679-2F225E5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2BBE6-6BDA-40B5-883F-5A39B3D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4BC02-872B-4A8D-A9BC-8DE97EF7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8B93A-080C-4B40-B76D-BB66B1DA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2A8C9-1CF4-476D-8250-CE0A85D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3E25-95ED-4705-AF67-450B6563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8BC6A-1943-4D0C-B11F-CF94430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B4D51-EFA2-42A9-9284-38605B7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BC56-B1E8-4D01-BDD2-DE907319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654DC-DF9F-4866-8E90-B80640C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E5820-8114-459F-995C-ADBF1EFD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7E688-46E4-4E85-99B0-DC6FBD48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A6480-4802-4DE1-BBC9-53C72577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F1069-1128-4AF1-B6AE-089660CC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750C6-A53F-43F6-8859-D81493E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98052-1D3B-420F-98DC-D61B374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2234B-D6E1-4879-9503-3B7A598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12F4A-50A3-4AC4-8EDC-B6E85560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4C89F-B0F3-4828-9A2B-58540928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8BB-1584-4CFD-A317-A058FFF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85D32-DB75-4DDC-9461-A4EBE4C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F9E17-B78E-4E41-B8DF-8B6D092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22700-E0B3-4754-A23A-23CC6EE1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1076F-371F-4752-A2D0-BF4A1DDA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A02C8-FC6B-48B3-B05B-EAB1CAAE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005-55FD-4406-BA16-5FA00E19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1D6C-7A31-479E-92DA-646CE255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106E-B048-43BA-96E5-BBCAC231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662-FE9A-419C-944F-E798BF9B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420-E38E-4B85-A7EB-3C42BBA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044-4E6D-470A-957E-6983B21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ECD-C3D7-4F1A-8AC3-FC7BFE4C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1DFA-7B96-4B83-8218-2C6B1F1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650-00FD-4830-8840-3AF1F489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907C-145D-4AB1-B6C2-F4ED4B85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C182-01A2-4394-9801-96D72E9F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177DE-9147-4B69-A7FC-6A2B764F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3C044-F4AD-46F8-A16F-21BAB5FE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8C957-84B8-420B-BDC8-A0FA318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4B5C7-704F-4425-B936-641BD4EF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9B9F9-CD6E-48D8-9955-491207E4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5C3-CE08-4B5D-9CF8-788A5B71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AE201-FCC9-4A41-A4B9-E2D7EC6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C2182-4CF2-4D8E-BB0A-51B5098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759EA-9549-4000-B469-56468748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2CA76-6617-49BB-87C2-700A27D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9029D-99CF-49D9-83D0-BB8393C9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6E1B5-C188-40A5-B2E0-F8352A29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BF281-2944-41E0-9A0B-47FA2F5F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8D11-2E85-4559-9DE7-28FD9380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402D-C4E7-4E23-ADF7-A03E8196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C7B91-6B74-4792-9FA4-06FE8C85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8B4-95CC-4977-8F05-EED9B530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AAAF-3618-42BE-BDAF-F4B4EC3F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E8FA-9051-4B11-BFA8-1BBF3615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7C88-FABE-4C16-9E14-8BD79F8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646F-D402-4130-AF51-E4D841C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D063-B264-4ACB-8CEA-F79A9A0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E6EA-603C-4EC5-A0E8-69D9C06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26DEE-1B29-4CCB-83DF-C170E883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7218-7E8F-47B4-AFEE-8B13FFCE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71AC-9D78-4ABA-A157-619BCCA4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B859-7A64-4073-A905-9F580681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3B9-7BB6-442C-9727-31CC351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AC1A-9032-4E8C-880D-E47F7D8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C4A4-058E-460C-B3AB-C12A3F3C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D997-189F-454C-8B06-83AE00D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7F24-02B9-4255-9C24-D76B2C85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0F15-5B0D-494C-9B83-D5BDADC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637E-C9EE-4104-9D1B-57F6CE37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0019-43E6-458C-AC85-597404E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6E5F-74BB-40AA-986B-45A616E3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A402-8068-4071-A011-FEEEC65E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642B-CD47-4EF1-B86E-58565274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37A-FA6A-4E1B-B018-96CF6B47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57EFC-831E-48BE-A97A-D05C5B03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41BB-4A06-498A-805C-F3657712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65541-6D65-44E9-9188-DED124D2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6D64-76F9-42E9-9DA2-8BE6B746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2E68-1DA0-4330-AF29-6EF8345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8250-991B-4876-B52B-71390B15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A673-D820-41C0-BF13-724CA096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4DE99-4AAA-428A-94BB-0E47560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E741-CEAE-4E82-89CE-7DF40F0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EA45-62C9-4255-B748-E97D91E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694-1271-42A7-9C8A-12C5C7A6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DC46-415B-4431-A13B-79DB76DB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6786-55BB-4763-B69D-1A8123B8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4D85-8499-493C-9561-FB4D8862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2C7AE-F011-4ABF-98C6-5A88BAB6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805F5-3A28-4DBE-8004-B87E8073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77FC4-5511-4A1F-BCEC-623D93E7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DC717-B789-4505-8989-486FF5D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DCF88-9569-41F0-9BA3-D646AF3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48C4F-875E-4791-BFF9-7E1D9907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080BB-4852-4754-8BA0-70133C1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E84-54FA-4290-B811-69D271B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4B30B-8468-4EED-A0F6-6CB7B7CA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E9236-BDA8-493D-9D1C-645802C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0C7CA-F8FA-40F9-BBFE-71E3F0FB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0EAE3-A40B-4B56-B7E1-1E1BEB3D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B67C7-5C5A-42E9-942A-8B30A877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CF2A5-98FE-42BD-ADC4-E2737424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D222-78BC-4994-B312-8680E635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EDAB-259B-4E0A-B1D4-C3E354F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9753-0D82-453D-A556-468ABB3A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4DF9-250F-471C-A0B3-C1E7A00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A78-4C8F-435D-A8A5-4622409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863DF-6DA2-4255-834A-384DE70F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BF92-315F-496D-B098-BFBAFB1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DFDA8-E877-4607-9BE4-32220504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370F0-597C-499E-A829-69F3DE1D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A7DEB-6139-48E0-AC0F-F6B1B1BF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3759-8FDF-464D-88AC-AA621681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9F04C-DDE2-4649-8B5A-4F11C2C2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330C5-C481-48F6-9670-5F907391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24206-1849-4931-A30A-EFA1FE92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F7FA8-0364-4AD1-ABA9-5654B88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4C3C-DE35-4AC2-8614-AD743C973D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D9C-436F-49D0-8FE8-907AE5E3C1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2E2-E287-4B32-8B41-BD666F983B5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9012-9B7B-4732-A084-3EA30DBFBE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543-2136-4F1A-BBD1-3F1AB0EEB5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7891-88B6-4569-9605-85FE504DE1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CDE0-79D5-4AA2-B7A3-984F06CCC8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24E5-04FC-4193-BB4F-CA88AAEACE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B38-DD4F-405E-AB69-61B94F3293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3DC1-D93A-408F-918F-0DC28D4EEE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E147-D2B1-46BD-B67C-E53103514F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7204-D601-475A-BD5A-836E9C638D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 rot="176400">
            <a:off x="2310840" y="131760"/>
            <a:ext cx="51814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МУЛЬТИ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Прямоугольник 4"/>
          <p:cNvSpPr/>
          <p:nvPr/>
        </p:nvSpPr>
        <p:spPr>
          <a:xfrm rot="20347200">
            <a:off x="5138280" y="48895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МУЛЬ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http://www.groteck.ru/attachments/news/25228/animazia.bmp"/>
          <p:cNvPicPr/>
          <p:nvPr/>
        </p:nvPicPr>
        <p:blipFill>
          <a:blip r:embed="rId1"/>
          <a:stretch/>
        </p:blipFill>
        <p:spPr>
          <a:xfrm>
            <a:off x="1905120" y="4343400"/>
            <a:ext cx="2381040" cy="1828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http://dozor.com.ua/content/documents/11338/1133733/thumb-article-419x315-f20f.jpg"/>
          <p:cNvPicPr/>
          <p:nvPr/>
        </p:nvPicPr>
        <p:blipFill>
          <a:blip r:embed="rId2"/>
          <a:stretch/>
        </p:blipFill>
        <p:spPr>
          <a:xfrm rot="19728000">
            <a:off x="372600" y="1614240"/>
            <a:ext cx="3048120" cy="2290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http://s.fishki.net/upload/post/201502/17/1431336/3.jpg"/>
          <p:cNvPicPr/>
          <p:nvPr/>
        </p:nvPicPr>
        <p:blipFill>
          <a:blip r:embed="rId3"/>
          <a:stretch/>
        </p:blipFill>
        <p:spPr>
          <a:xfrm>
            <a:off x="3352680" y="1676520"/>
            <a:ext cx="3283200" cy="2571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http://i.ytimg.com/vi/t8TcXTjZ4gc/maxresdefault.jpg"/>
          <p:cNvPicPr/>
          <p:nvPr/>
        </p:nvPicPr>
        <p:blipFill>
          <a:blip r:embed="rId4"/>
          <a:stretch/>
        </p:blipFill>
        <p:spPr>
          <a:xfrm rot="21057600">
            <a:off x="6484680" y="1708200"/>
            <a:ext cx="251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2c16"/>
                </a:solidFill>
                <a:latin typeface="Century Schoolbook"/>
              </a:rPr>
              <a:t>ПОЖЕЛ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09480" y="1143000"/>
            <a:ext cx="7315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Серьёзно подходить к выбору  мультфильма, так как зрительные образы оказывают сильное влияние на психику ребён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Использовать в работе с детьми отечественные и некоторые зарубежные мультфильмы, воспитывающие в ребёнке доброту, умение ценить дружбу, учащие искренности и предан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Оградить детей от просмотра мультфильмов с переизбытком насильственных и агрессивных сцен, с динамическими сценами и яркими вспышками, где герои могут по несколько раз умирать и воскрес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сегда помнить, что мультипликация – это эффективное средство как в случае решения благородных задач воспитания, так и в случае манипулирования и скрытого управл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Подзаголовок 3"/>
          <p:cNvSpPr/>
          <p:nvPr/>
        </p:nvSpPr>
        <p:spPr>
          <a:xfrm>
            <a:off x="1981080" y="1523880"/>
            <a:ext cx="6172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Century Schoolbook"/>
              </a:rPr>
              <a:t>Составил: педагог-психолог ГБДОУ детского сада № 18 Горшенина В.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599840" y="6858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Century Schoolbook"/>
              </a:rPr>
              <a:t>Работа основанная на мультипликации 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Century Schoolbook"/>
              </a:rPr>
              <a:t>реализованная в рамках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Century Schoolbook"/>
              </a:rPr>
              <a:t>способствует формированию у детей первичных представлений о добре и зле, доброжелательности, отзывчивости и искренности, трудолюбие, доверия, правдивости, прощении ,радушии, уважении, честности. Через сравнение себя с героями, ребята учатся позитивно воспринимать себя, справляться со своими трудностями, уважительно относиться к другим. Работа над мультфильмами способствует развитию мышления, воображения, памя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i="1" lang="ru-RU" sz="2800" spc="-1" strike="noStrike">
                <a:solidFill>
                  <a:srgbClr val="b0129d"/>
                </a:solidFill>
                <a:latin typeface="Century Schoolbook"/>
              </a:rPr>
              <a:t>«О ЩЕДРОСТИ И ЖАДНОСТИ</a:t>
            </a: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Задача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формирование у детей нравственных качеств, таких как доброжелательность, отзывчивость, умение учитывать интересы и мнения други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развивать умение оценивать как свои поступки, так и поступки других людей. Подвести к пониманию, что жадным быть плохо. А щедрым хорош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имеры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«Горшочек каши», «Золотая рыбка», «Двенадцать месяцев», «Лиса и заяц», «Мешок яблок», «Чьи в лесу шишки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5f6d"/>
                </a:solidFill>
                <a:latin typeface="Century Schoolbook"/>
              </a:rPr>
              <a:t>«О ДОБРОТЕ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формирование у детей отрицательного отношения к злости, жадности и зави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оспитывать у детей желание совершать добрые поступки. Учить размышлять о разных сторонах жизни и свойствах человеческого характера. Развивать внимание, наблюдательность, зрительную памя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ветик - семицветик», « Аленький цветочек», «Дядя Стёп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«О ДРУЖБЕ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2286000" y="1459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914400" y="1981080"/>
            <a:ext cx="723888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крыть смысл понятия «Дружба» , способствовать сплочению детского коллектива, научить ребят внимательному и доброжелательному отношению друг к другу, действовать сообща, доверять друг другу, переживать дружеские чувства. Сформировать адекватные формы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 Бременские музыканты», « Кот Леопольд», « Смешарики», « Малыш и Карлсон», « Вини-пух», « Львёнок и черепаха», «38 попуга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21932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оспитание внимательности, сочувствия, развитие умения вовремя прийти на помощ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« Крошка Енот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371600" y="1447560"/>
            <a:ext cx="54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оспитание у детей смелости, инициативности, развитие желания защищать слабых, помогая старши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иобщить к нормам и правилам взаимоотношений со сверстниками. Воспитывать самостоятельность, инициативность, культуру общения, дружеские взаимоотнош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«Снежная королева», «Легко ли быть храбрым», « Гуси-лебеди», «У страха глаза велики», « Соломенный бычок»,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« Храбрый оленёнок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Прямоугольник 4"/>
          <p:cNvSpPr/>
          <p:nvPr/>
        </p:nvSpPr>
        <p:spPr>
          <a:xfrm flipV="1">
            <a:off x="2286000" y="383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5"/>
          <p:cNvSpPr/>
          <p:nvPr/>
        </p:nvSpPr>
        <p:spPr>
          <a:xfrm>
            <a:off x="228600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О храбрости и трус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0880" y="22896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 О правде и лжи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у детей нравственных качеств, таких как  честность и справедлив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 у детей понятие «  Правда» и «Ложь», умение выражать характер в художественном слове. Помочь осознать и усвоить, что говорить правду бояться не нужно, а ложь надо обходить стороной. Способствовать развитию связной речи, внимания, логического мышления. Воспитывать чувство сопереживания, желание помочь товарищу. Повысить у детей самооцен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ы: «Буратино», «Чужая шуба», «Маленький Мук», «Лиса и медведь», « Лиса и волк», « Огурцы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800" spc="-1" strike="noStrike">
                <a:solidFill>
                  <a:srgbClr val="bd0707"/>
                </a:solidFill>
                <a:latin typeface="Century Schoolbook"/>
              </a:rPr>
              <a:t>« О ЛЕНИ И ТРУДОЛЮБИИ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Прямоугольник 3"/>
          <p:cNvSpPr/>
          <p:nvPr/>
        </p:nvSpPr>
        <p:spPr>
          <a:xfrm>
            <a:off x="1143000" y="1066680"/>
            <a:ext cx="6477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ние  ценностного отношения к собственному труду и труду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ершенствовать нравственное развитие детей путём воспитания навыков трудолюбия. Закрепить понятие « Лень» и «Трудолюбие». Дать представление о том, что слово « надо» - есть чувство ответственности и долга. Помочь детям понять смысл пословиц о труде. Научить различать « хорошие» и «плохие» поступки. Воспитывать у детей желание знать и соблюдать правила поведения в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Ох и Ах», « Лень», «Песенка Мышонка», «Мороз Иванови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Вовочка в Тридевятом царств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6e5a"/>
                </a:solidFill>
                <a:latin typeface="Century Schoolbook"/>
              </a:rPr>
              <a:t>« О ХВАСТОВСТВЕ И СКРОМНОСТИ»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Прямоугольник 4"/>
          <p:cNvSpPr/>
          <p:nvPr/>
        </p:nvSpPr>
        <p:spPr>
          <a:xfrm>
            <a:off x="1066680" y="99072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рекция настроения и отдельных черт характера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ширить и углубить представление о проявлении такого нравственного качества, как доброта, искренность, скромность. Воспитывать желание быть добрым, отзывчивым, внимательным к окружающим. Помочь понять детям, что добрые дела и благородные поступки совершаются не из-за хвастовства и чувства гордыни, и не из-за желания любой ценой заслужить похвалу, а для того, чтобы действительно помочь, искренне поддержать друга в трудную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« Муравьишка - Хвастунишка», «Дудочка и кувшинчик», « Три поросёнка», «Так сойдёт», «Братец Кролик и братец Ли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5:42:42Z</dcterms:created>
  <dc:creator>user17</dc:creator>
  <dc:description/>
  <dc:language>en-US</dc:language>
  <cp:lastModifiedBy>Вера</cp:lastModifiedBy>
  <cp:lastPrinted>2012-05-24T09:12:05Z</cp:lastPrinted>
  <dcterms:modified xsi:type="dcterms:W3CDTF">2015-10-07T22:40:59Z</dcterms:modified>
  <cp:revision>44</cp:revision>
  <dc:subject/>
  <dc:title>Социально-игровой проект</dc:title>
</cp:coreProperties>
</file>