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381-AE40-4443-A3CC-A206B93E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833-47F4-4B9D-A403-4BCF55CB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663-A818-4043-9CAB-C49F2392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CB1-5658-4403-B147-48F61A4C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056-AD75-4152-B465-EE7F645C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90D-ADF6-473A-AECE-81358412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BCF-43F2-4694-9AD2-3F0F0CE3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BFA-95A9-4EAB-8665-3FF67642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370-C450-400D-8E99-27F7F911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923-0AA9-417C-86C2-8530C88C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722-C7F8-49FB-948D-5EA7810D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8F9-645C-4D42-BC0D-F705754B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5C0A-495E-4C18-AB8E-08D5771A46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360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Нарисуй буквы и </a:t>
            </a:r>
            <a:br>
              <a:rPr sz="6000"/>
            </a:b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отгадай слово 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Волшебник недоучка.mid" descr=""/>
          <p:cNvPicPr/>
          <p:nvPr/>
        </p:nvPicPr>
        <p:blipFill>
          <a:blip r:embed="rId1"/>
          <a:stretch/>
        </p:blipFill>
        <p:spPr>
          <a:xfrm>
            <a:off x="611280" y="5157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000099"/>
                </a:solidFill>
                <a:latin typeface="Arial"/>
              </a:rPr>
              <a:t>Молодцы!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Медаль"/>
          <p:cNvPicPr/>
          <p:nvPr/>
        </p:nvPicPr>
        <p:blipFill>
          <a:blip r:embed="rId1"/>
          <a:stretch/>
        </p:blipFill>
        <p:spPr>
          <a:xfrm>
            <a:off x="3924360" y="3357720"/>
            <a:ext cx="936720" cy="208728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09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99"/>
                </a:solidFill>
                <a:latin typeface="Arial"/>
              </a:rPr>
              <a:t>Береги зре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99"/>
                </a:solidFill>
                <a:latin typeface="Arial"/>
              </a:rPr>
              <a:t>Никогда не читай лёжа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3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Рисунок9"/>
          <p:cNvPicPr/>
          <p:nvPr/>
        </p:nvPicPr>
        <p:blipFill>
          <a:blip r:embed="rId1"/>
          <a:stretch/>
        </p:blipFill>
        <p:spPr>
          <a:xfrm>
            <a:off x="5435640" y="4149720"/>
            <a:ext cx="1238040" cy="1809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 rot="838200">
            <a:off x="1115640" y="907920"/>
            <a:ext cx="843120" cy="499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 rot="20639400">
            <a:off x="2411280" y="691920"/>
            <a:ext cx="828720" cy="5160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716360" y="5013360"/>
            <a:ext cx="863640" cy="72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00648E-006 L 0.14184 -0.61887 E">
                                      <p:cBhvr>
                                        <p:cTn id="17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61887 L 0.30712 0.00532 E">
                                      <p:cBhvr>
                                        <p:cTn id="24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Рисунок6"/>
          <p:cNvPicPr/>
          <p:nvPr/>
        </p:nvPicPr>
        <p:blipFill>
          <a:blip r:embed="rId1"/>
          <a:stretch/>
        </p:blipFill>
        <p:spPr>
          <a:xfrm>
            <a:off x="4140360" y="4292640"/>
            <a:ext cx="1188720" cy="1736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042920" y="4797360"/>
            <a:ext cx="865080" cy="863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 flipV="1">
            <a:off x="5724360" y="403560"/>
            <a:ext cx="936720" cy="4969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 flipV="1" rot="16200000">
            <a:off x="7162200" y="-98280"/>
            <a:ext cx="578160" cy="1584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 flipV="1">
            <a:off x="7667640" y="981000"/>
            <a:ext cx="576360" cy="1224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 flipV="1" rot="5394600">
            <a:off x="7305840" y="1482480"/>
            <a:ext cx="577800" cy="1873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 flipV="1">
            <a:off x="7740720" y="2708280"/>
            <a:ext cx="792000" cy="223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 flipV="1" rot="5400000">
            <a:off x="7271280" y="4112640"/>
            <a:ext cx="577800" cy="194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2 0.04764 L -0.05903 -0.59759 E">
                                      <p:cBhvr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03 -0.59759 L 0.17726 -0.59782 E">
                                      <p:cBhvr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26 -0.59782 L 0.17326 -0.45606 E">
                                      <p:cBhvr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45605 L -0.06302 -0.45605 E">
                                      <p:cBhvr>
                                        <p:cTn id="4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-0.45605 L 0.16545 -0.45605 E">
                                      <p:cBhvr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6 -0.45605 L 0.16546 -0.00508 E">
                                      <p:cBhvr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6 -0.00508 L -0.06284 -0.00508 E">
                                      <p:cBhvr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611280" y="5013360"/>
            <a:ext cx="865080" cy="863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364000" y="836640"/>
            <a:ext cx="792360" cy="4897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 rot="16200000">
            <a:off x="6732720" y="260280"/>
            <a:ext cx="792000" cy="194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Рисунок6"/>
          <p:cNvPicPr/>
          <p:nvPr/>
        </p:nvPicPr>
        <p:blipFill>
          <a:blip r:embed="rId1"/>
          <a:stretch/>
        </p:blipFill>
        <p:spPr>
          <a:xfrm>
            <a:off x="1403280" y="4724280"/>
            <a:ext cx="1189080" cy="1737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6947E-006 L -3.88889E-006 -0.69241 E">
                                      <p:cBhvr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69242 L 0.24409 -0.69242 E">
                                      <p:cBhvr>
                                        <p:cTn id="10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 rot="5400000">
            <a:off x="665280" y="1934280"/>
            <a:ext cx="827280" cy="647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 rot="17776800">
            <a:off x="70200" y="4112280"/>
            <a:ext cx="3168720" cy="792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556000" y="1268280"/>
            <a:ext cx="792000" cy="482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755640" y="1268280"/>
            <a:ext cx="1801800" cy="648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55640" y="2637000"/>
            <a:ext cx="1801800" cy="647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7667640" y="5157720"/>
            <a:ext cx="934920" cy="936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82979E-006 L -0.00782 -0.65564 E">
                                      <p:cBhvr>
                                        <p:cTn id="11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65564 L -0.24393 -0.65564 E">
                                      <p:cBhvr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393 -0.65564 L -0.24393 -0.43547 E">
                                      <p:cBhvr>
                                        <p:cTn id="12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393 -0.43547 L -0.00764 -0.43547 E">
                                      <p:cBhvr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3 -0.43547 L -0.24393 -0.00532 E">
                                      <p:cBhvr>
                                        <p:cTn id="13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 rot="19007400">
            <a:off x="6012000" y="2133720"/>
            <a:ext cx="2736720" cy="649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156360" y="1197000"/>
            <a:ext cx="2448000" cy="647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 rot="18653400">
            <a:off x="5821920" y="4199040"/>
            <a:ext cx="2808360" cy="797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156360" y="3141720"/>
            <a:ext cx="2376360" cy="647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900000" y="907920"/>
            <a:ext cx="935280" cy="72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70213E-006 L 0.25209 -1.70213E-006 E">
                                      <p:cBhvr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9.06568E-007 L 5.55556E-007 0.26226 E">
                                      <p:cBhvr>
                                        <p:cTn id="16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26226 L 0.2757 0.26226 E">
                                      <p:cBhvr>
                                        <p:cTn id="163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7 0.26226 L 0.00018 0.63992 E">
                                      <p:cBhvr>
                                        <p:cTn id="16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227640" y="692280"/>
            <a:ext cx="865440" cy="8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 rot="986400">
            <a:off x="971280" y="907560"/>
            <a:ext cx="718920" cy="388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20439000">
            <a:off x="2158560" y="685440"/>
            <a:ext cx="719280" cy="410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 rot="5400000">
            <a:off x="1547640" y="2997000"/>
            <a:ext cx="718920" cy="3456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50920" y="5084640"/>
            <a:ext cx="718920" cy="71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2843280" y="5084640"/>
            <a:ext cx="718920" cy="72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Рисунок6"/>
          <p:cNvPicPr/>
          <p:nvPr/>
        </p:nvPicPr>
        <p:blipFill>
          <a:blip r:embed="rId1"/>
          <a:stretch/>
        </p:blipFill>
        <p:spPr>
          <a:xfrm>
            <a:off x="7164360" y="404640"/>
            <a:ext cx="1189080" cy="1737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0.00555 L -0.23628 0.52451 E">
                                      <p:cBhvr>
                                        <p:cTn id="18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6087E-006 L 0.18108 0.52452 E">
                                      <p:cBhvr>
                                        <p:cTn id="19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65032 L -0.23628 0.52451 E">
                                      <p:cBhvr>
                                        <p:cTn id="19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52451 L 0.18125 0.51943 E">
                                      <p:cBhvr>
                                        <p:cTn id="20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08 0.52452 L 0.18108 0.65033 E">
                                      <p:cBhvr>
                                        <p:cTn id="20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68360" y="184464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908000" y="2924280"/>
            <a:ext cx="10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348000" y="170028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572000" y="2781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867280" y="1557360"/>
            <a:ext cx="10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7236000" y="2781360"/>
            <a:ext cx="122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ae7125b032b97b698f903407ce24b4c0"/>
          <p:cNvPicPr/>
          <p:nvPr/>
        </p:nvPicPr>
        <p:blipFill>
          <a:blip r:embed="rId1"/>
          <a:stretch/>
        </p:blipFill>
        <p:spPr>
          <a:xfrm>
            <a:off x="3492360" y="4221000"/>
            <a:ext cx="2303640" cy="172908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Arial"/>
              </a:rPr>
              <a:t>Получилось слов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200" spc="-1" strike="noStrike">
                <a:solidFill>
                  <a:srgbClr val="000099"/>
                </a:solidFill>
                <a:latin typeface="Arial"/>
              </a:rPr>
              <a:t>Взгл</a:t>
            </a:r>
            <a:r>
              <a:rPr b="1" lang="ru-RU" sz="17200" spc="-1" strike="noStrike">
                <a:solidFill>
                  <a:srgbClr val="cc3300"/>
                </a:solidFill>
                <a:latin typeface="Arial"/>
              </a:rPr>
              <a:t>я</a:t>
            </a:r>
            <a:r>
              <a:rPr b="1" lang="ru-RU" sz="17200" spc="-1" strike="noStrike">
                <a:solidFill>
                  <a:srgbClr val="000099"/>
                </a:solidFill>
                <a:latin typeface="Arial"/>
              </a:rPr>
              <a:t>д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Ученик за партой"/>
          <p:cNvPicPr/>
          <p:nvPr/>
        </p:nvPicPr>
        <p:blipFill>
          <a:blip r:embed="rId1"/>
          <a:stretch/>
        </p:blipFill>
        <p:spPr>
          <a:xfrm>
            <a:off x="2340000" y="4437000"/>
            <a:ext cx="1584360" cy="16574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20:04:49Z</dcterms:created>
  <dc:creator>Масько </dc:creator>
  <dc:description/>
  <dc:language>en-US</dc:language>
  <cp:lastModifiedBy>8</cp:lastModifiedBy>
  <dcterms:modified xsi:type="dcterms:W3CDTF">2015-10-08T14:16:09Z</dcterms:modified>
  <cp:revision>19</cp:revision>
  <dc:subject/>
  <dc:title>Нарисуй буквы,  отгадай слово</dc:title>
</cp:coreProperties>
</file>