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BA6-D495-466D-98E4-8AEBC09F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76F-18BC-4246-9ACB-25B6E74B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AC3-E8CE-490F-A091-0C7EE285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5E0-124C-4A7F-A542-3A8D9306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B3B-7BD8-4C23-A7C8-706BA537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B7F-98E7-4C52-8E1D-EA2CA1DB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BCD-CC09-4C14-9376-2AEA8605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EE6-B023-4D35-B3A1-9FBF32FF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AC1-01EB-4659-85B6-9E4DD2B1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1CD-E392-473A-A65F-B60F771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D88-BAE2-4040-8F22-BE19E47F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6BD-743C-4E29-95A3-141D46A5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14D-9111-49E5-B545-7CA8C9C0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8400" y="620640"/>
            <a:ext cx="81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Олимпийская идея в знаках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символах, наград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67280" y="3645000"/>
            <a:ext cx="2303280" cy="226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2717640" cy="407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32720" y="1557360"/>
            <a:ext cx="209520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19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55640" y="1584360"/>
            <a:ext cx="748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ремена меняются, и мы меняемся в месте с ними, как говорили древ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имляне…Каков же он, современный олимпийский символ? Да ведь его знает всякий: пять переплетённых колец. Иногда они даются в чёрно-беломварианте. Но чаще кольца цветные. Они олицетворяют их встречу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лимпийских играх. Символ-дело строгое. В хартии указанно, что три верхних кольца идут слева направо в таком порядке: синее, чёрное, красное, а внизу жёлт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зелёное. Олимпийский девиз:«СИТИУС,АЛЬТИУС,ФОРТИУС»(«БЫСТРЕ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ШЕ,СИЛЬНЕЕ»)Слова же эти, принадлежат Анри Дидону, директору одного из духовных колледжей. Они очень  понравились Кубертен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скромный священник, конечно, и помыслить не мог, что три удачно придуманных слова обессмертят его и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74560" y="260280"/>
            <a:ext cx="65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Олимпийская эм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3520" y="1100160"/>
            <a:ext cx="45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Очень чётко определенна в харт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00008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149868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851280" y="1916280"/>
            <a:ext cx="170172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979640" y="4292640"/>
            <a:ext cx="2073240" cy="230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084720" y="1773360"/>
            <a:ext cx="245448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4211640" y="458136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796000" y="4653000"/>
            <a:ext cx="3048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98520" y="189000"/>
            <a:ext cx="50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лимпийский фл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57920" y="907920"/>
            <a:ext cx="56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так же очень важен в Олимпийских иг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681440" cy="351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3265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22920" y="260280"/>
            <a:ext cx="52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Священный ог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125360"/>
            <a:ext cx="505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ь о том, чтобы зажигать олимпийский огонь у Кубертена ещё в 1912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думал он и весь торжественный, романтический ритуал зажигания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 факел направляют пучок солнечных лучей, собранных вогнутым зеркал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т факел задымился. Ещё секунда -и он вспыхивает ярким неугасимым огнё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жженый огонь день и ночь несут факелоносцы -в дождь, в снегопад, в шторм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тер;поэтому они должны быть очень мужественны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2519280" cy="3167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508720" y="4365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48360" y="260280"/>
            <a:ext cx="213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ля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25360"/>
            <a:ext cx="568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лимпийская клятвы -их две. Первая от имени участников. Вот как она звучит в наше д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От имени всех спортсменов я обещаю, что мы будем участвовать в этих Играх, уваж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облюдая правила, по которым они проводятся, в истинно спортивном духе, во сла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порта и во имя чести команд».Так же существует клятва спортивных арбитров. Текст клятвы та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От имени всех судей и официальных лиц я обещ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то мы будем выполнять наши обязанности во время этих Олимпийских игр со всей беспристрастност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важая и соблюдая правила, по которым они проводятся в подлинно спортивном дух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от в той клятве доходчивые, а главное- честные слов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976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96920" y="176040"/>
            <a:ext cx="29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Талисм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90792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Талисманом объявляли какого-нибудь хорошего зверя, как бы»хозяина» той страны, где проходила Олимпи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гда объявляли конкурс на создания талисмана Олимпийских игр в Москве, многие известные художники принимали в нём учас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Лучшим предложение был признан симпатичный медведь Миша, нарисованный московским художником Викторам Александровичем Чижик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иша-талисман пользовался в СССР, да и во всём мире, невероятным успехом. Это была настоящая победа российского худож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2433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5080" y="260280"/>
            <a:ext cx="26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агр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341360"/>
            <a:ext cx="453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б Олимпийских медалях, конечно, знает всякий. Их вручают в каждом номере программы –победителю и призёрам: золотую, серебряную и бронзов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03640" y="3789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867280" y="76500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867280" y="3716280"/>
            <a:ext cx="251316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3:35:50Z</dcterms:created>
  <dc:creator>таня</dc:creator>
  <dc:description/>
  <dc:language>en-US</dc:language>
  <cp:lastModifiedBy>таня</cp:lastModifiedBy>
  <dcterms:modified xsi:type="dcterms:W3CDTF">2012-02-18T10:27:50Z</dcterms:modified>
  <cp:revision>3</cp:revision>
  <dc:subject/>
  <dc:title>Слайд 1</dc:title>
</cp:coreProperties>
</file>