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A5B0-E37D-4C3B-8D38-23130E432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94E1-DBA6-46CB-92E6-263B6D5D1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AE1-778C-4A8B-B953-589E4C809D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812-02AC-430D-A8D7-8AE2F18A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B9A-0720-470C-8CF6-840B6B1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57A64-468B-40FC-8A08-DCF5B18E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EAD6-3C8D-4CF9-AE69-E3A9FF83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5735F-4107-4AC6-BFB4-5801AF68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AA16A-4672-40EE-9EB2-F129C45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E55F4-0A08-463D-8466-D43A73D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6F1A6-3193-4624-8A75-1024C42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2761F-8CA4-4BE8-8B9C-1A5FAB1F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09B87-9CE6-4F93-8C82-6ABB4637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7958-0B6B-497E-A28E-E06EF17F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0A5D9-31BD-44C4-ADD8-3D3FAFF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44B-BA80-40DD-A834-AE7BA7B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AC2DB-FC14-4F04-92BE-8188A92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AE468-2DC2-4278-B403-C66EE70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A7D01-3EA0-4DDA-9903-BA4F9761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55815-F286-4B1F-9FB3-C131884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73C03-CFBB-48EF-8BA4-26FECD06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B579-3F3A-4C7E-B75E-C082D1C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6C921-4577-47CF-BFF0-A83EB82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42423-5CB1-40DB-BD8E-17CF9C5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8CDE3-BB87-442B-9FE1-1E06C8F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51C9C-327A-4F69-8AAD-71EA1204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91C-45E2-4E6D-A61B-91DA3E34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E7F7B-05BF-40A9-99F7-B8675969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7887D-AD96-4A84-9EED-BCFCF72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D6287-3B18-470D-B284-BA6A00A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260DA-9854-41DF-9AB7-6D22AA00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4532-9063-48DC-A72F-1F0247A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3D83-0202-4E75-A345-515BBE1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0864-30B2-446D-8307-CDEDF02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DE2B9-EECD-4FA8-9771-401DF10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2176-1DB5-4F65-AC36-872B2EA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B34D1-1320-4FE7-B75F-1D86FB0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89B-C5B3-4833-8D8D-B186DBA0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057A2-D400-4777-A97C-47F9981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FD0A-4E51-4160-92E0-06280138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F64D-BE44-4534-82E3-1F76FD7F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9A4FC-DB66-48A8-8BA9-73FBA538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98623-6B4C-4B60-BBE7-CF46D4F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E9DC8-99ED-443E-A795-E1CF4276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B5435-7BC5-4DDB-9CE2-D5B253D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EF5B-31A6-4617-BECE-16DB9C9F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6CF23-8B6A-4AF7-92FA-D3B7593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2B083-92F3-40D6-AD50-7AEDCEB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6864-BFA0-4751-B321-F7AC95CE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850AB-85F8-42C1-8BAE-AFAE169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44621-66D2-403F-808E-AB998415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AE288-69A3-4516-84F3-5D30CDE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23E8C-7FFA-4437-A946-0764607A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03564-DDDB-4036-AD5F-DBDDBACC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91ADC-A578-4B70-9C20-A960FE33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2555D-20A7-4146-946D-B3603B2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F31BE-FBE0-4D4F-99D8-2EF3750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C7AD1-B28D-41B5-B779-3717715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F28BE-4129-4FE2-8A3F-60A005E5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B736-5E30-4C20-90B3-66AB007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BC34A-A792-478A-9D67-F7B384F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351D4-AB03-44D3-8183-C789A6F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B3CB0-A763-4454-B1A3-8FF5815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61F81-951F-406E-8FBE-BFB4CC9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3C0BB-86D4-4994-A067-2B9B656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C5662-4A0F-4FF6-AC64-461DE0AA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FDF9F-DF44-483A-A473-261F9DA1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E5089-5C24-4025-8654-28EC75B6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3CD46-7DCE-4FAF-BE33-79B4708F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FB8CE-8E5C-4D48-BF4C-C42AE5A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394-A3BD-4BEA-98FE-AD5385C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CB3EC-94A4-407F-808E-36896E6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C79F8-59E7-4A79-BB3D-E02DF996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DAEC5-1C24-4088-83F1-EE043A84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45247-C7D7-47EB-AE72-16949FF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B1D5F-DC57-4A06-B9A8-48E12E4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DF486-FACE-4A02-B183-A5894EB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4935A-C2ED-4C38-8EB2-361226A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78D0D-6CF9-400B-8172-30531DF1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25062-F2A7-4070-ACF8-92B5FE57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6D218-62DA-4472-A4B4-F0AA8CBB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EE4E-60E6-4E7F-8467-71FC18F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D141A-F489-489B-A711-C5BE1BE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9104F-0D2A-4F8F-9262-BFBC388A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141CC-DCA5-4CDD-81BF-CF345C1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351B9-9394-4365-A9D4-8CEFF74B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8D120-5B36-41BD-87C5-D462FDE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2B235-24C0-4192-BA61-AC39DE8D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19B66-5309-47D6-8CA0-1446C58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58583-35A6-4590-9974-F8FE61D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36686-FD7C-42A2-BDC8-654FD2CC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68CED-F80D-45D8-85BE-99FFD6A6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1F1-9C36-4F6F-BE3D-42CCEFA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95368-7FC2-4A75-9E1B-80E81175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32BF0-F8C1-493C-99DA-8755463B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DE96B-2DCB-4B95-8AE2-D79D6B1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B89DC-98B9-4CD4-B796-2FBA63C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CA14B-6E67-4CD8-AC45-F7255641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320E0-2197-497E-BB87-D82814A0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6BC42-AA00-4F4A-892D-F02B663F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79DE2-CB13-407C-BC76-9552C42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22022-0A99-4E7A-9C67-7C8E05A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E835E-B525-43E4-8993-246E710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F550-1975-490C-9BC0-5171F3B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222F9-0CDE-400B-95CF-92E051AE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5FCA5-2942-451B-883F-34B286D0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130F5-5282-428D-A6D0-A65D4F9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35727-18FB-4F9D-B557-D0BA31F6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70257-50C8-4FA9-A989-7488DA7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DBC06-7793-4A26-B742-82F9DF5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F4039-B599-4E7C-BDC3-277F476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A3F23-FE17-40D8-AE8E-7A6D2E3F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E6985-42D7-4449-9A68-949F45C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B4FAD-92CD-4EF3-A6AE-CF1D866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01F-4C90-4059-A39B-ADE5133B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0332-2A7F-46B6-BB1B-D7D0678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A0A01-AA25-4332-A4C1-08DAA57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6C4D8-63EB-46F6-B138-8C9BC16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988F4-8997-4832-A5D5-2729B55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B6614-6B40-461A-85B0-E4FD5716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158DC-9A9C-4D06-A06D-AF2B34E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72495-069E-430A-AC4E-1F7A1390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34980-B538-4195-82A0-F88713C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9020D-1C7B-4C8D-9161-385D084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46EAD-772C-4D96-B99A-8476D108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EA1AE-256C-42DF-95D1-25AE551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E562-3F9F-4984-8709-8D7BA5E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6FD32-F159-4098-AC86-5F7D601E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E6C38-27D2-4E79-BAB7-B632ECF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D40B6-C091-4A1C-BE04-72D34AA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BD415-ECF4-4294-A870-27D860A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43322-AB5B-4ABD-8A2B-04EB30C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BE3FA-64BB-454E-9D46-67A0AFC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59CF6-030C-41E6-B29F-BB95D642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F625A-FD92-42EA-8A66-D33543D9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12BE3-F9ED-4367-9294-96720A95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6B32D-95D7-4038-A857-9D705787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916-186A-4ACC-B5FA-BA7A2667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88688-774A-4D66-9F65-9AB37E3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5F87C-B012-4920-8661-E395C95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F2BE0-7293-47AF-96E6-553F2FC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308A5-203E-4BE6-9C0B-52CAA02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3CA66-7639-4C56-A402-EF93657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F1EB4-6E53-407C-B290-6198B06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7DABA-882C-40EF-9D59-167B0BE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6BBC9-FD3B-4C58-B888-2F4FA060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E12E4-38A1-4D31-8879-5DEF243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29BDF-FB9F-43F4-81C8-E438D2F0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D52-BCB3-43FB-BE2E-31BDB44E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54708-CE17-4B4F-BC48-FA6F2558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4C7E6-EFB4-4459-8C26-B9F3C76F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71CDF-2268-4988-8691-CC511B6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28C5F-0D91-4104-BF10-1678B409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69CE1-939B-4C4F-A453-08526A0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94EB4-8631-4141-8D06-A1EA4E0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0F9B4-B854-4E2B-B8ED-FE63D461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75892-94A4-446A-B657-F9E857A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73237-4B48-4D6D-9A19-00CC3ACD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E5139-24C9-4C6E-B370-65388786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6431-B945-460E-A9BE-3E8C99BC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DD1C9-C965-4684-BBBF-D23E9318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3705C-306B-4D05-B6A7-B9413531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7BC00-A1EC-46BA-9B16-6AB3F61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74601-E072-47C1-A017-8FC70DFB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355B3-6653-4D24-9DB3-2EE9662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D3C19-8F4E-4184-B3D4-EF7A4305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70A3E-B277-48A7-970E-C0EEC4D5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AE70F-86B7-40D7-B256-CB70035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A7E7C-621F-4BF4-A44D-AFB518A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0EBB5-DA2F-4EC5-93AD-EC11609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6DDE-396E-4954-A261-77AF99DF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44DBC-8C8E-483B-96BB-9F57E11C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E9173-5043-4C8C-9B7B-B39E43F7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096FB6-97F9-44BF-9032-A9606DEA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08D0D-9B17-4925-A6CC-5AD69B53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A1A3AF-6366-467C-9289-5F35B1A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F0508-D2BD-482F-8448-D1A10164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8E7E6-E98B-4D3F-820D-8A7A43A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0BD83-9A01-4D8B-8CA8-6ACD135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E2C46-B147-4D03-BB58-316027E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DBB9B-A841-485F-970A-15E103F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6DF0-2488-4FFF-AA6A-233E399E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9ED2E4-4EEC-427A-8DDF-66009C3D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0FEB80-980F-43E9-9A9D-5BCFD2F5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9B892F-60E1-4887-813F-FEEE647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58303-BE4C-4AEE-9584-089E7EC2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8DFDF-1264-4900-9E87-FF0FA4B1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0017B6-7948-4E00-9C9F-3CA6AF01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36C735-F92D-4B33-B1B5-6AC73DEA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930EDC-45CD-4D81-93D9-ABDA3791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A197B-0319-46DF-A0EC-2514510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BC0F73-71D0-456D-B133-4A5573A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2895-C9E7-46F8-9141-11744E5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38662-CDF9-4F6B-9232-0B1A8785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CAC77A-3551-40B6-9684-7E6C672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AEE9DA-1C04-442A-A980-F5F8225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2B101-47CF-4140-83B7-F6491D6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DB937-1E2F-4FD3-80E9-C2D2E0E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CBEF1-2910-49F2-8DD2-2EEE3A8C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10C5BB-9C33-43A8-9E2D-C148321C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F51ED-5FE5-436E-AD6E-ABA0D3C0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4BDEC4-C59F-420F-8EC0-75512E5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4F3BF-92CF-434E-880D-DBE28905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3586-5C93-4AB7-A693-48D4526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6209D-4A9D-4D52-8C19-22ED2E7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373BA-C7BC-408E-A3E5-D977FC91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76689-7C1A-4DD3-9092-251FA51C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64481-184C-4817-87DE-5C6F5FF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D4BFD-2937-4202-A487-77E5617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E96DE1-DF5B-4FA8-8A9D-C821589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B2D85-695B-4EB3-B695-883BEB4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17F06-5C93-4D45-BC06-2F6C36C4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25728-5046-4349-A356-C38F39A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1139-26E0-4674-9C2E-2B28E43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208-7F13-4595-86ED-2FAA9A0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935B-DB18-4FB6-A067-7E4FF5C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6CB2-1EF0-4DED-AD8A-453F4EE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0551-1D34-4D29-A768-D756DA3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C552-FE57-4154-8837-ED1C272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CD91-CE28-42ED-B903-40F5083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53BA-057D-4422-8583-EA597F0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81CD-E21E-497E-8675-61F8DD73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19A2-1B9A-4B27-8E60-BF283BBD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A117-00EE-47DC-B40C-F7B5A91B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CBC0-3D9E-49F9-91C3-9F4AC4B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64B-D9B8-40A7-9FEC-5AEC50E4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F4B8-C0CC-4621-B0C6-D5A010BF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B0FF-F95F-41BB-8868-71559B3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3198-7FED-4BC6-B86A-E168241D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EA03-5F97-47FD-9250-80C64DC9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4CA0-7607-4CBF-8E08-EC88A69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25AF-5DE0-4C63-A0D3-3308546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1CDD-885D-4E07-966D-6D5A089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8084-63FC-4AAB-94FB-D4116867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3587-C216-426D-9E5F-5275E5C0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4841-ABEB-4DF5-A4F4-42AAFB1C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B17-8C12-4BA6-9B26-BDD72C6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AB62-70CC-41CF-BBEA-83C03BB9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D585-ADEE-4B98-809C-1BD0522A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984B-E485-4C0F-A2FF-D6468C6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A276-58E6-46C8-B6A8-970A8F6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15356-C59D-4D38-A148-36B39174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25BCE-944B-4928-899C-5CBB477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6E37-55F2-4BF5-9B27-425082F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801F-4D0C-4CF6-A63A-A5A958C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50EC-CF30-4D91-A114-16F7337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7C86-D8CC-42B7-BFEE-C617FC6C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E74-7605-466D-B666-1E093807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120F-C30A-4B67-8F02-CB3D3151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9A7A-FD4F-4DBC-ADEB-0B1079F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9FB8-674A-4841-9106-7DBCCE7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A02E-E178-421E-9609-7544B7FA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6D03-02B3-435D-ABEF-04B74549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3B5A-A223-4487-9053-BC1054A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CA3BA-9A58-43B7-8B61-FF16162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66F2-FFA5-4C60-B6DB-3979606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211C-63D0-4953-BD30-9AA2601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57A4-88FF-4754-9D38-2EC5E77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049-5A50-4B24-A7D4-1B798BE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53FB-E885-47CA-A696-86918534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BB17-E6C6-4D77-8974-7B29F18A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17F1-B0B6-442A-B23A-6A059E7E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22EE-48FD-4FD3-938A-86E64FA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D8A0-3298-4F00-973E-B0E0AE74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7F5B0-B7DB-4322-B5C7-8BAFC24C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581E-4DEE-43EE-9A36-3D41955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DC96-921D-4E6E-868C-3622B210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E003-8E82-4EB2-AE00-E850BA9A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B7C1-6453-423E-9D37-657074B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701-5C4B-4758-B7F4-79ECE44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33D6-BA7E-4362-BE91-F71F712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5E80-73AD-4B30-920C-41FF48C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F6C6-2805-4C4C-BAD0-BECEDBE4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2303-E950-4E7D-AD34-C7451C9F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6A73-582F-4E4D-A51B-C87ADBFB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C30C-E220-4B6E-AB83-4D522B8A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CC9D1-FAC8-44DE-8B03-346A126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39B3-3482-48A0-811E-C8CBBB8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E8971-9557-4C38-A9D3-3EB9BD1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D1CD-7606-4F71-87F1-FE6D965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332-4FA6-49A6-AB73-9050CFB4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46710-F4E5-44E3-8AD3-EA8F06BE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4B85-A2CB-48D5-B291-24215CD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9C02-71A9-4C82-ABB8-1004A4B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48C0D-FC0A-4C82-BC2E-50B7D9A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558A-F1D3-4C9F-B7E6-03179A00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6E26-564E-4335-964D-4DDD27AA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E573E-2612-47AC-A1BE-34B849CA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0EC7-1993-4D47-8132-F09962E1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9949-4529-482D-8C65-ED7A2A5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2A67A-5987-4A00-8286-BBE2F11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8A3A-8B4F-4080-9E11-685C4581D8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616-565A-4B08-B580-80A93D9DB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37D-0C6D-4246-8B69-2FBE8AF5B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71D4-B20D-4C60-8198-73C7B648D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EE5C-C33C-4F5E-B562-DF255DBF1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595-88D0-45BE-BEE7-195CC85FA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774-3639-4BCF-867A-F3C9CA020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90A-E63E-47E8-98DC-4494C98035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EF1-F7A2-41BC-93B2-257E4FD9E9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207-CB99-4058-8266-913C7DF38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5271-4805-43D7-AE58-8ED36C6E40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C367-5E24-48A3-97C7-B06D62579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F85-1AE5-46D9-89CD-24DDB3E724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C044-855F-470A-86F1-CA9411EB4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AE0E-0C00-455B-8518-627BD228C7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C146-5360-46AE-9697-5E3D1E495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5873-0D8A-43B3-8336-0A6A4AB4D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0BA6-1D7E-4D9E-9B63-4AC762A40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D4E-6EB1-440B-87F8-EB21858A5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41D8-3917-4598-A83E-E98659E0F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9003-ABF3-498B-A61A-311762F79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B2A0-2AB7-4869-946E-6D37DFCE1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B30-E2B6-4160-80CD-4F00141AD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6D70-0505-4BD2-8E5B-F0F98D802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1"/>
          <p:cNvSpPr/>
          <p:nvPr/>
        </p:nvSpPr>
        <p:spPr>
          <a:xfrm>
            <a:off x="4067280" y="4724280"/>
            <a:ext cx="48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ева Ири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2"/>
          <p:cNvSpPr/>
          <p:nvPr/>
        </p:nvSpPr>
        <p:spPr>
          <a:xfrm>
            <a:off x="1071720" y="2000160"/>
            <a:ext cx="3357360" cy="3333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"/>
          <p:cNvSpPr/>
          <p:nvPr/>
        </p:nvSpPr>
        <p:spPr>
          <a:xfrm>
            <a:off x="14479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72f"/>
                </a:solidFill>
                <a:latin typeface="Arial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571680" y="785880"/>
            <a:ext cx="778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прямоугольный параллелепипед, у которого все ребр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Object 20"/>
              <p:cNvSpPr txBox="1"/>
              <p:nvPr/>
            </p:nvSpPr>
            <p:spPr>
              <a:xfrm>
                <a:off x="4000680" y="4714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21"/>
              <p:cNvSpPr txBox="1"/>
              <p:nvPr/>
            </p:nvSpPr>
            <p:spPr>
              <a:xfrm>
                <a:off x="3571920" y="3571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22"/>
              <p:cNvSpPr txBox="1"/>
              <p:nvPr/>
            </p:nvSpPr>
            <p:spPr>
              <a:xfrm>
                <a:off x="2214720" y="528624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Прямоугольник 9"/>
          <p:cNvSpPr/>
          <p:nvPr/>
        </p:nvSpPr>
        <p:spPr>
          <a:xfrm>
            <a:off x="5955840" y="17859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Franklin Gothic Book"/>
              </a:rPr>
              <a:t>Вершин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6000840" y="25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Ребер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5786280" y="32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ран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ая соединительная линия 13"/>
          <p:cNvSpPr/>
          <p:nvPr/>
        </p:nvSpPr>
        <p:spPr>
          <a:xfrm flipV="1">
            <a:off x="1071720" y="4500720"/>
            <a:ext cx="857160" cy="7855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ая соединительная линия 15"/>
          <p:cNvSpPr/>
          <p:nvPr/>
        </p:nvSpPr>
        <p:spPr>
          <a:xfrm>
            <a:off x="1928880" y="4500720"/>
            <a:ext cx="250020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ая соединительная линия 17"/>
          <p:cNvSpPr/>
          <p:nvPr/>
        </p:nvSpPr>
        <p:spPr>
          <a:xfrm flipH="1">
            <a:off x="1928880" y="2000160"/>
            <a:ext cx="1440" cy="25718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Прямоугольник 2" descr=""/>
          <p:cNvPicPr/>
          <p:nvPr/>
        </p:nvPicPr>
        <p:blipFill>
          <a:blip r:embed="rId1"/>
          <a:stretch/>
        </p:blipFill>
        <p:spPr>
          <a:xfrm>
            <a:off x="1212840" y="1212840"/>
            <a:ext cx="691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Вопросы на повтор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 - эт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a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жени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* (а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называется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, у которого длина и ширина равны, называется …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Прямоугольник 3"/>
          <p:cNvSpPr/>
          <p:nvPr/>
        </p:nvSpPr>
        <p:spPr>
          <a:xfrm>
            <a:off x="6143760" y="1785960"/>
            <a:ext cx="178596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AutoShape 10"/>
          <p:cNvSpPr/>
          <p:nvPr/>
        </p:nvSpPr>
        <p:spPr>
          <a:xfrm>
            <a:off x="714240" y="385776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5"/>
          <p:cNvSpPr/>
          <p:nvPr/>
        </p:nvSpPr>
        <p:spPr>
          <a:xfrm>
            <a:off x="4214880" y="421488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http://im0-tub-ru.yandex.net/i?id=3da82e625dbc9b2a63b3521c9dfa3027-125-144&amp;n=24"/>
          <p:cNvPicPr/>
          <p:nvPr/>
        </p:nvPicPr>
        <p:blipFill>
          <a:blip r:embed="rId3"/>
          <a:stretch/>
        </p:blipFill>
        <p:spPr>
          <a:xfrm>
            <a:off x="500040" y="1273320"/>
            <a:ext cx="2786040" cy="2322360"/>
          </a:xfrm>
          <a:prstGeom prst="rect">
            <a:avLst/>
          </a:prstGeom>
          <a:ln w="0">
            <a:noFill/>
          </a:ln>
        </p:spPr>
      </p:pic>
      <p:sp>
        <p:nvSpPr>
          <p:cNvPr id="998" name="TextBox 6"/>
          <p:cNvSpPr/>
          <p:nvPr/>
        </p:nvSpPr>
        <p:spPr>
          <a:xfrm>
            <a:off x="1928880" y="57168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ая фигура лишня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4" descr="&amp;Kcy;&amp;acy;&amp;kcy; &amp;scy;&amp;dcy;&amp;iecy;&amp;lcy;&amp;acy;&amp;tcy;&amp;softcy; &amp;ocy;&amp;bcy;&amp;hardcy;&amp;iecy;&amp;mcy;&amp;ncy;&amp;ycy;&amp;iecy; &amp;fcy;&amp;icy;&amp;gcy;&amp;ucy;&amp;rcy;&amp;ycy; &amp;vcy; &amp;fcy;&amp;ocy;&amp;tcy;&amp;ocy;&amp;shcy;&amp;ocy;&amp;pcy;&amp;iecy; - &amp;Vcy;&amp;scy;&amp;iocy; &amp;ocy; &amp;fcy;&amp;icy;&amp;gcy;&amp;ucy;&amp;rcy;&amp;iecy; &amp;zcy;&amp;dcy;&amp;iecy;&amp;scy;&amp;softcy;"/>
          <p:cNvPicPr/>
          <p:nvPr/>
        </p:nvPicPr>
        <p:blipFill>
          <a:blip r:embed="rId4"/>
          <a:srcRect l="0" t="0" r="0" b="14229"/>
          <a:stretch/>
        </p:blipFill>
        <p:spPr>
          <a:xfrm>
            <a:off x="6429240" y="1857240"/>
            <a:ext cx="1725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AutoShape 4"/>
          <p:cNvSpPr/>
          <p:nvPr/>
        </p:nvSpPr>
        <p:spPr>
          <a:xfrm>
            <a:off x="2843280" y="1268280"/>
            <a:ext cx="1332000" cy="33861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395280" y="2565360"/>
            <a:ext cx="2016000" cy="20890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539640" y="4869000"/>
            <a:ext cx="3024360" cy="172872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9"/>
          <p:cNvSpPr/>
          <p:nvPr/>
        </p:nvSpPr>
        <p:spPr>
          <a:xfrm>
            <a:off x="4699080" y="1628640"/>
            <a:ext cx="2232000" cy="115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10"/>
          <p:cNvSpPr/>
          <p:nvPr/>
        </p:nvSpPr>
        <p:spPr>
          <a:xfrm>
            <a:off x="6715080" y="2060640"/>
            <a:ext cx="1800360" cy="2232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1"/>
          <p:cNvSpPr/>
          <p:nvPr/>
        </p:nvSpPr>
        <p:spPr>
          <a:xfrm>
            <a:off x="4788000" y="3789360"/>
            <a:ext cx="1512720" cy="1512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6659640" y="4724280"/>
            <a:ext cx="1942920" cy="1943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WordArt 13"/>
          <p:cNvSpPr txBox="1"/>
          <p:nvPr/>
        </p:nvSpPr>
        <p:spPr>
          <a:xfrm>
            <a:off x="0" y="214200"/>
            <a:ext cx="40719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ъемные фигур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9" name="WordArt 14"/>
          <p:cNvSpPr txBox="1"/>
          <p:nvPr/>
        </p:nvSpPr>
        <p:spPr>
          <a:xfrm>
            <a:off x="4627440" y="260280"/>
            <a:ext cx="424656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ские фигуры</a:t>
            </a:r>
            <a:endParaRPr b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1"/>
          <p:cNvSpPr/>
          <p:nvPr/>
        </p:nvSpPr>
        <p:spPr>
          <a:xfrm>
            <a:off x="600120" y="357120"/>
            <a:ext cx="8543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Прямоуголь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параллелепипе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" descr="http://im0-tub-ru.yandex.net/i?id=717ab1ae258557920d75ad8f4234a2fe-13-144&amp;n=24"/>
          <p:cNvPicPr/>
          <p:nvPr/>
        </p:nvPicPr>
        <p:blipFill>
          <a:blip r:embed="rId1"/>
          <a:srcRect l="0" t="0" r="0" b="23052"/>
          <a:stretch/>
        </p:blipFill>
        <p:spPr>
          <a:xfrm>
            <a:off x="4357800" y="4214880"/>
            <a:ext cx="3643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Box 1"/>
          <p:cNvSpPr/>
          <p:nvPr/>
        </p:nvSpPr>
        <p:spPr>
          <a:xfrm>
            <a:off x="785880" y="1000080"/>
            <a:ext cx="7715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ук сидит в верхнем угла комнаты, двигаться он может только по углам. Ему нужно попасть в противоположный угол комнаты, коротким путем. Как э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619280" y="2114640"/>
          <a:ext cx="5904000" cy="3475080"/>
        </p:xfrm>
        <a:graphic>
          <a:graphicData uri="http://schemas.openxmlformats.org/drawingml/2006/table">
            <a:tbl>
              <a:tblPr/>
              <a:tblGrid>
                <a:gridCol w="763560"/>
                <a:gridCol w="1287360"/>
                <a:gridCol w="1443240"/>
                <a:gridCol w="1288800"/>
                <a:gridCol w="1121040"/>
              </a:tblGrid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Прямоугольник 3"/>
          <p:cNvSpPr/>
          <p:nvPr/>
        </p:nvSpPr>
        <p:spPr>
          <a:xfrm>
            <a:off x="36144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1619280" y="2114640"/>
          <a:ext cx="5904000" cy="3475080"/>
        </p:xfrm>
        <a:graphic>
          <a:graphicData uri="http://schemas.openxmlformats.org/drawingml/2006/table">
            <a:tbl>
              <a:tblPr/>
              <a:tblGrid>
                <a:gridCol w="763560"/>
                <a:gridCol w="1287360"/>
                <a:gridCol w="1443240"/>
                <a:gridCol w="1288800"/>
                <a:gridCol w="1121040"/>
              </a:tblGrid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8" name="Прямоугольник 3"/>
          <p:cNvSpPr/>
          <p:nvPr/>
        </p:nvSpPr>
        <p:spPr>
          <a:xfrm>
            <a:off x="36144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4"/>
          <p:cNvSpPr/>
          <p:nvPr/>
        </p:nvSpPr>
        <p:spPr>
          <a:xfrm>
            <a:off x="3059280" y="2133720"/>
            <a:ext cx="4105080" cy="4103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9:30:02Z</dcterms:created>
  <dc:creator>Игорь</dc:creator>
  <dc:description/>
  <dc:language>en-US</dc:language>
  <cp:lastModifiedBy>allusers</cp:lastModifiedBy>
  <dcterms:modified xsi:type="dcterms:W3CDTF">2015-04-16T14:59:50Z</dcterms:modified>
  <cp:revision>46</cp:revision>
  <dc:subject/>
  <dc:title>Презентация PowerPoint</dc:title>
</cp:coreProperties>
</file>