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8205-21A8-4DD7-BB39-2C29DA6427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FE5E-3AB2-4211-86DE-ECBFD2A2D0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1188-4275-47F4-A101-A684010773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166-2901-41C5-B337-4B179727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B7F-9BEC-4ABB-A070-EE4E5DC4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33DD4-AB35-43F5-8112-E8C0EC75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2B61D-B4E2-46BA-86C4-C69DB332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99E25-20A0-4C73-860A-D22BA95A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27A4E-7B41-4ED8-87B6-E4F4B1E6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6D0A4-E2B4-4204-A215-F8FB7047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56301-EAD2-40B2-85A0-C1CCBC34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88133-EBA6-482A-90B9-E59D7778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826E6-4301-49F0-B783-B4754BC0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D638E-9B04-4E78-B772-CE5B120C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AAFB5-D308-42FB-AE72-94BB65D5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714-C3CE-480B-854F-3C01AA12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DA99E-B497-440D-A4C5-8F37374A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ED498-1247-4EEA-9873-8B7B3530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734DC-2CD9-46CF-81FE-98FB32AE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A6066-1AFF-45C9-8BE8-28C32C8D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8DD17-CA64-4DC0-BBC4-A2C3E1F7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FC51D-2507-4B94-A45B-7B5412E4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69E4F-6060-42F2-9770-C118AE7D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68095-953F-4A67-AFC1-C250076E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03FF3-A957-4459-A8E8-EAEC656D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E255E-B1B5-4043-9A7F-F0A1B9B8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32C-D8ED-43CF-9BC7-BD9D168C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9A45D-7F4C-47C3-A7EF-71179AD7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94BFA-8E62-4C90-A944-F58148DF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AFAE0-E13D-499A-BC6D-0F80C1F2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7A368-005B-4468-AF36-305FA23E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FEE57-1A14-438A-806B-19BDBEB5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03834-6B51-42DD-A045-5F13BF71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C97CC-B2A5-438D-90C8-05A117AC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AB50C-EC71-45AC-9FF5-AC29FE46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DD257-E5A7-4D6D-8B0B-4362621A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EA027-3E10-4B1A-A72D-1A750BB2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FAF8-A56B-464D-88F2-F28BFA94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9DAC1-EE0D-40F6-8726-461584FF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E0F49-188D-46E2-86C5-2B36267A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5B95B-8046-46DF-AE4F-D1DCBD8E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381FD-EF35-4307-9652-D9D073C2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8970A-45FC-4387-BB24-F31F6C55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5319B-5047-4D1C-81B3-625B09CA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251FC-FE3B-4D59-8B71-25C41E19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53003-7B33-46D5-AB69-D188FE8B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F2446-BF78-4897-95E0-AC7EF630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C81D1-EF98-42E8-B03F-367E31BC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2862-04F0-47FA-B3FB-CB2F5D8D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623A1-F801-419B-9E7F-ABB114E4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D99F0-8456-4269-8A2B-E0679722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4292E-C4AA-4B55-ABFE-F82D8BD9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8457F-35AF-4C2B-B9A1-24D2AD46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9E8BB-0248-49F8-AF62-EB2B36F4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8829B-92A6-456C-A9B2-D613BC33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19C8A-FC61-4E57-8F1A-71EDD755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3B944-FABA-4172-9086-A474AB2D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7178D-5108-4EFB-A552-43682523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D3F27-BCCD-4053-BD6E-92A517BE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E6F3-F299-42B3-AE1D-CC427725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8A0F1-CC92-412B-A680-D54BA6A1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7924A-3D6E-40C5-AADE-91438684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4E5AC-3DBB-457A-AC4A-BA7777EC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CCA38-41D6-4674-BEEA-5F3EAD49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27D26-4189-4AE7-B70E-752B0CB6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46625-A317-455F-8A7B-08FB2557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567A8-CA73-4D66-9D56-A17EBE93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02EB9-3E11-4216-BEE5-5C96D8DE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03DEC-389E-4688-8978-ADE1E850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BE88E-4A5B-49C6-9DE0-18627F4E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E268-A7EC-42FF-8E82-33307A92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701D7-BE09-4D2C-AB74-C7CC9A1A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5607A-29BB-4206-82E3-83AE1DBB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579BEE-0971-4087-8FC4-E2FD22E4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F03B0-849C-4EDB-9DF1-F388FC8B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DB3AEA-83F2-4BA7-B9F9-8E889CDB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72021-3143-4695-BB95-1A323DE9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D3C18-A9ED-40C8-A0D9-050FDC5B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31CEA1-F6B6-428B-AB81-B3A8C778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4EDD67-06DC-4FDC-BB91-74F5092D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7D753B-34EB-4433-98DE-1212292D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0498-B52D-4ECC-BDB2-5971539E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A05550-9B85-4F38-BB4D-C12486CE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A70E6A-ACBF-4446-BA82-AEE71AE2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3E439-89DE-4AB3-BEC9-001D6F1B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8C9733-3A74-4956-895C-235ED555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754A8-1802-4CC6-84FC-99A3D6E3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3752A-5414-4A66-9FCA-EC5008AC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4EF2A1-33F4-4AA1-A682-B217914B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03111-69B6-433C-AD1B-B7F19AE8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4CC26-FA9A-404D-8DFB-CE973CB8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2D3795-AFF7-4603-9660-2AB1EBCA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7EE5-5F0D-48BF-A020-103097E2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FC150-021D-4FAE-BFEB-0BBBE195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DC2C27-57F2-4C91-B0E8-8C09AB4A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AC7603-C609-4404-B7E4-AA08B0A4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464EAB-DE38-4BA5-89C2-9E344DC8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6F49D-1EF5-471D-BD29-EF6E241A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64F7B5-3434-4D00-9DD6-24616E0D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7BA15-9DBE-4F32-8316-90D1D8C4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0981A5-A5B3-45CF-92CC-9095EA88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2B0B8-6C3E-4546-A541-02117EFB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68540D-33F5-4A9B-8DDF-CA799656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E714-15F0-4356-B3BB-C400A01E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C055C-721F-401D-B5C8-7561F359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167163-4AF6-4AF6-9A9A-C3A2B728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3B16EA-BB91-4BFA-8D13-AA89DE6E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DA48A-E0F5-4E8B-9A35-FAD2EFA8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3F1A8A-73D0-4198-9D95-94D8E155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E468C6-DEF9-4A22-82DF-140D3348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AB1BA1-9EF3-4F53-B60E-A0D362B2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63649-FEF8-4402-BE1B-C5C6E52E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AA62A8-37E5-4398-9D54-BC5D2900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66BA1-3533-4AA8-9922-3EE022E0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A93-8785-4A0A-B879-833AD22F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5B57-D3A7-4953-B18D-41DB672E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AE224A-A293-4BE1-BB21-EEE5ED14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73760E-E8EC-4683-A2ED-3CE552E0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F812DB-4843-4F8B-9394-7A141C66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ED432A-740A-4656-9F35-F4F429C9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5136C-848C-4EE2-AEA4-B5BE7C5F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7BA65-F178-491E-94FC-6EB29EA5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7B6852-1D98-48D8-9D2C-A2F83A9A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C0A40-6481-4A99-A877-3DD197E3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47D4F7-B839-4464-92F5-E36E7F00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C64D22-F9CE-44C9-AD9D-86E470A0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4A0A-4626-447D-9672-64FA1598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28EEF7-56DC-4DEE-9178-63A8FE39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A6A226-C509-4178-969A-206058A1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21D2CE-0473-4D2A-8F8E-C8F9CBD8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173AA8-C405-4C97-978A-6F9E8BAE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BB0E57-8B37-4425-86E4-20CCD13F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8871EE-4496-4EFB-8811-D408B605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1573AC-121E-465F-AB0B-0A9A83C2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3DDD3B-B516-478D-A7C5-22DF8C09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6EE16E-C1A2-4DD0-9A94-8E36D576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C461C5-9F83-492D-A992-D9C70F05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C95E-E772-45AC-BC5C-C7D58FD9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557855-7B03-4337-9D1B-47F78504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712EE5-28C7-438E-803B-1E5AEFF4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5CFB79-65B3-45E7-B839-05A65608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C33583-47B9-4032-B484-80028659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21A9EE-8385-4A3A-8861-7E656BD6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CF6E3-E4CC-494E-8EDE-9319EC5F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E5C544-E1D9-4D50-B059-B1539519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6E8C59-FB8F-4014-8278-5CABC52E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12994C-DA21-49F0-9E9A-233F22C6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F452AF-E832-401C-9DE9-1A2D6CCC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0AA9-2D01-4387-9B71-EF0B05BE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3C2E9-8CC5-47C3-92F6-B87292A4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D4E442-EA83-4303-9F39-5835F056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2A829C-B90F-40BF-8303-C70E8E0C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488EF4-E8BD-43D4-A561-73E72B24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4B5766-3590-42E3-8909-3637A296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145FE9-A82A-4CC7-BECB-B67B8C04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819EFE-7C9B-4D3B-B230-8A2B2E4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A344CE-200D-41A0-B42E-C856BC07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DD0920-0F28-4B42-8979-F08B7FBD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040CD3-4E9E-4804-BBAB-6A5852D8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D58E-8476-4CBC-89C6-2F4ACDC9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100A17-A320-47C9-8A6A-40FCD046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0738D6-7F01-4982-ABF3-018E67BE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88AEE0-13F6-4FA5-9253-9BA5BE40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98E97A-A8FC-4B94-8934-254BF366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E16440-0309-4033-992C-6C13DDF2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2008C1-D61E-42A1-A5F3-80E53D9B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7A6240-9584-4D98-BA4D-3CA70C87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1A4F3D-7320-455A-9943-10132A9D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ED23A-84B3-49BC-B456-0F8AF4F4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80B702-F573-4EF6-8E1A-84754914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3E3F-EF01-4A63-8D66-D809E530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999B33-75C3-4C56-AE1F-F6D7AEE6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34C477-B15C-4691-8AC8-D660392D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5BCFAE-E26C-4399-9427-7670BAAB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8CB42E-CDE6-4DB4-9C1E-EFABD63E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FCFA89-1CCA-449E-93F2-5B70B680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4DF4D6-B0FA-496D-85BA-E7A12FAD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135762-0750-4CE7-9D05-525330BA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1CCD2D-77AC-4717-8412-29C8D36E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A9955C-6B64-4FDB-BB1C-2DB89393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29923C-0B24-49E6-860A-7903EA09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4EFB9-F2B1-49FB-9613-85FC3D66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03DC9C-4F27-443A-B40F-25FFFFCA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721371-328B-4C9E-BEF8-0EA8F7BA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8B8738-BD29-4A7E-B743-9ABC834E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A0BE49-F481-4B2B-8F1B-D0B68465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E04813-F2B8-4F78-9183-DA4EECD1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CBE861-67B5-4260-937F-325CC940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03D400-7427-4A25-B8E7-927729F1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C7F182-06D4-4EDA-8487-6CDDF818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0181BC-5BD2-417F-B3A9-9E1E577D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529D22-FDFE-467F-9632-59A9BD75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51F0F-14B6-4876-9CF0-317FAEAD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E56E28-522C-4510-85C8-B058A53E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228684-B460-4F22-A290-87D34D87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656211-CC62-4EFD-AE23-8E643C57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6DA5E2-0A9D-48C4-977F-EE364920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4FDEC0-535D-4923-8234-4C98C818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07C48D-F68D-4B44-AFA5-75EDE805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56AE2D-9C22-4966-AE24-0CF49242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1EA726-EBAB-4085-B7D5-A6500B38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927078-E6AF-412E-93E4-7F15F7F6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EFCA2F-C836-499E-80CB-5DCEDC2B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37C3-6923-4A74-AD6F-350553B7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AB72FC-4C9D-4928-9B10-D489CAE3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D096D9-7718-4B13-92FE-46224580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E8C37B-936F-4AC8-8656-B501F04B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DFAF6F-67E4-4633-94AA-06CED817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0EB1A4-DABE-4ACE-BD06-35456F63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32C184-B46E-476D-B377-167F9720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491116-2F5A-4DD9-8A8C-DABFD529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178159-4A9C-4816-98A3-0F936FCD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0BA22C-402E-4A66-8062-1B4AE8EE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42F59-D511-46BF-ACB5-74C89F66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3CF-1167-4CCC-82BA-A6E8126F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1F339-A0D4-4AC7-9348-FFED27B4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0644D-7562-4F35-B496-5A000624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AADC7-49AF-4C13-898E-3DF8AFFA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90A4C-4DE7-4AA8-B912-480B12A4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1D12-6F1C-4A15-82FC-55BAB4AE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36B85-FB71-41B2-8FC7-816FE1B5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22BA-A646-49AA-8A13-AFF1B4F6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14D19-5E08-40F4-B7BE-70343BDB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8A3DE-1747-4C75-999C-B914FB4A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E7767-2D89-47D1-A38B-C996426E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130-62BF-4267-B22F-51D9D307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7828B-C99C-455D-A4A3-A2D68BC6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F2954-DA29-4560-800A-5E41D38D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48ABF-BFDB-408A-A63D-D158BF2D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58B00-9546-40F5-9DA2-C0729ABF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B5CA8-2F14-4945-A06B-886738B4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2E024-1528-4670-B8C3-438EE351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9C5FB-7CF4-4446-9B82-4D679884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44904-8116-47C2-A959-96B40089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FD2E5-A817-40F2-9A51-F69CCAD4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735CA-5A1E-416C-9B11-B60988C6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C93-92E0-4D63-81A9-37DE3D63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BEAF9-87D2-4C77-AB36-0DA8E4B9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EE866-EFF9-45A5-A3E8-2B0C173C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35B1B-92E7-43DE-AE59-1E135F90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8EFC0-F708-4F1F-954C-A33DD650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B2C45-9794-461F-811F-48513E77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76E15-66CF-40E4-A568-96BAF042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275E8-7BF6-406D-8D9B-A4F89BBD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A4418-785F-493A-AC6F-8233BEB2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7C5C6-2322-4F64-ADB7-7FDD8889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59DF9-A842-4876-9569-860104D4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E871-B8BF-40D4-BE32-8D2144F8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B6C5F-7925-4CE4-8426-25A42FC8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CF24B-511B-4F4A-B68C-45A8C0D4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6C613-4721-475F-8900-B16C9A9F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DDEA8-6C96-41ED-8D33-940EC067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7A1E7-E2AA-4DC0-928C-7626EC1C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7F9DD-7DD2-4AA0-8ACA-FD4F8181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1BB42-5404-4DAE-AC8A-D9EC19B5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86012-39EC-4817-A86A-B4F985C4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30F13-33A3-4B99-ACBD-E1EC9AD7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2FD28-76DF-46FE-B908-232FE8B9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AB4-2EE2-430E-BEA5-B7E0258C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DB30C-190A-4F07-AD28-33306F9F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9BFEA-581E-4862-895D-7AF21C26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53898-45EB-41DF-B345-EBFE29F2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E11D5-832B-4B22-96E0-62642048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979FB-39F1-49B6-9495-0ED0D19A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BE679-5C49-4958-B31F-BE8615C6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24C6C-EEE1-43F7-A5F0-1209F3DD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5CC3D-9825-4FEF-A38F-646CE65C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7B4F0-8CA3-4402-8BD3-EACF43C6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23865-7C4F-4EAC-B6DD-5BA65678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6A0-0B69-475F-965B-C484BCE2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8F515-77B4-48AD-B1BE-BF9EC039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7A011-5F7D-4EEC-ABB9-A535BB69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5F85E-F9AD-4962-9F0E-ED5F40B4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30D57-3ADA-4E17-853F-4BC00F42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6A184-C0C8-4DC5-A46A-F96D3910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1A775-1802-4F99-911C-C4B16703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2C8BD-B20D-43D9-9A9C-754CC783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93B99-B345-4021-921B-5298D98B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79348-3189-4E35-985C-835BE087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85E2E-5493-4959-9D22-9A8B9AA9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A28-6A33-4FFE-9576-26B9F0E4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8E8C5-B9A0-416D-A29F-A2799D93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B5770-6625-4B1E-9549-ACD9846F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C9B41-513A-49BB-9711-C73CA710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E3C86-DD11-41FE-A5C8-4D210A27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63673-CDB1-4EA8-96D0-0FCCA8FF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C9513-39D5-4F2E-9E02-B93F4CB2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48F8E-BBA8-4F65-B3AB-8A5183A1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B5B40-B11D-4BE3-969B-49768C12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B24D0-B24B-4E6F-AF9E-644C7FB4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DE7D7-F948-4BB5-9A5E-2E98D597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F31F-28A4-4F37-9204-D714DEA10F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AA90-D3D7-4C54-BDC5-80B5B9F5AE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1F63-3DFE-49DB-BD61-D059113181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4D5E-8CF3-4B45-A867-C00022F449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4B33-A724-46BE-AFAD-15077220DA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558E-54F5-454F-94DC-39592AAFCB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9577-BB1A-48DC-8E65-442C18560A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A2A6-1831-4F3E-8FA3-60D8E37F9C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52CC-5ABF-45CF-A24E-35B6AA9D19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C95C-E603-4136-8435-9888865DB9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F8E0-8EE1-40A8-BEB4-04E7D6C8C7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80AC-45BC-43A2-A86E-A33027CCE6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2593-4343-4DA3-A001-32554E749D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52D9-44A1-43EB-972F-63D3E18FEA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CF0C-3A22-4FAF-8E1F-44F34CB90B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2BD9-6BFC-4E8A-A637-CC6CD13CAD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1F34-D0BD-456F-86CC-8FCFFBE35B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E926-14E7-4E35-8EE7-44F18093C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B822-3C5A-4B19-BDCA-55D9CFF946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A8F8-3FA1-4E16-91BC-31D687C824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2FD5-1D9B-4D42-92AB-9DA0B569BF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6DA7-17CB-4D22-A8C3-1A56C5200B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FE43-1C3A-45E6-93F2-846B40C234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99EA-B357-441E-A95C-D21C0A5895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Box 1"/>
          <p:cNvSpPr/>
          <p:nvPr/>
        </p:nvSpPr>
        <p:spPr>
          <a:xfrm>
            <a:off x="4067280" y="4724280"/>
            <a:ext cx="48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сева Ирин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СОШ №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2"/>
          <p:cNvSpPr/>
          <p:nvPr/>
        </p:nvSpPr>
        <p:spPr>
          <a:xfrm>
            <a:off x="1071720" y="2000160"/>
            <a:ext cx="3357360" cy="333396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844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3"/>
          <p:cNvSpPr/>
          <p:nvPr/>
        </p:nvSpPr>
        <p:spPr>
          <a:xfrm>
            <a:off x="1447920" y="228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72f"/>
                </a:solidFill>
                <a:latin typeface="Arial"/>
              </a:rPr>
              <a:t>К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3"/>
          <p:cNvSpPr/>
          <p:nvPr/>
        </p:nvSpPr>
        <p:spPr>
          <a:xfrm>
            <a:off x="571680" y="785880"/>
            <a:ext cx="7786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б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прямоугольный параллелепипед, у которого все ребра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Object 20"/>
              <p:cNvSpPr txBox="1"/>
              <p:nvPr/>
            </p:nvSpPr>
            <p:spPr>
              <a:xfrm>
                <a:off x="4000680" y="4714920"/>
                <a:ext cx="50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Object 21"/>
              <p:cNvSpPr txBox="1"/>
              <p:nvPr/>
            </p:nvSpPr>
            <p:spPr>
              <a:xfrm>
                <a:off x="3571920" y="3571920"/>
                <a:ext cx="50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Object 22"/>
              <p:cNvSpPr txBox="1"/>
              <p:nvPr/>
            </p:nvSpPr>
            <p:spPr>
              <a:xfrm>
                <a:off x="2214720" y="5286240"/>
                <a:ext cx="50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Прямоугольник 9"/>
          <p:cNvSpPr/>
          <p:nvPr/>
        </p:nvSpPr>
        <p:spPr>
          <a:xfrm>
            <a:off x="5955840" y="178596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Franklin Gothic Book"/>
              </a:rPr>
              <a:t>Вершин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ru-RU" sz="2400" spc="-1" strike="noStrike">
                <a:solidFill>
                  <a:srgbClr val="ff572f"/>
                </a:solidFill>
                <a:latin typeface="Franklin Gothic Boo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23"/>
          <p:cNvSpPr/>
          <p:nvPr/>
        </p:nvSpPr>
        <p:spPr>
          <a:xfrm>
            <a:off x="6000840" y="25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Ребер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ru-RU" sz="2400" spc="-1" strike="noStrike">
                <a:solidFill>
                  <a:srgbClr val="ff572f"/>
                </a:solidFill>
                <a:latin typeface="Franklin Gothic Book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24"/>
          <p:cNvSpPr/>
          <p:nvPr/>
        </p:nvSpPr>
        <p:spPr>
          <a:xfrm>
            <a:off x="5786280" y="3214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Гран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- </a:t>
            </a:r>
            <a:r>
              <a:rPr b="1" lang="ru-RU" sz="2400" spc="-1" strike="noStrike">
                <a:solidFill>
                  <a:srgbClr val="ff572f"/>
                </a:solidFill>
                <a:latin typeface="Franklin Gothic 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Прямая соединительная линия 13"/>
          <p:cNvSpPr/>
          <p:nvPr/>
        </p:nvSpPr>
        <p:spPr>
          <a:xfrm flipV="1">
            <a:off x="1071720" y="4500720"/>
            <a:ext cx="857160" cy="7855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Прямая соединительная линия 15"/>
          <p:cNvSpPr/>
          <p:nvPr/>
        </p:nvSpPr>
        <p:spPr>
          <a:xfrm>
            <a:off x="1928880" y="4500720"/>
            <a:ext cx="2500200" cy="144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Прямая соединительная линия 17"/>
          <p:cNvSpPr/>
          <p:nvPr/>
        </p:nvSpPr>
        <p:spPr>
          <a:xfrm flipH="1">
            <a:off x="1928880" y="2000160"/>
            <a:ext cx="1440" cy="257184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Прямоугольник 2" descr=""/>
          <p:cNvPicPr/>
          <p:nvPr/>
        </p:nvPicPr>
        <p:blipFill>
          <a:blip r:embed="rId1"/>
          <a:stretch/>
        </p:blipFill>
        <p:spPr>
          <a:xfrm>
            <a:off x="1212840" y="1212840"/>
            <a:ext cx="69134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Вопросы на повтор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ямоугольник - эт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это …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a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ражени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2* (а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называется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ямоугольник, у которого длина и ширина равны, называется …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Прямоугольник 3"/>
          <p:cNvSpPr/>
          <p:nvPr/>
        </p:nvSpPr>
        <p:spPr>
          <a:xfrm>
            <a:off x="6143760" y="1785960"/>
            <a:ext cx="178596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AutoShape 10"/>
          <p:cNvSpPr/>
          <p:nvPr/>
        </p:nvSpPr>
        <p:spPr>
          <a:xfrm>
            <a:off x="714240" y="3857760"/>
            <a:ext cx="1800360" cy="223200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AutoShape 5"/>
          <p:cNvSpPr/>
          <p:nvPr/>
        </p:nvSpPr>
        <p:spPr>
          <a:xfrm>
            <a:off x="4214880" y="4214880"/>
            <a:ext cx="2016000" cy="208908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2" descr="http://im0-tub-ru.yandex.net/i?id=3da82e625dbc9b2a63b3521c9dfa3027-125-144&amp;n=24"/>
          <p:cNvPicPr/>
          <p:nvPr/>
        </p:nvPicPr>
        <p:blipFill>
          <a:blip r:embed="rId3"/>
          <a:stretch/>
        </p:blipFill>
        <p:spPr>
          <a:xfrm>
            <a:off x="500040" y="1273320"/>
            <a:ext cx="2786040" cy="2322360"/>
          </a:xfrm>
          <a:prstGeom prst="rect">
            <a:avLst/>
          </a:prstGeom>
          <a:ln w="0">
            <a:noFill/>
          </a:ln>
        </p:spPr>
      </p:pic>
      <p:sp>
        <p:nvSpPr>
          <p:cNvPr id="998" name="TextBox 6"/>
          <p:cNvSpPr/>
          <p:nvPr/>
        </p:nvSpPr>
        <p:spPr>
          <a:xfrm>
            <a:off x="1928880" y="57168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ая фигура лишня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4" descr="&amp;Kcy;&amp;acy;&amp;kcy; &amp;scy;&amp;dcy;&amp;iecy;&amp;lcy;&amp;acy;&amp;tcy;&amp;softcy; &amp;ocy;&amp;bcy;&amp;hardcy;&amp;iecy;&amp;mcy;&amp;ncy;&amp;ycy;&amp;iecy; &amp;fcy;&amp;icy;&amp;gcy;&amp;ucy;&amp;rcy;&amp;ycy; &amp;vcy; &amp;fcy;&amp;ocy;&amp;tcy;&amp;ocy;&amp;shcy;&amp;ocy;&amp;pcy;&amp;iecy; - &amp;Vcy;&amp;scy;&amp;iocy; &amp;ocy; &amp;fcy;&amp;icy;&amp;gcy;&amp;ucy;&amp;rcy;&amp;iecy; &amp;zcy;&amp;dcy;&amp;iecy;&amp;scy;&amp;softcy;"/>
          <p:cNvPicPr/>
          <p:nvPr/>
        </p:nvPicPr>
        <p:blipFill>
          <a:blip r:embed="rId4"/>
          <a:srcRect l="0" t="0" r="0" b="14229"/>
          <a:stretch/>
        </p:blipFill>
        <p:spPr>
          <a:xfrm>
            <a:off x="6429240" y="1857240"/>
            <a:ext cx="1725840" cy="2357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AutoShape 4"/>
          <p:cNvSpPr/>
          <p:nvPr/>
        </p:nvSpPr>
        <p:spPr>
          <a:xfrm>
            <a:off x="2843280" y="1268280"/>
            <a:ext cx="1332000" cy="338616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5"/>
          <p:cNvSpPr/>
          <p:nvPr/>
        </p:nvSpPr>
        <p:spPr>
          <a:xfrm>
            <a:off x="395280" y="2565360"/>
            <a:ext cx="2016000" cy="208908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6"/>
          <p:cNvSpPr/>
          <p:nvPr/>
        </p:nvSpPr>
        <p:spPr>
          <a:xfrm>
            <a:off x="539640" y="4869000"/>
            <a:ext cx="3024360" cy="172872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8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9"/>
          <p:cNvSpPr/>
          <p:nvPr/>
        </p:nvSpPr>
        <p:spPr>
          <a:xfrm>
            <a:off x="4699080" y="1628640"/>
            <a:ext cx="2232000" cy="1152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10"/>
          <p:cNvSpPr/>
          <p:nvPr/>
        </p:nvSpPr>
        <p:spPr>
          <a:xfrm>
            <a:off x="6715080" y="2060640"/>
            <a:ext cx="1800360" cy="223200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1"/>
          <p:cNvSpPr/>
          <p:nvPr/>
        </p:nvSpPr>
        <p:spPr>
          <a:xfrm>
            <a:off x="4788000" y="3789360"/>
            <a:ext cx="1512720" cy="1512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12"/>
          <p:cNvSpPr/>
          <p:nvPr/>
        </p:nvSpPr>
        <p:spPr>
          <a:xfrm>
            <a:off x="6659640" y="4724280"/>
            <a:ext cx="1942920" cy="19432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WordArt 13"/>
          <p:cNvSpPr txBox="1"/>
          <p:nvPr/>
        </p:nvSpPr>
        <p:spPr>
          <a:xfrm>
            <a:off x="0" y="214200"/>
            <a:ext cx="40719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бъемные фигуры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9" name="WordArt 14"/>
          <p:cNvSpPr txBox="1"/>
          <p:nvPr/>
        </p:nvSpPr>
        <p:spPr>
          <a:xfrm>
            <a:off x="4627440" y="260280"/>
            <a:ext cx="424656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70c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оские фигуры</a:t>
            </a:r>
            <a:endParaRPr b="1" lang="en-US" sz="1800" spc="1" strike="noStrike">
              <a:ln w="0">
                <a:noFill/>
              </a:ln>
              <a:solidFill>
                <a:srgbClr val="0070c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Box 1"/>
          <p:cNvSpPr/>
          <p:nvPr/>
        </p:nvSpPr>
        <p:spPr>
          <a:xfrm>
            <a:off x="600120" y="357120"/>
            <a:ext cx="85438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Arial"/>
              </a:rPr>
              <a:t>Прямоугольны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8000" spc="-1" strike="noStrike">
                <a:solidFill>
                  <a:srgbClr val="7030a0"/>
                </a:solidFill>
                <a:latin typeface="Arial"/>
              </a:rPr>
              <a:t>параллелепипе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4" descr="http://im0-tub-ru.yandex.net/i?id=717ab1ae258557920d75ad8f4234a2fe-13-144&amp;n=24"/>
          <p:cNvPicPr/>
          <p:nvPr/>
        </p:nvPicPr>
        <p:blipFill>
          <a:blip r:embed="rId1"/>
          <a:srcRect l="0" t="0" r="0" b="23052"/>
          <a:stretch/>
        </p:blipFill>
        <p:spPr>
          <a:xfrm>
            <a:off x="4357800" y="4214880"/>
            <a:ext cx="3643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Box 1"/>
          <p:cNvSpPr/>
          <p:nvPr/>
        </p:nvSpPr>
        <p:spPr>
          <a:xfrm>
            <a:off x="785880" y="1000080"/>
            <a:ext cx="7715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ук сидит в верхнем угла комнаты, двигаться он может только по углам. Ему нужно попасть в противоположный угол комнаты, коротким путем. Как это с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1619280" y="2114640"/>
          <a:ext cx="5904000" cy="3475080"/>
        </p:xfrm>
        <a:graphic>
          <a:graphicData uri="http://schemas.openxmlformats.org/drawingml/2006/table">
            <a:tbl>
              <a:tblPr/>
              <a:tblGrid>
                <a:gridCol w="763560"/>
                <a:gridCol w="1287360"/>
                <a:gridCol w="1443240"/>
                <a:gridCol w="1288800"/>
                <a:gridCol w="1121040"/>
              </a:tblGrid>
              <a:tr h="868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5" name="Прямоугольник 3"/>
          <p:cNvSpPr/>
          <p:nvPr/>
        </p:nvSpPr>
        <p:spPr>
          <a:xfrm>
            <a:off x="36144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7" name=""/>
          <p:cNvGraphicFramePr/>
          <p:nvPr/>
        </p:nvGraphicFramePr>
        <p:xfrm>
          <a:off x="1619280" y="2114640"/>
          <a:ext cx="5904000" cy="3475080"/>
        </p:xfrm>
        <a:graphic>
          <a:graphicData uri="http://schemas.openxmlformats.org/drawingml/2006/table">
            <a:tbl>
              <a:tblPr/>
              <a:tblGrid>
                <a:gridCol w="763560"/>
                <a:gridCol w="1287360"/>
                <a:gridCol w="1443240"/>
                <a:gridCol w="1288800"/>
                <a:gridCol w="1121040"/>
              </a:tblGrid>
              <a:tr h="868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8" name="Прямоугольник 3"/>
          <p:cNvSpPr/>
          <p:nvPr/>
        </p:nvSpPr>
        <p:spPr>
          <a:xfrm>
            <a:off x="36144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AutoShape 4"/>
          <p:cNvSpPr/>
          <p:nvPr/>
        </p:nvSpPr>
        <p:spPr>
          <a:xfrm>
            <a:off x="3059280" y="2133720"/>
            <a:ext cx="4105080" cy="41036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9:30:02Z</dcterms:created>
  <dc:creator>Игорь</dc:creator>
  <dc:description/>
  <dc:language>en-US</dc:language>
  <cp:lastModifiedBy>allusers</cp:lastModifiedBy>
  <dcterms:modified xsi:type="dcterms:W3CDTF">2015-04-16T14:59:50Z</dcterms:modified>
  <cp:revision>46</cp:revision>
  <dc:subject/>
  <dc:title>Презентация PowerPoint</dc:title>
</cp:coreProperties>
</file>