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E0E-1AC7-47AC-96A5-DB0CD04A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8B5-F85F-4C9C-9756-0DA80AE7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4F16-27AF-4D9D-B04E-A13825AF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A1F-5DC2-4449-AD20-F7B3625D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42F7-BEE6-4C81-B0C1-772C3C62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CB9-C45B-4225-A023-C05D6258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B13F-D532-4AEB-9B59-42D4E846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6D5-2904-4ADB-8108-9A49C3DB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718-33CF-46CF-B56A-8B8015FB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E7B-9E63-4EAE-9F98-9873EBBF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20F-44CC-47A8-9DC6-D67ECE3A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C8C-7B74-4F82-97D6-A1ED2D84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23D6-7F01-49BE-AB44-68F49FF5B4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6.jpeg"/><Relationship Id="rId4" Type="http://schemas.openxmlformats.org/officeDocument/2006/relationships/image" Target="../media/image1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4.png"/><Relationship Id="rId8" Type="http://schemas.openxmlformats.org/officeDocument/2006/relationships/image" Target="../media/image5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2195640" y="1773360"/>
            <a:ext cx="5810040" cy="21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Гроза 1812 года – женщины </a:t>
            </a:r>
            <a:endParaRPr b="1" i="1" lang="en-US" sz="2400" spc="1" strike="noStrike">
              <a:ln w="28440">
                <a:solidFill>
                  <a:srgbClr val="0000ff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в</a:t>
            </a:r>
            <a:endParaRPr b="1" i="1" lang="en-US" sz="2400" spc="1" strike="noStrike">
              <a:ln w="28440">
                <a:solidFill>
                  <a:srgbClr val="0000ff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 </a:t>
            </a:r>
            <a:r>
              <a:rPr b="1" i="1" lang="en-US" sz="24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партизанском движении</a:t>
            </a:r>
            <a:endParaRPr b="1" i="1" lang="en-US" sz="2400" spc="1" strike="noStrike">
              <a:ln w="28440">
                <a:solidFill>
                  <a:srgbClr val="0000ff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95280" y="3657240"/>
            <a:ext cx="7772400" cy="3048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 fontScale="99000"/>
          </a:bodyPr>
          <a:p>
            <a:pPr marL="339480" indent="0" algn="just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ооруженные лишь вилами, косами и топорами, они нападали на вражеские отряды, уничтожали обозы, захватывали пленных и передавали их регулярной армии. Василиса Кожина держала партизанский отряд в своем полном подчинении и сама решала, что делать с пленниками. Однажды не «задумываясь зарубила косой пленного французского офицера, высокомерно отказавшегося повиноваться распоряжениям «крестьян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сунок 7" descr="Василиса Кожина  .jpg"/>
          <p:cNvPicPr/>
          <p:nvPr/>
        </p:nvPicPr>
        <p:blipFill>
          <a:blip r:embed="rId2"/>
          <a:stretch/>
        </p:blipFill>
        <p:spPr>
          <a:xfrm>
            <a:off x="2627280" y="0"/>
            <a:ext cx="4897440" cy="3573360"/>
          </a:xfrm>
          <a:prstGeom prst="rect">
            <a:avLst/>
          </a:prstGeom>
          <a:ln w="0">
            <a:noFill/>
          </a:ln>
        </p:spPr>
      </p:pic>
      <p:pic>
        <p:nvPicPr>
          <p:cNvPr id="68" name="парт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3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487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20120" cy="3808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расковья Кружевниц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61"/>
          <p:cNvSpPr/>
          <p:nvPr/>
        </p:nvSpPr>
        <p:spPr>
          <a:xfrm>
            <a:off x="5076720" y="836640"/>
            <a:ext cx="4067280" cy="540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Прасковья во главе небольшой группы крестьян и крестьянок энергично нападала на отряды, высылавшиеся французами для реквизиции хлеба и сена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За голову Прасковьи, отбившей со своим отрядом изрядную долю французского оснащения и провианта, была назначена большая сумма. Дальнейшая судьба этой удивительной женщины неизвестна. Но в памяти потомков «кружевница Прасковья» навсегда осталась как символ русской женщины-защитницы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37" descr="Прасковья Кружевница.jpg"/>
          <p:cNvPicPr/>
          <p:nvPr/>
        </p:nvPicPr>
        <p:blipFill>
          <a:blip r:embed="rId2"/>
          <a:stretch/>
        </p:blipFill>
        <p:spPr>
          <a:xfrm>
            <a:off x="1258920" y="907920"/>
            <a:ext cx="3673440" cy="540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003280" y="981000"/>
            <a:ext cx="4064040" cy="5724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cc"/>
                </a:solidFill>
                <a:latin typeface="Times New Roman"/>
              </a:rPr>
              <a:t>Маргарита Михайловна сопровождала мужа в Шведском походе и разделяла с ним все трудности военной жизни, сопровождая его не раз верхом в форме денщика, спрятав косу под фуражку, поскольку женам было запрещено находиться при армии в походе. В её лице впервые в русской армии появилась сестра милосердия. Она создавала пункты питания для голодающего населения в местностях, охваченных боями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Маргарита Михайловна Тучк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5" descr="Маргарита Михайловна Тучкова..jpg"/>
          <p:cNvPicPr/>
          <p:nvPr/>
        </p:nvPicPr>
        <p:blipFill>
          <a:blip r:embed="rId2"/>
          <a:stretch/>
        </p:blipFill>
        <p:spPr>
          <a:xfrm>
            <a:off x="1332000" y="1125360"/>
            <a:ext cx="3711600" cy="5112000"/>
          </a:xfrm>
          <a:prstGeom prst="rect">
            <a:avLst/>
          </a:prstGeom>
          <a:ln w="0">
            <a:noFill/>
          </a:ln>
        </p:spPr>
      </p:pic>
      <p:pic>
        <p:nvPicPr>
          <p:cNvPr id="75" name="парт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487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Группа 5"/>
          <p:cNvGrpSpPr/>
          <p:nvPr/>
        </p:nvGrpSpPr>
        <p:grpSpPr>
          <a:xfrm>
            <a:off x="1187280" y="0"/>
            <a:ext cx="3002040" cy="4106880"/>
            <a:chOff x="1187280" y="0"/>
            <a:chExt cx="3002040" cy="4106880"/>
          </a:xfrm>
        </p:grpSpPr>
        <p:pic>
          <p:nvPicPr>
            <p:cNvPr id="77" name="Рисунок 0" descr="2517.jpg"/>
            <p:cNvPicPr/>
            <p:nvPr/>
          </p:nvPicPr>
          <p:blipFill>
            <a:blip r:embed="rId1"/>
            <a:stretch/>
          </p:blipFill>
          <p:spPr>
            <a:xfrm>
              <a:off x="1391760" y="185400"/>
              <a:ext cx="2592720" cy="37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" descr="F:\Рисунок1.png"/>
            <p:cNvPicPr/>
            <p:nvPr/>
          </p:nvPicPr>
          <p:blipFill>
            <a:blip r:embed="rId2"/>
            <a:stretch/>
          </p:blipFill>
          <p:spPr>
            <a:xfrm>
              <a:off x="1187280" y="0"/>
              <a:ext cx="3002040" cy="410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42920" y="549000"/>
            <a:ext cx="4064040" cy="26636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Т у ч к о в 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аргарита Михайло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(2 января 1781 — 29 апреля 1852)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естра милосердия, основательница Спасо-Бородинского монастыр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унок 10" descr="воскресенская-церковь-спасского-монастыря.jpg"/>
          <p:cNvPicPr/>
          <p:nvPr/>
        </p:nvPicPr>
        <p:blipFill>
          <a:blip r:embed="rId4"/>
          <a:stretch/>
        </p:blipFill>
        <p:spPr>
          <a:xfrm>
            <a:off x="4427640" y="3500280"/>
            <a:ext cx="4118040" cy="3078360"/>
          </a:xfrm>
          <a:prstGeom prst="rect">
            <a:avLst/>
          </a:prstGeom>
          <a:ln w="0">
            <a:noFill/>
          </a:ln>
        </p:spPr>
      </p:pic>
      <p:pic>
        <p:nvPicPr>
          <p:cNvPr id="81" name="парт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3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3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3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3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3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3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3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3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487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1" descr="Прасковья Кружевница1.jpg"/>
          <p:cNvPicPr/>
          <p:nvPr/>
        </p:nvPicPr>
        <p:blipFill>
          <a:blip r:embed="rId1"/>
          <a:stretch/>
        </p:blipFill>
        <p:spPr>
          <a:xfrm rot="601200">
            <a:off x="6373440" y="-102960"/>
            <a:ext cx="2760840" cy="3573720"/>
          </a:xfrm>
          <a:prstGeom prst="rect">
            <a:avLst/>
          </a:prstGeom>
          <a:ln w="0">
            <a:noFill/>
          </a:ln>
        </p:spPr>
      </p:pic>
      <p:grpSp>
        <p:nvGrpSpPr>
          <p:cNvPr id="83" name="Группа 53"/>
          <p:cNvGrpSpPr/>
          <p:nvPr/>
        </p:nvGrpSpPr>
        <p:grpSpPr>
          <a:xfrm>
            <a:off x="827640" y="-531000"/>
            <a:ext cx="3729240" cy="4630680"/>
            <a:chOff x="827640" y="-531000"/>
            <a:chExt cx="3729240" cy="4630680"/>
          </a:xfrm>
        </p:grpSpPr>
        <p:pic>
          <p:nvPicPr>
            <p:cNvPr id="84" name="Рисунок 1" descr="Файл:Портрет Василисы Кожиной.jpg"/>
            <p:cNvPicPr/>
            <p:nvPr/>
          </p:nvPicPr>
          <p:blipFill>
            <a:blip r:embed="rId2"/>
            <a:stretch/>
          </p:blipFill>
          <p:spPr>
            <a:xfrm rot="20791200">
              <a:off x="1506240" y="14040"/>
              <a:ext cx="2372040" cy="35406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85" name="Picture 2" descr="F:\Рисунок1.png"/>
            <p:cNvPicPr/>
            <p:nvPr/>
          </p:nvPicPr>
          <p:blipFill>
            <a:blip r:embed="rId3"/>
            <a:stretch/>
          </p:blipFill>
          <p:spPr>
            <a:xfrm rot="20791200">
              <a:off x="1263240" y="-254160"/>
              <a:ext cx="2857680" cy="40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Группа 56"/>
          <p:cNvGrpSpPr/>
          <p:nvPr/>
        </p:nvGrpSpPr>
        <p:grpSpPr>
          <a:xfrm>
            <a:off x="5292360" y="2637360"/>
            <a:ext cx="4337640" cy="4828320"/>
            <a:chOff x="5292360" y="2637360"/>
            <a:chExt cx="4337640" cy="4828320"/>
          </a:xfrm>
        </p:grpSpPr>
        <p:pic>
          <p:nvPicPr>
            <p:cNvPr id="87" name="Рисунок 0" descr="2517.jpg"/>
            <p:cNvPicPr/>
            <p:nvPr/>
          </p:nvPicPr>
          <p:blipFill>
            <a:blip r:embed="rId4"/>
            <a:stretch/>
          </p:blipFill>
          <p:spPr>
            <a:xfrm rot="1636800">
              <a:off x="6237720" y="3244680"/>
              <a:ext cx="2446200" cy="36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2" descr="F:\Рисунок1.png"/>
            <p:cNvPicPr/>
            <p:nvPr/>
          </p:nvPicPr>
          <p:blipFill>
            <a:blip r:embed="rId5"/>
            <a:stretch/>
          </p:blipFill>
          <p:spPr>
            <a:xfrm rot="1636800">
              <a:off x="6045120" y="3065400"/>
              <a:ext cx="2832120" cy="39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Группа 59"/>
          <p:cNvGrpSpPr/>
          <p:nvPr/>
        </p:nvGrpSpPr>
        <p:grpSpPr>
          <a:xfrm>
            <a:off x="2916360" y="2205000"/>
            <a:ext cx="4308480" cy="2376360"/>
            <a:chOff x="2916360" y="2205000"/>
            <a:chExt cx="4308480" cy="2376360"/>
          </a:xfrm>
        </p:grpSpPr>
        <p:pic>
          <p:nvPicPr>
            <p:cNvPr id="90" name="Рисунок 60" descr=""/>
            <p:cNvPicPr/>
            <p:nvPr/>
          </p:nvPicPr>
          <p:blipFill>
            <a:blip r:embed="rId6"/>
            <a:stretch/>
          </p:blipFill>
          <p:spPr>
            <a:xfrm>
              <a:off x="3005280" y="2205000"/>
              <a:ext cx="41331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" descr="F:\Рисунок1.png"/>
            <p:cNvPicPr/>
            <p:nvPr/>
          </p:nvPicPr>
          <p:blipFill>
            <a:blip r:embed="rId7"/>
            <a:stretch/>
          </p:blipFill>
          <p:spPr>
            <a:xfrm>
              <a:off x="2916360" y="2338560"/>
              <a:ext cx="4308480" cy="211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Рисунок 52" descr="Дурова.jpg"/>
          <p:cNvPicPr/>
          <p:nvPr/>
        </p:nvPicPr>
        <p:blipFill>
          <a:blip r:embed="rId8"/>
          <a:stretch/>
        </p:blipFill>
        <p:spPr>
          <a:xfrm rot="20028600">
            <a:off x="1127160" y="3571560"/>
            <a:ext cx="2371680" cy="3214800"/>
          </a:xfrm>
          <a:prstGeom prst="rect">
            <a:avLst/>
          </a:prstGeom>
          <a:ln w="0">
            <a:noFill/>
          </a:ln>
        </p:spPr>
      </p:pic>
      <p:pic>
        <p:nvPicPr>
          <p:cNvPr id="93" name="парт.mp3" descr=""/>
          <p:cNvPicPr/>
          <p:nvPr/>
        </p:nvPicPr>
        <p:blipFill>
          <a:blip r:embed="rId9"/>
          <a:stretch/>
        </p:blipFill>
        <p:spPr>
          <a:xfrm>
            <a:off x="3780000" y="3276720"/>
            <a:ext cx="944280" cy="94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5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5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487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58560" y="-360"/>
            <a:ext cx="7808760" cy="6705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течественная война 1812 года окончилась победой российского народа. Не мала в этом и награда партизан. Подъем народных масс на борьбу с противником обуславливался тем, что война для российских людей носила справедливый, оборонительных характер; фермеры боролись за национальную независимость собственной Род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На всех этапах борьбы российского народа против захватнического нашествия французов партизанское движение игралось огромную роль и оказывало мощную поддержку регулярной армии. В 1812 году российский люд показал свойственные ему стойкость, выдержку, самоотверженность и героиз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парт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4878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5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5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7"/>
          <p:cNvSpPr/>
          <p:nvPr/>
        </p:nvSpPr>
        <p:spPr>
          <a:xfrm>
            <a:off x="1476360" y="2421000"/>
            <a:ext cx="76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Гроза – это природное явление, которое непредсказуемо последствиями стихии!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9"/>
          <p:cNvSpPr/>
          <p:nvPr/>
        </p:nvSpPr>
        <p:spPr>
          <a:xfrm>
            <a:off x="1763640" y="487440"/>
            <a:ext cx="657216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В 2012 году наше государство отмечает 200-летие победы в Отечественной войне 1812 года. </a:t>
            </a:r>
            <a:endParaRPr b="1" i="1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</a:rPr>
              <a:t>Двести лет назад наша страна превратилась в единый и огромный лагерь, готовый к схватке со смертельным врагом. </a:t>
            </a:r>
            <a:endParaRPr b="1" i="1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</a:rPr>
              <a:t>В напутствиях матерей, сестер, дочерей, кроме веры в победу, звучало неуемное желание быть полезными Отчизне. </a:t>
            </a:r>
            <a:endParaRPr b="1" i="1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парт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487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1042920" y="0"/>
            <a:ext cx="8101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В Петербурге оно выразилось в создании «Дамского патриотического комитета» под покровительством императрицы Елизаветы Алексеевны. В Москве, Смоленске и других городах и селах многие женщины вставали с оружием в руках на защиту своей семьи, своей малой Родины, России. </a:t>
            </a: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Рисунок 8" descr="Елизаветы Алексеевны.jpg"/>
          <p:cNvPicPr/>
          <p:nvPr/>
        </p:nvPicPr>
        <p:blipFill>
          <a:blip r:embed="rId1"/>
          <a:stretch/>
        </p:blipFill>
        <p:spPr>
          <a:xfrm>
            <a:off x="2843280" y="2349360"/>
            <a:ext cx="3168720" cy="45086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9"/>
          <p:cNvSpPr/>
          <p:nvPr/>
        </p:nvSpPr>
        <p:spPr>
          <a:xfrm>
            <a:off x="2843280" y="6137280"/>
            <a:ext cx="3168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лизавета Алексеевн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5"/>
          <p:cNvSpPr/>
          <p:nvPr/>
        </p:nvSpPr>
        <p:spPr>
          <a:xfrm>
            <a:off x="1258920" y="476280"/>
            <a:ext cx="78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егодня мало кто знает героев Отечественной войны 1812 года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26"/>
          <p:cNvSpPr/>
          <p:nvPr/>
        </p:nvSpPr>
        <p:spPr>
          <a:xfrm>
            <a:off x="1187280" y="2276640"/>
            <a:ext cx="795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ы должны помнить подвиги не только мужчин, простых солдат и генералов той далекой войны, но и женщин – участниц тех великих событий, и тех лучших женщин, которые вдохновляли и благословляли своих мужей-воинов на подвиги, были рядом с ними в трудные минуты, тем самым вносили весомый вклад в победу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парт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487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7"/>
          <p:cNvSpPr/>
          <p:nvPr/>
        </p:nvSpPr>
        <p:spPr>
          <a:xfrm>
            <a:off x="2124000" y="0"/>
            <a:ext cx="50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дежда Андреевна Дурова кавалерист-девиц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9" descr="Дурова.jpg"/>
          <p:cNvPicPr/>
          <p:nvPr/>
        </p:nvPicPr>
        <p:blipFill>
          <a:blip r:embed="rId1"/>
          <a:stretch/>
        </p:blipFill>
        <p:spPr>
          <a:xfrm>
            <a:off x="1258920" y="907920"/>
            <a:ext cx="3879720" cy="5950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3760" y="914400"/>
            <a:ext cx="3809880" cy="5943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 начале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IX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столетия в рядах русских войск, сражавшихся в Пруссии, появилась загадочная личность – кавалерист-девица, русская амазонка, выступавшая под мужским именем (Соколов, потом Александров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003280" y="0"/>
            <a:ext cx="414036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Надежда Андреевна Дурова родилась 17 сентября 1783 в Киеве. Ее родителями были гусарский ротмитр Дуров и  дочь малороссийского помещика Александровича. Отец  проклял дочь Марию, вышедшую замуж против его воли. После рождения 17 сентября 1783 года первенца - Надежды, он простил молодую чет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парт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0" descr="Дурова.2jpg.jpg"/>
          <p:cNvPicPr/>
          <p:nvPr/>
        </p:nvPicPr>
        <p:blipFill>
          <a:blip r:embed="rId3"/>
          <a:stretch/>
        </p:blipFill>
        <p:spPr>
          <a:xfrm>
            <a:off x="1187280" y="549360"/>
            <a:ext cx="3816360" cy="5618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4878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58560" y="-360"/>
            <a:ext cx="7808760" cy="6705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озникли семейные неприятности, и она решилась осуществить свою давнишнюю мечту — поступить на военную службу. Воспользовавшись отправлением отряда в поход в 1806г., она переоделась в казацкое платье и поскакала на своём Алкиде за отрядом. Нагнав его, Дурова назвалась Александром Соколовым, сыном помещика, получила позволение следовать за казаками и в Гродно поступила в Литовский уланский полк. Она участвовала в битвах при Гутшадте,  Гейльсберге, Фридланде, всюду обнаруживала храбрость. За спасение раненого офицера в разгар сражения была награждена солдатским «Георгиевским крестом »</a:t>
            </a:r>
            <a:r>
              <a:rPr b="0" lang="ru-RU" sz="2800" spc="-1" strike="noStrike" baseline="30000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 произведена в офицеры с переводом в Мариупольский гусарский пол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парт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4878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3456000" cy="5111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332000" y="5805360"/>
            <a:ext cx="338436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Георгиевский крест »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35600" y="333360"/>
            <a:ext cx="4208400" cy="6524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Умерла Надежда Андреевна  2 апреля  1866 в Елабуге Вятской губернии в возрасте 82 лет, похоронена на Троицком кладбище. При погребении ей были отданы воинские почести. И  в наши дни ее могилу украшают живые цветы - дань памяти славной российской женщине-офицер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avid-Cook-Permanent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205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7" descr="Василиса Кожина1 .jpg"/>
          <p:cNvPicPr/>
          <p:nvPr/>
        </p:nvPicPr>
        <p:blipFill>
          <a:blip r:embed="rId1"/>
          <a:stretch/>
        </p:blipFill>
        <p:spPr>
          <a:xfrm>
            <a:off x="1332000" y="1341360"/>
            <a:ext cx="3655800" cy="5112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932000" y="762120"/>
            <a:ext cx="4135320" cy="5943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 биографических справках нет даже точной даты рождения и смерти Василисы. Известно, что родилась она в крестьянской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ямо на глазах Василисы занявшие хутор французы зарезали ее мужа. Василиса поклялась отомстить врагам за его смерть. Наделенная незаурядным умом и решительностью, она смогла организовать партизанский отряд, состоявший из подростков и женщ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Василиса Кож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David-Cook-Permanent1111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2202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Admin</cp:lastModifiedBy>
  <dcterms:modified xsi:type="dcterms:W3CDTF">2015-10-08T07:13:57Z</dcterms:modified>
  <cp:revision>150</cp:revision>
  <dc:subject/>
  <dc:title>Презентация PowerPoint</dc:title>
</cp:coreProperties>
</file>