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FC9-0D98-413D-9016-F6FCAD3B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3C8-91A8-423B-B35D-730A57D0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7D6-AC08-432B-8ABF-832F956D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143-30A2-4AE9-9C77-19869BDB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C09E-9523-4742-A3F5-B053B6D0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2494-C052-460C-A4A1-DDCFC59A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5323-05BD-4645-8FA2-67EE07C4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B8A6-FA7C-4E0A-A8B3-305CD049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6D14-729C-4CA8-8957-02362C66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BF86-D921-49AC-B143-1D32B775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0589-596E-4D8A-BBDB-E40E5EC7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24B8-B097-412C-A9A8-197C3A9A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EA6A-CC55-404D-9863-1A7C9A62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8468-8B77-45B5-AC29-64AF77CC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DF0E-EAD8-4AAE-A603-2F5A99CA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A111-A369-4AB9-B4B8-15FFC0CB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0597-5875-4460-BEAE-D3281DE0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EA8E1-19F9-4E87-93FC-3F10AAF0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F221C-F40C-4639-8A2A-0A47EB67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9B26-FC0D-440F-8D50-807AB661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C5733-AFA4-46F7-BBCA-2AB55986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AA008-6874-4276-A3BC-C9E8C31A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170-EC28-4E47-B57A-1E24BACF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C1B1D-0963-4F9B-B08A-14CA9431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80A32-E732-4136-81F0-0F5ED9E5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F04D1-D832-4C19-94CE-31C6363E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5C951-FC26-43B6-BE7A-C1CF5D87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DB13D-1F86-45A5-9026-F4DA9DF4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44BA3-EE81-4E6A-AD96-5281137D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E8FEE-1812-46B7-90DE-721D0FBA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DD3C8-79D7-4BC8-927E-7281C194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5F006-8EAE-48B4-A063-DABB7AD1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A4101-C2BC-441A-9F7A-CF7EB6E3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D22-EAAE-4BAD-97A4-EF005B62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C9785-F0A4-4613-B3B6-F1623840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3FE77-653F-4C81-92E2-29CAFECF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6A6F2-FF00-4186-830F-F2B5CBAC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0B6A0-C8BF-44E7-82D4-2B19BB05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7D92B-467D-493C-9F77-3E6B59F4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D720A-0DD7-46BA-B311-CC715A09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98E19-E214-4FED-82D1-51113643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179AB-2521-4A0A-B977-762D3D25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1F1BC-FB05-4E8C-8138-1AA4762A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1FBF7-E587-4E9D-A6D3-B2175C2C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C62-DCCD-497A-8B25-AAA04770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5C782-D4AA-4B1E-8907-DA8048BE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00F0C-CBE1-43D9-A8FB-2CEEB20A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5D86C-AE83-4130-873A-4592EB68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B4687-3764-43C6-B384-DD4AFEC6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58F4A-EC8D-424F-9B99-1D3559B8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51178-D45F-4716-8351-E700C4C5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84651-D02A-4114-95A7-CC98B985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38D00-F0CB-48F2-9A5A-5CDFF657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39B20-BB46-41B2-B200-5E064E9D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9D283-3380-42F1-8D50-C022948D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627-B437-4247-9F42-D23309E7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25F11-C159-4083-8D1B-BF7DB687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10D1A-D8BD-4C3C-A86C-3D7CC902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12736-5129-439A-87EA-7977F02C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2DDB0-5095-4191-9B1E-1E76A14E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88305-0F1C-4F85-ACBF-AE6C3BC6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F13BE-5413-4D95-B605-105B959E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F8452-2316-4CD8-879B-6EE7CF1C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A59F9-E3AA-4C13-8AC2-C7505E7F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E25BA-D81D-404D-B84F-6E12DA27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2E793-1894-421B-99A7-7AE9615E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EE4-42D3-4C16-8EB5-3CAF699F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13032-ECB7-4607-BA60-47F05529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5C7E5-6062-4732-94C0-BCA7C725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E7204-25B3-4E04-9DBA-BF062FCE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32871-EF13-4D7E-AF82-ECA03BA9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7365B-D73F-4C74-8A7F-C76E4B5B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92906-95EE-41DA-BEFA-EB703CCA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706C9-34F0-4325-BF9B-39424A04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6E5DF-AF2D-454C-9109-DE5130EB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BEFCE-A97F-48D9-810A-E0A18FAC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8669B-58B7-4D65-B3AC-E2A9DAE6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501-28EC-4223-9BE4-5FD67A35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93A6C-136B-4F8D-B231-790A8EBF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39F24-6959-4B21-B8CE-B0CEBE7E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257C4-9F63-4116-92A0-BCF2D989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735B9-7443-46C2-BB77-2EC4F2E1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126F8-8E49-4105-A094-39197E18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1AE-F4E4-45DE-A502-75A714AD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A29E-F8DB-4A1D-9DA1-C7BCF8C5384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6FF7-A633-40F9-BBB6-CFDDF98B625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EEC1-ECDE-48D6-B663-75EE6C141B9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47B8-338A-46A3-8AFF-CBAA7440A65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0407-7591-47A3-B3CC-6DE15D43E51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AFFD-5F2B-43F0-BC74-6B18D409175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8D2B-376F-4891-9659-53DB32B2F12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Прямоугольник 3" descr=""/>
          <p:cNvPicPr/>
          <p:nvPr/>
        </p:nvPicPr>
        <p:blipFill>
          <a:blip r:embed="rId1"/>
          <a:stretch/>
        </p:blipFill>
        <p:spPr>
          <a:xfrm>
            <a:off x="755640" y="731880"/>
            <a:ext cx="7894800" cy="160956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6" descr=""/>
          <p:cNvPicPr/>
          <p:nvPr/>
        </p:nvPicPr>
        <p:blipFill>
          <a:blip r:embed="rId2"/>
          <a:stretch/>
        </p:blipFill>
        <p:spPr>
          <a:xfrm>
            <a:off x="353880" y="2835360"/>
            <a:ext cx="8796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Box 5"/>
          <p:cNvSpPr/>
          <p:nvPr/>
        </p:nvSpPr>
        <p:spPr>
          <a:xfrm>
            <a:off x="285840" y="1857240"/>
            <a:ext cx="857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ренинговое задани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Подари сердц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2"/>
          <p:cNvSpPr/>
          <p:nvPr/>
        </p:nvSpPr>
        <p:spPr>
          <a:xfrm>
            <a:off x="285840" y="42876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ссказ М. Скребцов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«Юноша и морские звезд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оугольник 6"/>
          <p:cNvSpPr/>
          <p:nvPr/>
        </p:nvSpPr>
        <p:spPr>
          <a:xfrm>
            <a:off x="500040" y="1857240"/>
            <a:ext cx="82152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побуждало юношу бросать в воду морс-ких звезд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гласились бы вы или возразили, услышав слова: «Всем все равно не поможешь, а если поможешь нескольким, то это ничего не изменит в жизни других, так как всегда будет много несчастных и нуждающихся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ятно ли вам делать добрые дел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2"/>
          <p:cNvSpPr/>
          <p:nvPr/>
        </p:nvSpPr>
        <p:spPr>
          <a:xfrm>
            <a:off x="285840" y="150012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fd13b"/>
                </a:solidFill>
                <a:latin typeface="Arial"/>
              </a:rPr>
              <a:t>Терпимость –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собность мириться с кем-либо, относиться снисходительно к кому-либо, чему-либо; терпимое отно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Box 3"/>
          <p:cNvSpPr/>
          <p:nvPr/>
        </p:nvSpPr>
        <p:spPr>
          <a:xfrm>
            <a:off x="285840" y="42876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пражнение «Слепой и поводырь»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его анали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оугольник 4"/>
          <p:cNvSpPr/>
          <p:nvPr/>
        </p:nvSpPr>
        <p:spPr>
          <a:xfrm>
            <a:off x="357120" y="1720800"/>
            <a:ext cx="842976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Как вы себя чувствовали, когда были «слепым»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ел ли вас «поводырь» бережно и уверенно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Знали ли вы все время, где находитесь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Как ощущали себя в роли «поводыря»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Что делали, чтобы вызвать и укрепить доверие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«слепого»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 какой роли чувствовали себя комфортнее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Хотелось ли во время игры изменить ситуацию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5"/>
          <p:cNvSpPr/>
          <p:nvPr/>
        </p:nvSpPr>
        <p:spPr>
          <a:xfrm>
            <a:off x="285840" y="2286000"/>
            <a:ext cx="8572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ест «Твое терпени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2"/>
          <p:cNvSpPr/>
          <p:nvPr/>
        </p:nvSpPr>
        <p:spPr>
          <a:xfrm>
            <a:off x="285840" y="42876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авила, необходимые для по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руг друг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рямоугольник 3"/>
          <p:cNvSpPr/>
          <p:nvPr/>
        </p:nvSpPr>
        <p:spPr>
          <a:xfrm>
            <a:off x="571680" y="1714680"/>
            <a:ext cx="807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ь интересы других людей выше собствен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ь верен и надёж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ажай других, уважая себ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пимо относись к другим точкам з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нимай людей как равных се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сь сопереживать другим, ставя себя на их мест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й прощать и не будь обидчи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ви в согласии с самим собой  и с другими людь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являй чутк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ь уверен в се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й контролировать свои желания и поступ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орно иди к цели, невзирая на препят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емись делать всё как можно луч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2"/>
          <p:cNvSpPr/>
          <p:nvPr/>
        </p:nvSpPr>
        <p:spPr>
          <a:xfrm>
            <a:off x="357120" y="1785960"/>
            <a:ext cx="878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за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обще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1"/>
          <p:cNvSpPr/>
          <p:nvPr/>
        </p:nvSpPr>
        <p:spPr>
          <a:xfrm>
            <a:off x="357120" y="28584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Цели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:  разделить в представлении учащихся понятие «добро»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«зло»,  «терпимость»;  убедить  в необходимости добр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и недопустимости з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Box 2"/>
          <p:cNvSpPr/>
          <p:nvPr/>
        </p:nvSpPr>
        <p:spPr>
          <a:xfrm>
            <a:off x="285840" y="1571760"/>
            <a:ext cx="8572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Задач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: 1. Формировать у учащихся уважение к общечеловече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ким нравственным ценност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2. Учить вырабатывать и отстаивать свою точку зр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3. Учить задумываться о своем месте в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4. Формировать навыки самореализации в индивидуаль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ой работе и участия в коллективной рабо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5. Развивать умение сопереживать другим людям, лучш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нимать их чувства, мотивы пове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6. Стимулировать совместную деятельность родителей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357120" y="5143680"/>
            <a:ext cx="83581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Подготовка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●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мультимедиа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●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наглядность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(название темы на доске, цель, эпиграф,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сновные понятия)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●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домашние творческие задания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исунки, сочинения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ссуждения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4"/>
          <p:cNvSpPr/>
          <p:nvPr/>
        </p:nvSpPr>
        <p:spPr>
          <a:xfrm>
            <a:off x="714240" y="42876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Ход часа общ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857160" y="150012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 рад общаться с тоб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642960" y="250020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Эпиграф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ро и зло творить всег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ласти всех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зло творится без труд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ро творить трудн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5"/>
          <p:cNvSpPr/>
          <p:nvPr/>
        </p:nvSpPr>
        <p:spPr>
          <a:xfrm>
            <a:off x="857160" y="35712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сшифруй сл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6"/>
          <p:cNvSpPr/>
          <p:nvPr/>
        </p:nvSpPr>
        <p:spPr>
          <a:xfrm>
            <a:off x="642960" y="1500120"/>
            <a:ext cx="8001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571760" y="1214280"/>
          <a:ext cx="6500520" cy="5121360"/>
        </p:xfrm>
        <a:graphic>
          <a:graphicData uri="http://schemas.openxmlformats.org/drawingml/2006/table">
            <a:tbl>
              <a:tblPr/>
              <a:tblGrid>
                <a:gridCol w="714240"/>
                <a:gridCol w="5786280"/>
              </a:tblGrid>
              <a:tr h="5121360">
                <a:tc>
                  <a:txBody>
                    <a:bodyPr lIns="101880" rIns="1018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fd13b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fd13b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fd13b"/>
                          </a:solidFill>
                          <a:latin typeface="Arial"/>
                          <a:ea typeface="Times New Roman"/>
                        </a:rPr>
                        <a:t>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fd13b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fd13b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fd13b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fd13b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–  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бъединение, открыт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–  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лизость, безопас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–  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щедр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–  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динение, единомысли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–  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обходим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–  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скренность, исти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–  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динств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5"/>
          <p:cNvSpPr/>
          <p:nvPr/>
        </p:nvSpPr>
        <p:spPr>
          <a:xfrm>
            <a:off x="285840" y="3571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оворите друг другу комплимен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и радуют нас и украшают нашу жиз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4"/>
          <p:cNvSpPr/>
          <p:nvPr/>
        </p:nvSpPr>
        <p:spPr>
          <a:xfrm>
            <a:off x="642960" y="2000160"/>
            <a:ext cx="82152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ень трудно иногда подбирать хорошие добрые сл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ты хочешь молвить слов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й друг, подумай – не спе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о бывает то суров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 рождено теплом ду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В. Солоухин «Слово о словах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5"/>
          <p:cNvSpPr/>
          <p:nvPr/>
        </p:nvSpPr>
        <p:spPr>
          <a:xfrm>
            <a:off x="285840" y="50004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ндийская сказка «Наград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357120" y="1643040"/>
            <a:ext cx="84297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путник решил помочь тигр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жно ли назвать его помощь бескорыстн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Как поступил тиг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Так ли нужно платить за добр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А чем платят за зл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5"/>
          <p:cNvSpPr/>
          <p:nvPr/>
        </p:nvSpPr>
        <p:spPr>
          <a:xfrm>
            <a:off x="285840" y="500040"/>
            <a:ext cx="857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Дайте определения словам «добро», «зло», «добрый человек», «злой человек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рямоугольник 3"/>
          <p:cNvSpPr/>
          <p:nvPr/>
        </p:nvSpPr>
        <p:spPr>
          <a:xfrm>
            <a:off x="285840" y="1643040"/>
            <a:ext cx="8572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d13b"/>
                </a:solidFill>
                <a:latin typeface="Arial"/>
              </a:rPr>
              <a:t>Добро </a:t>
            </a:r>
            <a:r>
              <a:rPr b="0" lang="ru-RU" sz="2400" spc="-1" strike="noStrike">
                <a:solidFill>
                  <a:srgbClr val="7fd13b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7fd13b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положительное, хорошее; ласково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етливое; хорошее, доброе дело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упок, приносящий пользу. Помнить добр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d13b"/>
                </a:solidFill>
                <a:latin typeface="Arial"/>
              </a:rPr>
              <a:t>Зло     </a:t>
            </a:r>
            <a:r>
              <a:rPr b="0" lang="ru-RU" sz="2400" spc="-1" strike="noStrike">
                <a:solidFill>
                  <a:srgbClr val="7fd13b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се дурное, плохое, вредное; беда, несчасть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иятность; злое чувство, гнев, дос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d13b"/>
                </a:solidFill>
                <a:latin typeface="Arial"/>
              </a:rPr>
              <a:t>Добрый человек</a:t>
            </a:r>
            <a:r>
              <a:rPr b="0" lang="ru-RU" sz="2400" spc="-1" strike="noStrike">
                <a:solidFill>
                  <a:srgbClr val="7fd13b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, обладающий мягк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арактером, расположенный к людя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радательный, сердеч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d13b"/>
                </a:solidFill>
                <a:latin typeface="Arial"/>
              </a:rPr>
              <a:t>Злой человек</a:t>
            </a:r>
            <a:r>
              <a:rPr b="0" lang="ru-RU" sz="2400" spc="-1" strike="noStrike">
                <a:solidFill>
                  <a:srgbClr val="7fd13b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 недоброжелатель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никнутый враждой, ненавис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5"/>
          <p:cNvSpPr/>
          <p:nvPr/>
        </p:nvSpPr>
        <p:spPr>
          <a:xfrm>
            <a:off x="285840" y="50004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иту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оугольник 3"/>
          <p:cNvSpPr/>
          <p:nvPr/>
        </p:nvSpPr>
        <p:spPr>
          <a:xfrm>
            <a:off x="285840" y="1643040"/>
            <a:ext cx="8572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ы идешь по улице, видишь плачущего ребенка. Какими будут твои действ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В подъезде ты встречаешь бездомное домашнее животное. Твои действи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5"/>
          <p:cNvSpPr/>
          <p:nvPr/>
        </p:nvSpPr>
        <p:spPr>
          <a:xfrm>
            <a:off x="285840" y="50004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 будь побежден злом, но побеждай зло добром (Священ. Пис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1285920" y="2071800"/>
            <a:ext cx="657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рым быть совсем не прост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рота не зависит от рост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зависит доброта от цвет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рота – не пряник, не конф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лько надо, надо добрым бы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 беде друг друга не забыт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2:00:07Z</dcterms:created>
  <dc:creator>Бубнов</dc:creator>
  <dc:description/>
  <dc:language>en-US</dc:language>
  <cp:lastModifiedBy>РЖПТ</cp:lastModifiedBy>
  <dcterms:modified xsi:type="dcterms:W3CDTF">2015-10-08T10:38:24Z</dcterms:modified>
  <cp:revision>31</cp:revision>
  <dc:subject/>
  <dc:title>Слайд 1</dc:title>
</cp:coreProperties>
</file>