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FA4-5802-4F7A-9484-2BEA8A88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3DD-16B9-4D69-8C50-06E1831C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B3A-7AF1-4B7B-B8DD-EC212E96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9F3-FA9E-4AB7-B24D-DA758F0B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8C28-0749-4BAF-B66F-4C303C0E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E4B5-3309-43AC-864D-03423312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6FAC-9A36-493D-9E7F-6524381D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1B36-9EE0-4FE7-AD1C-5056756D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3638-B151-47F7-958F-67F8BAB8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08DF-E9E3-47DC-9C2C-1CA0A084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7F53-A112-4CC9-9A71-73DC79D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661-BD2B-4767-ACC9-C367D913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8029-1D5E-4A28-A024-53AB396B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F39-B121-41CE-97C5-426FF56F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8C08-5792-43FF-B0DF-951A9492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F11F-5AE3-475E-9607-E8082418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DFB2-66AB-4FF4-A323-062AFAB2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0EA1-0912-4FC1-A27E-C46E7C66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374C-D343-45EA-AADA-E608F066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6901-9AC5-40B3-8F15-6D40439F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7055-BFA3-4F19-AE5C-E4EFE3E2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FBFD-0154-4F91-991A-41DEE29A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75E-8481-4FDE-9040-5A682AA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CD84-B17A-4587-9F80-BF10A4B4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D324-B179-4E98-ACE8-02E3F63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2AAE-BAD2-4D13-BA04-C916C01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69B1-DE1D-415D-AF1E-6579495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64A6-889F-4E61-A029-855EF45A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5F8F9-ECA8-42B9-8A69-1A46C912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0D26-E614-41DD-A300-D1A497D0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0A768-B3E4-4580-82B1-89629002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8DEC-A9EE-4D2E-BE2B-E5187391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7C0A-0D43-4F91-A699-17A1C906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A05-6852-4ADA-99BC-7022A86A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6050-F140-424A-A9DA-89BC2F40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F0F58-2FF1-4E67-A008-773087A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968C3-3653-47F3-8F2D-397EA48E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4CAF-10AB-4E9F-9B64-C76CC671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7420-3D7D-4382-9F05-DB5F603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FE24A-B2F5-4537-ADD6-6072257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A1388-97F6-472B-A5E9-F47673A7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F80CC-ED82-471D-AD67-B356E4C9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E78D-98ED-441B-B8D5-2E7CDBFA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37E8-9521-4413-A73E-BB883710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F70-0AB5-4E2D-A78D-91BEC2AE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E3193-CC1D-4B7A-AC0C-669ABFB5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3F9F-EBFA-41BB-B2A1-325D8F42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1F13-2F60-4CB9-BB48-B2EBDB94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DE4E4-2DBF-4DA0-82CD-A59C65C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CFBA2-3A8B-4969-A14B-A436B3BA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99AF-58B1-42D6-9199-CB80E21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A2806-7788-4BA9-AA59-B7E9FB44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5B0CD-08B1-430F-B3D1-6AFD37B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F640F-01F4-464A-8123-04770F59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847FB-EAC9-4EF1-9917-C93F12D7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390-8AC8-4739-BCD2-381CA5FD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2E56-116A-4138-AF53-E4A7B8AC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40573-B19D-4C25-BF21-4A1DE626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3CB79-6E99-4BE7-801B-EC5946EE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C05FD-9921-436B-AB4D-FF35B9F2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35728-D790-4C08-BE70-F4A9502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2A284-C842-46DA-9482-E50C62C3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7440-5926-4EB6-9776-ED158E7A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8D90-4D01-4D9F-9BB6-A6D2CAF5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4AB3-B3D5-476C-A65E-AD33624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DA22C-80B5-40CC-8C61-11753D25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EF7-EA51-48C2-9774-FB69ABB7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76323-5531-4446-AA15-14ACAD3A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B844-18F0-4206-9CD4-43D5F23F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2DA2B-D7F2-421F-86C3-4D3C1279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33FF0-3746-47CB-80A8-F6EFAFC3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918EB-C2F4-487A-9860-E6205FB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D2D9C-ACA5-4E8B-8C9E-7D6F2BC3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224D-D1F2-43E3-AE92-C316953A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53CCE-DB30-4D82-8B54-02C0F32C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83C50-6BB6-4122-BA63-AE0AFA4D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9B6D5-A6D1-45F7-9781-5DACD9DA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4FD-FDD6-4100-9019-9330C4B3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67FA1-F25B-40F4-9983-0B3C5AE0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39C01-D669-45B6-8149-2DA14C59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F4E6A-5593-4DE9-98A4-7A9673F1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4AE58-5CA7-416C-8241-1BA183CA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D14F6-4027-40E4-96E7-E12FD202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27E-7E79-4266-8B4D-A681FA25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7F9B-3C1B-4008-9A40-ECAC4DE5BDA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A916-3911-4150-AA73-5B85DBD0BE5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902A-B215-46D8-A01B-DF4C4331B66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DDB9-AD53-492B-9972-16A8FFCF98B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5FB0-5BDB-4666-8346-784ADF0E605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E789-67C5-45D6-A2A7-7DA77D62158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283B-9BC0-44B3-8023-ABC5C0754F4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731880"/>
            <a:ext cx="7894800" cy="160956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6" descr=""/>
          <p:cNvPicPr/>
          <p:nvPr/>
        </p:nvPicPr>
        <p:blipFill>
          <a:blip r:embed="rId2"/>
          <a:stretch/>
        </p:blipFill>
        <p:spPr>
          <a:xfrm>
            <a:off x="353880" y="2835360"/>
            <a:ext cx="879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5"/>
          <p:cNvSpPr/>
          <p:nvPr/>
        </p:nvSpPr>
        <p:spPr>
          <a:xfrm>
            <a:off x="285840" y="1857240"/>
            <a:ext cx="857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инговое зада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одари сердц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2"/>
          <p:cNvSpPr/>
          <p:nvPr/>
        </p:nvSpPr>
        <p:spPr>
          <a:xfrm>
            <a:off x="285840" y="42876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ссказ М. Скребцов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Юноша и морские звезд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6"/>
          <p:cNvSpPr/>
          <p:nvPr/>
        </p:nvSpPr>
        <p:spPr>
          <a:xfrm>
            <a:off x="500040" y="1857240"/>
            <a:ext cx="82152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обуждало юношу бросать в воду морс-ких звезд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гласились бы вы или возразили, услышав слова: «Всем все равно не поможешь, а если поможешь нескольким, то это ничего не изменит в жизни других, так как всегда будет много несчастных и нуждающихся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ятно ли вам делать добрые де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2"/>
          <p:cNvSpPr/>
          <p:nvPr/>
        </p:nvSpPr>
        <p:spPr>
          <a:xfrm>
            <a:off x="285840" y="150012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d13b"/>
                </a:solidFill>
                <a:latin typeface="Arial"/>
              </a:rPr>
              <a:t>Терпимость –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ность мириться с кем-либо, относиться снисходительно к кому-либо, чему-либо; терпимое отно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3"/>
          <p:cNvSpPr/>
          <p:nvPr/>
        </p:nvSpPr>
        <p:spPr>
          <a:xfrm>
            <a:off x="285840" y="42876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жнение «Слепой и поводырь»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го анал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4"/>
          <p:cNvSpPr/>
          <p:nvPr/>
        </p:nvSpPr>
        <p:spPr>
          <a:xfrm>
            <a:off x="357120" y="1720800"/>
            <a:ext cx="84297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ак вы себя чувствовали, когда были «слепым»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ел ли вас «поводырь» бережно и уверенно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Знали ли вы все время, где находитесь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ак ощущали себя в роли «поводыря»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Что делали, чтобы вызвать и укрепить довери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«слепого»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 какой роли чувствовали себя комфортнее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Хотелось ли во время игры изменить ситуацию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5"/>
          <p:cNvSpPr/>
          <p:nvPr/>
        </p:nvSpPr>
        <p:spPr>
          <a:xfrm>
            <a:off x="285840" y="2286000"/>
            <a:ext cx="857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ст «Твое терпени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2"/>
          <p:cNvSpPr/>
          <p:nvPr/>
        </p:nvSpPr>
        <p:spPr>
          <a:xfrm>
            <a:off x="285840" y="42876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авила, необходимые для по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руг друг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571680" y="171468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ь интересы других людей выше собстве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 верен и надёж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ажай других, уважая с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пимо относись к другим точкам 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нимай людей как равных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сь сопереживать другим, ставя себя на их мес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й прощать и не будь обидчи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и в согласии с самим собой  и с другими люд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являй чут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 уверен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й контролировать свои желания и поступ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рно иди к цели, невзирая на препят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ись делать всё как можно луч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2"/>
          <p:cNvSpPr/>
          <p:nvPr/>
        </p:nvSpPr>
        <p:spPr>
          <a:xfrm>
            <a:off x="357120" y="1785960"/>
            <a:ext cx="87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обще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357120" y="28584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Цел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:  разделить в представлении учащихся понятие «добро»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«зло»,  «терпимость»;  убедить  в необходимости доб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 недопустимости з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285840" y="1571760"/>
            <a:ext cx="857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адач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: 1. Формировать у учащихся уважение к общечеловеч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ким нравственным ценност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. Учить вырабатывать и отстаивать свою точку зр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. Учить задумываться о своем месте в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4. Формировать навыки самореализации в индивидуа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ой работе и участия в коллективной раб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5. Развивать умение сопереживать другим людям, лучш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нимать их чувства, мотивы по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6. Стимулировать совместную деятельность родителей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357120" y="5143680"/>
            <a:ext cx="83581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одготовка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мультимедиа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наглядност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название темы на доске, цель, эпиграф,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онятия)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домашние творческие задания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исунки, сочинения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ссуждени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4"/>
          <p:cNvSpPr/>
          <p:nvPr/>
        </p:nvSpPr>
        <p:spPr>
          <a:xfrm>
            <a:off x="714240" y="42876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Ход часа общ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857160" y="15001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рад общаться с тоб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642960" y="25002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пиграф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 и зло творить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ласти всех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зло творится без тру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 творить труд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5"/>
          <p:cNvSpPr/>
          <p:nvPr/>
        </p:nvSpPr>
        <p:spPr>
          <a:xfrm>
            <a:off x="857160" y="3571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сшифруй сл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642960" y="1500120"/>
            <a:ext cx="80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71760" y="1214280"/>
          <a:ext cx="6500520" cy="5121360"/>
        </p:xfrm>
        <a:graphic>
          <a:graphicData uri="http://schemas.openxmlformats.org/drawingml/2006/table">
            <a:tbl>
              <a:tblPr/>
              <a:tblGrid>
                <a:gridCol w="714240"/>
                <a:gridCol w="5786280"/>
              </a:tblGrid>
              <a:tr h="5121360">
                <a:tc>
                  <a:txBody>
                    <a:bodyPr lIns="101880" rIns="101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fd13b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ъединение, открыт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лизость, безопас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щедр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динение, единомысл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бходим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скренность, исти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  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динств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5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оворите друг другу комплим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и радуют нас и украшают нашу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4"/>
          <p:cNvSpPr/>
          <p:nvPr/>
        </p:nvSpPr>
        <p:spPr>
          <a:xfrm>
            <a:off x="642960" y="2000160"/>
            <a:ext cx="82152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трудно иногда подбирать хорошие добрые с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ты хочешь молвить сло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друг, подумай – не спе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о бывает то суро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 рождено теплом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В. Солоухин «Слово о словах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5"/>
          <p:cNvSpPr/>
          <p:nvPr/>
        </p:nvSpPr>
        <p:spPr>
          <a:xfrm>
            <a:off x="285840" y="50004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ийская сказка «Наград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357120" y="1643040"/>
            <a:ext cx="8429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путник решил помочь тигр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ли назвать его помощь бескорыстн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Как поступил тиг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Так ли нужно платить за добр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А чем платят за з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5"/>
          <p:cNvSpPr/>
          <p:nvPr/>
        </p:nvSpPr>
        <p:spPr>
          <a:xfrm>
            <a:off x="285840" y="500040"/>
            <a:ext cx="857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Дайте определения словам «добро», «зло», «добрый человек», «злой человек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285840" y="164304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Добро </a:t>
            </a:r>
            <a:r>
              <a:rPr b="0" lang="ru-RU" sz="2400" spc="-1" strike="noStrike">
                <a:solidFill>
                  <a:srgbClr val="7fd13b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оложительное, хорошее; ласков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тливое; хорошее, доброе дел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упок, приносящий пользу. Помнить добр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Зло     </a:t>
            </a:r>
            <a:r>
              <a:rPr b="0" lang="ru-RU" sz="2400" spc="-1" strike="noStrike">
                <a:solidFill>
                  <a:srgbClr val="7fd13b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се дурное, плохое, вредное; беда, несчаст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иятность; злое чувство, гнев, до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Добрый человек</a:t>
            </a:r>
            <a:r>
              <a:rPr b="0" lang="ru-RU" sz="2400" spc="-1" strike="noStrike">
                <a:solidFill>
                  <a:srgbClr val="7fd13b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, обладающий мягк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ом, расположенный к людя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радательный, сердеч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d13b"/>
                </a:solidFill>
                <a:latin typeface="Arial"/>
              </a:rPr>
              <a:t>Злой человек</a:t>
            </a:r>
            <a:r>
              <a:rPr b="0" lang="ru-RU" sz="2400" spc="-1" strike="noStrike">
                <a:solidFill>
                  <a:srgbClr val="7fd13b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недоброжелатель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никнутый враждой, ненави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5"/>
          <p:cNvSpPr/>
          <p:nvPr/>
        </p:nvSpPr>
        <p:spPr>
          <a:xfrm>
            <a:off x="285840" y="50004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иту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285840" y="1643040"/>
            <a:ext cx="8572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ы идешь по улице, видишь плачущего ребенка. Какими будут твои действ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 подъезде ты встречаешь бездомное домашнее животное. Твои действи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5"/>
          <p:cNvSpPr/>
          <p:nvPr/>
        </p:nvSpPr>
        <p:spPr>
          <a:xfrm>
            <a:off x="285840" y="50004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будь побежден злом, но побеждай зло добром (Священ. Пис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1285920" y="2071800"/>
            <a:ext cx="657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ым быть совсем не прост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та не зависит от рос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зависит доброта от цв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та – не пряник, не конф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надо, надо добрым бы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 беде друг друга не забы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00:07Z</dcterms:created>
  <dc:creator>Бубнов</dc:creator>
  <dc:description/>
  <dc:language>en-US</dc:language>
  <cp:lastModifiedBy>РЖПТ</cp:lastModifiedBy>
  <dcterms:modified xsi:type="dcterms:W3CDTF">2015-10-08T10:38:24Z</dcterms:modified>
  <cp:revision>31</cp:revision>
  <dc:subject/>
  <dc:title>Слайд 1</dc:title>
</cp:coreProperties>
</file>