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2FC-58C5-41B5-B48B-82ED850F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7EF-49DB-4C57-B5DA-E31E3A6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541-D10D-48DE-84BB-A9ACA81E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AE0-758D-48C6-9A66-5930D8B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F58-6B4A-4E13-BBFF-285811D3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1F6-3A31-464B-890A-59D09E8E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7DD-B55C-4315-B5FA-17CD693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DE7-1632-42E0-A222-CBB6227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A07-858A-4E5A-BABB-39A9F38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F16-A523-4387-A881-3F48D18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D0A-5818-43A2-B409-948DF80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F69-CB35-4F04-977A-7F6C308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23C1-2644-4F0E-933A-82E15423E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57120" y="620640"/>
            <a:ext cx="81043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ктивизация речевого развития на занятиях по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ально-бытовой ориентировке у дете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ршего дошкольного возраста.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2" name="Picture 6" descr="p1_1219091644"/>
          <p:cNvPicPr/>
          <p:nvPr/>
        </p:nvPicPr>
        <p:blipFill>
          <a:blip r:embed="rId1"/>
          <a:stretch/>
        </p:blipFill>
        <p:spPr>
          <a:xfrm>
            <a:off x="2050920" y="3141720"/>
            <a:ext cx="4314960" cy="3151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12000" y="566100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05000"/>
            <a:ext cx="79912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то, что дети с нарушением зрения воспринимают мир по-особенному, в своей работе мы старались активизировать речевую и познавательную деятельность детей разными способами, в том числе через особую позитивно - игровую организацию педагогического общения. Так мы вышли на применение в своей работе образа игрового персонажа Клоу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истема нашей работы с детьми с нарушением зрения была направлена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, переработку и усвоение детьми информации об окружающем мире, что выразилось в развитии речи детей, обогащении их понятийно-словарного запаса (умении отражать в монологической и диалогической речи полученные знания: составлять словесно- описательные рассказы, придумывать сказки, загадки; сочинять стихи), а также в развитии познавательных способностей детей и расширении их кругоз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овершенствование предметно-практической деятельности детей, что способствовало их ранней адаптации и социализации в обществе, придало детям с нарушением зрения уверенность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6"/>
          <p:cNvSpPr/>
          <p:nvPr/>
        </p:nvSpPr>
        <p:spPr>
          <a:xfrm>
            <a:off x="4111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714240" y="1214280"/>
            <a:ext cx="771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ПЕЦИАЛЬНЫХ КОРРЕКЦИОННО-ИНТЕГРИРОВАННЫХ РЕЧЕВЫХ ЗАНЯТИЙ, В ХОДЕ КОТОРЫХ ПРОИСХОДИТ ОБОГАЩЕНИЕ СЛОВАРЯ, АКТИВИЗАЦИЯ ИХ РЕЧИ, НАКОПЛЕНИЕ И УСВОЕНИЕ ЗН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ружающем мире.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785880" y="4440240"/>
            <a:ext cx="2214360" cy="2166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6"/>
          <p:cNvSpPr/>
          <p:nvPr/>
        </p:nvSpPr>
        <p:spPr>
          <a:xfrm>
            <a:off x="785880" y="142920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285920" y="1285920"/>
            <a:ext cx="66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 нарушением зрения очень трудно жить и развиваться в постоянно меняющемся мире. Учитывая актуальные потребности таких особых детей в ранней социализации и адаптации, мы в своей работе сделали упор на развитие речевой деятельности через познавательное развитие детей с нарушением зрения, так как именно в речи отражается накопление и обогащение знаний об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6643800" y="4751280"/>
            <a:ext cx="2500200" cy="210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14240" y="1594800"/>
            <a:ext cx="750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у нашей работы по данной теме мы выстраивали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 личностный подход к детям; учет зрительных диагнозов детей; предотвращение наступления зрительной утомля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гащение окружающей их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ация речевой и познавательной деятельности в течение всего дня (в специальных речевых и дидактических играх, беседах; опытах, экспериментах, экскурсия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специальных коррекционно-интегрированных речевых познавательных занятий, в ходе которых происходит обогащение словаря детей, активизация их речи, накопление и усвоение знаний об окружающе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специальных сюжетно-ролевых игр, в процессе которых происходит обучение детей элементарным навыкам обращения с бытовыми приборами, где дети (при участии взрослых) применяют полученные знания на практике ( накрывают на стол; после игр - пылесосят ко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50328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20720" y="1189080"/>
            <a:ext cx="6127920" cy="4979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57200" y="28584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Взаимодействие работы учителя – дефектолога (тифлопедагога) и воспит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ЦИОННОЕ ЗАНЯТИЕ ПО СБО НА ТЕМУ: «ЭКСКУРСИЯ В АТЕЛЬ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по социально-бытовой ориентировке формируются навыки, дающие детям возможность выполнять различные действия как с помощью зрения, так и без него, учат детей рационально использовать сохранные анализаторы в различных социально-бытов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2184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БЫТОВЫМИ                     ПРИБО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280" y="2060280"/>
            <a:ext cx="7715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флопедагог формирует у детей представления об окружающих их в быту предметах, их назначении и возможностях использования, детям дают представления об основных видах бытового и профессиональ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циально-бытовой ориентировки дошкольников с нарушением зре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6" descr=""/>
          <p:cNvPicPr/>
          <p:nvPr/>
        </p:nvPicPr>
        <p:blipFill>
          <a:blip r:embed="rId1"/>
          <a:stretch/>
        </p:blipFill>
        <p:spPr>
          <a:xfrm>
            <a:off x="566640" y="1085760"/>
            <a:ext cx="8126640" cy="543744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14"/>
          <p:cNvCxnSpPr/>
          <p:nvPr/>
        </p:nvCxnSpPr>
        <p:spPr>
          <a:xfrm flipH="1">
            <a:off x="988200" y="2058480"/>
            <a:ext cx="3960" cy="38196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284200" y="2058840"/>
            <a:ext cx="3600" cy="45792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380772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6" name="Прямая со стрелкой 20"/>
          <p:cNvCxnSpPr/>
          <p:nvPr/>
        </p:nvCxnSpPr>
        <p:spPr>
          <a:xfrm flipH="1">
            <a:off x="533160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  <p:cxnSp>
        <p:nvCxnSpPr>
          <p:cNvPr id="67" name="Прямая со стрелкой 22"/>
          <p:cNvCxnSpPr/>
          <p:nvPr/>
        </p:nvCxnSpPr>
        <p:spPr>
          <a:xfrm flipH="1">
            <a:off x="7160400" y="2134800"/>
            <a:ext cx="3960" cy="305640"/>
          </a:xfrm>
          <a:prstGeom prst="straightConnector1">
            <a:avLst/>
          </a:prstGeom>
          <a:ln w="9360">
            <a:solidFill>
              <a:srgbClr val="85a3a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642960"/>
            <a:ext cx="8929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полнении задания на распознание и определение эмоционального состояния по пиктограмме и умение изобразить данную эмоцию на своем лице, дети с нарушением зрения легко узнавали пиктограммы, на которых были изображены радость, злость, страх, уд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alch63"/>
          <p:cNvPicPr/>
          <p:nvPr/>
        </p:nvPicPr>
        <p:blipFill>
          <a:blip r:embed="rId1"/>
          <a:stretch/>
        </p:blipFill>
        <p:spPr>
          <a:xfrm>
            <a:off x="5929200" y="3786120"/>
            <a:ext cx="208440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38:14Z</dcterms:created>
  <dc:creator>Домик</dc:creator>
  <dc:description/>
  <dc:language>en-US</dc:language>
  <cp:lastModifiedBy>Виктор</cp:lastModifiedBy>
  <dcterms:modified xsi:type="dcterms:W3CDTF">2015-10-08T17:58:12Z</dcterms:modified>
  <cp:revision>185</cp:revision>
  <dc:subject/>
  <dc:title>Слайд 1</dc:title>
</cp:coreProperties>
</file>