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C06-A98B-454D-824F-340D04B3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C3C-1806-4BEC-AFD7-8AEB07D6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47AB-D978-4A94-871C-2331EAAC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5C3-8BCA-4BB7-AF44-5DC5DBD9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E34-FEF4-452C-A8E2-B817EFD6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564-DEBE-4F13-AC5D-AAD88C7E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62D-4171-47FE-A904-6EAE3151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8EF-D947-4191-BE0A-207CC92F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24A-4836-47C3-9A6C-B9F7CCBE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1D8-634B-42E7-9451-271F7AA0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9F6-F161-47A1-A06D-0DA15277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A9C-650A-472B-942B-9BF31E35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F27F-E303-4359-98DB-CFBC6D98A5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57120" y="620640"/>
            <a:ext cx="810432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ктивизация речевого развития на занятиях по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циально-бытовой ориентировке у детей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аршего дошкольного возраста.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2" name="Picture 6" descr="p1_1219091644"/>
          <p:cNvPicPr/>
          <p:nvPr/>
        </p:nvPicPr>
        <p:blipFill>
          <a:blip r:embed="rId1"/>
          <a:stretch/>
        </p:blipFill>
        <p:spPr>
          <a:xfrm>
            <a:off x="2050920" y="3141720"/>
            <a:ext cx="4314960" cy="3151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012000" y="5661000"/>
            <a:ext cx="31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мо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2205000"/>
            <a:ext cx="79912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я то, что дети с нарушением зрения воспринимают мир по-особенному, в своей работе мы старались активизировать речевую и познавательную деятельность детей разными способами, в том числе через особую позитивно - игровую организацию педагогического общения. Так мы вышли на применение в своей работе образа игрового персонажа Клоу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24360" y="155736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система нашей работы с детьми с нарушением зрения была направлена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е, переработку и усвоение детьми информации об окружающем мире, что выразилось в развитии речи детей, обогащении их понятийно-словарного запаса (умении отражать в монологической и диалогической речи полученные знания: составлять словесно- описательные рассказы, придумывать сказки, загадки; сочинять стихи), а также в развитии познавательных способностей детей и расширении их кругоз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совершенствование предметно-практической деятельности детей, что способствовало их ранней адаптации и социализации в обществе, придало детям с нарушением зрения уверенность в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6"/>
          <p:cNvSpPr/>
          <p:nvPr/>
        </p:nvSpPr>
        <p:spPr>
          <a:xfrm>
            <a:off x="41115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714240" y="1214280"/>
            <a:ext cx="7715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ПЕЦИАЛЬНЫХ КОРРЕКЦИОННО-ИНТЕГРИРОВАННЫХ РЕЧЕВЫХ ЗАНЯТИЙ, В ХОДЕ КОТОРЫХ ПРОИСХОДИТ ОБОГАЩЕНИЕ СЛОВАРЯ, АКТИВИЗАЦИЯ ИХ РЕЧИ, НАКОПЛЕНИЕ И УСВОЕНИЕ ЗНАН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13880" y="1714680"/>
            <a:ext cx="785844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кружающем мире.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785880" y="4440240"/>
            <a:ext cx="2214360" cy="2166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6"/>
          <p:cNvSpPr/>
          <p:nvPr/>
        </p:nvSpPr>
        <p:spPr>
          <a:xfrm>
            <a:off x="785880" y="142920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1285920" y="1285920"/>
            <a:ext cx="66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с нарушением зрения очень трудно жить и развиваться в постоянно меняющемся мире. Учитывая актуальные потребности таких особых детей в ранней социализации и адаптации, мы в своей работе сделали упор на развитие речевой деятельности через познавательное развитие детей с нарушением зрения, так как именно в речи отражается накопление и обогащение знаний об окружающей действ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6643800" y="4751280"/>
            <a:ext cx="2500200" cy="210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714240" y="1594800"/>
            <a:ext cx="7500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у нашей работы по данной теме мы выстраивали на следующих принци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 личностный подход к детям; учет зрительных диагнозов детей; предотвращение наступления зрительной утомляе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гащение окружающей их предметно-развивающей ср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изация речевой и познавательной деятельности в течение всего дня (в специальных речевых и дидактических играх, беседах; опытах, экспериментах, экскурсия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е специальных коррекционно-интегрированных речевых познавательных занятий, в ходе которых происходит обогащение словаря детей, активизация их речи, накопление и усвоение знаний об окружающем ми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специальных сюжетно-ролевых игр, в процессе которых происходит обучение детей элементарным навыкам обращения с бытовыми приборами, где дети (при участии взрослых) применяют полученные знания на практике ( накрывают на стол; после игр - пылесосят ков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14240" y="50328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ЦИПЫ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620720" y="1189080"/>
            <a:ext cx="6127920" cy="49798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357200" y="28584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Lucida Sans Unicode"/>
              </a:rPr>
              <a:t>Взаимодействие работы учителя – дефектолога (тифлопедагога) и воспит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РЕКЦИОННОЕ ЗАНЯТИЕ ПО СБО НА ТЕМУ: «ЭКСКУРСИЯ В АТЕЛЬ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1280" y="1557000"/>
            <a:ext cx="8075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нятиях по социально-бытовой ориентировке формируются навыки, дающие детям возможность выполнять различные действия как с помощью зрения, так и без него, учат детей рационально использовать сохранные анализаторы в различных социально-бытовых ситуац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21844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БЫТОВЫМИ                     ПРИБО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71280" y="2060280"/>
            <a:ext cx="7715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флопедагог формирует у детей представления об окружающих их в быту предметах, их назначении и возможностях использования, детям дают представления об основных видах бытового и профессионального тр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социально-бытовой ориентировки дошкольников с нарушением зрения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Содержимое 6" descr=""/>
          <p:cNvPicPr/>
          <p:nvPr/>
        </p:nvPicPr>
        <p:blipFill>
          <a:blip r:embed="rId1"/>
          <a:stretch/>
        </p:blipFill>
        <p:spPr>
          <a:xfrm>
            <a:off x="566640" y="1085760"/>
            <a:ext cx="8126640" cy="5437440"/>
          </a:xfrm>
          <a:prstGeom prst="rect">
            <a:avLst/>
          </a:prstGeom>
          <a:ln w="0">
            <a:noFill/>
          </a:ln>
        </p:spPr>
      </p:pic>
      <p:cxnSp>
        <p:nvCxnSpPr>
          <p:cNvPr id="63" name="Прямая со стрелкой 14"/>
          <p:cNvCxnSpPr/>
          <p:nvPr/>
        </p:nvCxnSpPr>
        <p:spPr>
          <a:xfrm flipH="1">
            <a:off x="988200" y="2058480"/>
            <a:ext cx="3960" cy="381960"/>
          </a:xfrm>
          <a:prstGeom prst="straightConnector1">
            <a:avLst/>
          </a:prstGeom>
          <a:ln w="9360">
            <a:solidFill>
              <a:srgbClr val="85a3a5"/>
            </a:solidFill>
            <a:miter/>
            <a:tailEnd len="med" type="arrow" w="med"/>
          </a:ln>
        </p:spPr>
      </p:cxnSp>
      <p:cxnSp>
        <p:nvCxnSpPr>
          <p:cNvPr id="64" name="Прямая со стрелкой 16"/>
          <p:cNvCxnSpPr/>
          <p:nvPr/>
        </p:nvCxnSpPr>
        <p:spPr>
          <a:xfrm flipH="1">
            <a:off x="2284200" y="2058840"/>
            <a:ext cx="3600" cy="457920"/>
          </a:xfrm>
          <a:prstGeom prst="straightConnector1">
            <a:avLst/>
          </a:prstGeom>
          <a:ln w="9360">
            <a:solidFill>
              <a:srgbClr val="85a3a5"/>
            </a:solidFill>
            <a:miter/>
            <a:tailEnd len="med" type="arrow" w="med"/>
          </a:ln>
        </p:spPr>
      </p:cxnSp>
      <p:cxnSp>
        <p:nvCxnSpPr>
          <p:cNvPr id="65" name="Прямая со стрелкой 18"/>
          <p:cNvCxnSpPr/>
          <p:nvPr/>
        </p:nvCxnSpPr>
        <p:spPr>
          <a:xfrm flipH="1">
            <a:off x="3807720" y="2134800"/>
            <a:ext cx="3960" cy="305640"/>
          </a:xfrm>
          <a:prstGeom prst="straightConnector1">
            <a:avLst/>
          </a:prstGeom>
          <a:ln w="9360">
            <a:solidFill>
              <a:srgbClr val="85a3a5"/>
            </a:solidFill>
            <a:miter/>
            <a:tailEnd len="med" type="arrow" w="med"/>
          </a:ln>
        </p:spPr>
      </p:cxnSp>
      <p:cxnSp>
        <p:nvCxnSpPr>
          <p:cNvPr id="66" name="Прямая со стрелкой 20"/>
          <p:cNvCxnSpPr/>
          <p:nvPr/>
        </p:nvCxnSpPr>
        <p:spPr>
          <a:xfrm flipH="1">
            <a:off x="5331600" y="2134800"/>
            <a:ext cx="3960" cy="305640"/>
          </a:xfrm>
          <a:prstGeom prst="straightConnector1">
            <a:avLst/>
          </a:prstGeom>
          <a:ln w="9360">
            <a:solidFill>
              <a:srgbClr val="85a3a5"/>
            </a:solidFill>
            <a:miter/>
            <a:tailEnd len="med" type="arrow" w="med"/>
          </a:ln>
        </p:spPr>
      </p:cxnSp>
      <p:cxnSp>
        <p:nvCxnSpPr>
          <p:cNvPr id="67" name="Прямая со стрелкой 22"/>
          <p:cNvCxnSpPr/>
          <p:nvPr/>
        </p:nvCxnSpPr>
        <p:spPr>
          <a:xfrm flipH="1">
            <a:off x="7160400" y="2134800"/>
            <a:ext cx="3960" cy="305640"/>
          </a:xfrm>
          <a:prstGeom prst="straightConnector1">
            <a:avLst/>
          </a:prstGeom>
          <a:ln w="9360">
            <a:solidFill>
              <a:srgbClr val="85a3a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360" y="642960"/>
            <a:ext cx="8929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ыполнении задания на распознание и определение эмоционального состояния по пиктограмме и умение изобразить данную эмоцию на своем лице, дети с нарушением зрения легко узнавали пиктограммы, на которых были изображены радость, злость, страх, уди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malch63"/>
          <p:cNvPicPr/>
          <p:nvPr/>
        </p:nvPicPr>
        <p:blipFill>
          <a:blip r:embed="rId1"/>
          <a:stretch/>
        </p:blipFill>
        <p:spPr>
          <a:xfrm>
            <a:off x="5929200" y="3786120"/>
            <a:ext cx="2084400" cy="2857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6:38:14Z</dcterms:created>
  <dc:creator>Домик</dc:creator>
  <dc:description/>
  <dc:language>en-US</dc:language>
  <cp:lastModifiedBy>Виктор</cp:lastModifiedBy>
  <dcterms:modified xsi:type="dcterms:W3CDTF">2015-10-08T17:58:12Z</dcterms:modified>
  <cp:revision>185</cp:revision>
  <dc:subject/>
  <dc:title>Слайд 1</dc:title>
</cp:coreProperties>
</file>