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8EB-5A79-4E59-820F-0CD07A74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887-5887-4042-A884-FB8AD773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E3C-B118-473F-B56F-1D097D0C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122-AA80-46A7-9DFD-8724E621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B477-7F3C-4B19-ADA6-B165C3AB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1EEA-2EC1-440E-B08B-EA17EA98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2315-FD51-4029-B299-F079281C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91F5-908F-48E5-924A-EE00B1E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EB1D-4FA5-45AA-949F-1A40375F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DF60-A18A-4251-8FE6-6A63E517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DAEA-0B7A-427A-BE60-DBDE81D9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4A1-D517-447C-A1ED-1FE8A5D8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F2BD-1B93-4C98-8913-3ED592F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FC6A-44EE-4793-BFE5-5EB64D2D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07C4-D9BF-469B-9788-1796E1A5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8F4D-8289-4352-A377-64B30098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2504-C548-43A2-AB18-EA336A84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70E-37D0-4372-AF78-CF8F032A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D89-17B8-4564-8DA8-527D4107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311-9999-45C0-B808-0AF3399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822-BAFA-4118-B55B-BF22E682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A3B-E906-4A4E-A413-8EA888F1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3F3-702F-4ED0-B12A-9617F7D4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77F-8B05-4E41-BCC7-96D7548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BFDF-D569-4AC8-BDD2-A7040064ED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EC0A-D96D-44F1-90CD-583C25D06C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«Детский сад компенсирующего вида№32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676520" y="198108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Школа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ветофорных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нау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7"/>
          <p:cNvGrpSpPr/>
          <p:nvPr/>
        </p:nvGrpSpPr>
        <p:grpSpPr>
          <a:xfrm>
            <a:off x="-48960" y="2561400"/>
            <a:ext cx="2931840" cy="3634200"/>
            <a:chOff x="-48960" y="2561400"/>
            <a:chExt cx="2931840" cy="3634200"/>
          </a:xfrm>
        </p:grpSpPr>
        <p:pic>
          <p:nvPicPr>
            <p:cNvPr id="98" name="Picture 5" descr="C:\Users\User\Desktop\ЦОР 2010Г\материал\ukazateli_032_big.gif"/>
            <p:cNvPicPr/>
            <p:nvPr/>
          </p:nvPicPr>
          <p:blipFill>
            <a:blip r:embed="rId1"/>
            <a:stretch/>
          </p:blipFill>
          <p:spPr>
            <a:xfrm rot="20784600">
              <a:off x="645840" y="2742840"/>
              <a:ext cx="1758960" cy="17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Группа 16"/>
            <p:cNvGrpSpPr/>
            <p:nvPr/>
          </p:nvGrpSpPr>
          <p:grpSpPr>
            <a:xfrm>
              <a:off x="-48960" y="3467520"/>
              <a:ext cx="2931840" cy="2728080"/>
              <a:chOff x="-48960" y="3467520"/>
              <a:chExt cx="2931840" cy="2728080"/>
            </a:xfrm>
          </p:grpSpPr>
          <p:sp>
            <p:nvSpPr>
              <p:cNvPr id="100" name="Овал 15"/>
              <p:cNvSpPr/>
              <p:nvPr/>
            </p:nvSpPr>
            <p:spPr>
              <a:xfrm>
                <a:off x="396720" y="4089240"/>
                <a:ext cx="2009880" cy="1462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9595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Picture 7" descr="C:\Users\User\Desktop\ЦОР 2010Г\материал\zapreshaychie_014_big.gif"/>
              <p:cNvPicPr/>
              <p:nvPr/>
            </p:nvPicPr>
            <p:blipFill>
              <a:blip r:embed="rId2"/>
              <a:stretch/>
            </p:blipFill>
            <p:spPr>
              <a:xfrm rot="1929000">
                <a:off x="228600" y="3967200"/>
                <a:ext cx="2376360" cy="172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" name="Rectangle 11"/>
          <p:cNvSpPr/>
          <p:nvPr/>
        </p:nvSpPr>
        <p:spPr>
          <a:xfrm>
            <a:off x="304920" y="5803920"/>
            <a:ext cx="853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тарший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Агаева Але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:\!CKAЧKA!\9b0a7a3fa41e.png"/>
          <p:cNvPicPr/>
          <p:nvPr/>
        </p:nvPicPr>
        <p:blipFill>
          <a:blip r:embed="rId1"/>
          <a:stretch/>
        </p:blipFill>
        <p:spPr>
          <a:xfrm>
            <a:off x="5037120" y="436680"/>
            <a:ext cx="3227400" cy="3227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ем ребята предостере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е срочно правила дви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не волнов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ень родит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спокойно мч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ицей водите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C:\Users\User\Desktop\ЦОР 2010Г\мен.png"/>
          <p:cNvPicPr/>
          <p:nvPr/>
        </p:nvPicPr>
        <p:blipFill>
          <a:blip r:embed="rId2"/>
          <a:stretch/>
        </p:blipFill>
        <p:spPr>
          <a:xfrm>
            <a:off x="0" y="0"/>
            <a:ext cx="2071800" cy="276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User\Desktop\ЦОР 2010Г\.png"/>
          <p:cNvPicPr/>
          <p:nvPr/>
        </p:nvPicPr>
        <p:blipFill>
          <a:blip r:embed="rId3"/>
          <a:stretch/>
        </p:blipFill>
        <p:spPr>
          <a:xfrm rot="18944400">
            <a:off x="3733560" y="304560"/>
            <a:ext cx="979200" cy="1425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User\Desktop\ЦОР 2010Г\4444.png"/>
          <p:cNvPicPr/>
          <p:nvPr/>
        </p:nvPicPr>
        <p:blipFill>
          <a:blip r:embed="rId4"/>
          <a:stretch/>
        </p:blipFill>
        <p:spPr>
          <a:xfrm>
            <a:off x="7315200" y="4419720"/>
            <a:ext cx="1571760" cy="228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User\Desktop\ЦОР 2010Г\4444.png"/>
          <p:cNvPicPr/>
          <p:nvPr/>
        </p:nvPicPr>
        <p:blipFill>
          <a:blip r:embed="rId5"/>
          <a:stretch/>
        </p:blipFill>
        <p:spPr>
          <a:xfrm>
            <a:off x="8264520" y="0"/>
            <a:ext cx="879480" cy="127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User\Desktop\ЦОР 2010Г\.png"/>
          <p:cNvPicPr/>
          <p:nvPr/>
        </p:nvPicPr>
        <p:blipFill>
          <a:blip r:embed="rId6"/>
          <a:stretch/>
        </p:blipFill>
        <p:spPr>
          <a:xfrm>
            <a:off x="304920" y="4605480"/>
            <a:ext cx="1547640" cy="22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7339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али мы на переходе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Перед нами светофо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И при всем честном народ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Смотрит он на нас в упор.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расный глаз его открылся,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Значит, хочет он сказать: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Как бы ты не торопился,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Должен ты сейчас стоять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100_3918"/>
          <p:cNvPicPr/>
          <p:nvPr/>
        </p:nvPicPr>
        <p:blipFill>
          <a:blip r:embed="rId1"/>
          <a:stretch/>
        </p:blipFill>
        <p:spPr>
          <a:xfrm>
            <a:off x="5486400" y="685800"/>
            <a:ext cx="1828800" cy="25430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4724280" y="373392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0ea00"/>
                </a:solidFill>
                <a:latin typeface="Times New Roman"/>
              </a:rPr>
              <a:t>Вот мигает желтым глазом. </a:t>
            </a:r>
            <a:br>
              <a:rPr sz="1600"/>
            </a:br>
            <a:r>
              <a:rPr b="0" lang="ru-RU" sz="1600" spc="-1" strike="noStrike">
                <a:solidFill>
                  <a:srgbClr val="f0ea00"/>
                </a:solidFill>
                <a:latin typeface="Times New Roman"/>
              </a:rPr>
              <a:t>            Приготовься, говорит! </a:t>
            </a:r>
            <a:br>
              <a:rPr sz="1600"/>
            </a:br>
            <a:r>
              <a:rPr b="0" lang="ru-RU" sz="1600" spc="-1" strike="noStrike">
                <a:solidFill>
                  <a:srgbClr val="f0ea00"/>
                </a:solidFill>
                <a:latin typeface="Times New Roman"/>
              </a:rPr>
              <a:t>           Как закрою этот – разом </a:t>
            </a:r>
            <a:br>
              <a:rPr sz="1600"/>
            </a:br>
            <a:r>
              <a:rPr b="0" lang="ru-RU" sz="1600" spc="-1" strike="noStrike">
                <a:solidFill>
                  <a:srgbClr val="f0ea00"/>
                </a:solidFill>
                <a:latin typeface="Times New Roman"/>
              </a:rPr>
              <a:t>            Будет третий глаз открыт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2afa2a"/>
                </a:solidFill>
                <a:latin typeface="Times New Roman"/>
              </a:rPr>
              <a:t>Третий глаз горит зеленым, </a:t>
            </a:r>
            <a:br>
              <a:rPr sz="1600"/>
            </a:br>
            <a:r>
              <a:rPr b="0" lang="ru-RU" sz="1600" spc="-1" strike="noStrike">
                <a:solidFill>
                  <a:srgbClr val="2afa2a"/>
                </a:solidFill>
                <a:latin typeface="Times New Roman"/>
              </a:rPr>
              <a:t> Все машины встали в ряд. </a:t>
            </a:r>
            <a:br>
              <a:rPr sz="1600"/>
            </a:br>
            <a:r>
              <a:rPr b="0" lang="ru-RU" sz="1600" spc="-1" strike="noStrike">
                <a:solidFill>
                  <a:srgbClr val="2afa2a"/>
                </a:solidFill>
                <a:latin typeface="Times New Roman"/>
              </a:rPr>
              <a:t> Можем мы идти, Ванюша, </a:t>
            </a:r>
            <a:br>
              <a:rPr sz="1600"/>
            </a:br>
            <a:r>
              <a:rPr b="0" lang="ru-RU" sz="1600" spc="-1" strike="noStrike">
                <a:solidFill>
                  <a:srgbClr val="2afa2a"/>
                </a:solidFill>
                <a:latin typeface="Times New Roman"/>
              </a:rPr>
              <a:t> Мама с папой говоря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WP_20130913_002"/>
          <p:cNvPicPr/>
          <p:nvPr/>
        </p:nvPicPr>
        <p:blipFill>
          <a:blip r:embed="rId1"/>
          <a:stretch/>
        </p:blipFill>
        <p:spPr>
          <a:xfrm>
            <a:off x="5181480" y="1523880"/>
            <a:ext cx="2590920" cy="1976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457200" y="1142640"/>
            <a:ext cx="281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1676520" y="304920"/>
            <a:ext cx="6943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Подземный пешеходный переход»</a:t>
            </a:r>
            <a:endParaRPr b="0" lang="en-US" sz="16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4114800" y="4495680"/>
            <a:ext cx="4572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ород он не украшает,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Но машинам не меша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762120" y="1523880"/>
            <a:ext cx="4572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Знает каждый пешеход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Про подземный этот ход.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876920" y="2057040"/>
            <a:ext cx="4114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десь машину не груз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аркуй, не тормо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от знак всем говор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Тот не пра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то здесь стои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2971800" y="0"/>
            <a:ext cx="3886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Остановка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рещена»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904760" cy="2836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P_20130913_017"/>
          <p:cNvPicPr/>
          <p:nvPr/>
        </p:nvPicPr>
        <p:blipFill>
          <a:blip r:embed="rId1"/>
          <a:stretch/>
        </p:blipFill>
        <p:spPr>
          <a:xfrm>
            <a:off x="457200" y="990720"/>
            <a:ext cx="1905120" cy="255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сли видишь этот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най, что он не просто 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тобы не было пробл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ступи дорогу вс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3276720" y="2286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Уступи дорогу»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WP_20130911_038"/>
          <p:cNvPicPr/>
          <p:nvPr/>
        </p:nvPicPr>
        <p:blipFill>
          <a:blip r:embed="rId1"/>
          <a:stretch/>
        </p:blipFill>
        <p:spPr>
          <a:xfrm>
            <a:off x="588960" y="274680"/>
            <a:ext cx="3203640" cy="239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WP_20130911_042"/>
          <p:cNvPicPr/>
          <p:nvPr/>
        </p:nvPicPr>
        <p:blipFill>
          <a:blip r:embed="rId2"/>
          <a:stretch/>
        </p:blipFill>
        <p:spPr>
          <a:xfrm>
            <a:off x="3948120" y="274680"/>
            <a:ext cx="279396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WP_20130911_049"/>
          <p:cNvPicPr/>
          <p:nvPr/>
        </p:nvPicPr>
        <p:blipFill>
          <a:blip r:embed="rId3"/>
          <a:stretch/>
        </p:blipFill>
        <p:spPr>
          <a:xfrm>
            <a:off x="2867040" y="3429000"/>
            <a:ext cx="3162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100_3909"/>
          <p:cNvPicPr/>
          <p:nvPr/>
        </p:nvPicPr>
        <p:blipFill>
          <a:blip r:embed="rId1"/>
          <a:stretch/>
        </p:blipFill>
        <p:spPr>
          <a:xfrm>
            <a:off x="609480" y="279360"/>
            <a:ext cx="3284640" cy="2463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100_3912"/>
          <p:cNvPicPr/>
          <p:nvPr/>
        </p:nvPicPr>
        <p:blipFill>
          <a:blip r:embed="rId2"/>
          <a:stretch/>
        </p:blipFill>
        <p:spPr>
          <a:xfrm>
            <a:off x="4046400" y="291960"/>
            <a:ext cx="3202200" cy="245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00_3911"/>
          <p:cNvPicPr/>
          <p:nvPr/>
        </p:nvPicPr>
        <p:blipFill>
          <a:blip r:embed="rId3"/>
          <a:stretch/>
        </p:blipFill>
        <p:spPr>
          <a:xfrm>
            <a:off x="2286000" y="3048120"/>
            <a:ext cx="3032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066680" y="1676520"/>
            <a:ext cx="7239240" cy="31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01:30:11Z</dcterms:created>
  <dc:creator>аня</dc:creator>
  <dc:description/>
  <dc:language>en-US</dc:language>
  <cp:lastModifiedBy>Аленка Агаева</cp:lastModifiedBy>
  <dcterms:modified xsi:type="dcterms:W3CDTF">2015-10-08T03:39:06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