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C92-CBFD-48F1-89B8-FCB48359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9EB-F809-4F9C-A2C4-EA6C65B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DF4-EBE4-467E-944C-101F264B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AE3-46E5-4D28-A03E-99408CC9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AF58-AD39-4625-825A-3794927D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2AD0-94C8-4868-AE62-E0AD5A2A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B047-D85E-419A-B6F4-299143EE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BBB5-9BAE-46BA-9F74-5CB61C73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F94F-9CD2-48FC-A7B2-F2A02597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B8B-DA70-48DD-92D7-ABC9E3E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A117-959F-4152-B469-05A7BDF8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0E7-D952-4AFD-A93E-6F2324C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A15-23F5-4460-864C-D622F4CE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A04-C64A-4746-9062-241CC6C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E55D-40CF-446A-BCE1-3B2902C6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49D9-4855-436E-9C68-378CCD8B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3FB-F91C-4959-867C-B0EC5B48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881-915D-495C-BFE8-FB02A3D6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0BC-C99A-405A-B95B-669C8EA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C07-4BEB-4085-91AB-435507BC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045-58CA-4B2D-BED7-BC3FFC1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D57-E60F-4D52-AD0E-8B95466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679-420D-4671-A881-0CB76400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549-2CED-429B-B732-6417B39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F623-D544-44F0-9074-CF54F05B7FE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661-B3DF-4C3E-B6D3-FE4261604EE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692360"/>
            <a:ext cx="8280360" cy="26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Трек 1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571680" y="1628640"/>
            <a:ext cx="8286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b76"/>
                </a:solidFill>
                <a:latin typeface="Arial"/>
              </a:rPr>
              <a:t>СТРУКТУРА ИНТЕГРИРОВАННОГО ЗАНЯТИЯ</a:t>
            </a:r>
            <a:r>
              <a:rPr b="1" i="1" lang="ru-RU" sz="66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3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 ВНИМ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-35712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1285920" y="57168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 ВНИМАНИЕ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071720" y="46432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Arial"/>
              </a:rPr>
              <a:t>Видеоматериалы разрешены к использованию </a:t>
            </a:r>
            <a:endParaRPr b="0" lang="en-US" sz="18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b76"/>
                </a:solidFill>
                <a:latin typeface="Arial"/>
              </a:rPr>
              <a:t>Вводная ча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7880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Создаётся проблемная ситуация, стимулирующая детей к поиску ее реш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Трек 2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715680" cy="70009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214200" y="2286000"/>
            <a:ext cx="921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Создаётся проблемная ситуация, стимулирующая детей к поиску ее решения.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2000160" y="285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Вводная часть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86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art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24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12944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Детям даются знания для решения проблемного вопроса на основе различных образовательных областей с опорой на нагляд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Трек 3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-285840" y="0"/>
            <a:ext cx="10001520" cy="700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1000080" y="2142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Основная часть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714240" y="1571760"/>
            <a:ext cx="814392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Детям даются знания для решения проблемного вопроса на основе различных образовательных областей с опорой на наглядность.</a:t>
            </a:r>
            <a:endParaRPr b="0" lang="en-US" sz="3200" spc="-1" strike="noStrike">
              <a:solidFill>
                <a:srgbClr val="003b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25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art2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5188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ключительная  час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71640" y="2276640"/>
            <a:ext cx="712944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Практическая деятельность дет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Трек 4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-50004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7"/>
          <p:cNvSpPr/>
          <p:nvPr/>
        </p:nvSpPr>
        <p:spPr>
          <a:xfrm>
            <a:off x="1428840" y="42876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ключительная  часть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214200" y="2428920"/>
            <a:ext cx="835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Практическая деятельность детей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44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art33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1728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476360" y="917640"/>
            <a:ext cx="59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pic>
        <p:nvPicPr>
          <p:cNvPr id="184" name="Трек 5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-50004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6"/>
          <p:cNvSpPr/>
          <p:nvPr/>
        </p:nvSpPr>
        <p:spPr>
          <a:xfrm>
            <a:off x="2223360" y="142884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РЕФЛЕКСИЯ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24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art44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604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37:52Z</dcterms:created>
  <dc:creator>Konstantin</dc:creator>
  <dc:description/>
  <dc:language>en-US</dc:language>
  <cp:lastModifiedBy>Konstantin</cp:lastModifiedBy>
  <dcterms:modified xsi:type="dcterms:W3CDTF">2015-10-08T07:37:15Z</dcterms:modified>
  <cp:revision>85</cp:revision>
  <dc:subject/>
  <dc:title>Педагогические условия развития детского конструкторского творчества в процессе лепки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