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A9A-C97D-4C84-BA58-0D230C87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22C-2277-4D71-ADE2-CCB122A4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CFC-04F8-449D-BF56-ED612995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3A9-E18A-4748-BE37-7EF61B06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9722-497C-426A-AE29-71987FA0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C47-EF02-4B81-9CB7-BF5BC337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87F-F7D2-48D9-A637-A2417342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A8E4-D761-4181-A5CF-4208CFD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EFD-FACB-4110-93A1-84198533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76A4-E206-404F-BABA-792A65F8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1208-F8E5-4597-97E4-1C6088F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A7F-1B15-435C-A011-7DB45DCD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4F14-DAB9-438D-805A-FE685AB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2FC1-C4A2-4B04-8344-285AE9A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310-10F9-4FB2-B714-F87EA0F9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C88-488A-4927-8928-461889C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3FC3-AF69-4B51-BE3B-07F38C8F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AE9-EEE0-4916-A543-38C1568A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641-A0B7-4B99-9758-9D7B7BD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13-E6B8-4742-91AB-D48BDEB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D06-DEC1-45CD-A9DA-FA5DF1E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7D9-692B-4F9D-8D93-1E64A90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1AD-D59E-4BAE-8996-2EDBB5E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02B-552B-41AB-A537-31DE90E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7A3-F3C8-4078-A162-D9EF7F36ECF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003b76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003b76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1F18-9970-480C-A3B3-502AFECA7DB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692360"/>
            <a:ext cx="8280360" cy="26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Трек 1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571680" y="1628640"/>
            <a:ext cx="8286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b76"/>
                </a:solidFill>
                <a:latin typeface="Arial"/>
              </a:rPr>
              <a:t>СТРУКТУРА ИНТЕГРИРОВАННОГО ЗАНЯТИЯ</a:t>
            </a:r>
            <a:r>
              <a:rPr b="1" i="1" lang="ru-RU" sz="66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-35712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1285920" y="57168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071720" y="46432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Arial"/>
              </a:rPr>
              <a:t>Видеоматериалы разрешены к использованию </a:t>
            </a:r>
            <a:endParaRPr b="0" lang="en-US" sz="18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b76"/>
                </a:solidFill>
                <a:latin typeface="Arial"/>
              </a:rPr>
              <a:t>Вводная ча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7880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Создаётся проблемная ситуация, стимулирующая детей к поиску ее реш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Трек 2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715680" cy="7000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214200" y="2286000"/>
            <a:ext cx="921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Создаётся проблемная ситуация, стимулирующая детей к поиску ее решения.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2000160" y="285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Вводная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86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art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24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12944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Детям даются знания для решения проблемного вопроса на основе различных образовательных областей с опорой на нагляд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Трек 3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-285840" y="0"/>
            <a:ext cx="10001520" cy="700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1000080" y="2142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Основная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714240" y="1571760"/>
            <a:ext cx="814392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Детям даются знания для решения проблемного вопроса на основе различных образовательных областей с опорой на наглядность.</a:t>
            </a: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25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art2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5188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ключительная  час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71640" y="2276640"/>
            <a:ext cx="712944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Практическая деятельность дет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Трек 4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-50004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7"/>
          <p:cNvSpPr/>
          <p:nvPr/>
        </p:nvSpPr>
        <p:spPr>
          <a:xfrm>
            <a:off x="1428840" y="428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Заключительная  часть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214200" y="2428920"/>
            <a:ext cx="835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Практическая деятельность детей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44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art33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1728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7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476360" y="917640"/>
            <a:ext cx="59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  <p:pic>
        <p:nvPicPr>
          <p:cNvPr id="184" name="Трек 5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-500040" y="0"/>
            <a:ext cx="10001160" cy="70009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6"/>
          <p:cNvSpPr/>
          <p:nvPr/>
        </p:nvSpPr>
        <p:spPr>
          <a:xfrm>
            <a:off x="2223360" y="142884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b76"/>
                </a:solidFill>
                <a:latin typeface="Arial"/>
              </a:rPr>
              <a:t>РЕФЛЕКСИЯ</a:t>
            </a:r>
            <a:endParaRPr b="0" lang="en-US" sz="5400" spc="-1" strike="noStrike">
              <a:solidFill>
                <a:srgbClr val="003b7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24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art4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604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37:52Z</dcterms:created>
  <dc:creator>Konstantin</dc:creator>
  <dc:description/>
  <dc:language>en-US</dc:language>
  <cp:lastModifiedBy>Konstantin</cp:lastModifiedBy>
  <dcterms:modified xsi:type="dcterms:W3CDTF">2015-10-08T07:37:15Z</dcterms:modified>
  <cp:revision>85</cp:revision>
  <dc:subject/>
  <dc:title>Педагогические условия развития детского конструкторского творчества в процессе лепки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