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4C9D-066C-468B-BA02-A64901D747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31B0-9832-4E3B-9885-AD7B8426352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0E8-9B44-4AD5-87F8-DA1AEA5C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C43-264D-4AD6-B622-79F65850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9E6C9-61DC-40F0-9C92-DEBBBA35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3EAD0-0B0C-4644-915C-AFD0F5A8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D9552-48E2-412E-A287-9B55D3C8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6EC5A-C4B6-412C-ADD9-F9994A7B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74B76-00AF-421B-A379-F7CC0F67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9144B-8228-4A03-806E-1EC40F13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82712-F068-4745-B57A-E8E8632B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E1C59-CBDF-4790-97DB-8BB8D59B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27D20-F04E-4823-9877-B3722B8A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F13-9CC2-436E-B029-E319A83F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B98-9819-4831-AEE2-FCD59A19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1A9E-2FCA-46CA-972C-3106CDDA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D829-2BC8-4A18-BF4A-42F739FA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8279-6ACA-4929-9831-D676E0C1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D44D-9E5A-4EC0-8FCB-3E042175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B58E-49F5-4D25-A8AF-01F5A62B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56AE-05B4-4DE3-9466-D85E723A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8426-9B72-4E97-8C29-3285B3AF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881-2BF5-41A2-AF14-FFA3A9B6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016C-57EB-469C-9FE2-E342A377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C86E-7D96-4253-8EAF-4F2EB1C1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1E53-6B76-41A3-AD9F-18BCCA8D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21D5-767E-417B-B93C-9718E47D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4EAD-9CD1-4FD7-B33B-1A0B118B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4F80F-8AB2-4BC1-BDFB-2EDCDDB8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F37CD-1ACE-4CBC-B055-FEE94182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838FB-A7EF-477D-BE2B-6DDF5774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1063-0519-4614-968B-9E3D914D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31750-AC24-4862-BB57-92E87ABF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BE8-BC2E-4D40-A61C-9C52FAFF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A0A07-8938-4093-885B-81FC3AE2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7CB0-4D60-4461-B9EF-5155354F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E224-E9A3-43AF-9A1F-58D8FDAE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9866-FCEC-4722-8F97-59034473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2A440-BD25-4522-94B2-FF2F09F7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8485D-E672-479C-913C-2635A0B1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DB1F0-CE82-4A4B-8DCB-D675588A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F2EBF-7B0D-4505-9FD5-C393B30E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D5C45-85C0-4430-94EF-0BF8A20F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DF5F3-0C55-4F7D-819D-39199328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05D-5F6F-48D0-B78B-6B3F02D1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949E3-A072-44CC-9A65-43A6FF98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2C832-54DB-4EC2-9598-6937E8CD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641C2-3128-4E60-AD5F-14A5BBE2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C8796-48CA-4F8B-ACC0-76BA4C6F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D6F04-76F3-4DD9-8098-80B59CD8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3256F-8F8B-4616-9DC9-C79DEB24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7B7E9-3C64-4292-827A-5A072FCE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E1BBB-CB42-4D60-BFAC-2C034E45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80C15-1225-4755-B728-D205D0BB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74052-516E-4B87-9429-DD596970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A4E2-ACD8-401B-BDD7-199A1FF1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B0FC6-A193-4A83-BD6B-03FC8266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15E1F-E09A-4AB2-92A4-032F318E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034BB-2E81-499A-BB0B-B76EC331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8D508-9F64-494C-B41D-95EAB58F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9FE0D-A2CB-485C-927E-F4420610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7356B-8FC6-4370-8EDC-65A78705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13BEF-8C1C-4F9E-BC4E-309B3955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5FC99-75B7-4177-83B9-7F09D624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66D1B-E8DE-445B-9216-50950DEF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4D2DD-DA78-480E-80F6-96A67103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1A3-DCEA-40EC-BAED-72B2CD5D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32B76-F4E5-4E5C-9531-C8C8A912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E413D-3636-4FFA-BD90-177AB8C5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730F0-F643-4BA5-B1B6-DAB46D34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B6836-ADA5-45C6-AE35-3CB6725C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D4650-3D32-4E2F-8C88-34F8D01D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18C3D-026B-4A60-81D1-D037FE82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EC833-5EE1-49B6-B1AE-A841BC0A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BC413-E3C3-4E72-9635-C9EECCA0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05E01-CCB3-4517-A34F-1A251B20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44083-A88E-43AB-8EC9-0E68B856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F18-3976-4384-932B-026B3E31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BAF85-6153-4AA0-9292-ABD62404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17379-03E0-47C5-A9B9-0EE0E286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D7BA3-5110-4EC2-B785-7E892F7C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B4FDC-0EAC-4362-ABF7-E62DFB91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8FF6D-B6F9-4837-97D1-4B2779A0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588FB-E79C-4B31-B0F9-EB1DC770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4F2B8-A179-4C57-ACF6-DC2688E4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13871-400A-4AA4-A1C3-F1F70582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345D8-7685-45F7-8BAD-3980C043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C98D0-8C03-4AF1-87B4-D8B164A4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25D-41E6-4602-BCD6-3174C2F9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B9C08-D3FE-44C6-9C39-6730FA8C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EA0B9-D906-4434-A920-9B2E84AD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6A7EA-A6AD-47E2-A155-17FD8A4E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42F71-511E-46D8-903F-B4499770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EF818-D7FA-4A63-921B-47062A3E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4B617-E5FD-4A1C-91AC-03406055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7629F-B627-4E9B-B2DE-715C2DE2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D93B8-7344-47BA-B328-635E4068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0421F-0012-40DA-A555-CD3DE834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DB4D4-4102-45E0-902F-36FF122B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EAF-8B7C-404B-BEB7-BC4765CA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92C94-2563-4755-8872-56E8F647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D52FC-CE37-417F-8E5D-E7A7670E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936B1-B81B-4D95-BEEC-529D66BC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8C61B-3447-40D0-BAD1-8FB8C03E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7F79F-5B5D-4EFC-AAEE-8597E868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6C692-E8BE-4697-9C2C-05EB92EC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75F6F-8047-428A-8F7F-15779F87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1BCC3-4BE3-4C48-90EB-C68461B3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31432-C9EE-4857-836B-79C9C77E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4CCEC-E5B4-4BA0-8C07-B62A753B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78CF-381A-49B7-99AD-F2FA967BC4B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EEBA-1E27-4306-A85D-06A67286C97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98C2-E9F8-4ECF-B216-834F02E47BC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9E41-6B74-4DA3-8CA5-357768D0BB9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75DC-BA9D-43CB-9E0D-7856D026D5B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5F7A-E122-4DA3-9B17-56CA079CBA2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F099-B61F-4DEF-B85F-064FB6409D7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507B-2571-462B-ADF5-B559B8A3C25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281C-D226-41AC-BBE0-E52DC06009C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500040" y="6480"/>
            <a:ext cx="8186760" cy="2474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54989878_1265799246_2"/>
          <p:cNvPicPr/>
          <p:nvPr/>
        </p:nvPicPr>
        <p:blipFill>
          <a:blip r:embed="rId2"/>
          <a:stretch/>
        </p:blipFill>
        <p:spPr>
          <a:xfrm>
            <a:off x="571680" y="2214720"/>
            <a:ext cx="5786280" cy="414324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4"/>
          <p:cNvSpPr/>
          <p:nvPr/>
        </p:nvSpPr>
        <p:spPr>
          <a:xfrm flipH="1" flipV="1" rot="10800000">
            <a:off x="6786720" y="4280400"/>
            <a:ext cx="214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литературы   Ю.С.Чудак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музыки   Н.  Н. Булочник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500040" y="2556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2"/>
          <p:cNvSpPr/>
          <p:nvPr/>
        </p:nvSpPr>
        <p:spPr>
          <a:xfrm>
            <a:off x="642960" y="1357200"/>
            <a:ext cx="77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и из Жоконд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рии  из комической оперы Николо Изуара  «Жоконд, или Искатель приключений», с успехом шедшей в Париже в 1814 г., когда там были русские войс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икола Изуар  (фр. Nicolas Isouard; 6 декабря 1775, Моста — 23 марта 1818, Париж) — французский оперный композитор мальтийского происхождения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й сложности  Изуар написал 38 опер, несколько месс, псалмов, мотетов, роман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"/>
          <p:cNvSpPr/>
          <p:nvPr/>
        </p:nvSpPr>
        <p:spPr>
          <a:xfrm>
            <a:off x="642960" y="60084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…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ыкновенная холодность их исчезла. Восторг их был истинно упоителен, когда, встречая победителей, кричали они: «Ура!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 воздух чепчики брос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642960" y="3071880"/>
            <a:ext cx="4143240" cy="31431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4857840" y="3071880"/>
            <a:ext cx="3929040" cy="3152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378320" cy="27860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"/>
          <p:cNvPicPr/>
          <p:nvPr/>
        </p:nvPicPr>
        <p:blipFill>
          <a:blip r:embed="rId2"/>
          <a:stretch/>
        </p:blipFill>
        <p:spPr>
          <a:xfrm>
            <a:off x="4071960" y="3214800"/>
            <a:ext cx="4762440" cy="328608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3"/>
          <p:cNvSpPr/>
          <p:nvPr/>
        </p:nvSpPr>
        <p:spPr>
          <a:xfrm>
            <a:off x="5214960" y="1071720"/>
            <a:ext cx="30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изображает музы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4000680" cy="3429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357800" cy="401940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3"/>
          <p:cNvSpPr/>
          <p:nvPr/>
        </p:nvSpPr>
        <p:spPr>
          <a:xfrm>
            <a:off x="5072040" y="85716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еремены произошли в душе  и  в  жизни Маш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2"/>
          <p:cNvSpPr/>
          <p:nvPr/>
        </p:nvSpPr>
        <p:spPr>
          <a:xfrm>
            <a:off x="2286000" y="57168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egoe Script"/>
                <a:ea typeface="Arial"/>
              </a:rPr>
              <a:t>Зимняя д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6500880" cy="4643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686800" cy="102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"/>
          <p:cNvGraphicFramePr/>
          <p:nvPr/>
        </p:nvGraphicFramePr>
        <p:xfrm>
          <a:off x="1643040" y="2365200"/>
          <a:ext cx="6076800" cy="3706920"/>
        </p:xfrm>
        <a:graphic>
          <a:graphicData uri="http://schemas.openxmlformats.org/drawingml/2006/table">
            <a:tbl>
              <a:tblPr/>
              <a:tblGrid>
                <a:gridCol w="6076800"/>
              </a:tblGrid>
              <a:tr h="673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ЮБОВ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ЬБ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СТОЯТЕЛЬСТ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Rectangle 1"/>
          <p:cNvSpPr/>
          <p:nvPr/>
        </p:nvSpPr>
        <p:spPr>
          <a:xfrm>
            <a:off x="428760" y="106308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, которые могут быть ключевыми для сочинения по этой повест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642960" y="864000"/>
            <a:ext cx="7858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ссе «Погружаясь в вальс метел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ссе́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из фр. essai «попытка, проба, очерк», от лат. exagium «взвешивание») — литературный жанр, прозаическое сочинение небольшого объёма и свободной композ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ссе выражает индивидуальные впечатления и соображения автора по конкретному поводу или предмету и не претендует на исчерпывающую или определяющую трактовку темы (в пародийной русской традиции «взгляд и нечто»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Pushkin-portret"/>
          <p:cNvPicPr/>
          <p:nvPr/>
        </p:nvPicPr>
        <p:blipFill>
          <a:blip r:embed="rId2"/>
          <a:stretch/>
        </p:blipFill>
        <p:spPr>
          <a:xfrm>
            <a:off x="500040" y="1500120"/>
            <a:ext cx="3571920" cy="4214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3"/>
          <a:stretch/>
        </p:blipFill>
        <p:spPr>
          <a:xfrm>
            <a:off x="6072120" y="1143000"/>
            <a:ext cx="2800440" cy="2746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Sviridov2"/>
          <p:cNvPicPr/>
          <p:nvPr/>
        </p:nvPicPr>
        <p:blipFill>
          <a:blip r:embed="rId4"/>
          <a:stretch/>
        </p:blipFill>
        <p:spPr>
          <a:xfrm>
            <a:off x="4071960" y="2714760"/>
            <a:ext cx="3612960" cy="31604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785880" y="5558040"/>
            <a:ext cx="2857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799   -  18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6"/>
          <p:cNvSpPr/>
          <p:nvPr/>
        </p:nvSpPr>
        <p:spPr>
          <a:xfrm>
            <a:off x="1177920" y="6072120"/>
            <a:ext cx="19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30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 flipH="1">
            <a:off x="5142960" y="593100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915   - 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974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686800" cy="10238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"/>
          <p:cNvSpPr/>
          <p:nvPr/>
        </p:nvSpPr>
        <p:spPr>
          <a:xfrm>
            <a:off x="642960" y="999000"/>
            <a:ext cx="77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пи́граф (от греч. επιγραφή — «надпись») — цитата, помещаемая во главе сочинения или его части с целью указать его дух, его смысл, отношение к нему автора и т.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пиграф — небольшой текст, предваряющий произведение.  В нем может быть сформулирована тема, сжато выражена основная идея или сформулирована проблем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5572080" y="534600"/>
            <a:ext cx="5214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и мчатся по бугр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пчут снег  глубок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от, в сторонке божий х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иден одино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*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друг метелица круг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нег валит кло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Чёрный  вран, свистя крыл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ьётся над сан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ещий стон гласит печал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они торопл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Чутко смотрят в тёмну да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оздымая грив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.Жук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5" descr=""/>
          <p:cNvPicPr/>
          <p:nvPr/>
        </p:nvPicPr>
        <p:blipFill>
          <a:blip r:embed="rId1"/>
          <a:stretch/>
        </p:blipFill>
        <p:spPr>
          <a:xfrm>
            <a:off x="500040" y="620640"/>
            <a:ext cx="5000760" cy="5456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360360" y="396720"/>
            <a:ext cx="822960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"/>
          <p:cNvGraphicFramePr/>
          <p:nvPr/>
        </p:nvGraphicFramePr>
        <p:xfrm>
          <a:off x="785880" y="1571760"/>
          <a:ext cx="7858080" cy="4906800"/>
        </p:xfrm>
        <a:graphic>
          <a:graphicData uri="http://schemas.openxmlformats.org/drawingml/2006/table">
            <a:tbl>
              <a:tblPr/>
              <a:tblGrid>
                <a:gridCol w="3841560"/>
                <a:gridCol w="4016520"/>
              </a:tblGrid>
              <a:tr h="631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ысловые ассоци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льные ассоци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Н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СТ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Р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ОЗ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Р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Л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ЕВ  РУССКОГО ХАРАКТ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РО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ЧЕСКОЕ РАЗВИТ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357120" y="1071720"/>
          <a:ext cx="8572680" cy="4643280"/>
        </p:xfrm>
        <a:graphic>
          <a:graphicData uri="http://schemas.openxmlformats.org/drawingml/2006/table">
            <a:tbl>
              <a:tblPr/>
              <a:tblGrid>
                <a:gridCol w="2951280"/>
                <a:gridCol w="2811240"/>
                <a:gridCol w="2810160"/>
              </a:tblGrid>
              <a:tr h="560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r" pos="1328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ими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урм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3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r" pos="1328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 дворе была метель. Ветер выл, ставни тряслись и стучали, все казалось угрозой и печальным предзнаменованием. Метель не  утихала;  ветер дул навстречу, как будто силясь остановить молодую  преступниц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«в одну минуту», «поминутно», «казалось прошло более получаса», «ещё около 10 минут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ильное беспокойство успокоился  с ужасом увидел, ... отчаяние слезы брызнули из глаз остался недвижим, как человек, приговоренный к смер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ак вдруг поднялась ужасная метель, и смотритель и ямщики советовали мне переждать. Я их послушался, но непонятное беспокойство овладело мною; казалось, кто-то меня так и толка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Rectangle 1"/>
          <p:cNvSpPr/>
          <p:nvPr/>
        </p:nvSpPr>
        <p:spPr>
          <a:xfrm>
            <a:off x="447984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2500200" y="214200"/>
            <a:ext cx="3929040" cy="4500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 rot="936600">
            <a:off x="5305320" y="1300320"/>
            <a:ext cx="3333960" cy="4208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"/>
          <p:cNvPicPr/>
          <p:nvPr/>
        </p:nvPicPr>
        <p:blipFill>
          <a:blip r:embed="rId3"/>
          <a:stretch/>
        </p:blipFill>
        <p:spPr>
          <a:xfrm rot="20583000">
            <a:off x="650520" y="1660320"/>
            <a:ext cx="308772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04920" y="30240"/>
            <a:ext cx="868680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9" name=""/>
          <p:cNvGraphicFramePr/>
          <p:nvPr/>
        </p:nvGraphicFramePr>
        <p:xfrm>
          <a:off x="285840" y="1785960"/>
          <a:ext cx="8501040" cy="4357800"/>
        </p:xfrm>
        <a:graphic>
          <a:graphicData uri="http://schemas.openxmlformats.org/drawingml/2006/table">
            <a:tbl>
              <a:tblPr/>
              <a:tblGrid>
                <a:gridCol w="4249800"/>
                <a:gridCol w="4251240"/>
              </a:tblGrid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ль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Владими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торяется моти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 повторяю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 то усиливается, то прерывается                                 легкой, спокойной мелодие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живания героя то усиливаются, 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покаиваютс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 становится более насыщенно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озн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имир впадает в отчаяние (как человек, приговоренный к смерти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4143600" cy="43578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3"/>
          <p:cNvSpPr/>
          <p:nvPr/>
        </p:nvSpPr>
        <p:spPr>
          <a:xfrm flipV="1" rot="10800000">
            <a:off x="4642920" y="1675080"/>
            <a:ext cx="4000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манс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камерное музыкально- поэтическое произведение для голоса с инструментальн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манс без слов- это был любимый жанр городского  музицирования той п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9:27:51Z</dcterms:created>
  <dc:creator>Юлия</dc:creator>
  <dc:description/>
  <dc:language>en-US</dc:language>
  <cp:lastModifiedBy>RePack by Diakov</cp:lastModifiedBy>
  <dcterms:modified xsi:type="dcterms:W3CDTF">2015-10-08T13:08:30Z</dcterms:modified>
  <cp:revision>27</cp:revision>
  <dc:subject/>
  <dc:title>Открытый урок «И музыка, и слово...»  по повести А.С. Пушкина «Метель».</dc:title>
</cp:coreProperties>
</file>