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7FF-4AF9-489E-9E86-74806D9FBF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D7F-6081-4D3B-9F10-FA27D4B5CF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A04-6318-458C-97F1-F12ABBDF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430-1A0E-4578-9B0C-E54BFDD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DAB63-2E8C-49BB-A721-C70CF79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8143D-C73F-4E51-85F1-0CDAB9DE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8EE6-3159-478B-A096-A7C01E43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8A5CC-577E-4B83-AC73-873A4993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08C2B-7534-4478-BEF6-22E86B1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D4C4-C648-43CF-B5DF-B2D947E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BE52-24F4-4415-A6FE-62D6D9F1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9E731-3126-43FB-BAF7-30298BC5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C5619-1A33-4C93-A1D1-0335056A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253-1453-449D-BCE5-7E5864C2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891-F228-4635-99F6-1DEF9A02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CC30-61ED-4B34-BFDD-1330776B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22A0-90A1-41D4-ACBB-A0CC488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7802-1F24-4F0F-9B13-60F51F9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1ABC-C415-4096-8E4A-3D72882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FAB-47AA-4031-AC17-DCC69AE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F424-FB16-44F0-B570-197ED022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6533-A118-4323-AC23-8137CFD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A29-9B73-4144-96F7-302D0BC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6E5E-FB1F-4C4F-89EB-E2C5E6C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861-F9EE-4902-B606-20C9DA2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8057-B9AA-4778-B966-4BD4CF3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4D4-333B-4754-961E-2163F5F4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8042-2FD4-4C00-806D-4884702F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AD8A-2C69-47B4-A501-75F40F76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BD80-26DD-47FE-98E6-1DE643A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E292-E00A-4072-B48F-7D865FAC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F4B1-738F-49F3-B1D9-D2FADBD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79FA-8D0F-4A3C-8118-C72A77D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1DF-2161-4A24-B8B7-273171C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4FEE-66C8-4B08-9159-6268E4A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3AC8-F20A-4E73-A1F0-34D35909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875D-8668-4010-ACC3-08135E4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7984-3171-4A2C-878A-A7A98C8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90A2-3155-46A6-A538-E19063F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C6CC-EF09-4DE9-9298-05F7E543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EB13-E562-4470-A6B9-01552C77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8796-BDC7-45B0-B63E-65F4EEEA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3D80-FEB0-42B1-80B6-F8292DB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3F86-AD1B-40F9-B278-6DCCDADD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E7A-2357-4FA5-A607-23C962F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9C44-AD29-40C3-BD34-A1FA2CF7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9A0C-DF0B-48AB-A25A-43321E14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AB8D-C00D-4DD8-AF36-4D6A3E0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5756-86CA-4A36-B8B6-6531370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C113-E32D-4A27-915A-A18F54D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D0E4-B0B9-4B46-96AE-2F1DAB7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06F4-DFDE-4477-AA3D-1A07571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C641-A648-4B96-A360-4D9D177B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4222-E434-47E2-8B5A-4C64CB5D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416A-F8BB-4005-A54F-84A0E83A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1D3-FE06-44D8-A9BD-22FE52F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61B8-C3AD-48BF-BE24-C97C8FD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DB54-5DF1-4C1D-9700-0F44078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63BC-FA90-4004-AA9C-BFF6284B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D060-6B85-49E9-9835-9B0C704A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F7AC-0334-4E3B-A40C-85E8EECF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A139-5435-4D32-B83D-061DB7F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7504-9FCE-4AF5-92FE-B40E203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63E28-3020-4B7E-AF89-136007E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56EE-A815-4A14-8967-235D576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29AD-6C4F-40B9-9301-9D803FB1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810-1F4F-4FD9-85E4-0AAC7F9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AB80B-866E-458C-8354-50D7A6E5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B303-D5B3-40D6-8760-17628ED6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E170-EA6A-45EC-8376-FBB8CFC6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CB44-ED00-470C-B483-921FD9BF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305E-6ABA-42B7-9866-9B6A3438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961B-B3F0-4C7D-8E2C-30F6CED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BB4C-8339-4383-9F4F-16677D5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6669-DE56-4D92-BE14-A845193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2E0A-A7E2-41DA-9ABD-46852B4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6B1CD-9E11-4E30-8463-AE2F129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46C-E2D8-4AAD-87AA-6DF728B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5926-3DCE-4FB3-B6FF-58F49C0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BF3C-5656-46FD-B1ED-E938189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B5FB-6162-4F77-8B47-22B0229E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AA32-9DE8-40C0-8241-CE4F0FD3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7FB53-8563-4A81-B231-E8EB963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0E65-C9FC-4A6E-A672-73678B0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9EC0-26E2-4376-8A5A-098226D1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B597-8DF9-4114-85BC-2CD552FD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A119-596F-4B39-BE2E-AC8D2146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944B-D54B-42E6-BDCA-8C5FD26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C38-59B5-410D-931C-BB2EC8F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623E3-F72F-45FC-B23E-AB71A88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9660-6D68-4C7E-844D-4F6A43C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0C08-73DC-464D-BDDF-791DF5FD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7839E-D028-4C45-9CAB-4F90F66E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F5B78-EDE6-404A-A45F-7BA837B3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7FF8-8655-404E-8CB5-EE5BDAEF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9A27-DCF6-4395-A823-E107CBC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BAB2-E436-4815-9053-B59F162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EB108-4B91-4BBA-90B9-AE0DFD3B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68BB-8510-4313-886E-E3E6529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5B7-82E7-4950-8CA8-CE1BB6D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F59B8-A60C-4C35-98BF-A2880DB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4E52-2534-4D5C-91C2-91A66AB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C629-317E-48BA-8973-D0B1B71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2E0A-5E4C-4265-B28A-513EBBD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878E-CD7C-427F-9750-D6BD439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9A94-F84A-48CB-9FD2-C3F3714D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F179-FB78-440F-8F9A-EAFD36D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3691C-2D61-472C-BD61-0BF8BCA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5344F-EABD-4FF3-9B76-1201061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F905C-147F-4A69-A3B5-A098029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574-6300-4999-B599-07835C6F02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718-EDBF-4C0C-8C64-FACFA929BA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324-B151-4987-98DC-7EA4E6AA06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31EE-239C-4B9E-9CE4-18C098E6FC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B73-F27E-4B8F-A6FA-C809446344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18A-3739-49B5-9FA3-E862417E00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77F0-6221-4A17-9AA8-6B51D17C7CC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8F3C-589D-45F1-BFDE-6686A6B126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23B-80E9-4B0B-A722-6804A86842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00040" y="6480"/>
            <a:ext cx="8186760" cy="247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54989878_1265799246_2"/>
          <p:cNvPicPr/>
          <p:nvPr/>
        </p:nvPicPr>
        <p:blipFill>
          <a:blip r:embed="rId2"/>
          <a:stretch/>
        </p:blipFill>
        <p:spPr>
          <a:xfrm>
            <a:off x="571680" y="2214720"/>
            <a:ext cx="5786280" cy="41432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 flipH="1" flipV="1" rot="10800000">
            <a:off x="6786720" y="4280400"/>
            <a:ext cx="214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литературы   Ю.С.Чуда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узыки   Н.  Н. Булочн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500040" y="2556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2"/>
          <p:cNvSpPr/>
          <p:nvPr/>
        </p:nvSpPr>
        <p:spPr>
          <a:xfrm>
            <a:off x="642960" y="135720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и из Жоконд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ии  из комической оперы Николо Изуара  «Жоконд, или Искатель приключений», с успехом шедшей в Париже в 1814 г., когда там были русские вой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кола Изуар  (фр. Nicolas Isouard; 6 декабря 1775, Моста — 23 марта 1818, Париж) — французский оперный композитор мальтийского происхождени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сложности  Изуар написал 38 опер, несколько месс, псалмов, мотетов, роман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642960" y="60084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кновенная холодность их исчезла. Восторг их был истинно упоителен, когда, встречая победителей, кричали они: «Ура!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воздух чепчики брос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642960" y="3071880"/>
            <a:ext cx="4143240" cy="3143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92904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78320" cy="2786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4071960" y="321480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5214960" y="107172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ображает му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357800" cy="40194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3"/>
          <p:cNvSpPr/>
          <p:nvPr/>
        </p:nvSpPr>
        <p:spPr>
          <a:xfrm>
            <a:off x="5072040" y="85716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еремены произошли в душе  и  в  жизни Ма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2"/>
          <p:cNvSpPr/>
          <p:nvPr/>
        </p:nvSpPr>
        <p:spPr>
          <a:xfrm>
            <a:off x="2286000" y="57168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Script"/>
                <a:ea typeface="Arial"/>
              </a:rPr>
              <a:t>Зимняя 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50088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8680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1643040" y="2365200"/>
          <a:ext cx="6076800" cy="3706920"/>
        </p:xfrm>
        <a:graphic>
          <a:graphicData uri="http://schemas.openxmlformats.org/drawingml/2006/table">
            <a:tbl>
              <a:tblPr/>
              <a:tblGrid>
                <a:gridCol w="6076800"/>
              </a:tblGrid>
              <a:tr h="673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Б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ЬБ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ТОЯТЕЛЬ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1"/>
          <p:cNvSpPr/>
          <p:nvPr/>
        </p:nvSpPr>
        <p:spPr>
          <a:xfrm>
            <a:off x="428760" y="10630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, которые могут быть ключевыми для сочинения по этой пове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642960" y="8640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 «Погружаясь в вальс метел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из фр. essai «попытка, проба, очерк», от лат. exagium «взвешивание») — литературный жанр, прозаическое сочинение небольшого объёма и свободной ком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ссе выражает индивидуальные впечатления и соображения автора по конкретному поводу или предмету и не претендует на исчерпывающую или определяющую трактовку темы (в пародийной русской традиции «взгляд и нечто»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Pushkin-portret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6072120" y="1143000"/>
            <a:ext cx="2800440" cy="2746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Sviridov2"/>
          <p:cNvPicPr/>
          <p:nvPr/>
        </p:nvPicPr>
        <p:blipFill>
          <a:blip r:embed="rId4"/>
          <a:stretch/>
        </p:blipFill>
        <p:spPr>
          <a:xfrm>
            <a:off x="4071960" y="2714760"/>
            <a:ext cx="3612960" cy="3160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785880" y="5558040"/>
            <a:ext cx="285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799   -  1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1177920" y="60721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 flipH="1">
            <a:off x="5142960" y="593100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915   - 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974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86800" cy="10238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642960" y="999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пи́граф (от греч. επιγραφή — «надпись») — цитата, помещаемая во главе сочинения или его части с целью указать его дух, его смысл, отношение к нему автора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пиграф — небольшой текст, предваряющий произведение.  В нем может быть сформулирована тема, сжато выражена основная идея или сформулирована пробл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5572080" y="534600"/>
            <a:ext cx="5214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и мчатся по бугр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пчут снег  глубо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т, в сторонке божий х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ен один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*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друг метелица кру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нег валит кло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ёрный  вран, свистя кры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ьётся над сан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ещий стон гласит печал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и торопл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утко смотрят в тёмну д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дымая гри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.Жу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500040" y="620640"/>
            <a:ext cx="500076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60360" y="396720"/>
            <a:ext cx="822960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785880" y="1571760"/>
          <a:ext cx="7858080" cy="4906800"/>
        </p:xfrm>
        <a:graphic>
          <a:graphicData uri="http://schemas.openxmlformats.org/drawingml/2006/table">
            <a:tbl>
              <a:tblPr/>
              <a:tblGrid>
                <a:gridCol w="3841560"/>
                <a:gridCol w="401652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ысловые ассоци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льные ассоци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Р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З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ЕВ  РУССКОГО ХАРАКТ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О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ЧЕСКОЕ РАЗВИ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357120" y="1071720"/>
          <a:ext cx="8572680" cy="4643280"/>
        </p:xfrm>
        <a:graphic>
          <a:graphicData uri="http://schemas.openxmlformats.org/drawingml/2006/table">
            <a:tbl>
              <a:tblPr/>
              <a:tblGrid>
                <a:gridCol w="2951280"/>
                <a:gridCol w="2811240"/>
                <a:gridCol w="2810160"/>
              </a:tblGrid>
              <a:tr h="56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32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рм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32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 дворе была метель. Ветер выл, ставни тряслись и стучали, все казалось угрозой и печальным предзнаменованием. Метель не  утихала;  ветер дул навстречу, как будто силясь остановить молодую  преступниц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в одну минуту», «поминутно», «казалось прошло более получаса», «ещё около 10 мину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льное беспокойство успокоился  с ужасом увидел, ... отчаяние слезы брызнули из глаз остался недвижим, как человек, приговоренный к см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к вдруг поднялась ужасная метель, и смотритель и ямщики советовали мне переждать. Я их послушался, но непонятное беспокойство овладело мною; казалось, кто-то меня так и толка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Rectangle 1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500200" y="214200"/>
            <a:ext cx="3929040" cy="4500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 rot="936600">
            <a:off x="5305320" y="1300320"/>
            <a:ext cx="3333960" cy="420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 rot="20583000">
            <a:off x="650520" y="1660320"/>
            <a:ext cx="308772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6868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285840" y="1785960"/>
          <a:ext cx="8501040" cy="435780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Влади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яется мо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 повторяю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 то усиливается, то прерывается                                 легкой, спокойной мелодие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живания героя то усиливаются, 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покаиваю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 становится более насыщенно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зн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впадает в отчаяние (как человек, приговоренный к смерт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"/>
          <p:cNvSpPr/>
          <p:nvPr/>
        </p:nvSpPr>
        <p:spPr>
          <a:xfrm flipV="1" rot="10800000">
            <a:off x="4642920" y="1675080"/>
            <a:ext cx="400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манс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камерное музыкально- поэтическое произведение для голоса с инструментальн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манс без слов- это был любимый жанр городского  музицирования той п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9:27:51Z</dcterms:created>
  <dc:creator>Юлия</dc:creator>
  <dc:description/>
  <dc:language>en-US</dc:language>
  <cp:lastModifiedBy>RePack by Diakov</cp:lastModifiedBy>
  <dcterms:modified xsi:type="dcterms:W3CDTF">2015-10-08T13:08:30Z</dcterms:modified>
  <cp:revision>27</cp:revision>
  <dc:subject/>
  <dc:title>Открытый урок «И музыка, и слово...»  по повести А.С. Пушкина «Метель».</dc:title>
</cp:coreProperties>
</file>