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1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55F-55B3-4C1E-BF79-6555BFC4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AA3-295A-419B-9249-5E333AE7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F20-028B-4538-96BD-3D86FA23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AC6-5574-4B74-A5CB-E06EA35B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773E-D648-4E5B-B360-53C42E01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1A7F-CE70-4478-9B70-1CEE498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2005-3C4E-456D-A9BC-146181FD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8603-EE05-4449-8FD1-79E9523B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ACC2-DEB3-47B5-8825-BB99DBD1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DA30-966E-4735-AE50-6A537CE3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8767-7A83-4431-BCDF-E206537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072-18E6-4487-AA1B-464FBC67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481E-AB1E-438F-8E7D-C1F2EA26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14CC-97D6-4FE6-AB90-E06EB4F6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E0D5-1830-484D-8537-29100A5C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3454-2A14-457B-BAB5-9407C5FE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30F4-7223-45D7-9DA0-0412717C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5B8E-05DD-4C2A-97F1-D734AB3E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CC39-4AD2-408C-98F0-550A2EB4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9038-4D9F-4688-854E-4D3854DA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F358-B9DC-46C2-B897-608C1BCE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D036-CB6A-4794-89FB-2792A875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764-8A47-4FC5-8F60-9DFD07A5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E5F7-A830-4984-A8B6-287989B0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F428-444F-4629-BEDC-A05319E0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F35B-E60D-4284-B802-CC02EAA5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7D90-1062-426B-83F7-555098D2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DC99-127A-4498-B269-132019D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DD4A-27A6-4B6A-BB82-3B89FC24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C94F-C9B0-430A-9F2C-6EC8294C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B8A-5F73-4181-9EF4-0706B9F5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5E2-6AFA-4CD9-A945-492AAC1C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EC9-3818-4139-874B-EB2D474E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452-CCA3-4E1F-A544-B54DCEE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E76-51EF-4098-8F1A-207FD0A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16F-D787-4DF0-B9DD-F6D9BE18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DFFC-596F-42E1-B48B-58A9976F807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6AC-1363-403A-AF78-AA84EA1893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A6D1-E20B-4348-A772-85E5DB639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вторы: Емельяно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рняк Н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я математики МАОУ СОШ №36 г. Тамб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тобы начать исследование вам необходимо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разделиться на 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бсудить план действ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аметить сроки выпол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Ход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прос учащихся МАОУ СОШ №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анализ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бор информации о вреде ку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бор информации о истории возникновения ку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бор информации о пассивном кур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езен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Историк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ить виртуальное путешествие в прошло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ить историю появления табака на территории Ро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формить результаты путешествия в виде презент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Медик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яснить, почему курение является причиной многих заболев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ить, почему курение можно назвать бомбой замедленного действ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яснить, является ли курение наркотиком для современной молодёж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формить результаты в виде презен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лаем успеха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61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984720" y="4724280"/>
            <a:ext cx="21589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Rectangle 2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82422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7813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наете ли вы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7"/>
          <p:cNvPicPr/>
          <p:nvPr/>
        </p:nvPicPr>
        <p:blipFill>
          <a:blip r:embed="rId2"/>
          <a:stretch/>
        </p:blipFill>
        <p:spPr>
          <a:xfrm>
            <a:off x="4037040" y="0"/>
            <a:ext cx="5106960" cy="522936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6" descr=""/>
          <p:cNvPicPr/>
          <p:nvPr/>
        </p:nvPicPr>
        <p:blipFill>
          <a:blip r:embed="rId3"/>
          <a:stretch/>
        </p:blipFill>
        <p:spPr>
          <a:xfrm>
            <a:off x="-49320" y="5267160"/>
            <a:ext cx="926640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курение 9"/>
          <p:cNvPicPr/>
          <p:nvPr/>
        </p:nvPicPr>
        <p:blipFill>
          <a:blip r:embed="rId2"/>
          <a:stretch/>
        </p:blipFill>
        <p:spPr>
          <a:xfrm>
            <a:off x="0" y="692280"/>
            <a:ext cx="3913200" cy="5543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3708360" y="907920"/>
            <a:ext cx="51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 flipV="1" rot="10806600">
            <a:off x="3995640" y="475920"/>
            <a:ext cx="50515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По определению Всемирной Организации</a:t>
            </a: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Здравоохранения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Курение – «заразная» болезнь, передающаяся через рекламу производителей табачной продукци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86,-61,-6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курение 23"/>
          <p:cNvPicPr/>
          <p:nvPr/>
        </p:nvPicPr>
        <p:blipFill>
          <a:blip r:embed="rId2"/>
          <a:stretch/>
        </p:blipFill>
        <p:spPr>
          <a:xfrm>
            <a:off x="5364000" y="1916280"/>
            <a:ext cx="3780000" cy="309708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7" descr=""/>
          <p:cNvPicPr/>
          <p:nvPr/>
        </p:nvPicPr>
        <p:blipFill>
          <a:blip r:embed="rId3"/>
          <a:stretch/>
        </p:blipFill>
        <p:spPr>
          <a:xfrm>
            <a:off x="-115920" y="255600"/>
            <a:ext cx="5583240" cy="63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курение 24"/>
          <p:cNvPicPr/>
          <p:nvPr/>
        </p:nvPicPr>
        <p:blipFill>
          <a:blip r:embed="rId2"/>
          <a:stretch/>
        </p:blipFill>
        <p:spPr>
          <a:xfrm>
            <a:off x="2050920" y="314172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5" descr=""/>
          <p:cNvPicPr/>
          <p:nvPr/>
        </p:nvPicPr>
        <p:blipFill>
          <a:blip r:embed="rId3"/>
          <a:stretch/>
        </p:blipFill>
        <p:spPr>
          <a:xfrm>
            <a:off x="171360" y="109440"/>
            <a:ext cx="881388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курение 4"/>
          <p:cNvPicPr/>
          <p:nvPr/>
        </p:nvPicPr>
        <p:blipFill>
          <a:blip r:embed="rId2"/>
          <a:stretch/>
        </p:blipFill>
        <p:spPr>
          <a:xfrm>
            <a:off x="900000" y="260280"/>
            <a:ext cx="7344000" cy="4918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558972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куренная сигарета укорачивает жизнь на 2 мину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0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7:55:31Z</dcterms:created>
  <dc:creator>DDD</dc:creator>
  <dc:description/>
  <dc:language>en-US</dc:language>
  <cp:lastModifiedBy>школа</cp:lastModifiedBy>
  <dcterms:modified xsi:type="dcterms:W3CDTF">2011-03-31T08:22:40Z</dcterms:modified>
  <cp:revision>69</cp:revision>
  <dc:subject/>
  <dc:title>Слайд 1</dc:title>
</cp:coreProperties>
</file>