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1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DCD-FFD9-428C-9CCE-ED3EB4A1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891-7270-42A3-B468-9465BF48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DA7-F2D1-429D-872E-3087FF8A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F44-3989-4CB2-81AA-CDC2ED77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55B4-D2E2-4B46-AB2A-51BD3B91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8AE9-46F7-4E16-AC62-A81D5373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52FA-8050-4222-A8A7-28DC0055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A1CC-661E-40E1-9411-2B20DA67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04D6-4C09-4ADC-8B4B-324E5711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69D5-F373-4769-AB64-064D0034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F0CC-2471-4B8F-865F-4D22C030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EF1-F49A-4B97-8BAE-688D7A91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7D26-5CBA-4D52-9DBF-F2896B14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E9C6-9B03-42C3-98E5-C1A135B1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71E5-5908-4461-94B5-EAEFD780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64F6-8ABB-4EF2-8420-BBEE261D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E9A0-2800-45E8-B8B1-0FF23E22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178C-3191-4636-8563-AA33EFAE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3A95-CA71-470E-BC3E-F7A38AF5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157A-474B-4416-AB67-011DC13A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0E8C-AEAC-4A15-9709-E2937C8E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6EA7E-467F-4D30-85C4-714600CA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5AF-1F5E-41E5-AB9E-E138EFEA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9FBC-6E40-4048-BB35-6D6E7E54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5515D-0924-42E2-80A3-3D69EB61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9099-7353-463E-8FDB-39D12125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1D37-6130-418D-98F1-31A84109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9328-7794-4523-A0F0-6034973F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A4B7-08A0-4550-8AA5-1D0B3629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B8FC-D1D0-414E-A65F-AA6C8215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126-A5BB-4388-82C9-CEFD0B33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21B-FB71-41C8-9089-BBE1DF2E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A9A-F663-4DF0-A670-392CBF28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71A-CA9B-4625-A7BB-11DB7CB8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9C1-EAE1-4CBA-85DF-C516D8C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B3F-5366-4286-9A06-7B0D2929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28CF-177C-4C72-9A7D-1D8B0634486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902B-AFBF-4353-BC9E-1DEA00A674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C513-CD15-4EAB-93E3-495C2C1F84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вторы: Емельяно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рняк Н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я математики МАОУ СОШ №36 г. Тамб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тобы начать исследование вам необходимо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разделиться на 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бсудить план действ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аметить сроки выполн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Ход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прос учащихся МАОУ СОШ №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анализ результ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бор информации о вреде ку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бор информации о истории возникновения ку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бор информации о пассивном кур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езен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Историк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ршить виртуальное путешествие в прошло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ить историю появления табака на территории Росс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формить результаты путешествия в виде презент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Медик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яснить, почему курение является причиной многих заболев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ределить, почему курение можно назвать бомбой замедленного действ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яснить, является ли курение наркотиком для современной молодёж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формить результаты в виде презент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лаем успеха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613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984720" y="4724280"/>
            <a:ext cx="21589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Rectangle 2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82422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7813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наете ли вы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7"/>
          <p:cNvPicPr/>
          <p:nvPr/>
        </p:nvPicPr>
        <p:blipFill>
          <a:blip r:embed="rId2"/>
          <a:stretch/>
        </p:blipFill>
        <p:spPr>
          <a:xfrm>
            <a:off x="4037040" y="0"/>
            <a:ext cx="5106960" cy="522936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6" descr=""/>
          <p:cNvPicPr/>
          <p:nvPr/>
        </p:nvPicPr>
        <p:blipFill>
          <a:blip r:embed="rId3"/>
          <a:stretch/>
        </p:blipFill>
        <p:spPr>
          <a:xfrm>
            <a:off x="-49320" y="5267160"/>
            <a:ext cx="926640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курение 9"/>
          <p:cNvPicPr/>
          <p:nvPr/>
        </p:nvPicPr>
        <p:blipFill>
          <a:blip r:embed="rId2"/>
          <a:stretch/>
        </p:blipFill>
        <p:spPr>
          <a:xfrm>
            <a:off x="0" y="692280"/>
            <a:ext cx="3913200" cy="5543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3708360" y="907920"/>
            <a:ext cx="51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9"/>
          <p:cNvSpPr/>
          <p:nvPr/>
        </p:nvSpPr>
        <p:spPr>
          <a:xfrm flipV="1" rot="10806600">
            <a:off x="3995640" y="475920"/>
            <a:ext cx="505152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По определению Всемирной Организации</a:t>
            </a: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Здравоохранения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Курение – «заразная» болезнь, передающаяся через рекламу производителей табачной продукци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61,-6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курение 23"/>
          <p:cNvPicPr/>
          <p:nvPr/>
        </p:nvPicPr>
        <p:blipFill>
          <a:blip r:embed="rId2"/>
          <a:stretch/>
        </p:blipFill>
        <p:spPr>
          <a:xfrm>
            <a:off x="5364000" y="1916280"/>
            <a:ext cx="3780000" cy="309708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7" descr=""/>
          <p:cNvPicPr/>
          <p:nvPr/>
        </p:nvPicPr>
        <p:blipFill>
          <a:blip r:embed="rId3"/>
          <a:stretch/>
        </p:blipFill>
        <p:spPr>
          <a:xfrm>
            <a:off x="-115920" y="255600"/>
            <a:ext cx="5583240" cy="634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курение 24"/>
          <p:cNvPicPr/>
          <p:nvPr/>
        </p:nvPicPr>
        <p:blipFill>
          <a:blip r:embed="rId2"/>
          <a:stretch/>
        </p:blipFill>
        <p:spPr>
          <a:xfrm>
            <a:off x="2050920" y="314172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5" descr=""/>
          <p:cNvPicPr/>
          <p:nvPr/>
        </p:nvPicPr>
        <p:blipFill>
          <a:blip r:embed="rId3"/>
          <a:stretch/>
        </p:blipFill>
        <p:spPr>
          <a:xfrm>
            <a:off x="171360" y="109440"/>
            <a:ext cx="881388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курение 4"/>
          <p:cNvPicPr/>
          <p:nvPr/>
        </p:nvPicPr>
        <p:blipFill>
          <a:blip r:embed="rId2"/>
          <a:stretch/>
        </p:blipFill>
        <p:spPr>
          <a:xfrm>
            <a:off x="900000" y="260280"/>
            <a:ext cx="7344000" cy="4918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558972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ыкуренная сигарета укорачивает жизнь на 2 мину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5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0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5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7:55:31Z</dcterms:created>
  <dc:creator>DDD</dc:creator>
  <dc:description/>
  <dc:language>en-US</dc:language>
  <cp:lastModifiedBy>школа</cp:lastModifiedBy>
  <dcterms:modified xsi:type="dcterms:W3CDTF">2011-03-31T08:22:40Z</dcterms:modified>
  <cp:revision>69</cp:revision>
  <dc:subject/>
  <dc:title>Слайд 1</dc:title>
</cp:coreProperties>
</file>