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26D9-3516-4E74-A330-5A45BBEADE8A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каменный мост в Моск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344B-B20F-487C-AB6A-24E2740D9B92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жков мост в Моск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CEA6-FD78-484A-B4ED-071248909C52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батый мост в Нижнем Новго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5380-15E4-463B-80B4-3DF7CB6A9578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т через бухту Золотой Рог в Владивост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A6D1-E643-4277-BF60-6DCB806F1BF0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езнодорожный мост в Сама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73B1-49BC-4019-A501-F182A5BCF583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инский мост через Вол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CF49-6594-45EA-A91F-344E70E9E423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68F5-02B6-4C77-8200-F66D44591DE3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т Петра вели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CFC6-642F-4BCC-826B-64AE27461985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рцовый м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9424-21E2-4193-B759-96495A7155B8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ампсониевский мост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A065-D5CF-4646-A7B4-3CD5A4B6A889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967 метров. Сорочьи Гор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Автодорожный мост через Ка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7F1F-BC4B-4CE2-9979-7BEECDA20698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980 метров. Ульяновск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Двухярусный мост через Вол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C260-AE68-4011-B8D8-BF4C41DF9062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Обуховский мост - неразводной вантовый автодорожный мост через Не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2E08-F1E8-4502-BEDA-356C4BCEAE2F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енбург, мост из Европы в Аз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4E20-3367-496B-95C4-08C1A715B00E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F6F3-F179-40D3-8030-9D40B8A3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6F8-24EE-498F-A67B-608A6354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EF13-BEB6-413D-AD46-299D6F6C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CAA-84F7-4689-AF28-1EB2E06F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6A7-42A0-470F-90B8-F2CA5D2D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584-9ADA-45B0-A813-2249A0B2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A7B3-6D2B-4B4D-A50C-67E8A284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6F1-02E4-4AC5-889A-195E9BA6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D4D7-A9D3-4E9F-9217-7C6A3F47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CC9-ACEC-49D3-9169-76C079CE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59B2-EEFC-4F67-BC3C-D69BDD28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344A-8E17-42F0-8778-EDCE6B04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286E-E9A1-49B3-9A93-EC62528D8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2060280"/>
            <a:ext cx="828036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0000"/>
                </a:solidFill>
                <a:latin typeface="Monotype Corsiva"/>
              </a:rPr>
              <a:t>Мосты России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http://www.moscow.org/img/enc/24/bridge_big_stone_1.jpg"/>
          <p:cNvPicPr/>
          <p:nvPr/>
        </p:nvPicPr>
        <p:blipFill>
          <a:blip r:embed="rId1"/>
          <a:stretch/>
        </p:blipFill>
        <p:spPr>
          <a:xfrm>
            <a:off x="1258920" y="836640"/>
            <a:ext cx="66009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1" descr="Лужков\nЩелкните на изображение, чтобы посмотреть его в оригинальном размере."/>
          <p:cNvPicPr/>
          <p:nvPr/>
        </p:nvPicPr>
        <p:blipFill>
          <a:blip r:embed="rId1"/>
          <a:stretch/>
        </p:blipFill>
        <p:spPr>
          <a:xfrm>
            <a:off x="684360" y="189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 []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http://maksimkapitonov.ru/wp-content/uploads/1-1.jpg"/>
          <p:cNvPicPr/>
          <p:nvPr/>
        </p:nvPicPr>
        <p:blipFill>
          <a:blip r:embed="rId1"/>
          <a:stretch/>
        </p:blipFill>
        <p:spPr>
          <a:xfrm>
            <a:off x="0" y="0"/>
            <a:ext cx="867420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File:Railway bridge in Samara.JPG"/>
          <p:cNvPicPr/>
          <p:nvPr/>
        </p:nvPicPr>
        <p:blipFill>
          <a:blip r:embed="rId1"/>
          <a:stretch/>
        </p:blipFill>
        <p:spPr>
          <a:xfrm>
            <a:off x="468360" y="3333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1" descr="http://www.2rybinsk.ru/wp-content/uploads/IMG_0097.jpg"/>
          <p:cNvPicPr/>
          <p:nvPr/>
        </p:nvPicPr>
        <p:blipFill>
          <a:blip r:embed="rId1"/>
          <a:stretch/>
        </p:blipFill>
        <p:spPr>
          <a:xfrm>
            <a:off x="-181080" y="-457200"/>
            <a:ext cx="93250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755640" y="595008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опубликована на сайте -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1714680" y="563040"/>
            <a:ext cx="5857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втор презентации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умова Вера Викторовна.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Воспитатель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ГБДОУ детского сада №85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4506480" y="5950080"/>
            <a:ext cx="45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nsportal.ru/user/14732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1" name="Picture 9" descr="C:\Users\ВЕРА\Desktop\детский сад\мосты\1_ingenerny_glav.jpg"/>
          <p:cNvPicPr/>
          <p:nvPr/>
        </p:nvPicPr>
        <p:blipFill>
          <a:blip r:embed="rId1"/>
          <a:stretch/>
        </p:blipFill>
        <p:spPr>
          <a:xfrm>
            <a:off x="1238400" y="928800"/>
            <a:ext cx="6667200" cy="5000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1"/>
          <p:cNvSpPr/>
          <p:nvPr/>
        </p:nvSpPr>
        <p:spPr>
          <a:xfrm>
            <a:off x="2786040" y="64296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3" name="Picture 11" descr="C:\Users\ВЕРА\Desktop\детский сад\мосты\DSC_0085s.jpg"/>
          <p:cNvPicPr/>
          <p:nvPr/>
        </p:nvPicPr>
        <p:blipFill>
          <a:blip r:embed="rId1"/>
          <a:stretch/>
        </p:blipFill>
        <p:spPr>
          <a:xfrm>
            <a:off x="-1281240" y="-476280"/>
            <a:ext cx="11706480" cy="78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3" descr="Дворцовый мост"/>
          <p:cNvPicPr/>
          <p:nvPr/>
        </p:nvPicPr>
        <p:blipFill>
          <a:blip r:embed="rId1"/>
          <a:stretch/>
        </p:blipFill>
        <p:spPr>
          <a:xfrm>
            <a:off x="395280" y="333360"/>
            <a:ext cx="7272360" cy="5111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http://review-planet.ru/wp-content/uploads/2011/06/510.jpg"/>
          <p:cNvPicPr/>
          <p:nvPr/>
        </p:nvPicPr>
        <p:blipFill>
          <a:blip r:embed="rId2"/>
          <a:stretch/>
        </p:blipFill>
        <p:spPr>
          <a:xfrm>
            <a:off x="1116000" y="907920"/>
            <a:ext cx="66675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http://www.most-spb.ru/sampsonevsky/sampsonevsky_glav.jpg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http://sdelanounas.ru/i/a/t/aTA4MS5yYWRpa2FsLnJ1LzEyMDUvODYvYWYzMTljNzA3NzI1LmpwZz9fX2lkPTE3MTE0.jpg"/>
          <p:cNvPicPr/>
          <p:nvPr/>
        </p:nvPicPr>
        <p:blipFill>
          <a:blip r:embed="rId1"/>
          <a:stretch/>
        </p:blipFill>
        <p:spPr>
          <a:xfrm>
            <a:off x="395280" y="549360"/>
            <a:ext cx="802800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1" descr="http://sdelanounas.ru/i/c/z/czAxOS5yYWRpa2FsLnJ1L2k2MjcvMTIwNS82Ny8yM2E4NjJhYzcyMzAuanBnP19faWQ9MTcxMTQ=.jpg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http://sdelanounas.ru/i/c/z/czAxOS5yYWRpa2FsLnJ1L2k2MDIvMTIwNS9mMi84ODZhZjI1NjQ3MzkuanBnP19faWQ9MTcxMTQ=.jpg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" descr="C:\Users\ВЕРА\Desktop\оренбург1790.jpg"/>
          <p:cNvPicPr/>
          <p:nvPr/>
        </p:nvPicPr>
        <p:blipFill>
          <a:blip r:embed="rId1"/>
          <a:stretch/>
        </p:blipFill>
        <p:spPr>
          <a:xfrm>
            <a:off x="0" y="0"/>
            <a:ext cx="5256360" cy="403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http://www.rusnations.ru/data/pics/vid181_460.jpg"/>
          <p:cNvPicPr/>
          <p:nvPr/>
        </p:nvPicPr>
        <p:blipFill>
          <a:blip r:embed="rId2"/>
          <a:stretch/>
        </p:blipFill>
        <p:spPr>
          <a:xfrm>
            <a:off x="2987640" y="3809880"/>
            <a:ext cx="54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45:11Z</dcterms:created>
  <dc:creator>Customer</dc:creator>
  <dc:description/>
  <dc:language>en-US</dc:language>
  <cp:lastModifiedBy>ВЕРА</cp:lastModifiedBy>
  <dcterms:modified xsi:type="dcterms:W3CDTF">2012-11-29T15:47:48Z</dcterms:modified>
  <cp:revision>88</cp:revision>
  <dc:subject/>
  <dc:title>Слайд 1</dc:title>
</cp:coreProperties>
</file>