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F144-725A-4497-979C-81F88DDFC111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каменный мост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1728-1811-484C-A1A9-C1423F8A7CC1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жков мост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291-8E3B-4BF4-9ACA-CB404258A8F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 мост в Нижнем Нов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1B8-C41C-4C94-8028-261D3FE43AA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т через бухту Золотой Рог в Владивост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61A-4B3B-476B-9914-5D03FBAC39B0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нодорожный мост в Сам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C83C-ABC1-40F3-AE7E-2C8ECA97857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инский мост через Вол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7F3-1C4D-4AEC-9B18-7C5717275C5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52C-769E-4A4F-9040-169A11362C8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т Петра вели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07D-FB3C-4E36-A364-F065F31E46D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м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BAB2-2AE0-4381-9311-6EDB662790F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псониевский мост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938-3CA0-45A2-A6CF-4E750DEF832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967 метров. Сорочьи Го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Автодорожный мост через Ка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50E-04C4-4148-AB80-811E7B2F72C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980 метров. Ульяновс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Двухярусный мост через Вол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E84-C057-47C4-9116-B38131178E2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Обуховский мост - неразводной вантовый автодорожный мост через Не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C5DB-7472-4401-9FFC-E67B7D62E9C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енбург, мост из Европы в 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F17-3C57-4A96-BDE8-6DCB1137FE9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751-14D9-41BA-967D-2D9FC131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BF0-FCF0-40C1-9C72-7C05EFF3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8B2-510E-47FE-8807-64CF8E4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B7D-DE98-45C1-AF76-5DB328FE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FCA-1A83-4D69-9BEA-EC48159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E64-7BD6-4243-8E91-B5160400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3EC-BA51-4405-B79F-FA68E505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41E-BEFB-45ED-B3F8-6251A1B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76D-ED19-465C-A913-F7ACDE7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DA1-A404-4059-A644-A6E6493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CA5-DAE3-47EF-809B-3934029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BE9-7238-459F-8A9D-8C37DA2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8796-F200-488D-AAB4-E83F7B5A9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Monotype Corsiva"/>
              </a:rPr>
              <a:t>Мосты Росси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http://www.moscow.org/img/enc/24/bridge_big_stone_1.jpg"/>
          <p:cNvPicPr/>
          <p:nvPr/>
        </p:nvPicPr>
        <p:blipFill>
          <a:blip r:embed="rId1"/>
          <a:stretch/>
        </p:blipFill>
        <p:spPr>
          <a:xfrm>
            <a:off x="1258920" y="836640"/>
            <a:ext cx="6600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Лужков\nЩелкните на изображение, чтобы посмотреть его в оригинальном размере."/>
          <p:cNvPicPr/>
          <p:nvPr/>
        </p:nvPicPr>
        <p:blipFill>
          <a:blip r:embed="rId1"/>
          <a:stretch/>
        </p:blipFill>
        <p:spPr>
          <a:xfrm>
            <a:off x="684360" y="189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 []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http://maksimkapitonov.ru/wp-content/uploads/1-1.jpg"/>
          <p:cNvPicPr/>
          <p:nvPr/>
        </p:nvPicPr>
        <p:blipFill>
          <a:blip r:embed="rId1"/>
          <a:stretch/>
        </p:blipFill>
        <p:spPr>
          <a:xfrm>
            <a:off x="0" y="0"/>
            <a:ext cx="86742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File:Railway bridge in Samara.JPG"/>
          <p:cNvPicPr/>
          <p:nvPr/>
        </p:nvPicPr>
        <p:blipFill>
          <a:blip r:embed="rId1"/>
          <a:stretch/>
        </p:blipFill>
        <p:spPr>
          <a:xfrm>
            <a:off x="46836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http://www.2rybinsk.ru/wp-content/uploads/IMG_0097.jpg"/>
          <p:cNvPicPr/>
          <p:nvPr/>
        </p:nvPicPr>
        <p:blipFill>
          <a:blip r:embed="rId1"/>
          <a:stretch/>
        </p:blipFill>
        <p:spPr>
          <a:xfrm>
            <a:off x="-181080" y="-457200"/>
            <a:ext cx="93250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755640" y="59500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опубликована на сайте -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1714680" y="563040"/>
            <a:ext cx="5857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презентации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мова Вера Викторовна.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спитател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ГБДОУ детского сада №85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506480" y="595008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nsportal.ru/user/1473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Picture 9" descr="C:\Users\ВЕРА\Desktop\детский сад\мосты\1_ingenerny_glav.jpg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786040" y="64296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11" descr="C:\Users\ВЕРА\Desktop\детский сад\мосты\DSC_0085s.jpg"/>
          <p:cNvPicPr/>
          <p:nvPr/>
        </p:nvPicPr>
        <p:blipFill>
          <a:blip r:embed="rId1"/>
          <a:stretch/>
        </p:blipFill>
        <p:spPr>
          <a:xfrm>
            <a:off x="-1281240" y="-476280"/>
            <a:ext cx="1170648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Дворцовый мост"/>
          <p:cNvPicPr/>
          <p:nvPr/>
        </p:nvPicPr>
        <p:blipFill>
          <a:blip r:embed="rId1"/>
          <a:stretch/>
        </p:blipFill>
        <p:spPr>
          <a:xfrm>
            <a:off x="395280" y="333360"/>
            <a:ext cx="7272360" cy="511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://review-planet.ru/wp-content/uploads/2011/06/510.jpg"/>
          <p:cNvPicPr/>
          <p:nvPr/>
        </p:nvPicPr>
        <p:blipFill>
          <a:blip r:embed="rId2"/>
          <a:stretch/>
        </p:blipFill>
        <p:spPr>
          <a:xfrm>
            <a:off x="1116000" y="907920"/>
            <a:ext cx="6667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http://www.most-spb.ru/sampsonevsky/sampsonevsky_glav.jpg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http://sdelanounas.ru/i/a/t/aTA4MS5yYWRpa2FsLnJ1LzEyMDUvODYvYWYzMTljNzA3NzI1LmpwZz9fX2lkPTE3MTE0.jpg"/>
          <p:cNvPicPr/>
          <p:nvPr/>
        </p:nvPicPr>
        <p:blipFill>
          <a:blip r:embed="rId1"/>
          <a:stretch/>
        </p:blipFill>
        <p:spPr>
          <a:xfrm>
            <a:off x="395280" y="549360"/>
            <a:ext cx="8028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http://sdelanounas.ru/i/c/z/czAxOS5yYWRpa2FsLnJ1L2k2MjcvMTIwNS82Ny8yM2E4NjJhYzcyMzAuanBnP19faWQ9MTcxMTQ=.jpg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http://sdelanounas.ru/i/c/z/czAxOS5yYWRpa2FsLnJ1L2k2MDIvMTIwNS9mMi84ODZhZjI1NjQ3MzkuanBnP19faWQ9MTcxMTQ=.jpg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ВЕРА\Desktop\оренбург1790.jpg"/>
          <p:cNvPicPr/>
          <p:nvPr/>
        </p:nvPicPr>
        <p:blipFill>
          <a:blip r:embed="rId1"/>
          <a:stretch/>
        </p:blipFill>
        <p:spPr>
          <a:xfrm>
            <a:off x="0" y="0"/>
            <a:ext cx="5256360" cy="403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www.rusnations.ru/data/pics/vid181_460.jpg"/>
          <p:cNvPicPr/>
          <p:nvPr/>
        </p:nvPicPr>
        <p:blipFill>
          <a:blip r:embed="rId2"/>
          <a:stretch/>
        </p:blipFill>
        <p:spPr>
          <a:xfrm>
            <a:off x="2987640" y="3809880"/>
            <a:ext cx="54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ВЕРА</cp:lastModifiedBy>
  <dcterms:modified xsi:type="dcterms:W3CDTF">2012-11-29T15:47:48Z</dcterms:modified>
  <cp:revision>88</cp:revision>
  <dc:subject/>
  <dc:title>Слайд 1</dc:title>
</cp:coreProperties>
</file>