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4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6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568-2214-48DB-9387-44C863360D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348-585F-47DD-893C-2678E35E7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8935-966A-48F7-A1A8-F1232585FF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5C3-4311-401A-9F8C-B452F7DE11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3929-E82F-4405-8033-066483A921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95E9-A197-4AAD-B002-37BAC94891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5F2-78C9-4CCE-BEDB-6BFF258F05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C668-A653-41DA-8CFF-C64F5E084A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C51-2FDF-4576-B030-B4911AAC1B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144-800C-4831-8B67-A5F6328166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818-0775-441F-B6C0-AA3BB22FAB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261-5AFF-436B-A282-E3861D5BF6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4F0-41F5-41C0-8549-78B79E45C6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E51A-C1CB-4EB0-B968-EB4DD3E084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F2C-2857-44F1-B387-498AB2C648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CA7D-75B7-42D3-B54D-BE9A4414EC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980-31C0-41F8-9BFE-903A6089C2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C6D-DDBC-48D5-806C-ED35EE36D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89F8-D5F7-403E-97B1-2261086A89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2A1-A92B-411F-827C-D17B65C4D6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167-F902-4877-AFEF-C8EA734AE5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D230-C30F-4330-8DE5-A73D049526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237-0956-4C80-86A3-D8E691B702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500-B604-43BC-A772-959E354782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10B7-97AC-4622-BBDA-434FDE83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67AD-7DB5-4174-856C-493405E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3157-D87B-4311-A89B-3869BB2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80BC-96C2-4D37-83ED-37175EE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39A-1554-460D-A3DC-3B6B8844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0FD1-0445-4F17-88BE-564D9F8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F3BB-DE4C-4790-A958-B5D67074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7C6-4E84-4622-A5FA-195F0C3B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A61-1E0C-4FA7-9CBA-8F7FF39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4C18-BCD3-4EFA-8D4D-25AFAFB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DC6-ACA8-4906-9887-C7F8699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1DA9-5985-4344-9A34-E15A979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417-7F8B-44EE-A51A-BB62645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82A-1304-4820-8859-95BE3E6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E22-32AF-4F89-BE0D-77069956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CF6-E67B-4234-A70F-108A1FD8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715-17CB-4E07-B05D-A515316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11BB-7E53-4EBA-AB18-4C56564C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3502-ECF1-406D-ADC4-0E0AEFF3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A1DE-C9B1-4631-86B3-947DCDC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A232-30FB-430D-BF9C-4D29D0C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748B-C3F8-445A-A00A-1868203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0463-5380-4324-A751-3317F1E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56B5-9F44-45F3-8DCD-854F146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C84-62F0-4BFE-AE0B-074408720B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350-4D3D-4CCD-B959-1D64E0AEB1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24000" y="4365720"/>
            <a:ext cx="57909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«Караваин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жави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таева Наталия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411280" y="1125360"/>
            <a:ext cx="69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проект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рожно – транспортная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ст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03280" y="1052280"/>
            <a:ext cx="77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информационно-просветительской деятельности  с педагогами и родителями 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– 2010 г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  лекторие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памяток и листовок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созданию в школе отряда ЮИД  - 2005 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000" indent="-176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положения  об отряде ЮИД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000" indent="-176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  плана работы  отряда юных инспекторов  движ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в конкурсах и соревнованиях муниципальн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бластного уровней – 2005- 2010 г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ен опытом на МО района – 2008 – 201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етевом конкурсе  творческих разработок на тему «Безопасность и защит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а в опасных и Ч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программы дополнительного образования «Безопасное колесо» - 2009 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программы дополнительного образования «Безопасное колесо» - 2010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Блок-схема: альтернативный процесс 3"/>
          <p:cNvSpPr/>
          <p:nvPr/>
        </p:nvSpPr>
        <p:spPr>
          <a:xfrm>
            <a:off x="3203640" y="2924280"/>
            <a:ext cx="2952720" cy="1225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Формы реализаци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4"/>
          <p:cNvSpPr/>
          <p:nvPr/>
        </p:nvSpPr>
        <p:spPr>
          <a:xfrm>
            <a:off x="179280" y="404640"/>
            <a:ext cx="2160720" cy="1727280"/>
          </a:xfrm>
          <a:prstGeom prst="wedgeRoundRectCallout">
            <a:avLst>
              <a:gd name="adj1" fmla="val 99680"/>
              <a:gd name="adj2" fmla="val 93731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кругленная прямоугольная выноска 5"/>
          <p:cNvSpPr/>
          <p:nvPr/>
        </p:nvSpPr>
        <p:spPr>
          <a:xfrm>
            <a:off x="6659640" y="404640"/>
            <a:ext cx="2233440" cy="1800360"/>
          </a:xfrm>
          <a:prstGeom prst="wedgeRoundRectCallout">
            <a:avLst>
              <a:gd name="adj1" fmla="val -89092"/>
              <a:gd name="adj2" fmla="val 8634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ревн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кругленная прямоугольная выноска 6"/>
          <p:cNvSpPr/>
          <p:nvPr/>
        </p:nvSpPr>
        <p:spPr>
          <a:xfrm>
            <a:off x="179280" y="2421000"/>
            <a:ext cx="2305080" cy="1944720"/>
          </a:xfrm>
          <a:prstGeom prst="wedgeRoundRectCallout">
            <a:avLst>
              <a:gd name="adj1" fmla="val 79592"/>
              <a:gd name="adj2" fmla="val 5074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кругленная прямоугольная выноска 10"/>
          <p:cNvSpPr/>
          <p:nvPr/>
        </p:nvSpPr>
        <p:spPr>
          <a:xfrm>
            <a:off x="6659640" y="2492280"/>
            <a:ext cx="2305080" cy="1944720"/>
          </a:xfrm>
          <a:prstGeom prst="wedgeRoundRectCallout">
            <a:avLst>
              <a:gd name="adj1" fmla="val -72384"/>
              <a:gd name="adj2" fmla="val 1875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КВ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ая прямоугольная выноска 12"/>
          <p:cNvSpPr/>
          <p:nvPr/>
        </p:nvSpPr>
        <p:spPr>
          <a:xfrm>
            <a:off x="250920" y="4653000"/>
            <a:ext cx="2233440" cy="1873080"/>
          </a:xfrm>
          <a:prstGeom prst="wedgeRoundRectCallout">
            <a:avLst>
              <a:gd name="adj1" fmla="val 83648"/>
              <a:gd name="adj2" fmla="val -7666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иктор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13"/>
          <p:cNvSpPr/>
          <p:nvPr/>
        </p:nvSpPr>
        <p:spPr>
          <a:xfrm>
            <a:off x="6659640" y="4724280"/>
            <a:ext cx="2233440" cy="1800360"/>
          </a:xfrm>
          <a:prstGeom prst="wedgeRoundRectCallout">
            <a:avLst>
              <a:gd name="adj1" fmla="val -87388"/>
              <a:gd name="adj2" fmla="val -79018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бесе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кругленная прямоугольная выноска 16"/>
          <p:cNvSpPr/>
          <p:nvPr/>
        </p:nvSpPr>
        <p:spPr>
          <a:xfrm>
            <a:off x="3492360" y="404640"/>
            <a:ext cx="2232000" cy="1943280"/>
          </a:xfrm>
          <a:prstGeom prst="wedgeRoundRectCallout">
            <a:avLst>
              <a:gd name="adj1" fmla="val 4851"/>
              <a:gd name="adj2" fmla="val 77222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исциплина на улице – залог безопасност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кругленная прямоугольная выноска 17"/>
          <p:cNvSpPr/>
          <p:nvPr/>
        </p:nvSpPr>
        <p:spPr>
          <a:xfrm>
            <a:off x="3635280" y="4724280"/>
            <a:ext cx="2232000" cy="1800360"/>
          </a:xfrm>
          <a:prstGeom prst="wedgeRoundRectCallout">
            <a:avLst>
              <a:gd name="adj1" fmla="val -379"/>
              <a:gd name="adj2" fmla="val -79467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родительские собр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0" y="1773360"/>
            <a:ext cx="24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я игра» по ПД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250920" y="3860640"/>
            <a:ext cx="223200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,      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,                                 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ый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21"/>
          <p:cNvSpPr/>
          <p:nvPr/>
        </p:nvSpPr>
        <p:spPr>
          <a:xfrm>
            <a:off x="46836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IMG_0761"/>
          <p:cNvPicPr/>
          <p:nvPr/>
        </p:nvPicPr>
        <p:blipFill>
          <a:blip r:embed="rId1"/>
          <a:stretch/>
        </p:blipFill>
        <p:spPr>
          <a:xfrm>
            <a:off x="390600" y="4863960"/>
            <a:ext cx="1908000" cy="14335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23"/>
          <p:cNvSpPr/>
          <p:nvPr/>
        </p:nvSpPr>
        <p:spPr>
          <a:xfrm>
            <a:off x="476640" y="6165720"/>
            <a:ext cx="1901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наешь ли 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жные знаки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4"/>
          <p:cNvSpPr/>
          <p:nvPr/>
        </p:nvSpPr>
        <p:spPr>
          <a:xfrm>
            <a:off x="3712680" y="6165720"/>
            <a:ext cx="224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Помогите ребен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дорог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348000" y="184464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циплина на улиц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лог безопасности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3780000" y="33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ассные ч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659640" y="4005360"/>
            <a:ext cx="230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Знайте правила движения как таблицу умножения!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6588000" y="616572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Азбука безопас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588000" y="17733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0629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9" descr=""/>
          <p:cNvPicPr/>
          <p:nvPr/>
        </p:nvPicPr>
        <p:blipFill>
          <a:blip r:embed="rId2"/>
          <a:stretch/>
        </p:blipFill>
        <p:spPr>
          <a:xfrm>
            <a:off x="6870600" y="2633760"/>
            <a:ext cx="1908360" cy="1425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"/>
          <p:cNvPicPr/>
          <p:nvPr/>
        </p:nvPicPr>
        <p:blipFill>
          <a:blip r:embed="rId3"/>
          <a:stretch/>
        </p:blipFill>
        <p:spPr>
          <a:xfrm>
            <a:off x="6797520" y="615960"/>
            <a:ext cx="2041560" cy="130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1" descr=""/>
          <p:cNvPicPr/>
          <p:nvPr/>
        </p:nvPicPr>
        <p:blipFill>
          <a:blip r:embed="rId4"/>
          <a:stretch/>
        </p:blipFill>
        <p:spPr>
          <a:xfrm>
            <a:off x="3627360" y="542880"/>
            <a:ext cx="1998720" cy="1505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"/>
          <p:cNvPicPr/>
          <p:nvPr/>
        </p:nvPicPr>
        <p:blipFill>
          <a:blip r:embed="rId5"/>
          <a:stretch/>
        </p:blipFill>
        <p:spPr>
          <a:xfrm>
            <a:off x="317520" y="2560680"/>
            <a:ext cx="1955880" cy="146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4" descr=""/>
          <p:cNvPicPr/>
          <p:nvPr/>
        </p:nvPicPr>
        <p:blipFill>
          <a:blip r:embed="rId6"/>
          <a:stretch/>
        </p:blipFill>
        <p:spPr>
          <a:xfrm>
            <a:off x="244440" y="542880"/>
            <a:ext cx="202896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"/>
          <p:cNvPicPr/>
          <p:nvPr/>
        </p:nvPicPr>
        <p:blipFill>
          <a:blip r:embed="rId7"/>
          <a:stretch/>
        </p:blipFill>
        <p:spPr>
          <a:xfrm>
            <a:off x="6943680" y="4863960"/>
            <a:ext cx="18352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"/>
          <p:cNvPicPr/>
          <p:nvPr/>
        </p:nvPicPr>
        <p:blipFill>
          <a:blip r:embed="rId8"/>
          <a:stretch/>
        </p:blipFill>
        <p:spPr>
          <a:xfrm>
            <a:off x="3846600" y="4937040"/>
            <a:ext cx="1847880" cy="138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"/>
          <p:cNvPicPr/>
          <p:nvPr/>
        </p:nvPicPr>
        <p:blipFill>
          <a:blip r:embed="rId9"/>
          <a:stretch/>
        </p:blipFill>
        <p:spPr>
          <a:xfrm>
            <a:off x="3638520" y="493560"/>
            <a:ext cx="19940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5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боты учащихся по теме проекта 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22050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42680" y="142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с рисунков и кроссвордов </a:t>
            </a: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Дорога и мы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Управляющая кнопка: домой 8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2127240" cy="2884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5286240" y="1714680"/>
            <a:ext cx="3575160" cy="259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2928960" y="3071880"/>
            <a:ext cx="2357280" cy="3370320"/>
          </a:xfrm>
          <a:prstGeom prst="rect">
            <a:avLst/>
          </a:prstGeom>
          <a:ln w="889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памяток-листов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33600" cy="4680000"/>
          </a:xfrm>
          <a:prstGeom prst="rect">
            <a:avLst/>
          </a:prstGeom>
          <a:ln w="92160">
            <a:solidFill>
              <a:srgbClr val="0090e5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273480" cy="4680000"/>
          </a:xfrm>
          <a:prstGeom prst="rect">
            <a:avLst/>
          </a:prstGeom>
          <a:ln w="101520">
            <a:solidFill>
              <a:srgbClr val="ffff00"/>
            </a:solidFill>
            <a:miter/>
          </a:ln>
        </p:spPr>
      </p:pic>
      <p:pic>
        <p:nvPicPr>
          <p:cNvPr id="194" name="Рисунок 2" descr="http://ddt-vmost.narod.ru/metod/pdd.gif"/>
          <p:cNvPicPr/>
          <p:nvPr/>
        </p:nvPicPr>
        <p:blipFill>
          <a:blip r:embed="rId3"/>
          <a:stretch/>
        </p:blipFill>
        <p:spPr>
          <a:xfrm>
            <a:off x="3564000" y="5270400"/>
            <a:ext cx="1333440" cy="1587600"/>
          </a:xfrm>
          <a:prstGeom prst="rect">
            <a:avLst/>
          </a:prstGeom>
          <a:ln w="0">
            <a:noFill/>
          </a:ln>
        </p:spPr>
      </p:pic>
      <p:sp>
        <p:nvSpPr>
          <p:cNvPr id="195" name="Управляющая кнопка: домой 5"/>
          <p:cNvSpPr/>
          <p:nvPr/>
        </p:nvSpPr>
        <p:spPr>
          <a:xfrm>
            <a:off x="8172360" y="5877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10800" y="4500"/>
                </a:moveTo>
                <a:lnTo>
                  <a:pt x="13376" y="7111"/>
                </a:ln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lnTo>
                  <a:pt x="17763" y="11463"/>
                </a:lnTo>
                <a:lnTo>
                  <a:pt x="16109" y="11463"/>
                </a:lnTo>
                <a:lnTo>
                  <a:pt x="16109" y="18652"/>
                </a:lnTo>
                <a:lnTo>
                  <a:pt x="5491" y="18652"/>
                </a:lnTo>
                <a:lnTo>
                  <a:pt x="5491" y="11463"/>
                </a:lnTo>
                <a:lnTo>
                  <a:pt x="3837" y="11463"/>
                </a:lnTo>
                <a:close/>
              </a:path>
              <a:path fill="darkenLess" w="21600" h="22926">
                <a:moveTo>
                  <a:pt x="13376" y="7111"/>
                </a:move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close/>
              </a:path>
              <a:path fill="darkenLess" w="21600" h="22926">
                <a:moveTo>
                  <a:pt x="9877" y="14962"/>
                </a:moveTo>
                <a:lnTo>
                  <a:pt x="11723" y="14962"/>
                </a:lnTo>
                <a:lnTo>
                  <a:pt x="11723" y="18652"/>
                </a:lnTo>
                <a:lnTo>
                  <a:pt x="16109" y="18652"/>
                </a:lnTo>
                <a:lnTo>
                  <a:pt x="16109" y="11463"/>
                </a:lnTo>
                <a:lnTo>
                  <a:pt x="5491" y="11463"/>
                </a:lnTo>
                <a:lnTo>
                  <a:pt x="5491" y="18652"/>
                </a:lnTo>
                <a:lnTo>
                  <a:pt x="9877" y="18652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61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йонный конкурс </a:t>
            </a:r>
            <a:br>
              <a:rPr sz="2800"/>
            </a:br>
            <a:r>
              <a:rPr b="1" lang="ru-RU" sz="39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Дорога глазами детей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79280" y="0"/>
            <a:ext cx="3443400" cy="486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516120" cy="4988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3303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1619280" y="620640"/>
            <a:ext cx="701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йонный конкурс – соревнование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«Безопасное колесо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867280" y="227664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2 год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год 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 год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ест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332000" y="5732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жавино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884840" cy="3745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http://ddt-vmost.narod.ru/metod/pdd.gif"/>
          <p:cNvPicPr/>
          <p:nvPr/>
        </p:nvPicPr>
        <p:blipFill>
          <a:blip r:embed="rId2"/>
          <a:stretch/>
        </p:blipFill>
        <p:spPr>
          <a:xfrm>
            <a:off x="17928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0"/>
          <p:cNvSpPr/>
          <p:nvPr/>
        </p:nvSpPr>
        <p:spPr>
          <a:xfrm>
            <a:off x="3708360" y="476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4067280" y="5270400"/>
            <a:ext cx="1333440" cy="1587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2817720" cy="381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8688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1"/>
          <p:cNvSpPr/>
          <p:nvPr/>
        </p:nvSpPr>
        <p:spPr>
          <a:xfrm>
            <a:off x="1619280" y="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Областной конкурс – соревнование</a:t>
            </a:r>
            <a:r>
              <a:rPr b="1" lang="ru-RU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«Безопасное колес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5580000" y="1268280"/>
            <a:ext cx="3313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009 г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мандном теоретическом экзамене на знание Правил дорожного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оминации «Фигурное вождение» среди мальчков – Ишин Александ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010 г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мес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мандном первенстве в номинации «Основы безопасности жизнедеятель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98960" cy="3752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ddt-vmost.narod.ru/metod/pdd.gif"/>
          <p:cNvPicPr/>
          <p:nvPr/>
        </p:nvPicPr>
        <p:blipFill>
          <a:blip r:embed="rId2"/>
          <a:stretch/>
        </p:blipFill>
        <p:spPr>
          <a:xfrm>
            <a:off x="46836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/>
          <p:cNvSpPr/>
          <p:nvPr/>
        </p:nvSpPr>
        <p:spPr>
          <a:xfrm>
            <a:off x="3132000" y="333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езультаты учащихся школы в областном конку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87200" y="189000"/>
            <a:ext cx="2783160" cy="388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2"/>
          <a:stretch/>
        </p:blipFill>
        <p:spPr>
          <a:xfrm>
            <a:off x="3255840" y="1628640"/>
            <a:ext cx="2691000" cy="37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2822760" cy="3956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http://ddt-vmost.narod.ru/metod/pdd.gif"/>
          <p:cNvPicPr/>
          <p:nvPr/>
        </p:nvPicPr>
        <p:blipFill>
          <a:blip r:embed="rId4"/>
          <a:stretch/>
        </p:blipFill>
        <p:spPr>
          <a:xfrm>
            <a:off x="588960" y="4437000"/>
            <a:ext cx="1571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ое название проекта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557360"/>
            <a:ext cx="8507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езопасность -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дорога в будуще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ительность проекта: 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ники проекта: обучающиеся 1-11 клас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ые предметы: ОБЖ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оло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431964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методическ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к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ая прямоугольная выноска 5"/>
          <p:cNvSpPr/>
          <p:nvPr/>
        </p:nvSpPr>
        <p:spPr>
          <a:xfrm>
            <a:off x="179280" y="1989000"/>
            <a:ext cx="2376720" cy="4176720"/>
          </a:xfrm>
          <a:prstGeom prst="wedgeRoundRectCallout">
            <a:avLst>
              <a:gd name="adj1" fmla="val 73828"/>
              <a:gd name="adj2" fmla="val -52736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лект методических материалов для учител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абочие программы по ОБЖ 5-9 к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рограмма дополнительного образования «Безопасное колесо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лан работы ОУ по профилактике ДДТТ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AutoNum type="arabicPeriod"/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612800"/>
                <a:tab algn="l" pos="3225960"/>
                <a:tab algn="l" pos="4838760"/>
                <a:tab algn="l" pos="6451560"/>
                <a:tab algn="l" pos="8064360"/>
                <a:tab algn="l" pos="96775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Скругленная прямоугольная выноска 6"/>
          <p:cNvSpPr/>
          <p:nvPr/>
        </p:nvSpPr>
        <p:spPr>
          <a:xfrm flipV="1" rot="10800000">
            <a:off x="6588000" y="2059560"/>
            <a:ext cx="2376720" cy="4105080"/>
          </a:xfrm>
          <a:prstGeom prst="wedgeRoundRectCallout">
            <a:avLst>
              <a:gd name="adj1" fmla="val 75444"/>
              <a:gd name="adj2" fmla="val -55319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лект материалов для учащихс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Дидактические материал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а) образец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б) образец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в) образец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2.     Тес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3. Внеклассные мероприят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4. През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кругленная прямоугольная выноска 7"/>
          <p:cNvSpPr/>
          <p:nvPr/>
        </p:nvSpPr>
        <p:spPr>
          <a:xfrm>
            <a:off x="3203640" y="2492280"/>
            <a:ext cx="2663640" cy="3600720"/>
          </a:xfrm>
          <a:prstGeom prst="wedgeRoundRectCallout">
            <a:avLst>
              <a:gd name="adj1" fmla="val 2370"/>
              <a:gd name="adj2" fmla="val -49546"/>
              <a:gd name="adj3" fmla="val 16667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боты учащих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исун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2. Памятки - листов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3. Кроссвор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4. Презент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трелка вниз 8"/>
          <p:cNvSpPr/>
          <p:nvPr/>
        </p:nvSpPr>
        <p:spPr>
          <a:xfrm>
            <a:off x="4284720" y="1844640"/>
            <a:ext cx="503280" cy="6476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2195640" y="527040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84360" y="476280"/>
            <a:ext cx="6073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Вывод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341360"/>
            <a:ext cx="874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реализации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лась познавательная активность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лся уровень знаний по Правилам дорожного 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ы умения у обучающихся ориентироваться в дорожно-транспортных ситуац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о сознательное и ответственное отношение к собственному здоровью, к личной безопасности и безопасности окружа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7810560" y="5084640"/>
            <a:ext cx="1333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Информационные ресурс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8560" y="148428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ихан О.Н, Петров С.В, Старых И.Л.Безопасность на дорогах и в общественном транспорте. Министерство образования и науки РФ, Федеральное агентство по образованию. – Оренбург: Изд-во ОГПУ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. Обучение для будущего. М., 200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. Обучение для будущего. Основной курс. М., 200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валенко В.И. Игровой модульный курс по ПДД, или школьник вышел на улицу.- М.:ВАКО,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юкова М.А, Никитина Т.И, Сергеева Ю.С. Экстренная психологическая помощь: практ. пособие. – М.: ЭНАС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ьмина Т.А,  Шумилова В.В, Таркова Е.Ф. Профилактика детского дорожно-транспортного травматизма в начальной и средней школе. - М.: Просвещение,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башкина В.А, Яковлев Д.Е, Хренников Б.О, Маслов М.В. Безопасность дорожного движения: программы для системы дополнительного образования детей. – М.: Просвещение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Информационные ресурс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55736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газеты «Добрая Дорога Детст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Российской Федерации с комментариями и иллюстрациями. – М.: Атберг 98,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инина И.Ф, Рыбкина Н.В. Организация работы по профилактике детского дорожно – транспортного травматизма в образовательном учреждении. – Тамбов, 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бин А.Л, Маслов М.В; под общ.ред. А.Т.Смирнова. Обучение правилам дорожного движения: 5-9 кл: метод.пособие. – Москва.: Просвещение. 200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баров А.А, Конышев С.В, Разинин И.А. Дорож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анспортная  безопасность. – Тамбов: ТОИПКРО, 200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ddgazet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centr-bd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6948360" y="5013360"/>
            <a:ext cx="13338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Аннотация проекта</a:t>
            </a: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105264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одержимое 3"/>
          <p:cNvSpPr/>
          <p:nvPr/>
        </p:nvSpPr>
        <p:spPr>
          <a:xfrm>
            <a:off x="426960" y="1413000"/>
            <a:ext cx="8393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й проект разработан в силу особой актуальности проблемы обеспечения безопасности школьников на дорога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количества машин на улицах городов и посёлков нашей страны, увеличение скорости движения  являются одной из причин дорожно-транспортных происшествий, где потерпевшими, к сожалению, являются и дети. Эта проблема направила меня на поиск новых, более совершенных подходов в решении данного вопрос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разработан и реализуется проект, предусматривающий систематическую разноплановую работу с  использованием различных  методов обучения и воспитания детей, и активных форм организации работы с педагогами  и просвещения родителей.  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628560">
              <a:lnSpc>
                <a:spcPct val="100000"/>
              </a:lnSpc>
              <a:spcBef>
                <a:spcPts val="57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Основополагающий вопрос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234936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바탕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바탕"/>
              </a:rPr>
              <a:t>Можно ли избежать детского дорожно-транспортного травматизм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651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280" y="1916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оводить эффективную профилактическую работу, то можно избежать детского дорожно-транспортного травматиз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" descr="http://ddt-vmost.narod.ru/metod/pdd.gif"/>
          <p:cNvPicPr/>
          <p:nvPr/>
        </p:nvPicPr>
        <p:blipFill>
          <a:blip r:embed="rId1"/>
          <a:stretch/>
        </p:blipFill>
        <p:spPr>
          <a:xfrm>
            <a:off x="7236000" y="4437000"/>
            <a:ext cx="12236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Противореч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413000"/>
            <a:ext cx="3528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печное  отношение к вопросам безопасности некоторых школьников, родителей и уч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ый подход к организации и проведению занятий по ОБ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очное количество часов по теме дорожной безопасности (9 в год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148360" y="1484280"/>
            <a:ext cx="381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значимост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ы безопасного поведения в жиз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сть применения активных форм организации занятий и И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проблемы безопасности в жизни школьни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3str4"/>
          <p:cNvPicPr/>
          <p:nvPr/>
        </p:nvPicPr>
        <p:blipFill>
          <a:blip r:embed="rId1"/>
          <a:stretch/>
        </p:blipFill>
        <p:spPr>
          <a:xfrm>
            <a:off x="3851280" y="20606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3str4"/>
          <p:cNvPicPr/>
          <p:nvPr/>
        </p:nvPicPr>
        <p:blipFill>
          <a:blip r:embed="rId2"/>
          <a:stretch/>
        </p:blipFill>
        <p:spPr>
          <a:xfrm>
            <a:off x="3780000" y="544500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3str4"/>
          <p:cNvPicPr/>
          <p:nvPr/>
        </p:nvPicPr>
        <p:blipFill>
          <a:blip r:embed="rId3"/>
          <a:stretch/>
        </p:blipFill>
        <p:spPr>
          <a:xfrm rot="10800000">
            <a:off x="4572000" y="20606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3str4"/>
          <p:cNvPicPr/>
          <p:nvPr/>
        </p:nvPicPr>
        <p:blipFill>
          <a:blip r:embed="rId4"/>
          <a:stretch/>
        </p:blipFill>
        <p:spPr>
          <a:xfrm>
            <a:off x="3780000" y="350028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3str4"/>
          <p:cNvPicPr/>
          <p:nvPr/>
        </p:nvPicPr>
        <p:blipFill>
          <a:blip r:embed="rId5"/>
          <a:stretch/>
        </p:blipFill>
        <p:spPr>
          <a:xfrm rot="10800000">
            <a:off x="4500720" y="349992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3str4"/>
          <p:cNvPicPr/>
          <p:nvPr/>
        </p:nvPicPr>
        <p:blipFill>
          <a:blip r:embed="rId6"/>
          <a:stretch/>
        </p:blipFill>
        <p:spPr>
          <a:xfrm rot="10800000">
            <a:off x="4427640" y="544464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http://ddt-vmost.narod.ru/metod/pdd.gif"/>
          <p:cNvPicPr/>
          <p:nvPr/>
        </p:nvPicPr>
        <p:blipFill>
          <a:blip r:embed="rId7"/>
          <a:stretch/>
        </p:blipFill>
        <p:spPr>
          <a:xfrm flipH="1" rot="237000">
            <a:off x="7713720" y="5265360"/>
            <a:ext cx="11286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273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Дидактическая цель проекта: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560" y="1915920"/>
            <a:ext cx="8101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c1c04"/>
                </a:solidFill>
                <a:latin typeface="Times New Roman"/>
                <a:ea typeface="Times New Roman"/>
              </a:rPr>
              <a:t>Формирование знаний, умений и навыков учащихся по сознательному и ответственному выполнению ПД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3324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52600" y="1700280"/>
            <a:ext cx="8591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541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правила дорожного движения для пешеходов и пассажиров на основе формирования умений и навыков безопасного поведения на дорог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ть практические умения пешеход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культуру безопасного поведения на дорог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логическое и пространственное мышление, воображение, память, быстроту реакции, находчив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у обучающихся устойчивые навыки соблюдения и выполнения правил дорож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2" descr="http://sch116.minsk.edu.by/sm.aspx?uid=97961"/>
          <p:cNvPicPr/>
          <p:nvPr/>
        </p:nvPicPr>
        <p:blipFill>
          <a:blip r:embed="rId1"/>
          <a:stretch/>
        </p:blipFill>
        <p:spPr>
          <a:xfrm>
            <a:off x="8028000" y="5084640"/>
            <a:ext cx="8319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02920" y="1241280"/>
            <a:ext cx="7596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нормативно-правовой документации, регламентирующей деятельность ОУ по предупреждению ДДТТ - 2003 г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З «О безопасности дорожного движения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ая целевая программа «Повышение  безопасности дорожного движения в 2006-2012 годах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тная целевая программа «Повышение  безопасности дорожного движения в Тамбовской  области  на  2006-2012 годы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 и  внедрение в УВП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по профилактике ДДТТ -  2003 г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ние  учебно-материальной базы для обучения ПДД – 2003-2010 г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видеоматериал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резентац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уголков безопасности  дорожного движения  - 2004 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324000" y="3933720"/>
            <a:ext cx="1490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36:14Z</dcterms:created>
  <dc:creator>Admin</dc:creator>
  <dc:description/>
  <dc:language>en-US</dc:language>
  <cp:lastModifiedBy>Наталия</cp:lastModifiedBy>
  <dcterms:modified xsi:type="dcterms:W3CDTF">2015-10-08T18:07:08Z</dcterms:modified>
  <cp:revision>206</cp:revision>
  <dc:subject/>
  <dc:title>Горюнова Фануза Назиповна</dc:title>
</cp:coreProperties>
</file>