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434-84BE-487A-986D-B5EC37E4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F70-16D1-4142-8F2F-3D186C02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24A-1959-42D4-AE08-9B96F45F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C31-A1FA-4583-9E0E-602DF116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13B-A4B8-4F71-927E-547064B8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95B-7E1A-45CA-BB3B-7585DAFF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0EE-99A4-4047-99FF-F2E051BC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112-61EF-4D2C-8B3B-049F436D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B1C-21DA-4651-8932-2C48E3D4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9CE-E623-486A-B020-8A7C9E79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5BA-41FF-4CBB-8CA6-A4AD0351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BF7-6493-4091-8D84-DC12B4F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53CC-216B-41B3-8D85-6B3E01B83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astochka1-bor.caduk.ru/" TargetMode="External"/><Relationship Id="rId2" Type="http://schemas.openxmlformats.org/officeDocument/2006/relationships/hyperlink" Target="mailto:d.sadlastochka@rambler.ru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95280" y="380880"/>
            <a:ext cx="70581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ниципальное автономное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школьное образовательное учреждени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тский сад комбинированного вида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№ </a:t>
            </a: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 "Ласточка"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одского округа город Бо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жегородской области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057400" y="2743200"/>
            <a:ext cx="54100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ЧЕСКИ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ЕК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2286000" y="4876920"/>
            <a:ext cx="4876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ОЯ СЕМЬЯ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371600" y="1904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ейный досуг «Семейная идиллия – совместные усил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5410440" cy="3606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09680" y="28195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3048120" y="457200"/>
            <a:ext cx="3504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446120"/>
            <a:ext cx="6934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ремя реализации проекта уровень сформированности положительного образа семьи у детей значительно повысился. Дети знают, как зовут всех членов их семьи, где они работают. Расширился словарный запас детей такими понятиями как «родословная», «род». Дети узнали о семейных традициях, стали  лучше  разбираться в родственных связях,  стали более внимательно и бережно относиться к членам своей семьи, появилось желание сделать приятное своим близким, помочь им.  Во время реализации проекта в детях сформировано уважительное отношение к пожилым людям, бабушкам, дедушкам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одержимое 2"/>
          <p:cNvSpPr/>
          <p:nvPr/>
        </p:nvSpPr>
        <p:spPr>
          <a:xfrm>
            <a:off x="900000" y="333360"/>
            <a:ext cx="7920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Создатели презен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Заместитель заведующего Кочеткова К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спит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Лягина О.В., Лукоянова А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Контактная информ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дрес: 606456, Россия, Нижегородская область, город Бор, микрорайон «Красногорка», д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елефон: 8-(83159)-6-74-12; 6-77-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айт: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www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Cambria"/>
                <a:hlinkClick r:id="rId1"/>
              </a:rPr>
              <a:t>lastochka1-bor.caduk.ru</a:t>
            </a:r>
            <a:r>
              <a:rPr b="0" lang="ru-RU" sz="1800" spc="-1" strike="noStrike">
                <a:solidFill>
                  <a:srgbClr val="000000"/>
                </a:solidFill>
                <a:latin typeface="Vija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-mail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mbria"/>
                <a:hlinkClick r:id="rId2"/>
              </a:rPr>
              <a:t>d.sadlastochka@rambler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3352680" y="457200"/>
            <a:ext cx="35053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туаль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83760" y="144720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ья всегда стоит на первом месте у каждого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80520" y="2057040"/>
            <a:ext cx="64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семья для малыша - это мир, в котором закладыв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ы морали, отношения к люд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81960" y="3124080"/>
            <a:ext cx="765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целью изучения семьи, выяснения образовательных потреб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ителей, установления конта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её членами, для соглас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тельных воздейст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ребенка появилась 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ть проект «Моя семь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Семья - это счастье, любовь и удача, Семья - это летом поездки на дачу. Семья - это праздник, семейн. Скоро мамой"/>
          <p:cNvPicPr/>
          <p:nvPr/>
        </p:nvPicPr>
        <p:blipFill>
          <a:blip r:embed="rId1"/>
          <a:stretch/>
        </p:blipFill>
        <p:spPr>
          <a:xfrm>
            <a:off x="4724280" y="3505320"/>
            <a:ext cx="4114800" cy="30859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590920" y="152280"/>
            <a:ext cx="46479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, задачи проек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762120" y="992880"/>
            <a:ext cx="7924680" cy="5580360"/>
          </a:xfrm>
          <a:prstGeom prst="rect">
            <a:avLst/>
          </a:prstGeom>
          <a:solidFill>
            <a:srgbClr val="ccff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ширять представления детей о семье через организацию разных видов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ть условия для повышения активности участия родителей в жизни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ть у детей представление о семье, о нравственном  отношении к семейным традиция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ть представление о понятиях "род”, "родители”, "родословная”, "семья”, "родные”, "близкие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ширять знания о ближнем окружении, учить разбираться в родственных связях, проявлять заботу о родных людя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ширять кругозор и обогащать словарный запас детей терминами родственных отношений, развивать связную реч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вать любознательность, наблюдательность, творческие способности детей в процессе совместной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ывать у детей любовь и уважение к членам семьи, показать ценность семьи для каждого человека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ершенствовать качество работы детского сада при взаимодействии  с семьями воспитанников в ходе реализации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2590920" y="457200"/>
            <a:ext cx="46479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жидаемые результа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447920" y="1308240"/>
            <a:ext cx="6933960" cy="2533320"/>
          </a:xfrm>
          <a:prstGeom prst="rect">
            <a:avLst/>
          </a:prstGeom>
          <a:solidFill>
            <a:srgbClr val="cc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ить информацию об историю своей семьи, семейных традициях и праздниках, увлечениях членов своей семь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ние любви к членам семьи и чувства гордости за свою семь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ысить педагогическую культуру родителей, установить с ними доверительные и партнёрски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Открытка С днём семьи!"/>
          <p:cNvPicPr/>
          <p:nvPr/>
        </p:nvPicPr>
        <p:blipFill>
          <a:blip r:embed="rId1"/>
          <a:stretch/>
        </p:blipFill>
        <p:spPr>
          <a:xfrm>
            <a:off x="3124080" y="403848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хема 4" descr=""/>
          <p:cNvPicPr/>
          <p:nvPr/>
        </p:nvPicPr>
        <p:blipFill>
          <a:blip r:embed="rId1"/>
          <a:stretch/>
        </p:blipFill>
        <p:spPr>
          <a:xfrm>
            <a:off x="431640" y="990720"/>
            <a:ext cx="8712360" cy="5499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4"/>
          <p:cNvSpPr txBox="1"/>
          <p:nvPr/>
        </p:nvSpPr>
        <p:spPr>
          <a:xfrm>
            <a:off x="2438280" y="304920"/>
            <a:ext cx="4876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астники проек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2057400" y="228600"/>
            <a:ext cx="57150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оки реализации проек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457200" y="1371600"/>
            <a:ext cx="3733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этап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сентябрь 2014 г.)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511200" y="2764080"/>
            <a:ext cx="8099280" cy="2288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исковая работа по подбору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ллюстративного материала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литературных произведений;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епродукций картин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ультфильмов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дидактических, сюжетно-ролев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атрализованн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ительных и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Библиотеки. ГУО&quot;Гимназия 3 г.Молодечно&quot;"/>
          <p:cNvPicPr/>
          <p:nvPr/>
        </p:nvPicPr>
        <p:blipFill>
          <a:blip r:embed="rId1"/>
          <a:stretch/>
        </p:blipFill>
        <p:spPr>
          <a:xfrm>
            <a:off x="4114800" y="2209680"/>
            <a:ext cx="50292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0" y="228600"/>
            <a:ext cx="3886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этап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октябрь-начало ноября 2014 г.)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133720"/>
            <a:ext cx="6238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Составление рассказа по сюжет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картинке «Моя сем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- Рисование на тему «Моя семья»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Дидактическая игра «Угадай к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работает мама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Беседа с детьми на тему «Моя друж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сем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- Аппликация: «Дом, в котором я жив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- Заучивание пословиц и поговорок о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- Мультимедийная игра – викторина «Эти удивительные сказ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- Дидактическая игра «Кто старш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- Слушание, заучивание стихов и песен про сем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- Просмотр мультфильма «Сестрица Алёнушка и братец Иван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- Просмотр мультимедийной  презентации  «Герб семь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Разное - новость Мятая бумага, карандаши, слюни (14 фото) страница номер два"/>
          <p:cNvPicPr/>
          <p:nvPr/>
        </p:nvPicPr>
        <p:blipFill>
          <a:blip r:embed="rId1"/>
          <a:stretch/>
        </p:blipFill>
        <p:spPr>
          <a:xfrm>
            <a:off x="4648320" y="380880"/>
            <a:ext cx="4114800" cy="2990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Сироты Запорожья и области нарисовали свои права :: Дети Запорожья"/>
          <p:cNvPicPr/>
          <p:nvPr/>
        </p:nvPicPr>
        <p:blipFill>
          <a:blip r:embed="rId2"/>
          <a:stretch/>
        </p:blipFill>
        <p:spPr>
          <a:xfrm>
            <a:off x="5029200" y="228600"/>
            <a:ext cx="3886200" cy="3770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ем работает мама? (дидактическая игра) - 20 Октября 2011 - Ментемирова Наталья Александровна"/>
          <p:cNvPicPr/>
          <p:nvPr/>
        </p:nvPicPr>
        <p:blipFill>
          <a:blip r:embed="rId3"/>
          <a:stretch/>
        </p:blipFill>
        <p:spPr>
          <a:xfrm>
            <a:off x="4724280" y="380880"/>
            <a:ext cx="4114800" cy="3087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Аппликации для детей"/>
          <p:cNvPicPr/>
          <p:nvPr/>
        </p:nvPicPr>
        <p:blipFill>
          <a:blip r:embed="rId4"/>
          <a:stretch/>
        </p:blipFill>
        <p:spPr>
          <a:xfrm>
            <a:off x="4724280" y="457200"/>
            <a:ext cx="4038840" cy="311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Вера Кульбовская. Блог - Для воспитателей детских садов - Мааам.ру"/>
          <p:cNvPicPr/>
          <p:nvPr/>
        </p:nvPicPr>
        <p:blipFill>
          <a:blip r:embed="rId5"/>
          <a:stretch/>
        </p:blipFill>
        <p:spPr>
          <a:xfrm>
            <a:off x="5029200" y="5335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Герб семьи в картинках"/>
          <p:cNvPicPr/>
          <p:nvPr/>
        </p:nvPicPr>
        <p:blipFill>
          <a:blip r:embed="rId6"/>
          <a:stretch/>
        </p:blipFill>
        <p:spPr>
          <a:xfrm>
            <a:off x="5394240" y="457200"/>
            <a:ext cx="3041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838080"/>
            <a:ext cx="4791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С.р.и  «Сем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С.р.и «Магазин», сюжет «Подарки для близки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С.р.и «Семья», сюжет «Праздник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нашей семь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С.р.и «Почта», сюжет «Посылка от бабуш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С.р.и "Кафе", сюжет "Отдыхаем всей семьей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Беседы с детьми о своей семье, родственни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Рассказы детям о своем детстве, школьных годах, о семейных традициях, о своей проф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Чтение детям рассказов о взаимоотношениях в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Сюжетно-ролевая игра Семья bushuieva63@mail.ru"/>
          <p:cNvPicPr/>
          <p:nvPr/>
        </p:nvPicPr>
        <p:blipFill>
          <a:blip r:embed="rId1"/>
          <a:stretch/>
        </p:blipFill>
        <p:spPr>
          <a:xfrm>
            <a:off x="4572000" y="838080"/>
            <a:ext cx="4267080" cy="320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Особенности сюжетно-ролевой игры в дошкольном возрасте"/>
          <p:cNvPicPr/>
          <p:nvPr/>
        </p:nvPicPr>
        <p:blipFill>
          <a:blip r:embed="rId2"/>
          <a:stretch/>
        </p:blipFill>
        <p:spPr>
          <a:xfrm>
            <a:off x="5334120" y="533520"/>
            <a:ext cx="3028680" cy="403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Игра сюжетно ролевая почта - сайт где любят играть"/>
          <p:cNvPicPr/>
          <p:nvPr/>
        </p:nvPicPr>
        <p:blipFill>
          <a:blip r:embed="rId3"/>
          <a:stretch/>
        </p:blipFill>
        <p:spPr>
          <a:xfrm>
            <a:off x="5105520" y="9144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Сюжетно-ролевая игра &quot;Кафе&quot; - Для воспитателей детских садов - Мааам.ру"/>
          <p:cNvPicPr/>
          <p:nvPr/>
        </p:nvPicPr>
        <p:blipFill>
          <a:blip r:embed="rId4"/>
          <a:stretch/>
        </p:blipFill>
        <p:spPr>
          <a:xfrm>
            <a:off x="5410080" y="380880"/>
            <a:ext cx="3202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44956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мятка для родителей «Правила общения в сем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формление фотоальбома:  «Моя сем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тавка семейных рисунков «Герб моей семь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Личная страница воспитателя Хотькиной Натальи Владимировны - Консультации для родителей"/>
          <p:cNvPicPr/>
          <p:nvPr/>
        </p:nvPicPr>
        <p:blipFill>
          <a:blip r:embed="rId1"/>
          <a:stretch/>
        </p:blipFill>
        <p:spPr>
          <a:xfrm>
            <a:off x="5486400" y="1066680"/>
            <a:ext cx="29178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DITENOK Photo Gallery - Рассказ для детского садика &quot;Моя сем…"/>
          <p:cNvPicPr/>
          <p:nvPr/>
        </p:nvPicPr>
        <p:blipFill>
          <a:blip r:embed="rId2"/>
          <a:stretch/>
        </p:blipFill>
        <p:spPr>
          <a:xfrm>
            <a:off x="5486400" y="1371600"/>
            <a:ext cx="2649600" cy="3714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Как нарисовать герб семьи в детсад Учитесь рисовать"/>
          <p:cNvPicPr/>
          <p:nvPr/>
        </p:nvPicPr>
        <p:blipFill>
          <a:blip r:embed="rId3"/>
          <a:stretch/>
        </p:blipFill>
        <p:spPr>
          <a:xfrm>
            <a:off x="4495680" y="1523880"/>
            <a:ext cx="428652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10:19:58Z</dcterms:created>
  <dc:creator>Ласточка</dc:creator>
  <dc:description/>
  <dc:language>en-US</dc:language>
  <cp:lastModifiedBy>Ласточка</cp:lastModifiedBy>
  <dcterms:modified xsi:type="dcterms:W3CDTF">2014-11-25T10:18:1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