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C064-DA49-457F-8F39-A37D2B804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13AA-2E03-440B-91C8-23470DAF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4BD6-EDF9-43AF-AC85-C08AC3F12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C352-7EEB-4E9F-9D02-0AB6EBC2C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E6EB-E8BF-4115-A7FC-DCA05739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6830-B19B-4F67-9B45-89814348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DCB4-6E78-4DD3-8DF7-95B66355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D886-C1AA-4AF7-9C30-9940AE02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1916-D036-40E8-9179-A670D39F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7F09-E908-40A3-B789-52A452E4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D4E0-DDAE-4697-9CB5-2F3C2CC2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5437-5806-4474-A80D-FD6E2621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DFD2-8D9D-4A2E-9DDD-97A065E3B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lastochka1-bor.caduk.ru/" TargetMode="External"/><Relationship Id="rId2" Type="http://schemas.openxmlformats.org/officeDocument/2006/relationships/hyperlink" Target="mailto:d.sadlastochka@rambler.ru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295280" y="380880"/>
            <a:ext cx="705816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униципальное автономное 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школьное образовательное учреждение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етский сад комбинированного вида 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№ </a:t>
            </a: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 "Ласточка"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ородского округа город Бор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ижегородской области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2057400" y="2743200"/>
            <a:ext cx="5410080" cy="14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ВОРЧЕСКИЙ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ЕК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2286000" y="4876920"/>
            <a:ext cx="48769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МОЯ СЕМЬЯ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371600" y="19047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мейный досуг «Семейная идиллия – совместные усил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209680" y="2819520"/>
            <a:ext cx="5410440" cy="36068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209680" y="281952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500"/>
                            </p:stCondLst>
                            <p:childTnLst>
                              <p:par>
                                <p:cTn id="2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000"/>
                            </p:stCondLst>
                            <p:childTnLst>
                              <p:par>
                                <p:cTn id="2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4"/>
          <p:cNvSpPr txBox="1"/>
          <p:nvPr/>
        </p:nvSpPr>
        <p:spPr>
          <a:xfrm>
            <a:off x="3048120" y="457200"/>
            <a:ext cx="35049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вод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1446120"/>
            <a:ext cx="69343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время реализации проекта уровень сформированности положительного образа семьи у детей значительно повысился. Дети знают, как зовут всех членов их семьи, где они работают. Расширился словарный запас детей такими понятиями как «родословная», «род». Дети узнали о семейных традициях, стали  лучше  разбираться в родственных связях,  стали более внимательно и бережно относиться к членам своей семьи, появилось желание сделать приятное своим близким, помочь им.  Во время реализации проекта в детях сформировано уважительное отношение к пожилым людям, бабушкам, дедушкам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Содержимое 2"/>
          <p:cNvSpPr/>
          <p:nvPr/>
        </p:nvSpPr>
        <p:spPr>
          <a:xfrm>
            <a:off x="900000" y="333360"/>
            <a:ext cx="792000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mbria"/>
              </a:rPr>
              <a:t>Создатели презент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Заместитель заведующего Кочеткова К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Воспита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Лягина О.В., Лукоянова А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mbria"/>
              </a:rPr>
              <a:t>Контактная информац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Адрес: 606456, Россия, Нижегородская область, город Бор, микрорайон «Красногорка», д.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Телефон: 8-(83159)-6-74-12; 6-77-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Сайт: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www.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Cambria"/>
                <a:hlinkClick r:id="rId1"/>
              </a:rPr>
              <a:t>lastochka1-bor.caduk.ru</a:t>
            </a:r>
            <a:r>
              <a:rPr b="0" lang="ru-RU" sz="1800" spc="-1" strike="noStrike">
                <a:solidFill>
                  <a:srgbClr val="000000"/>
                </a:solidFill>
                <a:latin typeface="Vijay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E-mail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ambria"/>
                <a:hlinkClick r:id="rId2"/>
              </a:rPr>
              <a:t>d.sadlastochka@rambler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4"/>
          <p:cNvSpPr txBox="1"/>
          <p:nvPr/>
        </p:nvSpPr>
        <p:spPr>
          <a:xfrm>
            <a:off x="3352680" y="457200"/>
            <a:ext cx="350532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ктуальност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383760" y="1447200"/>
            <a:ext cx="64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мья всегда стоит на первом месте у каждого челове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380520" y="2057040"/>
            <a:ext cx="64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семья для малыша - это мир, в котором закладываю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новы морали, отношения к людя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81960" y="3124080"/>
            <a:ext cx="7657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целью изучения семьи, выяснения образовательных потребност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дителей, установления конта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её членами, для соглас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спитательных воздейств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ребенка появилась 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здать проект «Моя семья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Семья - это счастье, любовь и удача, Семья - это летом поездки на дачу. Семья - это праздник, семейн. Скоро мамой"/>
          <p:cNvPicPr/>
          <p:nvPr/>
        </p:nvPicPr>
        <p:blipFill>
          <a:blip r:embed="rId1"/>
          <a:stretch/>
        </p:blipFill>
        <p:spPr>
          <a:xfrm>
            <a:off x="4724280" y="3505320"/>
            <a:ext cx="4114800" cy="3085920"/>
          </a:xfrm>
          <a:prstGeom prst="rect">
            <a:avLst/>
          </a:prstGeom>
          <a:ln w="2844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2590920" y="152280"/>
            <a:ext cx="464796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ель, задачи проек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762120" y="992880"/>
            <a:ext cx="7924680" cy="5580360"/>
          </a:xfrm>
          <a:prstGeom prst="rect">
            <a:avLst/>
          </a:prstGeom>
          <a:solidFill>
            <a:srgbClr val="ccff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Цель про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ширять представления детей о семье через организацию разных видов деятель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здать условия для повышения активности участия родителей в жизни груп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рмировать у детей представление о семье, о нравственном  отношении к семейным традиция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ть представление о понятиях "род”, "родители”, "родословная”, "семья”, "родные”, "близкие”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ширять знания о ближнем окружении, учить разбираться в родственных связях, проявлять заботу о родных людя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ширять кругозор и обогащать словарный запас детей терминами родственных отношений, развивать связную реч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вать любознательность, наблюдательность, творческие способности детей в процессе совместной деятель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спитывать у детей любовь и уважение к членам семьи, показать ценность семьи для каждого человека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вершенствовать качество работы детского сада при взаимодействии  с семьями воспитанников в ходе реализации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4"/>
          <p:cNvSpPr txBox="1"/>
          <p:nvPr/>
        </p:nvSpPr>
        <p:spPr>
          <a:xfrm>
            <a:off x="2590920" y="457200"/>
            <a:ext cx="464796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жидаемые результат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1447920" y="1308240"/>
            <a:ext cx="6933960" cy="2533320"/>
          </a:xfrm>
          <a:prstGeom prst="rect">
            <a:avLst/>
          </a:prstGeom>
          <a:solidFill>
            <a:srgbClr val="ccffff"/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лучить информацию об историю своей семьи, семейных традициях и праздниках, увлечениях членов своей семь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спитание любви к членам семьи и чувства гордости за свою семь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высить педагогическую культуру родителей, установить с ними доверительные и партнёрские отнош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Открытка С днём семьи!"/>
          <p:cNvPicPr/>
          <p:nvPr/>
        </p:nvPicPr>
        <p:blipFill>
          <a:blip r:embed="rId1"/>
          <a:stretch/>
        </p:blipFill>
        <p:spPr>
          <a:xfrm>
            <a:off x="3124080" y="4038480"/>
            <a:ext cx="3276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Схема 4" descr=""/>
          <p:cNvPicPr/>
          <p:nvPr/>
        </p:nvPicPr>
        <p:blipFill>
          <a:blip r:embed="rId1"/>
          <a:stretch/>
        </p:blipFill>
        <p:spPr>
          <a:xfrm>
            <a:off x="431640" y="990720"/>
            <a:ext cx="8712360" cy="5499000"/>
          </a:xfrm>
          <a:prstGeom prst="rect">
            <a:avLst/>
          </a:prstGeom>
          <a:ln w="0">
            <a:noFill/>
          </a:ln>
        </p:spPr>
      </p:pic>
      <p:sp>
        <p:nvSpPr>
          <p:cNvPr id="55" name="WordArt 4"/>
          <p:cNvSpPr txBox="1"/>
          <p:nvPr/>
        </p:nvSpPr>
        <p:spPr>
          <a:xfrm>
            <a:off x="2438280" y="304920"/>
            <a:ext cx="48769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частники проек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4"/>
          <p:cNvSpPr txBox="1"/>
          <p:nvPr/>
        </p:nvSpPr>
        <p:spPr>
          <a:xfrm>
            <a:off x="2057400" y="228600"/>
            <a:ext cx="571500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роки реализации проек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WordArt 4"/>
          <p:cNvSpPr txBox="1"/>
          <p:nvPr/>
        </p:nvSpPr>
        <p:spPr>
          <a:xfrm>
            <a:off x="457200" y="1371600"/>
            <a:ext cx="3733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этап 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(сентябрь 2014 г.)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/>
          <p:nvPr/>
        </p:nvSpPr>
        <p:spPr>
          <a:xfrm>
            <a:off x="511200" y="2764080"/>
            <a:ext cx="8099280" cy="22885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исковая работа по подбору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иллюстративного материала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литературных произведений;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репродукций картин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мультфильмов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дидактических, сюжетно-ролевы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атрализованны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оительных иг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Библиотеки. ГУО&quot;Гимназия 3 г.Молодечно&quot;"/>
          <p:cNvPicPr/>
          <p:nvPr/>
        </p:nvPicPr>
        <p:blipFill>
          <a:blip r:embed="rId1"/>
          <a:stretch/>
        </p:blipFill>
        <p:spPr>
          <a:xfrm>
            <a:off x="4114800" y="2209680"/>
            <a:ext cx="502920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4"/>
          <p:cNvSpPr txBox="1"/>
          <p:nvPr/>
        </p:nvSpPr>
        <p:spPr>
          <a:xfrm>
            <a:off x="0" y="228600"/>
            <a:ext cx="3886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 этап 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(октябрь-начало ноября 2014 г.)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2133720"/>
            <a:ext cx="6238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Составление рассказа по сюжет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картинке «Моя семь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- Рисование на тему «Моя семья»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Дидактическая игра «Угадай к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работает мама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Беседа с детьми на тему «Моя друж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семь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- Аппликация: «Дом, в котором я жив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- Заучивание пословиц и поговорок о сем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- Мультимедийная игра – викторина «Эти удивительные сказ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- Дидактическая игра «Кто старше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- Слушание, заучивание стихов и песен про сем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- Просмотр мультфильма «Сестрица Алёнушка и братец Ивануш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- Просмотр мультимедийной  презентации  «Герб семь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Разное - новость Мятая бумага, карандаши, слюни (14 фото) страница номер два"/>
          <p:cNvPicPr/>
          <p:nvPr/>
        </p:nvPicPr>
        <p:blipFill>
          <a:blip r:embed="rId1"/>
          <a:stretch/>
        </p:blipFill>
        <p:spPr>
          <a:xfrm>
            <a:off x="4648320" y="380880"/>
            <a:ext cx="4114800" cy="2990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Сироты Запорожья и области нарисовали свои права :: Дети Запорожья"/>
          <p:cNvPicPr/>
          <p:nvPr/>
        </p:nvPicPr>
        <p:blipFill>
          <a:blip r:embed="rId2"/>
          <a:stretch/>
        </p:blipFill>
        <p:spPr>
          <a:xfrm>
            <a:off x="5029200" y="228600"/>
            <a:ext cx="3886200" cy="3770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Кем работает мама? (дидактическая игра) - 20 Октября 2011 - Ментемирова Наталья Александровна"/>
          <p:cNvPicPr/>
          <p:nvPr/>
        </p:nvPicPr>
        <p:blipFill>
          <a:blip r:embed="rId3"/>
          <a:stretch/>
        </p:blipFill>
        <p:spPr>
          <a:xfrm>
            <a:off x="4724280" y="380880"/>
            <a:ext cx="4114800" cy="3087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Аппликации для детей"/>
          <p:cNvPicPr/>
          <p:nvPr/>
        </p:nvPicPr>
        <p:blipFill>
          <a:blip r:embed="rId4"/>
          <a:stretch/>
        </p:blipFill>
        <p:spPr>
          <a:xfrm>
            <a:off x="4724280" y="457200"/>
            <a:ext cx="4038840" cy="3114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Вера Кульбовская. Блог - Для воспитателей детских садов - Мааам.ру"/>
          <p:cNvPicPr/>
          <p:nvPr/>
        </p:nvPicPr>
        <p:blipFill>
          <a:blip r:embed="rId5"/>
          <a:stretch/>
        </p:blipFill>
        <p:spPr>
          <a:xfrm>
            <a:off x="5029200" y="53352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Герб семьи в картинках"/>
          <p:cNvPicPr/>
          <p:nvPr/>
        </p:nvPicPr>
        <p:blipFill>
          <a:blip r:embed="rId6"/>
          <a:stretch/>
        </p:blipFill>
        <p:spPr>
          <a:xfrm>
            <a:off x="5394240" y="457200"/>
            <a:ext cx="30416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50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7500"/>
                            </p:stCondLst>
                            <p:childTnLst>
                              <p:par>
                                <p:cTn id="13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8000"/>
                            </p:stCondLst>
                            <p:childTnLst>
                              <p:par>
                                <p:cTn id="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838080"/>
            <a:ext cx="4791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С.р.и  «Семь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С.р.и «Магазин», сюжет «Подарки для близки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С.р.и «Семья», сюжет «Праздник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нашей семь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С.р.и «Почта», сюжет «Посылка от бабуш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С.р.и "Кафе", сюжет "Отдыхаем всей семьей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Беседы с детьми о своей семье, родственни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Рассказы детям о своем детстве, школьных годах, о семейных традициях, о своей профе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Чтение детям рассказов о взаимоотношениях в сем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Сюжетно-ролевая игра Семья bushuieva63@mail.ru"/>
          <p:cNvPicPr/>
          <p:nvPr/>
        </p:nvPicPr>
        <p:blipFill>
          <a:blip r:embed="rId1"/>
          <a:stretch/>
        </p:blipFill>
        <p:spPr>
          <a:xfrm>
            <a:off x="4572000" y="838080"/>
            <a:ext cx="4267080" cy="3202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Особенности сюжетно-ролевой игры в дошкольном возрасте"/>
          <p:cNvPicPr/>
          <p:nvPr/>
        </p:nvPicPr>
        <p:blipFill>
          <a:blip r:embed="rId2"/>
          <a:stretch/>
        </p:blipFill>
        <p:spPr>
          <a:xfrm>
            <a:off x="5334120" y="533520"/>
            <a:ext cx="3028680" cy="4038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Игра сюжетно ролевая почта - сайт где любят играть"/>
          <p:cNvPicPr/>
          <p:nvPr/>
        </p:nvPicPr>
        <p:blipFill>
          <a:blip r:embed="rId3"/>
          <a:stretch/>
        </p:blipFill>
        <p:spPr>
          <a:xfrm>
            <a:off x="5105520" y="9144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Сюжетно-ролевая игра &quot;Кафе&quot; - Для воспитателей детских садов - Мааам.ру"/>
          <p:cNvPicPr/>
          <p:nvPr/>
        </p:nvPicPr>
        <p:blipFill>
          <a:blip r:embed="rId4"/>
          <a:stretch/>
        </p:blipFill>
        <p:spPr>
          <a:xfrm>
            <a:off x="5410080" y="380880"/>
            <a:ext cx="32022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500"/>
                            </p:stCondLst>
                            <p:childTnLst>
                              <p:par>
                                <p:cTn id="1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6500"/>
                            </p:stCondLst>
                            <p:childTnLst>
                              <p:par>
                                <p:cTn id="18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700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9000"/>
                            </p:stCondLst>
                            <p:childTnLst>
                              <p:par>
                                <p:cTn id="1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95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1500"/>
                            </p:stCondLst>
                            <p:childTnLst>
                              <p:par>
                                <p:cTn id="2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449568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мятка для родителей «Правила общения в семь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формление фотоальбома:  «Моя семь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ставка семейных рисунков «Герб моей семь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Личная страница воспитателя Хотькиной Натальи Владимировны - Консультации для родителей"/>
          <p:cNvPicPr/>
          <p:nvPr/>
        </p:nvPicPr>
        <p:blipFill>
          <a:blip r:embed="rId1"/>
          <a:stretch/>
        </p:blipFill>
        <p:spPr>
          <a:xfrm>
            <a:off x="5486400" y="1066680"/>
            <a:ext cx="2917800" cy="4114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DITENOK Photo Gallery - Рассказ для детского садика &quot;Моя сем…"/>
          <p:cNvPicPr/>
          <p:nvPr/>
        </p:nvPicPr>
        <p:blipFill>
          <a:blip r:embed="rId2"/>
          <a:stretch/>
        </p:blipFill>
        <p:spPr>
          <a:xfrm>
            <a:off x="5486400" y="1371600"/>
            <a:ext cx="2649600" cy="3714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Как нарисовать герб семьи в детсад Учитесь рисовать"/>
          <p:cNvPicPr/>
          <p:nvPr/>
        </p:nvPicPr>
        <p:blipFill>
          <a:blip r:embed="rId3"/>
          <a:stretch/>
        </p:blipFill>
        <p:spPr>
          <a:xfrm>
            <a:off x="4495680" y="1523880"/>
            <a:ext cx="4286520" cy="32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8500"/>
                            </p:stCondLst>
                            <p:childTnLst>
                              <p:par>
                                <p:cTn id="2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4T10:19:58Z</dcterms:created>
  <dc:creator>Ласточка</dc:creator>
  <dc:description/>
  <dc:language>en-US</dc:language>
  <cp:lastModifiedBy>Ласточка</cp:lastModifiedBy>
  <dcterms:modified xsi:type="dcterms:W3CDTF">2014-11-25T10:18:12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