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4EB-9BD2-4E23-8299-EE2DAA24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C82-C55F-4F19-8AD5-7F943758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BA0-7AAF-4C97-A5CA-AC93C76A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29E-B83D-40A1-8656-3096CB80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B55E-9363-4C1E-AC57-3D9B3571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7C6A-5EB6-4927-92A7-666D3117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A479-D339-4F19-B208-1BA35B37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D092-B0BB-42B7-B154-A4282036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ADA9-168D-41F7-9CD4-E89F99B0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B7B9-56AF-47CA-BD5E-CCA1E6E9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486E-0296-4491-B641-BB5F7503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DA4-D8B4-4181-9B74-F96C6D61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88E7-D3B0-4D70-B20F-36283376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1465-4C61-4A46-BA93-6F32D24E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FD7D-06BC-4214-A132-2748A1FB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DFA5-A7F5-4BCC-9F14-1638B993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BFF7-CB91-420B-A547-04B8E1ED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879-C796-4862-8315-92BF490D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03D-CF23-4C9F-B1D5-ED614FF3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90E-7A20-4F1F-8EE9-13A48825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EB4-B57E-43FC-A218-359B54BD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106-9476-4AF9-88DA-18033122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0E4-95C3-43F8-A41D-5654FA05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CEF-4085-4852-8BB1-7517D7C7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BA6E-A2EC-482D-AE2B-E94FAB8336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CC16-F9E6-4F38-A524-5E379885E88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Исследовательская деятельность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2340000" y="4005360"/>
            <a:ext cx="3960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д «исследовательской деятельностью школьников» понимается такая форма организации воспитательно – образовательного процесса, при которой учащиеся ставятся в ситуацию, когда они самостоятельно овладевают понятиями и подходами  к решению проблем в процессе познания организованного учителем, решают творческие задачи с неизвестным заранее результатом. Именно исследовательский  подход в обучении позволяет учащимся стать участниками творческого процесса, а не пассивными потребителями готовой информаци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14600" y="277920"/>
            <a:ext cx="4114800" cy="997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пределение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словно исследовательскую деятельность можно разделить на две составные част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учно-исследовательская – вид деятельности, направленный на получение объективных научных знаний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чебно-исследовательская – деятельность, главная цель которой – образовательный результат. Она направлена на обучение учащихся, развитие у них исследовательского типа мышлени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14600" y="277920"/>
            <a:ext cx="4114800" cy="997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состав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сследовательская деятельность позволяет развивать у ребенка умения и навыки для освоения стремительно нарастающего потока информации, ориентации в нем  и систематизации материала. В своей работе исследовательскую деятельность я разделяю на урочную и внеурочную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чебная деятельность – это творческие задания, создание проектов по определенной теме, различные технологии развивающего обучения. Внеурочная исследовательская деятельность – это познавательные конкурсы, предметные недели, конференции, групповые занятия, элективные курсы, исследовательская и творческая работ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14600" y="277920"/>
            <a:ext cx="4114800" cy="997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иды исследовательской деятельност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 2007 года я занимаюсь исследовательской деятельностью. Чтобы иметь четкий план действий, я изучила опыт работы различных общеобразовательных учреждений и выделила следующие этапы работы над проек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бор темы проекта, определение его типа и числа участнико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боснование проблемы, исследуемой в рамках намеченной тематик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пределение задач по группам, поиск информаци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ставление технологической карты с представлением в логической последовательности хода работ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амостоятельная работа участников проекта по своим творческим задания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межуточные обсуждения полученных данных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езентация (защита) проекто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оллективное обсуждение вывод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14600" y="277920"/>
            <a:ext cx="4114800" cy="997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Этапы работ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ребования к результатам исследовательских проектов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езультаты проектной работы могут быть получены при помощи как традиционных, так и современных методов сбора информации. При этом результаты проектной деятельности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едставляются в виде конкретного «продукта» (доклада, альбома, сборника, плана-карты);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полняются в едином стиле (например, итоговый доклад должен содержать заголовки, подзаголовки, иметь поля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держат соответствующие сноски, примечания, указывающие на источники информации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считаны на восприятие как зрителей, так и читателей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защищаются в присутствии заинтересованной аудитории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олжны в дальнейшем использоваться в учебном процессе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боры формы проекта определяются его темой, целью, содержанием, общим замыслом автора. Важно, чтобы благодаря выбранной форме можно было наилучшим образом представить на презентации результаты проведённой работ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124000" y="549360"/>
            <a:ext cx="4392720" cy="609480"/>
          </a:xfrm>
          <a:custGeom>
            <a:avLst/>
            <a:gdLst>
              <a:gd name="textAreaLeft" fmla="*/ 1098000 w 4392720"/>
              <a:gd name="textAreaRight" fmla="*/ 3294720 w 43927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ребован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о скорой встречи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2684520" y="1600200"/>
            <a:ext cx="3774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5:07:05Z</dcterms:created>
  <dc:creator>Loner-XP</dc:creator>
  <dc:description/>
  <dc:language>en-US</dc:language>
  <cp:lastModifiedBy>Учитель</cp:lastModifiedBy>
  <dcterms:modified xsi:type="dcterms:W3CDTF">2011-02-21T03:33:32Z</dcterms:modified>
  <cp:revision>3</cp:revision>
  <dc:subject/>
  <dc:title>Слайд 1</dc:title>
</cp:coreProperties>
</file>