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0E37-EC64-4621-BAE0-2F188CCA3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F2B8-9929-42A2-A159-39B8E8C9E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31CB-AEC6-49F5-A2DB-375299791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098C-A1F9-4F3F-89C4-E5736DB9A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3BEC9-E1CB-401D-9601-ECA593C59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97B42-2CAF-45AE-9EAA-60C05F1B7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A9C3C-D8CB-40A5-A5CA-8A4EBC5E3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4D70E-2C40-4414-A0CD-D1632D456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785F6-DBC0-4897-8F80-EF08E9132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33B31-C145-4763-BA7E-480B647B7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97555-2E3A-4B00-BD14-BE2D740D7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0188-6356-4877-8AFF-E88B5BBA2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49FDB-FCF0-454B-8951-E9B486C69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821C8-7961-4B32-ACA9-13895D14D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512AB-3DF7-4BD7-BEB3-6A405E1C2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D7A2C-BCCD-47FF-B9FC-2FBA3F440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340B1-D42D-4A29-8F33-6A5351F0A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4BDC-8A16-4F5B-98F2-CB6FC39FD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616A-19E4-4DD4-A1C4-159C67C2E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DCBE-2C51-43CC-919B-67DD1EBD2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69F1-4F1E-4F9E-83FF-083CC32DF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6329-9E06-4901-8E91-08EB31B5E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4C6A-CBA7-44F9-B2FE-3454BC348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7CEA-CE44-4BF2-9EBE-CC4BC6AA2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4A2F8-F476-4451-AD3D-B4A6E322EBC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684CE-1412-4F44-BA6B-49278DBA7B0F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Arial"/>
              </a:rPr>
              <a:t>Исследовательская деятельность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5" name="Picture 8" descr=""/>
          <p:cNvPicPr/>
          <p:nvPr/>
        </p:nvPicPr>
        <p:blipFill>
          <a:blip r:embed="rId1"/>
          <a:stretch/>
        </p:blipFill>
        <p:spPr>
          <a:xfrm>
            <a:off x="2340000" y="4005360"/>
            <a:ext cx="39607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Под «исследовательской деятельностью школьников» понимается такая форма организации воспитательно – образовательного процесса, при которой учащиеся ставятся в ситуацию, когда они самостоятельно овладевают понятиями и подходами  к решению проблем в процессе познания организованного учителем, решают творческие задачи с неизвестным заранее результатом. Именно исследовательский  подход в обучении позволяет учащимся стать участниками творческого процесса, а не пассивными потребителями готовой информации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514600" y="277920"/>
            <a:ext cx="4114800" cy="99756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round/>
          </a:ln>
        </p:spPr>
        <p:txBody>
          <a:bodyPr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определение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Условно исследовательскую деятельность можно разделить на две составные части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научно-исследовательская – вид деятельности, направленный на получение объективных научных знаний 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учебно-исследовательская – деятельность, главная цель которой – образовательный результат. Она направлена на обучение учащихся, развитие у них исследовательского типа мышления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514600" y="277920"/>
            <a:ext cx="4114800" cy="99756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round/>
          </a:ln>
        </p:spPr>
        <p:txBody>
          <a:bodyPr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состав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Исследовательская деятельность позволяет развивать у ребенка умения и навыки для освоения стремительно нарастающего потока информации, ориентации в нем  и систематизации материала. В своей работе исследовательскую деятельность я разделяю на урочную и внеурочную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Учебная деятельность – это творческие задания, создание проектов по определенной теме, различные технологии развивающего обучения. Внеурочная исследовательская деятельность – это познавательные конкурсы, предметные недели, конференции, групповые занятия, элективные курсы, исследовательская и творческая работа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514600" y="277920"/>
            <a:ext cx="4114800" cy="99756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round/>
          </a:ln>
        </p:spPr>
        <p:txBody>
          <a:bodyPr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Виды исследовательской деятельности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 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С 2007 года я занимаюсь исследовательской деятельностью. Чтобы иметь четкий план действий, я изучила опыт работы различных общеобразовательных учреждений и выделила следующие этапы работы над проектом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Выбор темы проекта, определение его типа и числа участников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Обоснование проблемы, исследуемой в рамках намеченной тематики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Распределение задач по группам, поиск информации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Составление технологической карты с представлением в логической последовательности хода работы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Самостоятельная работа участников проекта по своим творческим заданиям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Промежуточные обсуждения полученных данных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Презентация (защита) проектов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Коллективное обсуждение выводы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514600" y="277920"/>
            <a:ext cx="4114800" cy="99756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round/>
          </a:ln>
        </p:spPr>
        <p:txBody>
          <a:bodyPr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Этапы работы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Требования к результатам исследовательских проектов: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Результаты проектной работы могут быть получены при помощи как традиционных, так и современных методов сбора информации. При этом результаты проектной деятельности: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представляются в виде конкретного «продукта» (доклада, альбома, сборника, плана-карты);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выполняются в едином стиле (например, итоговый доклад должен содержать заголовки, подзаголовки, иметь поля)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содержат соответствующие сноски, примечания, указывающие на источники информации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рассчитаны на восприятие как зрителей, так и читателей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защищаются в присутствии заинтересованной аудитории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должны в дальнейшем использоваться в учебном процессе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Выборы формы проекта определяются его темой, целью, содержанием, общим замыслом автора. Важно, чтобы благодаря выбранной форме можно было наилучшим образом представить на презентации результаты проведённой работы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2124000" y="549360"/>
            <a:ext cx="4392720" cy="609480"/>
          </a:xfrm>
          <a:custGeom>
            <a:avLst/>
            <a:gdLst>
              <a:gd name="textAreaLeft" fmla="*/ 1098000 w 4392720"/>
              <a:gd name="textAreaRight" fmla="*/ 3294720 w 439272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Требования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До скорой встречи!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2684520" y="1600200"/>
            <a:ext cx="37749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0T15:07:05Z</dcterms:created>
  <dc:creator>Loner-XP</dc:creator>
  <dc:description/>
  <dc:language>en-US</dc:language>
  <cp:lastModifiedBy>Учитель</cp:lastModifiedBy>
  <dcterms:modified xsi:type="dcterms:W3CDTF">2011-02-21T03:33:32Z</dcterms:modified>
  <cp:revision>3</cp:revision>
  <dc:subject/>
  <dc:title>Слайд 1</dc:title>
</cp:coreProperties>
</file>