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14.png" ContentType="image/png"/>
  <Override PartName="/ppt/media/image3.png" ContentType="image/png"/>
  <Override PartName="/ppt/media/image25.jpeg" ContentType="image/jpe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move the slide</a:t>
            </a:r>
            <a:endParaRPr b="1" lang="en-US" sz="4100" spc="-1" strike="noStrike">
              <a:solidFill>
                <a:srgbClr val="def5fa"/>
              </a:solidFill>
              <a:latin typeface="Lucida Sans Unicode"/>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0BBE-7528-4AAD-8FA7-A0345CA5EB7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A514-9979-49A8-A430-3ED4A27FAA8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AAB9C-9C3A-42E1-90EF-5C4CD601D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87326-5F4A-4DDC-B5C8-992AD118C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9C58F6-18DD-481B-A451-9D184AE414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511541-5E0B-410F-A5F0-46097DAEAD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CC870B-789F-4A85-A3A8-104D971A44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4A554A-966E-4F3B-9765-B44C0F5CCF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44FD3A-4742-445D-9722-DAA268C496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3D81C9-5F5D-40D9-A94C-310DAA5D06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8806E1-B68F-4A0E-97FD-608D0E77DD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8A8CDE-1750-4C82-AAD6-29AB7B25D1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7C06AC-ACC5-4C54-A84E-ED543756BC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88CBC26-4ACE-40C6-9294-941DFAF6929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E1DBC-3C0C-4917-8B8A-4469D8214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81822C-593B-4783-8E9C-7D91C563B8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D0E458-DE96-4A73-9799-EAE4371F62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561327-195E-4144-8E26-A901EDC57D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27EE20-F03E-4427-B79E-BA33CD32D7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D46BE8-6287-41A6-992A-A09959007B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75FC45-6136-45CD-9E0C-742D426CC3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CE140B-0244-4C2E-961B-2B171B49D7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AA5D08-C6DE-45B0-8EB4-EB60060E59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538C1C-077D-442E-AFAC-1A25F9E595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A0328D-369A-4580-BFDB-62860842F1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49C48-BB3B-42BB-BAF0-EFAEC3319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510F44A-B624-4824-B0DB-6A80ABF29D1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5967EF9-3CBB-4DB1-AD69-049188DA71C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4DB3C4-2303-44E0-A0F9-B68861759D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63779A-44F0-4A07-82BD-0110B67546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741765-7B0D-4FCA-8D8B-4227550E2F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26E5FC5-C6FB-426B-84F1-681F339E9B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F60606-7247-4E19-A731-4B4CB18E6B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0A74B9-8E07-4D6A-AB18-4FA5E190C5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C619B7-9E57-410F-A02E-44A3AB4BF7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0CA1E4-26F0-44B3-867C-B84A2CE80F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BE32E-A695-48DE-8896-644D623E7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D5E91B-CC81-4628-B588-FF0E140E41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1C840E3-D431-44A7-9A84-14077F0B557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3142389-3205-46FB-86B5-34FAB423B55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9BFF774-E093-4FBF-A097-07406A2EE82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41C0F0-6279-4FD8-8AAC-1594CEDF5E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D45E71-CD31-427B-98B6-07DF41BB7A2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0838CD-3683-432C-9E28-FB363F4278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E1CD70-F406-4871-B849-6AAF83FA96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B3F965-859F-4CD0-9A0E-B441E5997EF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3C00CE-D999-47C3-B74A-52567072ED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F88C9-5E0C-41E8-8870-DEF89681B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5D01C9-5594-4F7A-9135-FF6E22D729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67E211-EC3E-469D-8E8E-E28CA402C7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2C6CE7-DA05-4404-AE63-FC2F3B2385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6AA485D-458A-4E86-9ABC-EECFC4E1D2E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DA64FDD-B4BA-495E-B1FD-09FF8BD0BB9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AA7A5-91E1-431F-8896-3F52727AD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CDBD4-9AF6-45CB-BD00-93F9A5646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B48F6-3431-4A75-8AFE-A6938324B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EA9DB-DC71-4EE9-8EA8-3C336F569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35BDC-1F06-4827-890E-CF0F76523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88139-704C-4AD2-A65C-C04017701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F064C-0519-42D3-9DBE-8AD4CB5ED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CC840-E89B-4C55-A1E6-7432E9CC3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D1C5C-D131-46AB-90C5-4D75EAD1D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048775-D915-4FE9-B183-DC0760DC6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BD01D2-66DA-4786-B2AC-6D0E99552F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13752C-BA10-41D1-A0B1-425F61616E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E35A69-CC67-4FDF-916C-EC742EF54C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F96051-AE67-4809-86BB-E835FC7DC2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0B8A8C-4B2A-4403-8D67-ABF49B780D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C92029-683A-4D9D-82F5-52302056FF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5D0FB-2A8E-4BBC-88B9-DD86E30BE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4C56F2-0EE8-49D8-8ED9-E23DC930C8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780282-231B-4324-BF8A-8083ED98EB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2AF05D-A24D-4330-B17A-EBCC2ADB9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E41E84-DD40-4124-A0C8-87E6CB819E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45A495-1CA2-4387-82EF-DE93C0D975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7004BC-9FA1-4C19-A23D-53AB2A6C27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C82AEB-E0B4-417B-BC37-6FCF920D7D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C84A2A-F86F-4D74-B3D0-2596316608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24B991-CB96-4161-A30D-3A3ED11DBB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18BC75-51AE-4CDD-9766-A6C03CDD03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A8866-36ED-4DEC-AA01-DFC701500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2F09FB-2C10-4B18-A160-B5DD917385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39228D-09F5-455C-8825-30050E23BF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4C98FC-804E-4927-B155-0BE5CA096A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23C0F9-48A5-47AD-A61A-375C48A907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228014-FE14-4C77-A336-2CCCA9116D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AC1F03-8D70-40B6-8651-8C9EE413DB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9C1316-151C-4E47-8343-5400D5AF7A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FDEFA7-3B3C-44C5-BB9E-F2CC8CFD3B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8115A0-4A1D-4D5C-87AF-089046785D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160890-5FC5-4CC6-887B-FBC1ED7902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54228-C38B-463C-BF9B-CE8BD209C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BC93AF-0D0D-421A-8EA9-81A90E3E29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B73113-C22C-4B09-99E7-E480DFD35D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7CDBE0-7483-4347-8145-81BF57A33C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B885F7-AE71-4945-9CE7-0D1D8FEDEC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518EEC-F1F4-4722-A2E4-89E891C253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CA7A10-B35F-466D-B09D-9F3785CBF1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EC0410-8023-4791-9379-13437D9AED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CDF2FB-0ACD-4822-9525-00C9AE0AC1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9A4F31-9EDC-4FD8-A9B1-F4D236A235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5E1656-B94C-4480-9ACF-3A59EE7A96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17D71-D55B-4102-8E02-5EFDB31EF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94D1A1-C483-4259-9FE3-A3AC2EB4F6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3DA220-91C6-43C2-88EF-AB3438EADD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98D705-550E-489F-8C66-69FA78E476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6ED4F6-70E2-4B8F-B2DC-677796E096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33E739-5593-4F94-B136-5451299B1D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8EEEB0-E7EB-48F9-BBBC-A86A5EE742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EDA035-AD65-4096-B6AA-E969DA6604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CA9C82-3D39-4F22-B7B4-11E0C24AD6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6040DE-0D03-4BEC-9EE1-1134BC9224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B36A09-BB16-4FC9-8771-03278E4B9D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255FA-BFF4-42B5-B363-970DBD325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7D08D6-DE07-430A-AA24-8D7A799806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588FD2-3518-4DC2-994F-80CCA79AD4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F0B7E5-CED5-44DA-8899-58DCDEE46E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88A0CF-E507-4FF2-A04B-E72D818463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1A6CEA-3CA2-41DE-AA7C-A054D25308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DF4FBD-9C6B-47E3-9453-9F3D83B2E0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258C4A-A308-412C-A455-FE050C7264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BB1ED3-EF10-4922-8E77-A18C895D22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AF0487-35FD-4D66-9DA8-DAB852B32A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2001AA-9F2D-4DE8-A1F7-9159400758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69A40-2DFB-45FC-8EC0-F4456925E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7D7A61-A64C-4982-8ACD-623FF88239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6D0874-D6A9-4CB5-B7FF-132200BD32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74D3BE-2AF5-4700-8CE2-17F9E8E2E1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411977-4C81-4345-921E-1B28260755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D9B7B6-0E01-4CA2-96A3-598AFC00C7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77C967-36E4-4DA0-9B59-40AD234464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D210BC-B61D-4B7D-B84F-22072E7CCA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6E6BC2-D2FB-4AEC-AD73-AB6D672E3E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0A84CF-0E3C-435C-90BF-19C4BAEE63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D1B3FE-F936-4B52-91C6-581DF831B6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76EBC-9DD3-4F9A-8D73-B246E10AB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E0C99C-95BA-4D09-AE90-EF590ED33A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7C350F-D0E4-4892-BF79-FCC97CC86A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A7C784-EED7-40FA-A7A9-24A4BB541E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285E34-516A-459D-A1C5-4767E0BF49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044AAD-785F-4EA8-93A4-AECE659624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EC6B32-63A6-409C-9AB8-3AE413BF7A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40DC44-8E35-4AD1-84D7-A91F9190B1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5B0FFE-BDD8-4F22-B69A-8287E0527F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4CEB67-9C95-43D3-A99C-5EBD95A682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3DBF64-DABF-45FF-BEB7-8065BBF214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AFD9E-B042-48CD-82A8-77C154E80CF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9" name="Прямоугольный треугольник 13"/>
          <p:cNvGrpSpPr/>
          <p:nvPr/>
        </p:nvGrpSpPr>
        <p:grpSpPr>
          <a:xfrm>
            <a:off x="-12600" y="5784840"/>
            <a:ext cx="3414600" cy="1092240"/>
            <a:chOff x="-12600" y="5784840"/>
            <a:chExt cx="3414600" cy="1092240"/>
          </a:xfrm>
        </p:grpSpPr>
        <p:pic>
          <p:nvPicPr>
            <p:cNvPr id="420"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2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2"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5"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5D6E-C034-4001-850E-823371DD0CD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6" name="Прямоугольный треугольник 13"/>
          <p:cNvGrpSpPr/>
          <p:nvPr/>
        </p:nvGrpSpPr>
        <p:grpSpPr>
          <a:xfrm>
            <a:off x="-12600" y="5784840"/>
            <a:ext cx="3414600" cy="1092240"/>
            <a:chOff x="-12600" y="5784840"/>
            <a:chExt cx="3414600" cy="1092240"/>
          </a:xfrm>
        </p:grpSpPr>
        <p:pic>
          <p:nvPicPr>
            <p:cNvPr id="467"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6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69"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7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2"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5D25-F7B1-443B-89F4-41DF5AA9981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3" name="Прямоугольный треугольник 13"/>
          <p:cNvGrpSpPr/>
          <p:nvPr/>
        </p:nvGrpSpPr>
        <p:grpSpPr>
          <a:xfrm>
            <a:off x="-12600" y="5784840"/>
            <a:ext cx="3414600" cy="1092240"/>
            <a:chOff x="-12600" y="5784840"/>
            <a:chExt cx="3414600" cy="1092240"/>
          </a:xfrm>
        </p:grpSpPr>
        <p:pic>
          <p:nvPicPr>
            <p:cNvPr id="514"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51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6"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1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19"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BE7CF-D841-4406-9026-F1976B9F857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олилиния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0CB5-A67A-4EE4-B778-2D1A1DDF2B22}"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E9AD-3527-4C42-AAE1-BE7FC20D57D2}"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DCCB-B812-40C8-B7B5-01ED886B0A72}"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8673D-38F9-4DB6-AA37-10153C9197A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3348-C13E-404E-83DF-5699670EA76F}"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216F-79F0-4FD0-B132-B612D336424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Полилиния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Прямоугольный треугольник 16"/>
          <p:cNvGrpSpPr/>
          <p:nvPr/>
        </p:nvGrpSpPr>
        <p:grpSpPr>
          <a:xfrm>
            <a:off x="-12600" y="5784840"/>
            <a:ext cx="3414600" cy="1092240"/>
            <a:chOff x="-12600" y="5784840"/>
            <a:chExt cx="3414600" cy="1092240"/>
          </a:xfrm>
        </p:grpSpPr>
        <p:pic>
          <p:nvPicPr>
            <p:cNvPr id="324"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3034-E52A-44CA-ABCF-76858318AABB}"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 name="Прямоугольный треугольник 13"/>
          <p:cNvGrpSpPr/>
          <p:nvPr/>
        </p:nvGrpSpPr>
        <p:grpSpPr>
          <a:xfrm>
            <a:off x="-12600" y="5784840"/>
            <a:ext cx="3414600" cy="1092240"/>
            <a:chOff x="-12600" y="5784840"/>
            <a:chExt cx="3414600" cy="1092240"/>
          </a:xfrm>
        </p:grpSpPr>
        <p:pic>
          <p:nvPicPr>
            <p:cNvPr id="37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3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7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8"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5E3D8-A681-4400-869A-30B98B4E1DF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hyperlink" Target="http://nsportal.ru/" TargetMode="External"/><Relationship Id="rId2" Type="http://schemas.openxmlformats.org/officeDocument/2006/relationships/hyperlink" Target="http://uslide.ru/"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2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Rectangle 4" descr=""/>
          <p:cNvPicPr/>
          <p:nvPr/>
        </p:nvPicPr>
        <p:blipFill>
          <a:blip r:embed="rId1"/>
          <a:stretch/>
        </p:blipFill>
        <p:spPr>
          <a:xfrm>
            <a:off x="1352520" y="171360"/>
            <a:ext cx="7340760" cy="1693800"/>
          </a:xfrm>
          <a:prstGeom prst="rect">
            <a:avLst/>
          </a:prstGeom>
          <a:ln w="0">
            <a:noFill/>
          </a:ln>
        </p:spPr>
      </p:pic>
      <p:pic>
        <p:nvPicPr>
          <p:cNvPr id="566" name="Picture 6" descr="&amp;Acy;&amp;rcy;&amp;tcy;&amp;icy;&amp;kcy;&amp;ucy;&amp;lcy;: &amp;Fcy;&amp;Vcy;&amp;tscy;-02-&amp;Gcy;&amp;icy;&amp;pcy;&amp;yucy;&amp;rcy; &amp;Fcy;&amp;acy;&amp;rcy;&amp;tcy;&amp;ucy;&amp;kcy; &amp;dcy;&amp;lcy;&amp;yacy; &amp;Vcy;&amp;ycy;&amp;pcy;&amp;ucy;&amp;scy;&amp;kcy;&amp;ncy;&amp;icy;&amp;tscy; &amp;ncy;&amp;acy; &amp;pcy;&amp;ocy;&amp;scy;&amp;lcy;&amp;iecy;&amp;dcy;&amp;ncy;&amp;icy;&amp;jcy; &amp;zcy;&amp;vcy;&amp;ocy;&amp;ncy;&amp;ocy;&amp;kcy; &amp;gcy;&amp;icy;&amp;pcy;&amp;yucy;&amp;rcy;&amp;ocy;&amp;vcy;&amp;ycy;&amp;jcy;.&amp;Dcy;&amp;lcy;&amp;icy;&amp;ncy;&amp;acy; &amp;icy;&amp;zcy;&amp;dcy;. 77 &amp;scy;&amp;mcy;."/>
          <p:cNvPicPr/>
          <p:nvPr/>
        </p:nvPicPr>
        <p:blipFill>
          <a:blip r:embed="rId2"/>
          <a:stretch/>
        </p:blipFill>
        <p:spPr>
          <a:xfrm>
            <a:off x="2214720" y="2168640"/>
            <a:ext cx="5400360" cy="46893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65"/>
                                        </p:tgtEl>
                                        <p:attrNameLst>
                                          <p:attrName>style.visibility</p:attrName>
                                        </p:attrNameLst>
                                      </p:cBhvr>
                                      <p:to>
                                        <p:strVal val="visible"/>
                                      </p:to>
                                    </p:set>
                                    <p:animEffect filter="fade" transition="in">
                                      <p:cBhvr additive="repl">
                                        <p:cTn id="7" dur="20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8119"/>
                </a:solidFill>
                <a:uFillTx/>
                <a:latin typeface="Baskerville Old Face"/>
                <a:hlinkClick r:id="rId1"/>
              </a:rPr>
              <a:t>http://nsportal.ru/</a:t>
            </a:r>
            <a:endParaRPr b="0" lang="en-US" sz="5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8119"/>
                </a:solidFill>
                <a:uFillTx/>
                <a:latin typeface="Baskerville Old Face"/>
                <a:hlinkClick r:id="rId2"/>
              </a:rPr>
              <a:t>http://uslide.ru/</a:t>
            </a:r>
            <a:endParaRPr b="0" lang="en-US" sz="5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Lucida Sans Unicode"/>
            </a:endParaRPr>
          </a:p>
        </p:txBody>
      </p:sp>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Rectangle 2" descr=""/>
          <p:cNvPicPr/>
          <p:nvPr/>
        </p:nvPicPr>
        <p:blipFill>
          <a:blip r:embed="rId1"/>
          <a:stretch/>
        </p:blipFill>
        <p:spPr>
          <a:xfrm>
            <a:off x="92160" y="171360"/>
            <a:ext cx="8601120" cy="1255680"/>
          </a:xfrm>
          <a:prstGeom prst="rect">
            <a:avLst/>
          </a:prstGeom>
          <a:ln w="0">
            <a:noFill/>
          </a:ln>
        </p:spPr>
      </p:pic>
      <p:sp>
        <p:nvSpPr>
          <p:cNvPr id="568" name="PlaceHolder 1"/>
          <p:cNvSpPr>
            <a:spLocks noGrp="1"/>
          </p:cNvSpPr>
          <p:nvPr>
            <p:ph/>
          </p:nvPr>
        </p:nvSpPr>
        <p:spPr>
          <a:xfrm>
            <a:off x="456840" y="1600200"/>
            <a:ext cx="4041720" cy="4495680"/>
          </a:xfrm>
          <a:prstGeom prst="rect">
            <a:avLst/>
          </a:prstGeom>
          <a:noFill/>
          <a:ln w="0">
            <a:noFill/>
          </a:ln>
        </p:spPr>
        <p:txBody>
          <a:bodyPr anchor="t">
            <a:normAutofit fontScale="92000"/>
          </a:bodyPr>
          <a:p>
            <a:pPr marL="335520" indent="-2350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Baskerville Old Face"/>
              </a:rPr>
              <a:t>School uniform is an integral part of school life in many countries.</a:t>
            </a:r>
            <a:endParaRPr b="0" lang="en-US" sz="4800" spc="-1" strike="noStrike">
              <a:solidFill>
                <a:srgbClr val="000000"/>
              </a:solidFill>
              <a:latin typeface="Lucida Sans Unicode"/>
            </a:endParaRPr>
          </a:p>
        </p:txBody>
      </p:sp>
      <p:pic>
        <p:nvPicPr>
          <p:cNvPr id="569" name="Picture 4" descr="&amp;SHcy;&amp;kcy;&amp;ocy;&amp;lcy;&amp;softcy;&amp;ncy;&amp;acy;&amp;yacy; &amp;fcy;&amp;ocy;&amp;rcy;&amp;mcy;&amp;acy; &amp;vcy; &amp;Rcy;&amp;Fcy;: &amp;gcy;&amp;acy;&amp;rcy;&amp;acy;&amp;ncy;&amp;tcy;&amp;icy;&amp;yacy; &amp;rcy;&amp;acy;&amp;vcy;&amp;iecy;&amp;ncy;&amp;scy;&amp;tcy;&amp;vcy;&amp;acy; &amp;icy;&amp;lcy;&amp;icy; &amp;ucy;&amp;bcy;&amp;icy;&amp;jcy;&amp;scy;&amp;tcy;&amp;vcy;&amp;ocy; &amp;lcy;&amp;icy;&amp;chcy;&amp;ncy;&amp;ocy;&amp;scy;&amp;tcy;&amp;icy;"/>
          <p:cNvPicPr/>
          <p:nvPr/>
        </p:nvPicPr>
        <p:blipFill>
          <a:blip r:embed="rId2"/>
          <a:stretch/>
        </p:blipFill>
        <p:spPr>
          <a:xfrm>
            <a:off x="4714920" y="1285920"/>
            <a:ext cx="4071960" cy="3500280"/>
          </a:xfrm>
          <a:prstGeom prst="rect">
            <a:avLst/>
          </a:prstGeom>
          <a:ln w="0">
            <a:noFill/>
          </a:ln>
        </p:spPr>
      </p:pic>
      <p:sp>
        <p:nvSpPr>
          <p:cNvPr id="570" name=""/>
          <p:cNvSpPr txBox="1"/>
          <p:nvPr/>
        </p:nvSpPr>
        <p:spPr>
          <a:xfrm>
            <a:off x="4648320" y="3924360"/>
            <a:ext cx="4038480" cy="21715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4" descr="&amp;SHcy;&amp;kcy;&amp;ocy;&amp;lcy;&amp;softcy;&amp;ncy;&amp;acy;&amp;yacy; &amp;fcy;&amp;ocy;&amp;rcy;&amp;mcy;&amp;acy; &amp;vcy; &amp;Scy;&amp;Scy;&amp;Scy;&amp;Rcy;"/>
          <p:cNvPicPr/>
          <p:nvPr/>
        </p:nvPicPr>
        <p:blipFill>
          <a:blip r:embed="rId1"/>
          <a:stretch/>
        </p:blipFill>
        <p:spPr>
          <a:xfrm>
            <a:off x="4799160" y="0"/>
            <a:ext cx="4344840" cy="2714760"/>
          </a:xfrm>
          <a:prstGeom prst="rect">
            <a:avLst/>
          </a:prstGeom>
          <a:ln w="0">
            <a:noFill/>
          </a:ln>
        </p:spPr>
      </p:pic>
      <p:pic>
        <p:nvPicPr>
          <p:cNvPr id="572" name="Rectangle 2" descr=""/>
          <p:cNvPicPr/>
          <p:nvPr/>
        </p:nvPicPr>
        <p:blipFill>
          <a:blip r:embed="rId2"/>
          <a:stretch/>
        </p:blipFill>
        <p:spPr>
          <a:xfrm>
            <a:off x="225360" y="420840"/>
            <a:ext cx="4565880" cy="1371600"/>
          </a:xfrm>
          <a:prstGeom prst="rect">
            <a:avLst/>
          </a:prstGeom>
          <a:ln w="0">
            <a:noFill/>
          </a:ln>
        </p:spPr>
      </p:pic>
      <p:sp>
        <p:nvSpPr>
          <p:cNvPr id="573" name="PlaceHolder 1"/>
          <p:cNvSpPr>
            <a:spLocks noGrp="1"/>
          </p:cNvSpPr>
          <p:nvPr>
            <p:ph/>
          </p:nvPr>
        </p:nvSpPr>
        <p:spPr>
          <a:xfrm>
            <a:off x="3143160" y="3214800"/>
            <a:ext cx="5143680" cy="3643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0c0"/>
                </a:solidFill>
                <a:latin typeface="Lucida Sans Unicode"/>
              </a:rPr>
              <a:t>A school uniform is a set of rules about what students  should wear at schools in many countries.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0c0"/>
                </a:solidFill>
                <a:latin typeface="Lucida Sans Unicode"/>
              </a:rPr>
              <a:t>It is a symbol that you represent  a curtain school</a:t>
            </a:r>
            <a:endParaRPr b="0" lang="en-US" sz="2800" spc="-1" strike="noStrike">
              <a:solidFill>
                <a:srgbClr val="000000"/>
              </a:solidFill>
              <a:latin typeface="Lucida Sans Unicode"/>
            </a:endParaRPr>
          </a:p>
        </p:txBody>
      </p:sp>
      <p:pic>
        <p:nvPicPr>
          <p:cNvPr id="574" name="Picture 5" descr="&quot;&amp;Lcy;&amp;icy;&amp;scy;&amp;tcy;&amp;acy;&amp;yacy; &amp;scy;&amp;tcy;&amp;acy;&amp;rcy;&amp;ycy;&amp;jcy; &amp;acy;&amp;lcy;&amp;softcy;&amp;bcy;&amp;ocy;&amp;mcy;.&quot; &amp;vcy;&amp;ycy;&amp;pcy;&amp;ocy;&amp;lcy;&amp;ncy;&amp;icy;&amp;lcy;&amp;acy; &amp;ucy;&amp;chcy;&amp;iecy;&amp;ncy;&amp;icy;&amp;tscy;&amp;acy; 9 &amp;kcy;&amp;lcy;&amp;acy;&amp;scy;&amp;scy;&amp;acy; &amp;Bcy;&amp;ucy;&amp;bcy;&amp;ucy;&amp;iocy;&amp;kcy; &amp;Acy;&amp;ncy;&amp;acy;&amp;scy;&amp;tcy;&amp;acy;&amp;scy;&amp;icy;&amp;yacy; &amp;rcy;&amp;ucy;&amp;kcy;&amp;ocy;&amp;vcy;&amp;ocy;&amp;dcy;&amp;icy;&amp;tcy;&amp;iecy;&amp;lcy;&amp;softcy; &amp;Gcy;&amp;ucy;&amp;mcy;&amp;iecy;&amp;ncy;"/>
          <p:cNvPicPr/>
          <p:nvPr/>
        </p:nvPicPr>
        <p:blipFill>
          <a:blip r:embed="rId3"/>
          <a:stretch/>
        </p:blipFill>
        <p:spPr>
          <a:xfrm>
            <a:off x="0" y="2647800"/>
            <a:ext cx="2928960" cy="421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Rectangle 4" descr=""/>
          <p:cNvPicPr/>
          <p:nvPr/>
        </p:nvPicPr>
        <p:blipFill>
          <a:blip r:embed="rId1"/>
          <a:stretch/>
        </p:blipFill>
        <p:spPr>
          <a:xfrm>
            <a:off x="291960" y="291960"/>
            <a:ext cx="8309160" cy="1000440"/>
          </a:xfrm>
          <a:prstGeom prst="rect">
            <a:avLst/>
          </a:prstGeom>
          <a:ln w="0">
            <a:noFill/>
          </a:ln>
        </p:spPr>
      </p:pic>
      <p:sp>
        <p:nvSpPr>
          <p:cNvPr id="576" name="PlaceHolder 1"/>
          <p:cNvSpPr>
            <a:spLocks noGrp="1"/>
          </p:cNvSpPr>
          <p:nvPr>
            <p:ph/>
          </p:nvPr>
        </p:nvSpPr>
        <p:spPr>
          <a:xfrm>
            <a:off x="395280" y="1628280"/>
            <a:ext cx="4038480" cy="4496040"/>
          </a:xfrm>
          <a:prstGeom prst="rect">
            <a:avLst/>
          </a:prstGeom>
          <a:noFill/>
          <a:ln w="0">
            <a:noFill/>
          </a:ln>
        </p:spPr>
        <p:txBody>
          <a:bodyPr anchor="t">
            <a:normAutofit fontScale="92000"/>
          </a:bodyPr>
          <a:p>
            <a:pPr marL="335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70c0"/>
                </a:solidFill>
                <a:latin typeface="Baskerville Old Face"/>
              </a:rPr>
              <a:t>   </a:t>
            </a:r>
            <a:r>
              <a:rPr b="1" i="1" lang="en-US" sz="3600" spc="-1" strike="noStrike">
                <a:solidFill>
                  <a:srgbClr val="0070c0"/>
                </a:solidFill>
                <a:latin typeface="Baskerville Old Face"/>
              </a:rPr>
              <a:t>A school uniform came to Russia from England in 1843. The first uniform was made for boys and some years later for girls</a:t>
            </a:r>
            <a:r>
              <a:rPr b="1" i="1" lang="ru-RU" sz="3600" spc="-1" strike="noStrike">
                <a:solidFill>
                  <a:srgbClr val="0070c0"/>
                </a:solidFill>
                <a:latin typeface="Lucida Sans Unicode"/>
              </a:rPr>
              <a:t>.</a:t>
            </a:r>
            <a:endParaRPr b="0" lang="en-US" sz="3600" spc="-1" strike="noStrike">
              <a:solidFill>
                <a:srgbClr val="000000"/>
              </a:solidFill>
              <a:latin typeface="Lucida Sans Unicode"/>
            </a:endParaRPr>
          </a:p>
        </p:txBody>
      </p:sp>
      <p:pic>
        <p:nvPicPr>
          <p:cNvPr id="577" name="Picture 8" descr="&amp;Ocy; &amp;ncy;&amp;iecy;&amp;ocy;&amp;bcy;&amp;khcy;&amp;ocy;&amp;dcy;&amp;icy;&amp;mcy;&amp;ocy;&amp;scy;&amp;tcy;&amp;icy; &amp;shcy;&amp;kcy;&amp;ocy;&amp;lcy;&amp;softcy;&amp;ncy;&amp;ocy;&amp;jcy; &amp;fcy;&amp;ocy;&amp;rcy;&amp;mcy;&amp;ycy;"/>
          <p:cNvPicPr/>
          <p:nvPr/>
        </p:nvPicPr>
        <p:blipFill>
          <a:blip r:embed="rId2"/>
          <a:stretch/>
        </p:blipFill>
        <p:spPr>
          <a:xfrm>
            <a:off x="4572000" y="1285920"/>
            <a:ext cx="3719520" cy="5143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p:nvPr>
        </p:nvSpPr>
        <p:spPr>
          <a:xfrm>
            <a:off x="324000" y="1197000"/>
            <a:ext cx="4038480" cy="4495680"/>
          </a:xfrm>
          <a:prstGeom prst="rect">
            <a:avLst/>
          </a:prstGeom>
          <a:noFill/>
          <a:ln w="0">
            <a:noFill/>
          </a:ln>
        </p:spPr>
        <p:txBody>
          <a:bodyPr anchor="t">
            <a:normAutofit fontScale="87000"/>
          </a:bodyPr>
          <a:p>
            <a:pPr marL="317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70c0"/>
                </a:solidFill>
                <a:latin typeface="Baskerville Old Face"/>
              </a:rPr>
              <a:t>  </a:t>
            </a:r>
            <a:r>
              <a:rPr b="1" i="1" lang="en-US" sz="4400" spc="-1" strike="noStrike">
                <a:solidFill>
                  <a:srgbClr val="0070c0"/>
                </a:solidFill>
                <a:latin typeface="Baskerville Old Face"/>
              </a:rPr>
              <a:t>Boys had special shirts, trousers,</a:t>
            </a:r>
            <a:r>
              <a:rPr b="1" i="1" lang="ru-RU" sz="4400" spc="-1" strike="noStrike">
                <a:solidFill>
                  <a:srgbClr val="0070c0"/>
                </a:solidFill>
                <a:latin typeface="Lucida Sans Unicode"/>
              </a:rPr>
              <a:t> </a:t>
            </a:r>
            <a:r>
              <a:rPr b="1" i="1" lang="en-US" sz="4400" spc="-1" strike="noStrike">
                <a:solidFill>
                  <a:srgbClr val="0070c0"/>
                </a:solidFill>
                <a:latin typeface="Baskerville Old Face"/>
              </a:rPr>
              <a:t>black boots and a cap.</a:t>
            </a:r>
            <a:r>
              <a:rPr b="1" i="1" lang="ru-RU" sz="4400" spc="-1" strike="noStrike">
                <a:solidFill>
                  <a:srgbClr val="0070c0"/>
                </a:solidFill>
                <a:latin typeface="Lucida Sans Unicode"/>
              </a:rPr>
              <a:t> </a:t>
            </a:r>
            <a:r>
              <a:rPr b="1" i="1" lang="en-US" sz="4400" spc="-1" strike="noStrike">
                <a:solidFill>
                  <a:srgbClr val="0070c0"/>
                </a:solidFill>
                <a:latin typeface="Baskerville Old Face"/>
              </a:rPr>
              <a:t>Girls wore brown dresses and aprons.</a:t>
            </a:r>
            <a:endParaRPr b="0" lang="en-US" sz="4400" spc="-1" strike="noStrike">
              <a:solidFill>
                <a:srgbClr val="000000"/>
              </a:solidFill>
              <a:latin typeface="Lucida Sans Unicode"/>
            </a:endParaRPr>
          </a:p>
          <a:p>
            <a:pPr marL="317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pic>
        <p:nvPicPr>
          <p:cNvPr id="579" name="Picture 15" descr="&amp;Vcy; &amp;Acy;&amp;zcy;&amp;iecy;&amp;rcy;&amp;bcy;&amp;acy;&amp;jcy;&amp;dcy;&amp;zhcy;&amp;acy;&amp;ncy;&amp;iecy; &amp;bcy;&amp;ucy;&amp;dcy;&amp;iecy;&amp;tcy; &amp;vcy;&amp;vcy;&amp;iecy;&amp;dcy;&amp;iecy;&amp;ncy;&amp;acy; &amp;shcy;&amp;kcy;&amp;ocy;&amp;lcy;&amp;softcy;&amp;ncy;&amp;acy;&amp;yacy; &amp;fcy;&amp;ocy;&amp;rcy;&amp;mcy;&amp;acy; - Page 3 - &amp;Dcy;&amp;icy;&amp;scy;&amp;kcy;&amp;ucy;&amp;scy;&amp;scy;&amp;icy;&amp;icy; &amp;ncy;&amp;acy; &amp;ocy;&amp;bcy;&amp;shchcy;&amp;icy;&amp;iecy; &amp;tcy;&amp;iecy;&amp;mcy;&amp;ycy; - Disput.Az Forum"/>
          <p:cNvPicPr/>
          <p:nvPr/>
        </p:nvPicPr>
        <p:blipFill>
          <a:blip r:embed="rId1"/>
          <a:stretch/>
        </p:blipFill>
        <p:spPr>
          <a:xfrm>
            <a:off x="4429080" y="1428840"/>
            <a:ext cx="4357800" cy="3400200"/>
          </a:xfrm>
          <a:prstGeom prst="rect">
            <a:avLst/>
          </a:prstGeom>
          <a:ln w="0">
            <a:noFill/>
          </a:ln>
        </p:spPr>
      </p:pic>
      <p:sp>
        <p:nvSpPr>
          <p:cNvPr id="580" name="Rectangle 9"/>
          <p:cNvSpPr/>
          <p:nvPr/>
        </p:nvSpPr>
        <p:spPr>
          <a:xfrm>
            <a:off x="395280" y="1484280"/>
            <a:ext cx="4038480" cy="44956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99"/>
              </a:spcBef>
              <a:buClr>
                <a:srgbClr val="ff811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Arial"/>
              </a:rPr>
              <a:t> </a:t>
            </a:r>
            <a:endParaRPr b="0" lang="en-US" sz="2000" spc="-1" strike="noStrike">
              <a:solidFill>
                <a:srgbClr val="000000"/>
              </a:solidFill>
              <a:latin typeface="Arial"/>
            </a:endParaRPr>
          </a:p>
        </p:txBody>
      </p:sp>
      <p:sp>
        <p:nvSpPr>
          <p:cNvPr id="581" name=""/>
          <p:cNvSpPr txBox="1"/>
          <p:nvPr/>
        </p:nvSpPr>
        <p:spPr>
          <a:xfrm>
            <a:off x="4648320" y="1599840"/>
            <a:ext cx="4038480" cy="2171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Rectangle 2" descr=""/>
          <p:cNvPicPr/>
          <p:nvPr/>
        </p:nvPicPr>
        <p:blipFill>
          <a:blip r:embed="rId1"/>
          <a:stretch/>
        </p:blipFill>
        <p:spPr>
          <a:xfrm>
            <a:off x="450720" y="268200"/>
            <a:ext cx="8242560" cy="1158840"/>
          </a:xfrm>
          <a:prstGeom prst="rect">
            <a:avLst/>
          </a:prstGeom>
          <a:ln w="0">
            <a:noFill/>
          </a:ln>
        </p:spPr>
      </p:pic>
      <p:pic>
        <p:nvPicPr>
          <p:cNvPr id="583" name="Picture 27" descr="&amp;Gcy;&amp;Kcy;&amp;Ocy;&amp;Ucy; &quot;&amp;Scy;&amp;Kcy;&amp;Ocy;&amp;SHcy; 9&quot; &amp;gcy;. &amp;Gcy;&amp;acy;&amp;yacy; &amp;Ocy;&amp;rcy;&amp;iecy;&amp;ncy;&amp;bcy;&amp;ucy;&amp;rcy;&amp;gcy;&amp;scy;&amp;kcy;&amp;ocy;&amp;jcy; &amp;ocy;&amp;bcy;&amp;lcy;&amp;acy;&amp;scy;&amp;tcy;&amp;icy; - &amp;Icy;&amp;zcy; &amp;icy;&amp;scy;&amp;tcy;&amp;ocy;&amp;rcy;&amp;icy;&amp;icy; &amp;shcy;&amp;kcy;&amp;ocy;&amp;lcy;&amp;ycy;"/>
          <p:cNvPicPr/>
          <p:nvPr/>
        </p:nvPicPr>
        <p:blipFill>
          <a:blip r:embed="rId2"/>
          <a:stretch/>
        </p:blipFill>
        <p:spPr>
          <a:xfrm>
            <a:off x="96840" y="1500120"/>
            <a:ext cx="4435560" cy="3643560"/>
          </a:xfrm>
          <a:prstGeom prst="rect">
            <a:avLst/>
          </a:prstGeom>
          <a:ln w="0">
            <a:noFill/>
          </a:ln>
        </p:spPr>
      </p:pic>
      <p:sp>
        <p:nvSpPr>
          <p:cNvPr id="584" name="PlaceHolder 1"/>
          <p:cNvSpPr>
            <a:spLocks noGrp="1"/>
          </p:cNvSpPr>
          <p:nvPr>
            <p:ph/>
          </p:nvPr>
        </p:nvSpPr>
        <p:spPr>
          <a:xfrm>
            <a:off x="4716000" y="475920"/>
            <a:ext cx="4041720" cy="6024600"/>
          </a:xfrm>
          <a:prstGeom prst="rect">
            <a:avLst/>
          </a:prstGeom>
          <a:noFill/>
          <a:ln w="0">
            <a:noFill/>
          </a:ln>
        </p:spPr>
        <p:txBody>
          <a:bodyPr anchor="t">
            <a:normAutofit fontScale="92000"/>
          </a:bodyPr>
          <a:p>
            <a:pPr marL="335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Baskerville Old Face"/>
              </a:rPr>
              <a:t>Some schools have a dark blue uniform, while others use dark green colours. Some schools in Russia choose white shirts and black skirts for girls and black trousers for boys.</a:t>
            </a:r>
            <a:endParaRPr b="0" lang="en-US" sz="3600" spc="-1" strike="noStrike">
              <a:solidFill>
                <a:srgbClr val="000000"/>
              </a:solidFill>
              <a:latin typeface="Lucida Sans Unicode"/>
            </a:endParaRPr>
          </a:p>
        </p:txBody>
      </p:sp>
      <p:sp>
        <p:nvSpPr>
          <p:cNvPr id="585" name=""/>
          <p:cNvSpPr txBox="1"/>
          <p:nvPr/>
        </p:nvSpPr>
        <p:spPr>
          <a:xfrm>
            <a:off x="457200" y="3924360"/>
            <a:ext cx="4038480" cy="21715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Rectangle 11" descr=""/>
          <p:cNvPicPr/>
          <p:nvPr/>
        </p:nvPicPr>
        <p:blipFill>
          <a:blip r:embed="rId1"/>
          <a:stretch/>
        </p:blipFill>
        <p:spPr>
          <a:xfrm>
            <a:off x="268200" y="-23760"/>
            <a:ext cx="8425080" cy="1650960"/>
          </a:xfrm>
          <a:prstGeom prst="rect">
            <a:avLst/>
          </a:prstGeom>
          <a:ln w="0">
            <a:noFill/>
          </a:ln>
        </p:spPr>
      </p:pic>
      <p:pic>
        <p:nvPicPr>
          <p:cNvPr id="587" name="Picture 18" descr="Hollywood Stars in School Uniforms"/>
          <p:cNvPicPr/>
          <p:nvPr/>
        </p:nvPicPr>
        <p:blipFill>
          <a:blip r:embed="rId2"/>
          <a:stretch/>
        </p:blipFill>
        <p:spPr>
          <a:xfrm>
            <a:off x="0" y="1785960"/>
            <a:ext cx="3936960" cy="2214720"/>
          </a:xfrm>
          <a:prstGeom prst="rect">
            <a:avLst/>
          </a:prstGeom>
          <a:ln w="0">
            <a:noFill/>
          </a:ln>
        </p:spPr>
      </p:pic>
      <p:pic>
        <p:nvPicPr>
          <p:cNvPr id="588" name="Picture 21" descr="Education Is Everything Slog"/>
          <p:cNvPicPr/>
          <p:nvPr/>
        </p:nvPicPr>
        <p:blipFill>
          <a:blip r:embed="rId3"/>
          <a:stretch/>
        </p:blipFill>
        <p:spPr>
          <a:xfrm>
            <a:off x="4500720" y="1857240"/>
            <a:ext cx="3984480" cy="2241720"/>
          </a:xfrm>
          <a:prstGeom prst="rect">
            <a:avLst/>
          </a:prstGeom>
          <a:ln w="0">
            <a:noFill/>
          </a:ln>
        </p:spPr>
      </p:pic>
      <p:pic>
        <p:nvPicPr>
          <p:cNvPr id="589" name="Picture 24" descr="&amp;Fcy;&amp;lcy;&amp;iecy;&amp;jcy;&amp;mcy; = &amp;Scy;&amp;iecy;&amp;rcy;&amp;icy;&amp;acy;&amp;lcy;&amp;ycy;"/>
          <p:cNvPicPr/>
          <p:nvPr/>
        </p:nvPicPr>
        <p:blipFill>
          <a:blip r:embed="rId4"/>
          <a:stretch/>
        </p:blipFill>
        <p:spPr>
          <a:xfrm>
            <a:off x="344520" y="4071960"/>
            <a:ext cx="4444920" cy="2500200"/>
          </a:xfrm>
          <a:prstGeom prst="rect">
            <a:avLst/>
          </a:prstGeom>
          <a:ln w="0">
            <a:noFill/>
          </a:ln>
        </p:spPr>
      </p:pic>
      <p:pic>
        <p:nvPicPr>
          <p:cNvPr id="590" name="Picture 27" descr="&amp;SHcy;&amp;tcy;&amp;acy;&amp;tcy; &amp;Ucy;&amp;tcy;&amp;tcy;&amp;acy;&amp;rcy;&amp;acy;&amp;kcy;&amp;khcy;&amp;acy;&amp;ncy;&amp;dcy;"/>
          <p:cNvPicPr/>
          <p:nvPr/>
        </p:nvPicPr>
        <p:blipFill>
          <a:blip r:embed="rId5"/>
          <a:stretch/>
        </p:blipFill>
        <p:spPr>
          <a:xfrm>
            <a:off x="5072040" y="4357800"/>
            <a:ext cx="4071960" cy="25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Rectangle 4" descr=""/>
          <p:cNvPicPr/>
          <p:nvPr/>
        </p:nvPicPr>
        <p:blipFill>
          <a:blip r:embed="rId1"/>
          <a:stretch/>
        </p:blipFill>
        <p:spPr>
          <a:xfrm>
            <a:off x="139680" y="268200"/>
            <a:ext cx="8553600" cy="1158840"/>
          </a:xfrm>
          <a:prstGeom prst="rect">
            <a:avLst/>
          </a:prstGeom>
          <a:ln w="0">
            <a:noFill/>
          </a:ln>
        </p:spPr>
      </p:pic>
      <p:pic>
        <p:nvPicPr>
          <p:cNvPr id="592" name="Picture 14" descr="getImage?photoId=585363326822&amp;photoType=0"/>
          <p:cNvPicPr/>
          <p:nvPr/>
        </p:nvPicPr>
        <p:blipFill>
          <a:blip r:embed="rId2"/>
          <a:stretch/>
        </p:blipFill>
        <p:spPr>
          <a:xfrm>
            <a:off x="4786200" y="1714680"/>
            <a:ext cx="3802320" cy="3655800"/>
          </a:xfrm>
          <a:prstGeom prst="rect">
            <a:avLst/>
          </a:prstGeom>
          <a:ln w="0">
            <a:noFill/>
          </a:ln>
        </p:spPr>
      </p:pic>
      <p:pic>
        <p:nvPicPr>
          <p:cNvPr id="593" name="Picture 17" descr="getImage?photoId=580516576870&amp;photoType=3"/>
          <p:cNvPicPr/>
          <p:nvPr/>
        </p:nvPicPr>
        <p:blipFill>
          <a:blip r:embed="rId3"/>
          <a:stretch/>
        </p:blipFill>
        <p:spPr>
          <a:xfrm>
            <a:off x="357120" y="1714680"/>
            <a:ext cx="4000680" cy="3719160"/>
          </a:xfrm>
          <a:prstGeom prst="rect">
            <a:avLst/>
          </a:prstGeom>
          <a:ln w="0">
            <a:noFill/>
          </a:ln>
        </p:spPr>
      </p:pic>
      <p:sp>
        <p:nvSpPr>
          <p:cNvPr id="594" name=""/>
          <p:cNvSpPr txBox="1"/>
          <p:nvPr/>
        </p:nvSpPr>
        <p:spPr>
          <a:xfrm>
            <a:off x="457200" y="1599840"/>
            <a:ext cx="4038480" cy="2171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
          <p:cNvSpPr txBox="1"/>
          <p:nvPr/>
        </p:nvSpPr>
        <p:spPr>
          <a:xfrm>
            <a:off x="4648320" y="3924360"/>
            <a:ext cx="4038480" cy="21715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49">
                                  <p:stCondLst>
                                    <p:cond delay="0"/>
                                  </p:stCondLst>
                                  <p:childTnLst>
                                    <p:set>
                                      <p:cBhvr>
                                        <p:cTn id="13" dur="1" fill="hold">
                                          <p:stCondLst>
                                            <p:cond delay="0"/>
                                          </p:stCondLst>
                                        </p:cTn>
                                        <p:tgtEl>
                                          <p:spTgt spid="591"/>
                                        </p:tgtEl>
                                        <p:attrNameLst>
                                          <p:attrName>style.visibility</p:attrName>
                                        </p:attrNameLst>
                                      </p:cBhvr>
                                      <p:to>
                                        <p:strVal val="visible"/>
                                      </p:to>
                                    </p:set>
                                    <p:anim calcmode="lin" valueType="num">
                                      <p:cBhvr additive="repl">
                                        <p:cTn id="14" dur="500" fill="hold"/>
                                        <p:tgtEl>
                                          <p:spTgt spid="591"/>
                                        </p:tgtEl>
                                        <p:attrNameLst>
                                          <p:attrName>ppt_w</p:attrName>
                                        </p:attrNameLst>
                                      </p:cBhvr>
                                      <p:tavLst>
                                        <p:tav tm="0">
                                          <p:val>
                                            <p:fltVal val="0"/>
                                          </p:val>
                                        </p:tav>
                                        <p:tav tm="100000">
                                          <p:val>
                                            <p:strVal val="#ppt_w"/>
                                          </p:val>
                                        </p:tav>
                                      </p:tavLst>
                                    </p:anim>
                                    <p:anim calcmode="lin" valueType="num">
                                      <p:cBhvr additive="repl">
                                        <p:cTn id="15" dur="500" fill="hold"/>
                                        <p:tgtEl>
                                          <p:spTgt spid="591"/>
                                        </p:tgtEl>
                                        <p:attrNameLst>
                                          <p:attrName>ppt_h</p:attrName>
                                        </p:attrNameLst>
                                      </p:cBhvr>
                                      <p:tavLst>
                                        <p:tav tm="0">
                                          <p:val>
                                            <p:fltVal val="0"/>
                                          </p:val>
                                        </p:tav>
                                        <p:tav tm="100000">
                                          <p:val>
                                            <p:strVal val="#ppt_h"/>
                                          </p:val>
                                        </p:tav>
                                      </p:tavLst>
                                    </p:anim>
                                    <p:anim calcmode="lin" valueType="num">
                                      <p:cBhvr additive="repl">
                                        <p:cTn id="16" dur="500" fill="hold"/>
                                        <p:tgtEl>
                                          <p:spTgt spid="591"/>
                                        </p:tgtEl>
                                        <p:attrNameLst>
                                          <p:attrName>r</p:attrName>
                                        </p:attrNameLst>
                                      </p:cBhvr>
                                      <p:tavLst>
                                        <p:tav tm="0">
                                          <p:val>
                                            <p:strVal val="360"/>
                                          </p:val>
                                        </p:tav>
                                        <p:tav tm="100000">
                                          <p:val>
                                            <p:strVal val="0"/>
                                          </p:val>
                                        </p:tav>
                                      </p:tavLst>
                                    </p:anim>
                                    <p:animEffect filter="fade" transition="in">
                                      <p:cBhvr additive="repl">
                                        <p:cTn id="17"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333000"/>
            <a:ext cx="8229600" cy="57625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askerville Old Face"/>
              </a:rPr>
              <a:t>I think, wearing a uniform gives us the sense of belonging to our school, makes us be proud of the school and it’s an opportunity to show that every student has something more than just his clothes</a:t>
            </a:r>
            <a:r>
              <a:rPr b="1" i="1" lang="ru-RU" sz="3200" spc="-1" strike="noStrike">
                <a:solidFill>
                  <a:srgbClr val="000000"/>
                </a:solidFill>
                <a:latin typeface="Lucida Sans Unicode"/>
              </a:rPr>
              <a:t>.</a:t>
            </a:r>
            <a:endParaRPr b="0" lang="en-US" sz="3200" spc="-1" strike="noStrike">
              <a:solidFill>
                <a:srgbClr val="000000"/>
              </a:solidFill>
              <a:latin typeface="Lucida Sans Unicode"/>
            </a:endParaRPr>
          </a:p>
        </p:txBody>
      </p:sp>
      <p:pic>
        <p:nvPicPr>
          <p:cNvPr id="597" name="Picture 9" descr="getImage?photoId=585363326566&amp;photoType=0"/>
          <p:cNvPicPr/>
          <p:nvPr/>
        </p:nvPicPr>
        <p:blipFill>
          <a:blip r:embed="rId1"/>
          <a:stretch/>
        </p:blipFill>
        <p:spPr>
          <a:xfrm>
            <a:off x="2286000" y="2857680"/>
            <a:ext cx="4572000" cy="329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2T12:51:56Z</dcterms:created>
  <dc:creator>Настя</dc:creator>
  <dc:description/>
  <dc:language>en-US</dc:language>
  <cp:lastModifiedBy>Алексей</cp:lastModifiedBy>
  <dcterms:modified xsi:type="dcterms:W3CDTF">2015-10-08T14:59:00Z</dcterms:modified>
  <cp:revision>13</cp:revision>
  <dc:subject/>
  <dc:title>School uniform</dc:title>
</cp:coreProperties>
</file>