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144-D0E3-4960-A372-6828675F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3F1-9112-419C-96FF-D5FC258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B86-1D23-455B-A71D-F2453D4A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731-3BB2-44BE-B407-5352D78A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F6C-44E3-43CD-B059-5C5042D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1CE-B68B-40C5-B24D-8C2DAA4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A29-F4D3-449A-8952-78F4C8C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3BF-E9BD-464D-A393-324B518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0B0-B0FA-4875-BADA-BB04149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611-A472-4C54-B42F-8172684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88E-E556-42EE-B9FF-58D39911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54F-388B-4E8E-A8D2-20B3355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1FAC-C98F-4CEC-AF13-55144251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редства выразительности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3739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да ты скачешь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орд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использование определений, придающих выражению образность и эмоциона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авосудие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ре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ера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рд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ллегор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выражение отвлеченных понятий в конкретных художественных образах (симв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3743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ипербол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реувеличение размеров, силы, красоты описывае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 шпиц, прелестный шпиц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более напер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от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реуменьшение размеров, силы, красоты описывае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й труп, пожар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ксюморон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соединение двух противоречащи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301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, умная, бредешь ты, го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рония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употребление слова или выражения в смысле, обратном буквальному, с целью насме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умный у вас вопрос. Вы, наверное, настоящий интеллекту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рказм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 это жёсткая насмеш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стол был яств, там гроб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титез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ротивопоставление (часто выражается через союзы А, НО, ОДНАКО или антоним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Фигуры речи, строение предло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шел, увидел,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радация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остроение однородных членов предложения по нарастанию смысла ил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л дождь и два сту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ламбур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игра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за свечкой – свечка в пе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ллипси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- пропуск подразумеваемого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езная правда – живой на зави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езный пестик, и железная зав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нафор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повторение слов в начале предложений или строк, идущих друг за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хотелось бы знать. Отчего 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итулярный сове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Почему именн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итулярный сове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эпифор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овторение слов в конце предложений или строк, идущих друг за 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301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стоишь, качаясь, тонкая ряб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здравствует солнце, да скроется тьм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иторическое восклицание (вопрос, обращение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восклицательное, вопросительное предложения или предложение с обращением, не требующие отклика у адрес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ым везде у нас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икам везде у нас п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одинаковое построение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301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ждала долгая, тяжелая болезнь, уход из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яды однородных членов предложения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перечисление однород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ращ, и стрела, и лукавый кинж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адят победителя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ногосоюзи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– повтор избыточн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лькают мимо будки, ба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ьчишки, лавки, фонар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ессоюзи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е – построение сложных предложений или ряда однородных членов без союз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видел солнце. Над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арцелляц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редложение, которое расчленено на интонационно-смысловые рече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казано в поэме Н. Некрасова: «Ниже тоненькой былиночки надо голову клони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итирова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ередача в тексте чужих мыслей, высказываний с указанием автора дан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опять метафора: «Живите под минутными домами…». Что это означает? Ничто не вечно, все подвержено тлену и разруш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просно-ответная форма изложен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текст представлен в виде риторических вопросов и ответов на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Лексически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 – вскорости – на днях – не сегодня-завтра, в недалеком буду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нонимы (контекстные, языковые)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близкие по смысл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никогда не говорили друг друг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сегд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тонимы (контекстные, языковые)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противоположные по смысл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раю света (= «далеко»), зуб на зуб не попадает (= «замерз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азеологизм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устойчивые сочетания слов, близкие по лексическому значению одному 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ь, гута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иалектизмы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лексика, распространенная на определенной территории (простореч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388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зновенный, сподвиж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нижна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ксика (высокий стиль)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озия, менеджмен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учная лексика (профессионализмы)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адить деньги, глуб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зговорная лексика (простореч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ропы и фигуры ре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твая ти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тафор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перенос значения слова по сходству (выражение, употреблённое в переносном значе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тговори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оща зол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лицетворе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уподобление какого-либо предмета или явления живому сущ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кий, как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равнени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сопоставление одного предмета или явления с другим (выражаются через союзы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как, словно, будто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сравнительную степень прилагатель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ипенье пенистых бокалов (вместо: пенящееся вино в бокал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тоним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замена прямого названия другим по смежности (т.е. на основе реальных связе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445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ее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динокий (вместо: лодка, кораб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некдох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употребление названия части вместо целого 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«Горе от ума» (вместо А.С. Грибое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ифраз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а) (парафраза) – замена слова или группы слов, чтобы избежать повторения (описательный обор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митель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нверси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непрямой (обратный) порядок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00:06Z</dcterms:created>
  <dc:creator>Olga</dc:creator>
  <dc:description/>
  <dc:language>en-US</dc:language>
  <cp:lastModifiedBy>Olga</cp:lastModifiedBy>
  <dcterms:modified xsi:type="dcterms:W3CDTF">2012-03-30T11:48:14Z</dcterms:modified>
  <cp:revision>2</cp:revision>
  <dc:subject/>
  <dc:title>Средства выразительности</dc:title>
</cp:coreProperties>
</file>