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987-63DF-4957-86BD-50697C18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2F3-3FC6-4C8C-BC5A-294E85EF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3D7-3749-45EA-9BD8-C4564662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6E6-ACE9-4F31-9EB2-0AB4B680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BE7-09BA-48B9-8947-F1F0E21F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9DC-FEEB-4B2D-B477-E4036D31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863-4330-4658-83FD-7BB3518F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9BB-1CB8-4831-B5AB-B3B0B824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390-F53A-4108-86CD-70C18D09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77C-9F43-4B41-B067-07A3FCF5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F01-BE06-4DF0-B828-5DB6FC11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850-75C0-4A65-8B6A-043D3C81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E537-0C49-4804-808D-2B4890DEA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редства выразительности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3739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да ты скачешь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горды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эпитет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использование определений, придающих выражению образность и эмоциональ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ес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равосудие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кре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вера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ердц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ллегория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выражение отвлеченных понятий в конкретных художественных образах (симв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3743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то сорок солнц закат пы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гипербол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преувеличение размеров, силы, красоты описывае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ш шпиц, прелестный шпиц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 более напер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литот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преуменьшение размеров, силы, красоты описывае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ой труп, пожар ль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ксюморон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соединение двух противоречащих по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3012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уда, умная, бредешь ты, го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рония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употребление слова или выражения в смысле, обратном буквальному, с целью насме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ень умный у вас вопрос. Вы, наверное, настоящий интеллекту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арказм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— это жёсткая насмеш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стол был яств, там гроб сто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нтитез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противопоставление (часто выражается через союзы А, НО, ОДНАКО или антоним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 Фигуры речи, строение предлож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шел, увидел, побе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градация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построение однородных членов предложения по нарастанию смысла или наоб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ел дождь и два студ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ламбур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игра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за свечкой – свечка в пе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эллипси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- пропуск подразумеваемого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лезная правда – живой на зави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лезный пестик, и железная завяз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нафор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повторение слов в начале предложений или строк, идущих друг за друг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хотелось бы знать. Отчего я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итулярный советни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Почему именно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итулярный советни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эпифор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повторение слов в конце предложений или строк, идущих друг за дру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3012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стоишь, качаясь, тонкая ряб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 здравствует солнце, да скроется тьм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риторическое восклицание (вопрос, обращение)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восклицательное, вопросительное предложения или предложение с обращением, не требующие отклика у адреса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одым везде у нас д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рикам везде у нас по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интаксический параллелизм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одинаковое построение пред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3012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го ждала долгая, тяжелая болезнь, уход из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яды однородных членов предложения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– перечисление однородных 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пращ, и стрела, и лукавый кинж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адят победителя год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многосоюзие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– повтор избыточного сою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лькают мимо будки, баб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ьчишки, лавки, фонар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ессоюзи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е – построение сложных предложений или ряда однородных членов без союз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видел солнце. Над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арцелляция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предложение, которое расчленено на интонационно-смысловые речевые ед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сказано в поэме Н. Некрасова: «Ниже тоненькой былиночки надо голову клонить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цитировани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передача в тексте чужих мыслей, высказываний с указанием автора дан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опять метафора: «Живите под минутными домами…». Что это означает? Ничто не вечно, все подвержено тлену и разруш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опросно-ответная форма изложения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текст представлен в виде риторических вопросов и ответов на 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Лексические сре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 – вскорости – на днях – не сегодня-завтра, в недалеком будущ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нонимы (контекстные, языковые)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близкие по смыслу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никогда не говорили друг другу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всегд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нтонимы (контекстные, языковые)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противоположные по смыслу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раю света (= «далеко»), зуб на зуб не попадает (= «замерз»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разеологизм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устойчивые сочетания слов, близкие по лексическому значению одному сл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ень, гута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иалектизмы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лексика, распространенная на определенной территории (простореч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8388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зновенный, сподвиж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нижна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ексика (высокий стиль),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розия, менеджмен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учная лексика (профессионализмы),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адить деньги, глуб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зговорная лексика (простореч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Тропы и фигуры реч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твая ти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етафор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перенос значения слова по сходству (выражение, употреблённое в переносном значен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тговори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оща золо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лицетворени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уподобление какого-либо предмета или явления живому сущ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ркий, как 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равнени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сопоставление одного предмета или явления с другим (выражаются через союзы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как, словно, будто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сравнительную степень прилагательн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ипенье пенистых бокалов (вместо: пенящееся вино в бокал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етонимия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замена прямого названия другим по смежности (т.е. на основе реальных связе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445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еет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ару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динокий (вместо: лодка, кораб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инекдох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употребление названия части вместо целого и наоб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 «Горе от ума» (вместо А.С. Грибоед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ерифраз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а) (парафраза) – замена слова или группы слов, чтобы избежать повторения (описательный оборо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мительный наш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нверсия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непрямой (обратный) порядок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1:00:06Z</dcterms:created>
  <dc:creator>Olga</dc:creator>
  <dc:description/>
  <dc:language>en-US</dc:language>
  <cp:lastModifiedBy>Olga</cp:lastModifiedBy>
  <dcterms:modified xsi:type="dcterms:W3CDTF">2012-03-30T11:48:14Z</dcterms:modified>
  <cp:revision>2</cp:revision>
  <dc:subject/>
  <dc:title>Средства выразительности</dc:title>
</cp:coreProperties>
</file>