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himes.wav" ContentType="audio/x-wav"/>
  <Override PartName="/ppt/media/image16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2.gif" ContentType="image/gif"/>
  <Override PartName="/ppt/media/image14.png" ContentType="image/png"/>
  <Override PartName="/ppt/media/image20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9.png" ContentType="image/png"/>
  <Override PartName="/ppt/media/image17.gif" ContentType="image/gif"/>
  <Override PartName="/ppt/media/image13.png" ContentType="image/png"/>
  <Override PartName="/ppt/media/image2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441-13AC-4137-9ECC-C491C098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D6A-ADA1-4F87-B98A-46564D37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E7D-A9C2-4A9C-8DE2-3E25271E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4C8-5D9A-40F4-8442-8E196382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4A7-727C-46F9-A6AA-73A7EF4D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676-5D36-46DD-820B-9C6A2A72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7E4-8887-4CC2-A71E-23364A73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CAB-F180-4833-8A8C-6B9430AC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6CD-0599-441E-8E61-46E39850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A4A-6365-40DE-B9E6-B43AA6F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297-A78C-4016-A723-38725C5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835-3BEE-4260-A5C5-8BA9CF09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2506-AE13-4FA4-9154-0FD395004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33964"/>
          <p:cNvPicPr/>
          <p:nvPr/>
        </p:nvPicPr>
        <p:blipFill>
          <a:blip r:embed="rId1"/>
          <a:stretch/>
        </p:blipFill>
        <p:spPr>
          <a:xfrm>
            <a:off x="3348000" y="3357720"/>
            <a:ext cx="2813040" cy="2852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510840" cy="7126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928800" y="3141720"/>
            <a:ext cx="3143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Учитель: Калябина Лариса Викто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ГБОУ СОШ с.Влади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 flipV="1">
            <a:off x="1187280" y="8974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611280" y="785880"/>
            <a:ext cx="360036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по математик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класс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фоны\0_6bf2e_c1dd00a3_L (2)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ая прямоугольная выноска 4"/>
          <p:cNvSpPr/>
          <p:nvPr/>
        </p:nvSpPr>
        <p:spPr>
          <a:xfrm>
            <a:off x="1285920" y="0"/>
            <a:ext cx="7429320" cy="1357200"/>
          </a:xfrm>
          <a:prstGeom prst="wedgeRoundRectCallout">
            <a:avLst>
              <a:gd name="adj1" fmla="val 28314"/>
              <a:gd name="adj2" fmla="val 1210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571760" y="0"/>
            <a:ext cx="700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66"/>
                </a:solidFill>
                <a:latin typeface="Arial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фоны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фоны\24053761.png"/>
          <p:cNvPicPr/>
          <p:nvPr/>
        </p:nvPicPr>
        <p:blipFill>
          <a:blip r:embed="rId2"/>
          <a:stretch/>
        </p:blipFill>
        <p:spPr>
          <a:xfrm>
            <a:off x="5884920" y="2571840"/>
            <a:ext cx="2898720" cy="4286160"/>
          </a:xfrm>
          <a:prstGeom prst="rect">
            <a:avLst/>
          </a:prstGeom>
          <a:ln w="0">
            <a:noFill/>
          </a:ln>
        </p:spPr>
      </p:pic>
      <p:grpSp>
        <p:nvGrpSpPr>
          <p:cNvPr id="48" name="Группа 8"/>
          <p:cNvGrpSpPr/>
          <p:nvPr/>
        </p:nvGrpSpPr>
        <p:grpSpPr>
          <a:xfrm>
            <a:off x="714240" y="285840"/>
            <a:ext cx="7358040" cy="2071440"/>
            <a:chOff x="714240" y="285840"/>
            <a:chExt cx="7358040" cy="2071440"/>
          </a:xfrm>
        </p:grpSpPr>
        <p:sp>
          <p:nvSpPr>
            <p:cNvPr id="49" name="Скругленная прямоугольная выноска 3"/>
            <p:cNvSpPr/>
            <p:nvPr/>
          </p:nvSpPr>
          <p:spPr>
            <a:xfrm>
              <a:off x="714240" y="285840"/>
              <a:ext cx="7358040" cy="2071440"/>
            </a:xfrm>
            <a:prstGeom prst="wedgeRoundRectCallout">
              <a:avLst>
                <a:gd name="adj1" fmla="val -3111"/>
                <a:gd name="adj2" fmla="val 83481"/>
                <a:gd name="adj3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4"/>
            <p:cNvSpPr/>
            <p:nvPr/>
          </p:nvSpPr>
          <p:spPr>
            <a:xfrm>
              <a:off x="999720" y="357120"/>
              <a:ext cx="70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Arial"/>
                </a:rPr>
                <a:t>1.Сколько в числе 47 десятк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Arial"/>
                </a:rPr>
                <a:t>1)3    2)4    3)47    4)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7" descr="F:\0_7ae74_efbc872d_L.png"/>
          <p:cNvPicPr/>
          <p:nvPr/>
        </p:nvPicPr>
        <p:blipFill>
          <a:blip r:embed="rId3"/>
          <a:stretch/>
        </p:blipFill>
        <p:spPr>
          <a:xfrm>
            <a:off x="857160" y="4786200"/>
            <a:ext cx="16398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:\0_7ae52_9f3f095f_XXS.png"/>
          <p:cNvPicPr/>
          <p:nvPr/>
        </p:nvPicPr>
        <p:blipFill>
          <a:blip r:embed="rId4"/>
          <a:stretch/>
        </p:blipFill>
        <p:spPr>
          <a:xfrm>
            <a:off x="3929040" y="4572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F:\0_7ae6f_55dbf1d6_XXS.png"/>
          <p:cNvPicPr/>
          <p:nvPr/>
        </p:nvPicPr>
        <p:blipFill>
          <a:blip r:embed="rId5"/>
          <a:stretch/>
        </p:blipFill>
        <p:spPr>
          <a:xfrm>
            <a:off x="2286000" y="30002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фоны\1267036135_fon4.jpg"/>
          <p:cNvPicPr/>
          <p:nvPr/>
        </p:nvPicPr>
        <p:blipFill>
          <a:blip r:embed="rId1"/>
          <a:stretch/>
        </p:blipFill>
        <p:spPr>
          <a:xfrm>
            <a:off x="0" y="-527040"/>
            <a:ext cx="9144000" cy="73850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3"/>
          <p:cNvGrpSpPr/>
          <p:nvPr/>
        </p:nvGrpSpPr>
        <p:grpSpPr>
          <a:xfrm>
            <a:off x="0" y="714240"/>
            <a:ext cx="5857560" cy="5000400"/>
            <a:chOff x="0" y="714240"/>
            <a:chExt cx="5857560" cy="5000400"/>
          </a:xfrm>
        </p:grpSpPr>
        <p:pic>
          <p:nvPicPr>
            <p:cNvPr id="56" name="Picture 2" descr="I:\для перегрузки\гномы\п.bmp"/>
            <p:cNvPicPr/>
            <p:nvPr/>
          </p:nvPicPr>
          <p:blipFill>
            <a:blip r:embed="rId2"/>
            <a:stretch/>
          </p:blipFill>
          <p:spPr>
            <a:xfrm>
              <a:off x="0" y="1429560"/>
              <a:ext cx="5857560" cy="42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D:\новый диск\картинки\картинки овые\фоны\мои\для задач\огщджж5.bmp"/>
            <p:cNvPicPr/>
            <p:nvPr/>
          </p:nvPicPr>
          <p:blipFill>
            <a:blip r:embed="rId3"/>
            <a:srcRect l="61273" t="0" r="0" b="58753"/>
            <a:stretch/>
          </p:blipFill>
          <p:spPr>
            <a:xfrm>
              <a:off x="4172400" y="714240"/>
              <a:ext cx="1003320" cy="79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Скругленная прямоугольная выноска 9"/>
          <p:cNvSpPr/>
          <p:nvPr/>
        </p:nvSpPr>
        <p:spPr>
          <a:xfrm>
            <a:off x="2428920" y="785880"/>
            <a:ext cx="6215040" cy="2214360"/>
          </a:xfrm>
          <a:prstGeom prst="wedgeRoundRectCallout">
            <a:avLst>
              <a:gd name="adj1" fmla="val -48087"/>
              <a:gd name="adj2" fmla="val 645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Чему равно первое слагаемое в выраже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+7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6      2)8        3)5       4)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11736" t="0" r="3532" b="60223"/>
          <a:stretch/>
        </p:blipFill>
        <p:spPr>
          <a:xfrm>
            <a:off x="0" y="1670040"/>
            <a:ext cx="6324480" cy="206388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13"/>
          <p:cNvGrpSpPr/>
          <p:nvPr/>
        </p:nvGrpSpPr>
        <p:grpSpPr>
          <a:xfrm>
            <a:off x="3519720" y="5081400"/>
            <a:ext cx="1699200" cy="1504080"/>
            <a:chOff x="3519720" y="5081400"/>
            <a:chExt cx="1699200" cy="1504080"/>
          </a:xfrm>
        </p:grpSpPr>
        <p:pic>
          <p:nvPicPr>
            <p:cNvPr id="61" name="Picture 4" descr=""/>
            <p:cNvPicPr/>
            <p:nvPr/>
          </p:nvPicPr>
          <p:blipFill>
            <a:blip r:embed="rId2"/>
            <a:stretch/>
          </p:blipFill>
          <p:spPr>
            <a:xfrm rot="1887600">
              <a:off x="3786120" y="5281920"/>
              <a:ext cx="684000" cy="12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"/>
            <p:cNvPicPr/>
            <p:nvPr/>
          </p:nvPicPr>
          <p:blipFill>
            <a:blip r:embed="rId3"/>
            <a:stretch/>
          </p:blipFill>
          <p:spPr>
            <a:xfrm rot="19198800">
              <a:off x="4237560" y="5143320"/>
              <a:ext cx="651960" cy="126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2928960" y="47862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 rot="12739200">
            <a:off x="2903040" y="5524200"/>
            <a:ext cx="127656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6"/>
          <a:stretch/>
        </p:blipFill>
        <p:spPr>
          <a:xfrm flipH="1" rot="7376400">
            <a:off x="3435120" y="4749480"/>
            <a:ext cx="1009800" cy="107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7"/>
          <a:stretch/>
        </p:blipFill>
        <p:spPr>
          <a:xfrm>
            <a:off x="2643120" y="4714920"/>
            <a:ext cx="2438640" cy="1973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228600" y="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Выбери правильное решение приме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+9-6=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800600" y="141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3      2)7      3)12      4)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2044663_0.jpg"/>
          <p:cNvPicPr/>
          <p:nvPr/>
        </p:nvPicPr>
        <p:blipFill>
          <a:blip r:embed="rId8"/>
          <a:stretch/>
        </p:blipFill>
        <p:spPr>
          <a:xfrm>
            <a:off x="0" y="3429000"/>
            <a:ext cx="2793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6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84393E-006 C -0.0151 -0.04139 -0.04184 -0.07885 -0.04427 -0.12463 C -0.04583 -0.1533 -0.04392 -0.19053 -0.05399 -0.2185 C -0.06111 -0.23769 -0.08264 -0.24717 -0.09687 -0.25342 C -0.10243 -0.25596 -0.11076 -0.2659 -0.11649 -0.27076 C -0.11962 -0.27376 -0.12621 -0.27954 -0.12621 -0.27954 C -0.1316 -0.29018 -0.12795 -0.28486 -0.13924 -0.2948 C -0.14097 -0.29619 -0.14427 -0.2992 -0.14427 -0.2992 C -0.14948 -0.30983 -0.15816 -0.31723 -0.16719 -0.32093 C -0.17934 -0.3318 -0.16389 -0.31908 -0.17865 -0.32764 C -0.18038 -0.32879 -0.18177 -0.33087 -0.18351 -0.33203 C -0.18681 -0.33388 -0.1934 -0.33619 -0.1934 -0.33619 C -0.20521 -0.34659 -0.19948 -0.34359 -0.20972 -0.34729 C -0.21597 -0.35261 -0.22257 -0.35492 -0.22951 -0.35816 C -0.23142 -0.35908 -0.23264 -0.36139 -0.23437 -0.36255 C -0.2375 -0.3644 -0.24427 -0.36694 -0.24427 -0.36694 C -0.24861 -0.37272 -0.2533 -0.37642 -0.25903 -0.37989 C -0.26215 -0.38174 -0.26875 -0.38428 -0.26875 -0.38428 C -0.27413 -0.38891 -0.28785 -0.39746 -0.29496 -0.39746 E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0711 -5.78035E-008 C 0.01093 -0.00879 0.01232 -0.0185 0.01545 -0.02775 C 0.01684 -0.03699 0.01979 -0.04277 0.02222 -0.05133 C 0.02447 -0.05873 0.02465 -0.06682 0.02656 -0.07445 C 0.02708 -0.07699 0.02829 -0.07884 0.02916 -0.08092 C 0.02968 -0.08301 0.0302 -0.08532 0.03055 -0.0874 C 0.03107 -0.09225 0.03107 -0.09734 0.03194 -0.1022 C 0.03246 -0.1052 0.03402 -0.10751 0.03472 -0.11075 C 0.03593 -0.11769 0.03611 -0.12486 0.0375 -0.13179 C 0.03888 -0.13965 0.04149 -0.15538 0.04149 -0.15514 C 0.04114 -0.17572 0.04479 -0.23168 0.03333 -0.25734 C 0.03107 -0.2763 0.02656 -0.29688 0.01944 -0.31283 C 0.0177 -0.3237 0.01388 -0.3415 0.00989 -0.35098 C 0.00816 -0.35954 0.00572 -0.36393 0.00173 -0.37017 C 0.00121 -0.37225 0.00104 -0.3748 0.00017 -0.37642 C -0.00035 -0.37757 -0.01268 -0.39838 -0.01493 -0.4 C -0.01754 -0.40185 -0.02032 -0.40277 -0.02309 -0.40416 C -0.02448 -0.40486 -0.02726 -0.40624 -0.02726 -0.40601 C -0.04046 -0.41988 -0.07969 -0.42012 -0.09462 -0.42127 C -0.13334 -0.43561 -0.17344 -0.43746 -0.21303 -0.44046 C -0.21858 -0.44324 -0.22414 -0.44624 -0.22969 -0.44879 C -0.23247 -0.45179 -0.23507 -0.45457 -0.23785 -0.45734 C -0.23941 -0.45919 -0.24202 -0.46358 -0.24202 -0.46358 E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6 -3.46821E-006 C 0.00052 -0.00208 0.00086 -0.00439 0.00156 -0.00647 C 0.00243 -0.00879 0.00416 -0.01041 0.00486 -0.01295 C 0.00833 -0.02474 0.00868 -0.03815 0.01145 -0.05017 C 0.01111 -0.07515 0.02378 -0.18243 -8.33333E-006 -0.22913 C -0.00053 -0.23422 -0.00139 -0.23931 -0.00174 -0.24439 C -0.00261 -0.25896 -0.00209 -0.27353 -0.0033 -0.28809 C -0.00365 -0.29272 -0.0066 -0.30127 -0.0066 -0.30127 C -0.00712 -0.31445 -0.0073 -0.32763 -0.00816 -0.34058 C -0.00886 -0.35029 -0.01459 -0.35769 -0.0165 -0.36671 C -0.01771 -0.37272 -0.01771 -0.37965 -0.02136 -0.38405 E">
                                      <p:cBhvr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66667E-006 4.85549E-006 C 0.00174 -0.01017 0.0033 -0.01387 0.00972 -0.01965 C 0.00972 -0.01989 0.01233 -0.03353 0.01302 -0.03491 C 0.02101 -0.05087 0.01545 -0.03307 0.02118 -0.04809 C 0.02379 -0.05503 0.02431 -0.06104 0.02778 -0.06775 C 0.03108 -0.08463 0.03333 -0.10035 0.03924 -0.11584 C 0.0434 -0.12671 0.04392 -0.13827 0.04913 -0.14844 C 0.05052 -0.15607 0.05278 -0.1637 0.05573 -0.17041 C 0.05764 -0.17503 0.06233 -0.18335 0.06233 -0.18335 C 0.06511 -0.19538 0.07292 -0.19607 0.07865 -0.2074 C 0.08438 -0.21896 0.09097 -0.2289 0.0967 -0.24023 C 0.09965 -0.25272 0.09583 -0.24139 0.1033 -0.2511 C 0.11493 -0.26636 0.09774 -0.24948 0.11146 -0.26197 C 0.11424 -0.27353 0.11684 -0.28532 0.11962 -0.29688 C 0.11788 -0.3089 0.11719 -0.31237 0.10972 -0.31885 C 0.1092 -0.32093 0.10816 -0.32532 0.10816 -0.32532 E"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фоны\1267036135_fon4.jpg"/>
          <p:cNvPicPr/>
          <p:nvPr/>
        </p:nvPicPr>
        <p:blipFill>
          <a:blip r:embed="rId1"/>
          <a:stretch/>
        </p:blipFill>
        <p:spPr>
          <a:xfrm>
            <a:off x="0" y="-527040"/>
            <a:ext cx="9144000" cy="738504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3"/>
          <p:cNvGrpSpPr/>
          <p:nvPr/>
        </p:nvGrpSpPr>
        <p:grpSpPr>
          <a:xfrm>
            <a:off x="0" y="714240"/>
            <a:ext cx="5857560" cy="5000400"/>
            <a:chOff x="0" y="714240"/>
            <a:chExt cx="5857560" cy="5000400"/>
          </a:xfrm>
        </p:grpSpPr>
        <p:pic>
          <p:nvPicPr>
            <p:cNvPr id="72" name="Picture 2" descr="I:\для перегрузки\гномы\п.bmp"/>
            <p:cNvPicPr/>
            <p:nvPr/>
          </p:nvPicPr>
          <p:blipFill>
            <a:blip r:embed="rId2"/>
            <a:stretch/>
          </p:blipFill>
          <p:spPr>
            <a:xfrm>
              <a:off x="0" y="1429560"/>
              <a:ext cx="5857560" cy="42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D:\новый диск\картинки\картинки овые\фоны\мои\для задач\огщджж5.bmp"/>
            <p:cNvPicPr/>
            <p:nvPr/>
          </p:nvPicPr>
          <p:blipFill>
            <a:blip r:embed="rId3"/>
            <a:srcRect l="61273" t="0" r="0" b="58753"/>
            <a:stretch/>
          </p:blipFill>
          <p:spPr>
            <a:xfrm>
              <a:off x="4172400" y="714240"/>
              <a:ext cx="1003320" cy="79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Скругленная прямоугольная выноска 9"/>
          <p:cNvSpPr/>
          <p:nvPr/>
        </p:nvSpPr>
        <p:spPr>
          <a:xfrm>
            <a:off x="2428920" y="785880"/>
            <a:ext cx="6215040" cy="2214360"/>
          </a:xfrm>
          <a:prstGeom prst="wedgeRoundRectCallout">
            <a:avLst>
              <a:gd name="adj1" fmla="val -48087"/>
              <a:gd name="adj2" fmla="val 645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Какой пример в итоге даёт число 1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7+6    2)10-2    3)6+6    4)8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:\фоны\0_6bf2e_c1dd00a3_L (2)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Скругленная прямоугольная выноска 4"/>
          <p:cNvSpPr/>
          <p:nvPr/>
        </p:nvSpPr>
        <p:spPr>
          <a:xfrm>
            <a:off x="1285920" y="0"/>
            <a:ext cx="7429320" cy="1357200"/>
          </a:xfrm>
          <a:prstGeom prst="wedgeRoundRectCallout">
            <a:avLst>
              <a:gd name="adj1" fmla="val 28314"/>
              <a:gd name="adj2" fmla="val 1210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571760" y="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Укажи верную математическую зап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12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4+9=8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:\фоны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F:\фоны\24053761.png"/>
          <p:cNvPicPr/>
          <p:nvPr/>
        </p:nvPicPr>
        <p:blipFill>
          <a:blip r:embed="rId2"/>
          <a:stretch/>
        </p:blipFill>
        <p:spPr>
          <a:xfrm>
            <a:off x="5884920" y="2571840"/>
            <a:ext cx="2898720" cy="4286160"/>
          </a:xfrm>
          <a:prstGeom prst="rect">
            <a:avLst/>
          </a:prstGeom>
          <a:ln w="0">
            <a:noFill/>
          </a:ln>
        </p:spPr>
      </p:pic>
      <p:grpSp>
        <p:nvGrpSpPr>
          <p:cNvPr id="80" name="Группа 8"/>
          <p:cNvGrpSpPr/>
          <p:nvPr/>
        </p:nvGrpSpPr>
        <p:grpSpPr>
          <a:xfrm>
            <a:off x="714240" y="285840"/>
            <a:ext cx="7358040" cy="2071440"/>
            <a:chOff x="714240" y="285840"/>
            <a:chExt cx="7358040" cy="2071440"/>
          </a:xfrm>
        </p:grpSpPr>
        <p:sp>
          <p:nvSpPr>
            <p:cNvPr id="81" name="Скругленная прямоугольная выноска 3"/>
            <p:cNvSpPr/>
            <p:nvPr/>
          </p:nvSpPr>
          <p:spPr>
            <a:xfrm>
              <a:off x="714240" y="285840"/>
              <a:ext cx="7358040" cy="2071440"/>
            </a:xfrm>
            <a:prstGeom prst="wedgeRoundRectCallout">
              <a:avLst>
                <a:gd name="adj1" fmla="val -3111"/>
                <a:gd name="adj2" fmla="val 83481"/>
                <a:gd name="adj3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"/>
            <p:cNvSpPr/>
            <p:nvPr/>
          </p:nvSpPr>
          <p:spPr>
            <a:xfrm>
              <a:off x="999720" y="357120"/>
              <a:ext cx="700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Arial"/>
                </a:rPr>
                <a:t>6.Длина ломаной  13 см.Первое звено-5см. Чему равно второе зве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Arial"/>
                </a:rPr>
                <a:t>1)6    2)4    3)9    4)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7" descr="F:\0_7ae74_efbc872d_L.png"/>
          <p:cNvPicPr/>
          <p:nvPr/>
        </p:nvPicPr>
        <p:blipFill>
          <a:blip r:embed="rId3"/>
          <a:stretch/>
        </p:blipFill>
        <p:spPr>
          <a:xfrm>
            <a:off x="857160" y="4786200"/>
            <a:ext cx="1639800" cy="171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:\0_7ae52_9f3f095f_XXS.png"/>
          <p:cNvPicPr/>
          <p:nvPr/>
        </p:nvPicPr>
        <p:blipFill>
          <a:blip r:embed="rId4"/>
          <a:stretch/>
        </p:blipFill>
        <p:spPr>
          <a:xfrm>
            <a:off x="3929040" y="4572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F:\0_7ae6f_55dbf1d6_XXS.png"/>
          <p:cNvPicPr/>
          <p:nvPr/>
        </p:nvPicPr>
        <p:blipFill>
          <a:blip r:embed="rId5"/>
          <a:stretch/>
        </p:blipFill>
        <p:spPr>
          <a:xfrm>
            <a:off x="2286000" y="30002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ajy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2230560" y="714240"/>
            <a:ext cx="6913440" cy="2444760"/>
          </a:xfrm>
          <a:prstGeom prst="wedgeRoundRectCallout">
            <a:avLst>
              <a:gd name="adj1" fmla="val -42722"/>
              <a:gd name="adj2" fmla="val 63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ыбери правильный ответ решения задач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Коли в альбоме лежит 12 марок, а у Васи в альбоме – на 3 марки больше. Сколько марок лежит в альбоме у Ва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 13    2)14     3)15   4)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F:\фоны\0_6beed_e5a8dea6_XL.png"/>
          <p:cNvPicPr/>
          <p:nvPr/>
        </p:nvPicPr>
        <p:blipFill>
          <a:blip r:embed="rId2"/>
          <a:stretch/>
        </p:blipFill>
        <p:spPr>
          <a:xfrm>
            <a:off x="-214200" y="2571840"/>
            <a:ext cx="5648040" cy="428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цветы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442908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цветы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929120" y="514368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колокольчики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286160" y="357192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цветы2"/>
          <p:cNvPicPr/>
          <p:nvPr/>
        </p:nvPicPr>
        <p:blipFill>
          <a:blip r:embed="rId6"/>
          <a:stretch/>
        </p:blipFill>
        <p:spPr>
          <a:xfrm>
            <a:off x="3000240" y="5500800"/>
            <a:ext cx="8971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фоны\0_63810_966af6e0_L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3"/>
          <p:cNvGrpSpPr/>
          <p:nvPr/>
        </p:nvGrpSpPr>
        <p:grpSpPr>
          <a:xfrm>
            <a:off x="-428760" y="1857240"/>
            <a:ext cx="4419720" cy="3582720"/>
            <a:chOff x="-428760" y="1857240"/>
            <a:chExt cx="4419720" cy="3582720"/>
          </a:xfrm>
        </p:grpSpPr>
        <p:pic>
          <p:nvPicPr>
            <p:cNvPr id="95" name="Picture 2" descr="I:\для перегрузки\гномы\п.bmp"/>
            <p:cNvPicPr/>
            <p:nvPr/>
          </p:nvPicPr>
          <p:blipFill>
            <a:blip r:embed="rId2"/>
            <a:stretch/>
          </p:blipFill>
          <p:spPr>
            <a:xfrm>
              <a:off x="-428760" y="2369880"/>
              <a:ext cx="4419720" cy="30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" descr="D:\новый диск\картинки\картинки овые\фоны\мои\для задач\огщджж5.bmp"/>
            <p:cNvPicPr/>
            <p:nvPr/>
          </p:nvPicPr>
          <p:blipFill>
            <a:blip r:embed="rId3"/>
            <a:stretch/>
          </p:blipFill>
          <p:spPr>
            <a:xfrm>
              <a:off x="1522440" y="1857240"/>
              <a:ext cx="1954080" cy="13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Скругленная прямоугольная выноска 6"/>
          <p:cNvSpPr/>
          <p:nvPr/>
        </p:nvSpPr>
        <p:spPr>
          <a:xfrm>
            <a:off x="250920" y="0"/>
            <a:ext cx="8535960" cy="1785960"/>
          </a:xfrm>
          <a:prstGeom prst="wedgeRoundRectCallout">
            <a:avLst>
              <a:gd name="adj1" fmla="val -9273"/>
              <a:gd name="adj2" fmla="val 625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Выбери правильный ответ решения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автобусе ехало 9 пассажиров. На остановке в автобус вошло ещё 7 пассажиров. Сколько пассажиров стало в автобус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16   2)18   3)15    4)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:\новый диск\картинки\картинки овые\фоны\мои\для задач\огщджж5.bmp"/>
          <p:cNvPicPr/>
          <p:nvPr/>
        </p:nvPicPr>
        <p:blipFill>
          <a:blip r:embed="rId4"/>
          <a:srcRect l="61268" t="0" r="0" b="58743"/>
          <a:stretch/>
        </p:blipFill>
        <p:spPr>
          <a:xfrm>
            <a:off x="3643200" y="2786040"/>
            <a:ext cx="804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1:49:17Z</dcterms:created>
  <dc:creator>SamLab.ws</dc:creator>
  <dc:description/>
  <dc:language>en-US</dc:language>
  <cp:lastModifiedBy>User</cp:lastModifiedBy>
  <dcterms:modified xsi:type="dcterms:W3CDTF">2015-10-08T04:33:24Z</dcterms:modified>
  <cp:revision>112</cp:revision>
  <dc:subject/>
  <dc:title>Слайд 1</dc:title>
</cp:coreProperties>
</file>