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888A-F898-40BD-B84B-A9CFA6CD9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382B-BD14-4486-B4FE-52704492E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0B2F-9334-4609-9511-005BB22E6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7D08-56D2-4993-8985-D8410FFE4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4832-DEBD-450A-BEF3-CE9F5A9CA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9B2B-7BBE-4CBF-BD3D-6C6918866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B0EC-DA96-4D2C-BC5A-0B5C72A8A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DBE5-521A-4CF2-8A3E-55289E69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8062-066D-45FB-9244-C038BF29F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05D2-9905-4A96-B2D0-D035B8DFC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589C-6838-4EAC-AD6D-2421EBBD8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5104-D0B2-446A-ADE1-E3B710A2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DF9-BD08-41D1-910A-F625AC13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D22-150D-4BAB-BD6B-1451C4C7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2F7-585D-42E6-B0F2-9B1F2246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D77-0DDC-48B3-8BF2-201F7A14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77B-D84C-4B25-96FC-EE11CB05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1ED-73F4-4A05-9482-C6075EEB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EF8-C661-4C86-BF4B-F1DC97CF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F65-5F5B-4DB9-8BC0-E26A4930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003-8C97-4EA7-AE7C-0C2356A4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8E4-4195-4A6A-A4EC-48CE3D7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EAE-4AAC-4D73-A528-EA4CF832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E0D-A106-44A6-84D9-8885F69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99CB-DCAF-4EA6-8964-E8C425857B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Тест по тем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«Сумма углов треугольни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8"/>
          <p:cNvSpPr/>
          <p:nvPr/>
        </p:nvSpPr>
        <p:spPr>
          <a:xfrm>
            <a:off x="1116000" y="328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121760" y="436572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193040" y="544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187280" y="220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йдите угол CB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4859280" y="1197000"/>
            <a:ext cx="4022640" cy="2993760"/>
            <a:chOff x="4859280" y="1197000"/>
            <a:chExt cx="4022640" cy="2993760"/>
          </a:xfrm>
        </p:grpSpPr>
        <p:grpSp>
          <p:nvGrpSpPr>
            <p:cNvPr id="131" name="Group 23"/>
            <p:cNvGrpSpPr/>
            <p:nvPr/>
          </p:nvGrpSpPr>
          <p:grpSpPr>
            <a:xfrm>
              <a:off x="4859280" y="1197000"/>
              <a:ext cx="4022640" cy="2993760"/>
              <a:chOff x="4859280" y="1197000"/>
              <a:chExt cx="4022640" cy="2993760"/>
            </a:xfrm>
          </p:grpSpPr>
          <p:sp>
            <p:nvSpPr>
              <p:cNvPr id="132" name="Line 9"/>
              <p:cNvSpPr/>
              <p:nvPr/>
            </p:nvSpPr>
            <p:spPr>
              <a:xfrm>
                <a:off x="5299920" y="3825720"/>
                <a:ext cx="155448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Group 22"/>
              <p:cNvGrpSpPr/>
              <p:nvPr/>
            </p:nvGrpSpPr>
            <p:grpSpPr>
              <a:xfrm>
                <a:off x="4859280" y="1197000"/>
                <a:ext cx="4022640" cy="2993760"/>
                <a:chOff x="4859280" y="1197000"/>
                <a:chExt cx="4022640" cy="2993760"/>
              </a:xfrm>
            </p:grpSpPr>
            <p:sp>
              <p:nvSpPr>
                <p:cNvPr id="134" name="AutoShape 6"/>
                <p:cNvSpPr/>
                <p:nvPr/>
              </p:nvSpPr>
              <p:spPr>
                <a:xfrm>
                  <a:off x="6659280" y="1413000"/>
                  <a:ext cx="1832400" cy="238896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8"/>
                <p:cNvSpPr/>
                <p:nvPr/>
              </p:nvSpPr>
              <p:spPr>
                <a:xfrm flipV="1">
                  <a:off x="5299920" y="1436760"/>
                  <a:ext cx="2248560" cy="238896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14"/>
                <p:cNvSpPr/>
                <p:nvPr/>
              </p:nvSpPr>
              <p:spPr>
                <a:xfrm>
                  <a:off x="7437960" y="1656360"/>
                  <a:ext cx="249480" cy="40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16"/>
                <p:cNvSpPr/>
                <p:nvPr/>
              </p:nvSpPr>
              <p:spPr>
                <a:xfrm>
                  <a:off x="4859280" y="3645000"/>
                  <a:ext cx="263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ff0066"/>
                      </a:solidFill>
                      <a:latin typeface="Times New Roman"/>
                    </a:rPr>
                    <a:t>А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7"/>
                <p:cNvSpPr/>
                <p:nvPr/>
              </p:nvSpPr>
              <p:spPr>
                <a:xfrm>
                  <a:off x="7548840" y="1197000"/>
                  <a:ext cx="277560" cy="33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800" spc="-1" strike="noStrike">
                      <a:solidFill>
                        <a:srgbClr val="ff0066"/>
                      </a:solidFill>
                      <a:latin typeface="Times New Roman"/>
                    </a:rPr>
                    <a:t>В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18"/>
                <p:cNvSpPr/>
                <p:nvPr/>
              </p:nvSpPr>
              <p:spPr>
                <a:xfrm>
                  <a:off x="6494040" y="3857040"/>
                  <a:ext cx="277200" cy="33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ff0066"/>
                      </a:solidFill>
                      <a:latin typeface="Times New Roman"/>
                    </a:rPr>
                    <a:t>С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19"/>
                <p:cNvSpPr/>
                <p:nvPr/>
              </p:nvSpPr>
              <p:spPr>
                <a:xfrm>
                  <a:off x="8388000" y="3717000"/>
                  <a:ext cx="4939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Arc 20"/>
                <p:cNvSpPr/>
                <p:nvPr/>
              </p:nvSpPr>
              <p:spPr>
                <a:xfrm>
                  <a:off x="5494320" y="3637440"/>
                  <a:ext cx="83160" cy="1882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Rectangle 21"/>
                <p:cNvSpPr/>
                <p:nvPr/>
              </p:nvSpPr>
              <p:spPr>
                <a:xfrm>
                  <a:off x="5579640" y="3500640"/>
                  <a:ext cx="3052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0066"/>
                      </a:solidFill>
                      <a:latin typeface="Times New Roman"/>
                    </a:rPr>
                    <a:t>40</a:t>
                  </a:r>
                  <a:r>
                    <a:rPr b="1" lang="en-US" sz="2400" spc="-1" strike="noStrike">
                      <a:solidFill>
                        <a:srgbClr val="ff0066"/>
                      </a:solidFill>
                      <a:latin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Rectangle 36"/>
            <p:cNvSpPr/>
            <p:nvPr/>
          </p:nvSpPr>
          <p:spPr>
            <a:xfrm>
              <a:off x="7020000" y="1700640"/>
              <a:ext cx="28800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rc 38"/>
            <p:cNvSpPr/>
            <p:nvPr/>
          </p:nvSpPr>
          <p:spPr>
            <a:xfrm flipH="1" flipV="1">
              <a:off x="7381440" y="1592640"/>
              <a:ext cx="83160" cy="94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rc 40"/>
            <p:cNvSpPr/>
            <p:nvPr/>
          </p:nvSpPr>
          <p:spPr>
            <a:xfrm>
              <a:off x="5438880" y="3700440"/>
              <a:ext cx="55440" cy="125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Line 10"/>
          <p:cNvSpPr/>
          <p:nvPr/>
        </p:nvSpPr>
        <p:spPr>
          <a:xfrm>
            <a:off x="7020000" y="2492280"/>
            <a:ext cx="21600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"/>
          <p:cNvSpPr/>
          <p:nvPr/>
        </p:nvSpPr>
        <p:spPr>
          <a:xfrm flipV="1">
            <a:off x="7885080" y="242064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3333cc"/>
                </a:solidFill>
                <a:uFillTx/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7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5335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дин из углов прямоугольного треугольника равен 40 °. Найдите второй уг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1407600" y="2276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263240" y="32130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336680" y="429264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1263240" y="530064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Чему равен угол равностороннего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407600" y="2276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263960" y="321300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337040" y="434016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263960" y="534816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1419120" y="227664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торон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261440" y="3259080"/>
            <a:ext cx="23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332000" y="429264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п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266840" y="530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р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ва угла треугольника равны 30° и 60°. Какой это треугольни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9"/>
          <p:cNvSpPr/>
          <p:nvPr/>
        </p:nvSpPr>
        <p:spPr>
          <a:xfrm>
            <a:off x="1267200" y="23493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° и 50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340640" y="42926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° и 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384920" y="53006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° и 4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267560" y="3259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0° и 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Угол при вершине равнобедренного треугольника равен 80°. Найдите два других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"/>
          <p:cNvSpPr/>
          <p:nvPr/>
        </p:nvSpPr>
        <p:spPr>
          <a:xfrm>
            <a:off x="1480680" y="5445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403280" y="33098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403280" y="43178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407600" y="2276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Угол при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сновани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равнобедренного треугольника равен 45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°. Определите угол при верш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8"/>
          <p:cNvSpPr/>
          <p:nvPr/>
        </p:nvSpPr>
        <p:spPr>
          <a:xfrm>
            <a:off x="1416240" y="436572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нельз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403280" y="3213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п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477800" y="5445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41912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торон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дин из углов равен 60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°. Определите вид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147636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481400" y="3213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551960" y="436572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08320" y="227664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йдите угол 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9"/>
          <p:cNvGrpSpPr/>
          <p:nvPr/>
        </p:nvGrpSpPr>
        <p:grpSpPr>
          <a:xfrm>
            <a:off x="5148360" y="2276640"/>
            <a:ext cx="2736360" cy="1873080"/>
            <a:chOff x="5148360" y="2276640"/>
            <a:chExt cx="2736360" cy="1873080"/>
          </a:xfrm>
        </p:grpSpPr>
        <p:sp>
          <p:nvSpPr>
            <p:cNvPr id="86" name="AutoShape 4"/>
            <p:cNvSpPr/>
            <p:nvPr/>
          </p:nvSpPr>
          <p:spPr>
            <a:xfrm>
              <a:off x="5331240" y="2530440"/>
              <a:ext cx="2047320" cy="1287720"/>
            </a:xfrm>
            <a:prstGeom prst="rtTriangle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7378560" y="3818160"/>
              <a:ext cx="4312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7"/>
            <p:cNvSpPr/>
            <p:nvPr/>
          </p:nvSpPr>
          <p:spPr>
            <a:xfrm>
              <a:off x="7378560" y="3818160"/>
              <a:ext cx="344880" cy="1947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5331240" y="3661920"/>
              <a:ext cx="17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5503680" y="3661920"/>
              <a:ext cx="0" cy="15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5309640" y="2628000"/>
              <a:ext cx="2588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5148360" y="3818160"/>
              <a:ext cx="215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5223240" y="2276640"/>
              <a:ext cx="2156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7228080" y="3798360"/>
              <a:ext cx="1936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rc 17"/>
            <p:cNvSpPr/>
            <p:nvPr/>
          </p:nvSpPr>
          <p:spPr>
            <a:xfrm flipV="1">
              <a:off x="7551000" y="3817440"/>
              <a:ext cx="43200" cy="968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8"/>
            <p:cNvSpPr/>
            <p:nvPr/>
          </p:nvSpPr>
          <p:spPr>
            <a:xfrm>
              <a:off x="7594200" y="3642120"/>
              <a:ext cx="29052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4"/>
              <p:cNvSpPr txBox="1"/>
              <p:nvPr/>
            </p:nvSpPr>
            <p:spPr>
              <a:xfrm>
                <a:off x="4859280" y="1916280"/>
                <a:ext cx="5097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16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7"/>
              <p:cNvSpPr txBox="1"/>
              <p:nvPr/>
            </p:nvSpPr>
            <p:spPr>
              <a:xfrm>
                <a:off x="7236000" y="3213000"/>
                <a:ext cx="509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8"/>
              <p:cNvSpPr txBox="1"/>
              <p:nvPr/>
            </p:nvSpPr>
            <p:spPr>
              <a:xfrm>
                <a:off x="4788000" y="3622680"/>
                <a:ext cx="509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7740720" y="3789360"/>
                <a:ext cx="444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8"/>
          <p:cNvSpPr/>
          <p:nvPr/>
        </p:nvSpPr>
        <p:spPr>
          <a:xfrm>
            <a:off x="1194120" y="227664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481400" y="4365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552680" y="54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6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409040" y="32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3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йдите угол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22"/>
          <p:cNvGrpSpPr/>
          <p:nvPr/>
        </p:nvGrpSpPr>
        <p:grpSpPr>
          <a:xfrm>
            <a:off x="4356000" y="1844280"/>
            <a:ext cx="3455640" cy="2448360"/>
            <a:chOff x="4356000" y="1844280"/>
            <a:chExt cx="3455640" cy="2448360"/>
          </a:xfrm>
        </p:grpSpPr>
        <p:sp>
          <p:nvSpPr>
            <p:cNvPr id="109" name="Arc 11"/>
            <p:cNvSpPr/>
            <p:nvPr/>
          </p:nvSpPr>
          <p:spPr>
            <a:xfrm>
              <a:off x="7242480" y="3780000"/>
              <a:ext cx="138240" cy="7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Group 21"/>
            <p:cNvGrpSpPr/>
            <p:nvPr/>
          </p:nvGrpSpPr>
          <p:grpSpPr>
            <a:xfrm>
              <a:off x="4356000" y="1844280"/>
              <a:ext cx="3455640" cy="2448360"/>
              <a:chOff x="4356000" y="1844280"/>
              <a:chExt cx="3455640" cy="2448360"/>
            </a:xfrm>
          </p:grpSpPr>
          <p:sp>
            <p:nvSpPr>
              <p:cNvPr id="111" name="Arc 13"/>
              <p:cNvSpPr/>
              <p:nvPr/>
            </p:nvSpPr>
            <p:spPr>
              <a:xfrm>
                <a:off x="7214400" y="3753720"/>
                <a:ext cx="193680" cy="105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Group 20"/>
              <p:cNvGrpSpPr/>
              <p:nvPr/>
            </p:nvGrpSpPr>
            <p:grpSpPr>
              <a:xfrm>
                <a:off x="4356000" y="1844280"/>
                <a:ext cx="3455640" cy="2448360"/>
                <a:chOff x="4356000" y="1844280"/>
                <a:chExt cx="3455640" cy="2448360"/>
              </a:xfrm>
            </p:grpSpPr>
            <p:sp>
              <p:nvSpPr>
                <p:cNvPr id="113" name="Line 4"/>
                <p:cNvSpPr/>
                <p:nvPr/>
              </p:nvSpPr>
              <p:spPr>
                <a:xfrm>
                  <a:off x="4590360" y="3859560"/>
                  <a:ext cx="306612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5"/>
                <p:cNvSpPr/>
                <p:nvPr/>
              </p:nvSpPr>
              <p:spPr>
                <a:xfrm flipV="1">
                  <a:off x="4590360" y="1844280"/>
                  <a:ext cx="3121560" cy="201492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7"/>
                <p:cNvSpPr/>
                <p:nvPr/>
              </p:nvSpPr>
              <p:spPr>
                <a:xfrm flipH="1" flipV="1">
                  <a:off x="6330960" y="2745720"/>
                  <a:ext cx="966240" cy="11134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10"/>
                <p:cNvSpPr/>
                <p:nvPr/>
              </p:nvSpPr>
              <p:spPr>
                <a:xfrm flipV="1">
                  <a:off x="6413760" y="2666520"/>
                  <a:ext cx="27360" cy="18576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Rectangle 14"/>
                <p:cNvSpPr/>
                <p:nvPr/>
              </p:nvSpPr>
              <p:spPr>
                <a:xfrm>
                  <a:off x="6516000" y="2564280"/>
                  <a:ext cx="64800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ff0066"/>
                      </a:solidFill>
                      <a:latin typeface="Times New Roman"/>
                    </a:rPr>
                    <a:t>87</a:t>
                  </a:r>
                  <a:r>
                    <a:rPr b="1" lang="en-US" sz="3200" spc="-1" strike="noStrike">
                      <a:solidFill>
                        <a:srgbClr val="ff0066"/>
                      </a:solidFill>
                      <a:latin typeface="Times New Roman"/>
                    </a:rPr>
                    <a:t>º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15"/>
                <p:cNvSpPr/>
                <p:nvPr/>
              </p:nvSpPr>
              <p:spPr>
                <a:xfrm>
                  <a:off x="5795640" y="2276640"/>
                  <a:ext cx="355320" cy="4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16"/>
                <p:cNvSpPr/>
                <p:nvPr/>
              </p:nvSpPr>
              <p:spPr>
                <a:xfrm>
                  <a:off x="7159680" y="3462120"/>
                  <a:ext cx="579600" cy="31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17"/>
                <p:cNvSpPr/>
                <p:nvPr/>
              </p:nvSpPr>
              <p:spPr>
                <a:xfrm>
                  <a:off x="7242480" y="3859560"/>
                  <a:ext cx="569160" cy="43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ff0066"/>
                      </a:solidFill>
                      <a:latin typeface="Times New Roman"/>
                    </a:rPr>
                    <a:t>В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18"/>
                <p:cNvSpPr/>
                <p:nvPr/>
              </p:nvSpPr>
              <p:spPr>
                <a:xfrm>
                  <a:off x="4356000" y="3753720"/>
                  <a:ext cx="35964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5400" spc="-1" strike="noStrike">
                      <a:solidFill>
                        <a:srgbClr val="ff0066"/>
                      </a:solidFill>
                      <a:latin typeface="Times New Roman"/>
                    </a:rPr>
                    <a:t>с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Rectangle 19"/>
                <p:cNvSpPr/>
                <p:nvPr/>
              </p:nvSpPr>
              <p:spPr>
                <a:xfrm>
                  <a:off x="4811400" y="3408840"/>
                  <a:ext cx="33624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Rectangle 18"/>
          <p:cNvSpPr/>
          <p:nvPr/>
        </p:nvSpPr>
        <p:spPr>
          <a:xfrm>
            <a:off x="5867280" y="220500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7236000" y="342900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20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Королькова Наталья</dc:creator>
  <dc:description/>
  <dc:language>en-US</dc:language>
  <cp:lastModifiedBy>x</cp:lastModifiedBy>
  <dcterms:modified xsi:type="dcterms:W3CDTF">2015-10-08T16:08:23Z</dcterms:modified>
  <cp:revision>47</cp:revision>
  <dc:subject/>
  <dc:title>Тесты</dc:title>
</cp:coreProperties>
</file>