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6.png" ContentType="image/png"/>
  <Override PartName="/ppt/media/image15.jpeg" ContentType="image/jpeg"/>
  <Override PartName="/ppt/media/image10.png" ContentType="image/png"/>
  <Override PartName="/ppt/media/image2.wmf" ContentType="image/x-wmf"/>
  <Override PartName="/ppt/media/image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14.jpeg" ContentType="image/jpeg"/>
  <Override PartName="/ppt/media/image8.png" ContentType="image/png"/>
  <Override PartName="/ppt/media/image12.wmf" ContentType="image/x-wmf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1" initials="1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2-02T20:16:48.031000000" idx="1">
    <p:pos x="10" y="10"/>
    <p:text/>
  </p:cm>
  <p:cm authorId="0" dt="2007-12-02T20:17:02.031000000" idx="2">
    <p:pos x="4593" y="-135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0A63-4EB5-45CE-9E80-951BF53B1C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2FE0-2D83-4896-AAFA-7BBD120683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AB7B-B463-422E-B040-1D1B15E1C5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79E4-9B03-4D18-AF57-21F180D3B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D647-76BE-42C5-B13A-0B49C403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33CC-E4C2-4F53-B44D-BE4B6C500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77DD-9CCA-4E26-8A7D-ABCE8A3B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C477-5BD3-4EA2-A8EC-86DE7BCAF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59A4-8994-49F4-8407-C891F303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8B8E-6E5D-4FAE-9BE4-00300200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0F3F-C6FC-4195-B436-B1253AB3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6E37-0614-4099-BD97-FFE2E85A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E288-DD12-4E76-96E3-8DA4301F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C739-6358-4CB8-AB0A-FF008597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701B-838B-4D01-BA7A-B86A07E4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1A3A-0824-442F-8EFA-E6586268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48F6-5D58-4832-ABA3-0A2D7568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ABF2-A669-415D-A104-E6B8AA11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0AA7-14E7-4C53-8644-2D33316C3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C8E0-BEBC-4715-A346-3DE120B5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B59E06-7DF9-420A-A477-7D4586BBF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B07686-4F03-4D4B-A52A-648F8047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1471A1-5273-435C-B02F-DF5C3DBF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7ED3DA-8546-4DDB-AD54-BF041BF4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C03833-D04C-4BC9-B6A1-721B5E53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1B2F-D010-4EED-B4EF-0EDEBA4F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378467-2CFD-4919-98D5-19115D6F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7E6BE4-6487-4ED7-8698-D79EEFE5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B6CB8E-0272-4364-82A1-660A2B97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6A6123-5051-40D1-93D4-9E84A2C2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1627CA-CE20-486B-ADFF-206A282C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B29E85-F63E-40EF-BE76-91C8E3A73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ECBDDF-3D44-438D-823C-E7EA172CC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56DEF0-0BA0-48DB-B64D-9FAF144FA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F7DEC5-B5B5-4132-A704-6B71E5C9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A48B8D-E9C5-42EE-A4D7-7532DB2B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97C2-8E81-45C6-9B11-17A0817E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985473-87DA-4149-B0D5-0518FB9C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73F4A4-C1D5-4418-9CB4-26D7AC11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6BFEBD-6A1D-4E38-8B77-68ECDC89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BD59D3-5DCC-4E48-A440-0945DFF3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F7259F-46BE-41C6-90AD-9B1C2342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50BE1C-9981-4CC6-AD5F-BA47C835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98C4C2-6ED0-41BC-9F9B-DA187338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E586C0-8D86-40A3-AEB7-FAAE82118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EE0823-1D2A-4B0A-92A9-58A524A6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2318E8-ABD1-4D55-BAC6-14AD5FD85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28F8-95A5-4C6F-A574-F596FBED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12E326-66E6-4DC5-802E-E9818FCF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1B98F3-F8A8-4044-B1E6-B956BE33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655438-751D-4E40-AABA-883ED325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A1DF70-7857-4245-9E3D-FE312465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306294-FF10-4C42-861E-55DD59E2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43442E-0431-41B1-AA35-1B1A378F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7D95C9-745C-4FF5-A6FD-64C18D0C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CE20E1-4590-4009-8A70-8261C1F5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8182A3-6E34-4905-A411-BA30DB1B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147875-FA0B-4F00-84A4-01C8182AE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6D58-7869-439C-B91C-483BA2F1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D481D3-189F-4DC5-BF6B-0B78A825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40D167-4C66-41A0-90DB-5D32922D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2E1E80-D0EB-4BB8-98EC-BEBCCBF5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F5AA35-D24D-4412-9962-61ACADEC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0A784B-A4D7-4342-A948-EEE2663F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CF5251-E79D-4809-A9A6-9B1DC460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02ED0C-C853-4F32-B9C1-1A65B924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159524-1F65-481F-9509-226C8360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98411B-239D-4600-A761-94F13FF2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E0F803-FA61-4959-B812-F989B750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A51E-527B-4F3E-AA5D-66075993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EDB9FF-C126-48D3-8860-A3F5BA9A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D861F5-8871-40C6-AC51-C56B1B00B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F7E0DA-E062-49F4-B238-BDF8DB47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37CF-A59B-443C-80FB-1ABB034A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482A-2506-4CA9-BF0C-5744A91C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551A-5CE7-4306-8F46-9442F48E29D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A1D8-17A5-4D53-B493-338D0E97067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9456-8A04-48BE-B199-FEC46AAD86D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B1C7-CC9C-4D74-8DFC-7E53221AA79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781E-26BE-47D9-BF23-38998C874F7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C8F0-5840-4DCB-BD0E-B484B0A87E3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928880" y="1356840"/>
            <a:ext cx="6027840" cy="35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r>
              <a:rPr b="1" lang="en-US" sz="1300" spc="-1" strike="noStrike">
                <a:solidFill>
                  <a:srgbClr val="00b050"/>
                </a:solidFill>
                <a:latin typeface="Century Schoolbook"/>
              </a:rPr>
              <a:t> </a:t>
            </a: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Урок-размышление по рассказу Е.И.Носова «Кукла»</a:t>
            </a:r>
            <a:br>
              <a:rPr sz="1300"/>
            </a:br>
            <a:br>
              <a:rPr sz="13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20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725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Century Schoolbook"/>
              </a:rPr>
              <a:t>КАКИМ ЧУВСТВОМ ПЕРЕПОЛНЕНО СЕРДЦЕ                               АКИМЫЧА?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Сердце 2"/>
          <p:cNvSpPr/>
          <p:nvPr/>
        </p:nvSpPr>
        <p:spPr>
          <a:xfrm>
            <a:off x="3000240" y="1785960"/>
            <a:ext cx="2643480" cy="3286080"/>
          </a:xfrm>
          <a:prstGeom prst="pie">
            <a:avLst/>
          </a:prstGeom>
          <a:solidFill>
            <a:srgbClr val="ff00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Схема 3" descr=""/>
          <p:cNvPicPr/>
          <p:nvPr/>
        </p:nvPicPr>
        <p:blipFill>
          <a:blip r:embed="rId2"/>
          <a:stretch/>
        </p:blipFill>
        <p:spPr>
          <a:xfrm>
            <a:off x="1517760" y="1390680"/>
            <a:ext cx="6108480" cy="4076640"/>
          </a:xfrm>
          <a:prstGeom prst="rect">
            <a:avLst/>
          </a:prstGeom>
          <a:ln w="0">
            <a:noFill/>
          </a:ln>
        </p:spPr>
      </p:pic>
      <p:pic>
        <p:nvPicPr>
          <p:cNvPr id="355" name="Схема 4" descr=""/>
          <p:cNvPicPr/>
          <p:nvPr/>
        </p:nvPicPr>
        <p:blipFill>
          <a:blip r:embed="rId3"/>
          <a:stretch/>
        </p:blipFill>
        <p:spPr>
          <a:xfrm>
            <a:off x="250920" y="487440"/>
            <a:ext cx="829620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entury Schoolbook"/>
              </a:rPr>
              <a:t>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Прямоугольник 37"/>
          <p:cNvSpPr/>
          <p:nvPr/>
        </p:nvSpPr>
        <p:spPr>
          <a:xfrm>
            <a:off x="3357720" y="398304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Люб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Схема 45" descr=""/>
          <p:cNvPicPr/>
          <p:nvPr/>
        </p:nvPicPr>
        <p:blipFill>
          <a:blip r:embed="rId2"/>
          <a:stretch/>
        </p:blipFill>
        <p:spPr>
          <a:xfrm>
            <a:off x="-2292480" y="-6480"/>
            <a:ext cx="12941280" cy="6870960"/>
          </a:xfrm>
          <a:prstGeom prst="rect">
            <a:avLst/>
          </a:prstGeom>
          <a:ln w="0">
            <a:noFill/>
          </a:ln>
        </p:spPr>
      </p:pic>
      <p:sp>
        <p:nvSpPr>
          <p:cNvPr id="359" name="Прямоугольник 46"/>
          <p:cNvSpPr/>
          <p:nvPr/>
        </p:nvSpPr>
        <p:spPr>
          <a:xfrm>
            <a:off x="2286000" y="4500720"/>
            <a:ext cx="43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Люб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                                                      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ЖИЗНЬ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Сердце 70"/>
          <p:cNvSpPr/>
          <p:nvPr/>
        </p:nvSpPr>
        <p:spPr>
          <a:xfrm>
            <a:off x="3000240" y="1785960"/>
            <a:ext cx="2643480" cy="3286080"/>
          </a:xfrm>
          <a:prstGeom prst="pie">
            <a:avLst/>
          </a:prstGeom>
          <a:solidFill>
            <a:srgbClr val="ff00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C:\Program Files\Microsoft Office\MEDIA\CAGCAT10\j0240719.wmf"/>
          <p:cNvPicPr/>
          <p:nvPr/>
        </p:nvPicPr>
        <p:blipFill>
          <a:blip r:embed="rId3"/>
          <a:stretch/>
        </p:blipFill>
        <p:spPr>
          <a:xfrm>
            <a:off x="6572160" y="0"/>
            <a:ext cx="1163880" cy="18273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9" descr="C:\Program Files\Microsoft Office\MEDIA\CAGCAT10\j0304933.wmf"/>
          <p:cNvPicPr/>
          <p:nvPr/>
        </p:nvPicPr>
        <p:blipFill>
          <a:blip r:embed="rId4"/>
          <a:stretch/>
        </p:blipFill>
        <p:spPr>
          <a:xfrm>
            <a:off x="6507000" y="4145040"/>
            <a:ext cx="1819440" cy="16682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0" descr="C:\Program Files\Microsoft Office\MEDIA\CAGCAT10\j0090386.wmf"/>
          <p:cNvPicPr/>
          <p:nvPr/>
        </p:nvPicPr>
        <p:blipFill>
          <a:blip r:embed="rId5"/>
          <a:stretch/>
        </p:blipFill>
        <p:spPr>
          <a:xfrm>
            <a:off x="214200" y="0"/>
            <a:ext cx="2086200" cy="1785960"/>
          </a:xfrm>
          <a:prstGeom prst="rect">
            <a:avLst/>
          </a:prstGeom>
          <a:ln w="0">
            <a:noFill/>
          </a:ln>
        </p:spPr>
      </p:pic>
      <p:sp>
        <p:nvSpPr>
          <p:cNvPr id="364" name="plant"/>
          <p:cNvSpPr/>
          <p:nvPr/>
        </p:nvSpPr>
        <p:spPr>
          <a:xfrm>
            <a:off x="714240" y="478620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43800" cy="3938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Давайте поразмышляем.</a:t>
            </a:r>
            <a:br>
              <a:rPr sz="2800"/>
            </a:b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 Сегодня истерзана кукла, и все прошло безнаказанно, а завтра…</a:t>
            </a: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Акимыч несет куклу закапывать. Почему он это делает?</a:t>
            </a:r>
            <a:r>
              <a:rPr b="1" lang="ru-RU" sz="26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2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0920" y="2565360"/>
            <a:ext cx="817236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«Не бойся врага своего, в худшем случае он может убить. Не бойся друга своего, в худшем случае он может предать. Бойся равнодушных, они не убивают и не предают, но только с их молчаливого согласия существуют на земле предательство и убийство».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Бруно Ясенский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28036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ДАВАЙТЕ СОЗДАДИМ ДЕРЕВО ДОБРА,</a:t>
            </a:r>
            <a:br>
              <a:rPr sz="2400"/>
            </a:b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ПЛОДЫ КАКИХ ЧЕЛОВЕЧЕСКИХ  КАЧЕСТВ ВЫ РАЗМЕСТИТЕ НА НЁМ?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8" name="Рисунок 4" descr="img240_0.tmp"/>
          <p:cNvPicPr/>
          <p:nvPr/>
        </p:nvPicPr>
        <p:blipFill>
          <a:blip r:embed="rId2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Рисунок 4" descr="img240_0.tmp"/>
          <p:cNvPicPr/>
          <p:nvPr/>
        </p:nvPicPr>
        <p:blipFill>
          <a:blip r:embed="rId2"/>
          <a:stretch/>
        </p:blipFill>
        <p:spPr>
          <a:xfrm>
            <a:off x="0" y="0"/>
            <a:ext cx="9144000" cy="714384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13" descr="img240_0.tmp"/>
          <p:cNvPicPr/>
          <p:nvPr/>
        </p:nvPicPr>
        <p:blipFill>
          <a:blip r:embed="rId3"/>
          <a:stretch/>
        </p:blipFill>
        <p:spPr>
          <a:xfrm>
            <a:off x="3571920" y="1071720"/>
            <a:ext cx="1357200" cy="135720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13" descr="img240_0.tmp"/>
          <p:cNvPicPr/>
          <p:nvPr/>
        </p:nvPicPr>
        <p:blipFill>
          <a:blip r:embed="rId4"/>
          <a:stretch/>
        </p:blipFill>
        <p:spPr>
          <a:xfrm>
            <a:off x="1785960" y="1428840"/>
            <a:ext cx="1357200" cy="114300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13" descr="img240_0.tmp"/>
          <p:cNvPicPr/>
          <p:nvPr/>
        </p:nvPicPr>
        <p:blipFill>
          <a:blip r:embed="rId5"/>
          <a:stretch/>
        </p:blipFill>
        <p:spPr>
          <a:xfrm>
            <a:off x="5214960" y="2357280"/>
            <a:ext cx="1411200" cy="121464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13" descr="img240_0.tmp"/>
          <p:cNvPicPr/>
          <p:nvPr/>
        </p:nvPicPr>
        <p:blipFill>
          <a:blip r:embed="rId6"/>
          <a:stretch/>
        </p:blipFill>
        <p:spPr>
          <a:xfrm>
            <a:off x="3786120" y="2571840"/>
            <a:ext cx="1339920" cy="114300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13" descr="img240_0.tmp"/>
          <p:cNvPicPr/>
          <p:nvPr/>
        </p:nvPicPr>
        <p:blipFill>
          <a:blip r:embed="rId7"/>
          <a:stretch/>
        </p:blipFill>
        <p:spPr>
          <a:xfrm>
            <a:off x="6715080" y="2071800"/>
            <a:ext cx="1428840" cy="121428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8"/>
          <p:cNvSpPr/>
          <p:nvPr/>
        </p:nvSpPr>
        <p:spPr>
          <a:xfrm>
            <a:off x="1714680" y="601488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ДОБРО                                             ЧЕЛОВЕ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9"/>
          <p:cNvSpPr/>
          <p:nvPr/>
        </p:nvSpPr>
        <p:spPr>
          <a:xfrm>
            <a:off x="4165560" y="307188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С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10"/>
          <p:cNvSpPr/>
          <p:nvPr/>
        </p:nvSpPr>
        <p:spPr>
          <a:xfrm>
            <a:off x="2428920" y="3244680"/>
            <a:ext cx="25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В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11"/>
          <p:cNvSpPr/>
          <p:nvPr/>
        </p:nvSpPr>
        <p:spPr>
          <a:xfrm>
            <a:off x="5357880" y="28576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ЛЮБ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12"/>
          <p:cNvSpPr/>
          <p:nvPr/>
        </p:nvSpPr>
        <p:spPr>
          <a:xfrm>
            <a:off x="3500280" y="164304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ПРОЩ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13"/>
          <p:cNvSpPr/>
          <p:nvPr/>
        </p:nvSpPr>
        <p:spPr>
          <a:xfrm>
            <a:off x="5429160" y="13572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ИСТ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14"/>
          <p:cNvSpPr/>
          <p:nvPr/>
        </p:nvSpPr>
        <p:spPr>
          <a:xfrm>
            <a:off x="6929280" y="257184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15"/>
          <p:cNvSpPr/>
          <p:nvPr/>
        </p:nvSpPr>
        <p:spPr>
          <a:xfrm>
            <a:off x="1714680" y="18572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НАДЕЖ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16"/>
          <p:cNvSpPr/>
          <p:nvPr/>
        </p:nvSpPr>
        <p:spPr>
          <a:xfrm>
            <a:off x="7000920" y="264312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милосерд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Рисунок 13" descr="img240_0.tmp"/>
          <p:cNvPicPr/>
          <p:nvPr/>
        </p:nvPicPr>
        <p:blipFill>
          <a:blip r:embed="rId8"/>
          <a:stretch/>
        </p:blipFill>
        <p:spPr>
          <a:xfrm>
            <a:off x="785880" y="2571840"/>
            <a:ext cx="1411200" cy="121428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оугольник 18"/>
          <p:cNvSpPr/>
          <p:nvPr/>
        </p:nvSpPr>
        <p:spPr>
          <a:xfrm>
            <a:off x="571680" y="300024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состр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C:\Program Files\Microsoft Office\MEDIA\OFFICE12\Bullets\BD21298_.gif"/>
          <p:cNvPicPr/>
          <p:nvPr/>
        </p:nvPicPr>
        <p:blipFill>
          <a:blip r:embed="rId9"/>
          <a:stretch/>
        </p:blipFill>
        <p:spPr>
          <a:xfrm flipH="1" rot="18514800">
            <a:off x="2469960" y="4836600"/>
            <a:ext cx="2143080" cy="3466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C:\Program Files\Microsoft Office\MEDIA\OFFICE12\Bullets\BD21298_.gif"/>
          <p:cNvPicPr/>
          <p:nvPr/>
        </p:nvPicPr>
        <p:blipFill>
          <a:blip r:embed="rId10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C:\Program Files\Microsoft Office\MEDIA\OFFICE12\Bullets\BD21298_.gif"/>
          <p:cNvPicPr/>
          <p:nvPr/>
        </p:nvPicPr>
        <p:blipFill>
          <a:blip r:embed="rId11"/>
          <a:stretch/>
        </p:blipFill>
        <p:spPr>
          <a:xfrm flipH="1" rot="12790800">
            <a:off x="3979440" y="4707720"/>
            <a:ext cx="244476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Прямоугольник 2"/>
          <p:cNvSpPr/>
          <p:nvPr/>
        </p:nvSpPr>
        <p:spPr>
          <a:xfrm>
            <a:off x="428760" y="428760"/>
            <a:ext cx="7929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Arial"/>
              </a:rPr>
              <a:t>Вывод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Arial"/>
              </a:rPr>
              <a:t>-Быть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человеком на земле</a:t>
            </a:r>
            <a:r>
              <a:rPr b="0" lang="en-US" sz="4000" spc="-1" strike="noStrike">
                <a:solidFill>
                  <a:srgbClr val="7030a0"/>
                </a:solidFill>
                <a:latin typeface="Arial"/>
              </a:rPr>
              <a:t>, быть добры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сыном земли</a:t>
            </a:r>
            <a:r>
              <a:rPr b="0" lang="en-US" sz="4000" spc="-1" strike="noStrike">
                <a:solidFill>
                  <a:srgbClr val="7030a0"/>
                </a:solidFill>
                <a:latin typeface="Arial"/>
              </a:rPr>
              <a:t>, любить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все живое</a:t>
            </a:r>
            <a:r>
              <a:rPr b="0" lang="en-US" sz="4000" spc="-1" strike="noStrike">
                <a:solidFill>
                  <a:srgbClr val="7030a0"/>
                </a:solidFill>
                <a:latin typeface="Arial"/>
              </a:rPr>
              <a:t>, помогать всему, что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живет на земле</a:t>
            </a:r>
            <a:r>
              <a:rPr b="0" lang="en-US" sz="4000" spc="-1" strike="noStrike">
                <a:solidFill>
                  <a:srgbClr val="7030a0"/>
                </a:solidFill>
                <a:latin typeface="Arial"/>
              </a:rPr>
              <a:t>, - таков урок этого произведени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9640" y="3357720"/>
            <a:ext cx="8043840" cy="22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ЦЕЛИ И ЗАДАЧИ УРОКА. </a:t>
            </a:r>
            <a:br>
              <a:rPr sz="2700"/>
            </a:br>
            <a:r>
              <a:rPr b="0" lang="ru-RU" sz="2700" spc="-1" strike="noStrike">
                <a:solidFill>
                  <a:srgbClr val="3668c4"/>
                </a:solidFill>
                <a:latin typeface="Century Schoolbook"/>
              </a:rPr>
              <a:t>СОЗДАТЬ УСЛОВИЯ ДЛЯ </a:t>
            </a: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:</a:t>
            </a:r>
            <a:br>
              <a:rPr sz="2700"/>
            </a:br>
            <a:br>
              <a:rPr sz="2700"/>
            </a:b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1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. становления рефлексивного, творческого, нравственного отношения учащихся к  собственной жизни;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2. развития ключевых компетентностей;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3. открытости, доброжелательности, сотворчества в общении, формировать умение отстаивать свою позицию.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920" y="4220640"/>
            <a:ext cx="7215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РЕФЛЕКСИЯ</a:t>
            </a:r>
            <a:br>
              <a:rPr sz="2400"/>
            </a:br>
            <a:br>
              <a:rPr sz="2000"/>
            </a:br>
            <a:r>
              <a:rPr b="1" lang="en-US" sz="2000" spc="-1" strike="noStrike">
                <a:solidFill>
                  <a:srgbClr val="7030a0"/>
                </a:solidFill>
                <a:latin typeface="Century Schoolbook"/>
              </a:rPr>
              <a:t>КАКИЕ МЫСЛИ ВОЗНИКЛИ У ВАС </a:t>
            </a:r>
            <a:br>
              <a:rPr sz="2000"/>
            </a:br>
            <a:r>
              <a:rPr b="1" lang="en-US" sz="2000" spc="-1" strike="noStrike">
                <a:solidFill>
                  <a:srgbClr val="7030a0"/>
                </a:solidFill>
                <a:latin typeface="Century Schoolbook"/>
              </a:rPr>
              <a:t>ПОСЛЕ НАШЕГО РАЗГОВОРА? </a:t>
            </a:r>
            <a:br>
              <a:rPr sz="2000"/>
            </a:br>
            <a:r>
              <a:rPr b="0" i="1" lang="en-US" sz="2000" spc="-1" strike="noStrike">
                <a:solidFill>
                  <a:srgbClr val="ff0000"/>
                </a:solidFill>
                <a:latin typeface="Century Schoolbook"/>
              </a:rPr>
              <a:t>                 </a:t>
            </a:r>
            <a:br>
              <a:rPr sz="2000"/>
            </a:br>
            <a:r>
              <a:rPr b="0" lang="en-US" sz="20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entury Schoolbook"/>
              </a:rPr>
              <a:t>ДОМАШНЕЕ ЗАДАНИЕ. </a:t>
            </a:r>
            <a:br>
              <a:rPr sz="2000"/>
            </a:br>
            <a:r>
              <a:rPr b="0" lang="en-US" sz="2000" spc="-1" strike="noStrike">
                <a:solidFill>
                  <a:srgbClr val="575f6d"/>
                </a:solidFill>
                <a:latin typeface="Century Schoolbook"/>
              </a:rPr>
              <a:t>1.РИСУНКИ К РАССКАЗУ,</a:t>
            </a:r>
            <a:br>
              <a:rPr sz="2000"/>
            </a:br>
            <a:r>
              <a:rPr b="0" lang="en-US" sz="2000" spc="-1" strike="noStrike">
                <a:solidFill>
                  <a:srgbClr val="575f6d"/>
                </a:solidFill>
                <a:latin typeface="Century Schoolbook"/>
              </a:rPr>
              <a:t>2.ХАРАКТЕРИСТИКА АКИМЫЧА</a:t>
            </a:r>
            <a:br>
              <a:rPr sz="2000"/>
            </a:br>
            <a:r>
              <a:rPr b="0" lang="en-US" sz="2000" spc="-1" strike="noStrike">
                <a:solidFill>
                  <a:srgbClr val="575f6d"/>
                </a:solidFill>
                <a:latin typeface="Century Schoolbook"/>
              </a:rPr>
              <a:t>3.НАПИШИТЕ «ПИСЬМО ЛЮДЯМ ОТ ИМЕНИ ИГРУШКИ»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Сердце 2"/>
          <p:cNvSpPr/>
          <p:nvPr/>
        </p:nvSpPr>
        <p:spPr>
          <a:xfrm>
            <a:off x="5508720" y="549360"/>
            <a:ext cx="3132000" cy="3430440"/>
          </a:xfrm>
          <a:prstGeom prst="pie">
            <a:avLst/>
          </a:prstGeom>
          <a:solidFill>
            <a:srgbClr val="ffff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Century Schoolbook"/>
              </a:rPr>
              <a:t>Напишите мини-сочинение,                                                      стихотворение, синквейн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Улыбающееся лицо 4"/>
          <p:cNvSpPr/>
          <p:nvPr/>
        </p:nvSpPr>
        <p:spPr>
          <a:xfrm>
            <a:off x="6215040" y="5857920"/>
            <a:ext cx="914400" cy="64296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-252360" y="-3240"/>
            <a:ext cx="9793080" cy="68612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85800" y="1295280"/>
            <a:ext cx="3809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«Старая мудрость говорит: не плачьте о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умершем – плачьте о потерявшем душу и совест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. Распут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00600" y="3352680"/>
            <a:ext cx="2971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«Возлюби ближнего своего, как самого себ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ибл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Рисунок 3" descr="Воскрешение Господа Иисуса Христа..jpg"/>
          <p:cNvPicPr/>
          <p:nvPr/>
        </p:nvPicPr>
        <p:blipFill>
          <a:blip r:embed="rId3"/>
          <a:srcRect l="0" t="0" r="0" b="31543"/>
          <a:stretch/>
        </p:blipFill>
        <p:spPr>
          <a:xfrm>
            <a:off x="5181480" y="609480"/>
            <a:ext cx="2543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Схема 1" descr=""/>
          <p:cNvPicPr/>
          <p:nvPr/>
        </p:nvPicPr>
        <p:blipFill>
          <a:blip r:embed="rId2"/>
          <a:stretch/>
        </p:blipFill>
        <p:spPr>
          <a:xfrm>
            <a:off x="1420920" y="682560"/>
            <a:ext cx="7229520" cy="620568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8501040" cy="6215040"/>
          </a:xfrm>
          <a:prstGeom prst="rect">
            <a:avLst/>
          </a:prstGeom>
          <a:noFill/>
          <a:ln w="9360">
            <a:solidFill>
              <a:srgbClr val="2c303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.</a:t>
            </a:r>
            <a:r>
              <a:rPr b="0" lang="ru-RU" sz="2700" spc="-1" strike="noStrike" u="sng">
                <a:solidFill>
                  <a:srgbClr val="ff0000"/>
                </a:solidFill>
                <a:uFillTx/>
                <a:latin typeface="Century Schoolbook"/>
              </a:rPr>
              <a:t> СТАДИЯ ВЫЗОВА </a:t>
            </a: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 СОСТАВЛЕНИЕ КЛАСТЕРА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ПРОВЕРИМ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30" name="Схема 4" descr=""/>
          <p:cNvPicPr/>
          <p:nvPr/>
        </p:nvPicPr>
        <p:blipFill>
          <a:blip r:embed="rId2"/>
          <a:stretch/>
        </p:blipFill>
        <p:spPr>
          <a:xfrm>
            <a:off x="1517760" y="-42840"/>
            <a:ext cx="7272360" cy="6980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entury Schoolbook"/>
              </a:rPr>
              <a:t>СЛОВАРНАЯ РАБОТА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668c4"/>
                </a:solidFill>
                <a:latin typeface="Century Schoolbook"/>
              </a:rPr>
              <a:t>СОСТРАДАНИЕ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668c4"/>
                </a:solidFill>
                <a:latin typeface="Century Schoolbook"/>
              </a:rPr>
              <a:t>ПРАВЕДНИК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668c4"/>
                </a:solidFill>
                <a:latin typeface="Century Schoolbook"/>
              </a:rPr>
              <a:t>МИЛОСЕРДИЕ</a:t>
            </a:r>
            <a:r>
              <a:rPr b="1" lang="en-US" sz="17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668c4"/>
                </a:solidFill>
                <a:latin typeface="Century Schoolbook"/>
              </a:rPr>
              <a:t>юродивый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684360" y="476280"/>
            <a:ext cx="4105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Добро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все положительное, хорошее, полез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Милосердие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готовность помочь кому-нибудь или простить кого-нибудь из сострадания, человеколюб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3"/>
          <p:cNvSpPr/>
          <p:nvPr/>
        </p:nvSpPr>
        <p:spPr>
          <a:xfrm>
            <a:off x="4859280" y="476280"/>
            <a:ext cx="396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Зло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нечто дурное, вредное, противоположное доб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Сострадание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жалость, сочувствие, возбуждаемое несчастьем другого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090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Какие пословицы и поговорки вы знаете?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611280" y="1628280"/>
            <a:ext cx="7246800" cy="48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92d05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Игра «Собери пословицу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7120" y="2286000"/>
          <a:ext cx="8286840" cy="4419720"/>
        </p:xfrm>
        <a:graphic>
          <a:graphicData uri="http://schemas.openxmlformats.org/drawingml/2006/table">
            <a:tbl>
              <a:tblPr/>
              <a:tblGrid>
                <a:gridCol w="4143600"/>
                <a:gridCol w="4143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.Добро дел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 словно свету принес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7d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Добро не гор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fc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 не тон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.Добро не умр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 спешить надоб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.Добро пом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 а зло пропад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.Доброе брат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5c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 лучше богат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Е.Доброе де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 ста родствен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Ж.Доброе дело пит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 мягкого пир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.Доброе слово луч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a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 без награды не остан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.Доброму вез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 да дела их жив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.Добрые умираю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 а зло забыв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.Добрый друг луч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1 и разум и те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.Добрый человек прид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ba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 доб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1403280" y="907920"/>
          <a:ext cx="5429160" cy="730080"/>
        </p:xfrm>
        <a:graphic>
          <a:graphicData uri="http://schemas.openxmlformats.org/drawingml/2006/table">
            <a:tbl>
              <a:tblPr/>
              <a:tblGrid>
                <a:gridCol w="452520"/>
                <a:gridCol w="452160"/>
                <a:gridCol w="452520"/>
                <a:gridCol w="452520"/>
                <a:gridCol w="452520"/>
                <a:gridCol w="452160"/>
                <a:gridCol w="452520"/>
                <a:gridCol w="452520"/>
                <a:gridCol w="380880"/>
                <a:gridCol w="500040"/>
                <a:gridCol w="476280"/>
                <a:gridCol w="452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642960" y="1397160"/>
          <a:ext cx="7929720" cy="1960560"/>
        </p:xfrm>
        <a:graphic>
          <a:graphicData uri="http://schemas.openxmlformats.org/drawingml/2006/table">
            <a:tbl>
              <a:tblPr/>
              <a:tblGrid>
                <a:gridCol w="660240"/>
                <a:gridCol w="662040"/>
                <a:gridCol w="660600"/>
                <a:gridCol w="660240"/>
                <a:gridCol w="660600"/>
                <a:gridCol w="661680"/>
                <a:gridCol w="660600"/>
                <a:gridCol w="660240"/>
                <a:gridCol w="660600"/>
                <a:gridCol w="662040"/>
                <a:gridCol w="660240"/>
                <a:gridCol w="660600"/>
              </a:tblGrid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Ж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entury Schoolbook"/>
              </a:rPr>
              <a:t>ПРОВЕРЬ СЕБЯ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2" name="Улыбающееся лицо 4"/>
          <p:cNvSpPr/>
          <p:nvPr/>
        </p:nvSpPr>
        <p:spPr>
          <a:xfrm>
            <a:off x="3857760" y="3786120"/>
            <a:ext cx="128592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Облако 6"/>
          <p:cNvSpPr/>
          <p:nvPr/>
        </p:nvSpPr>
        <p:spPr>
          <a:xfrm>
            <a:off x="6000840" y="3857760"/>
            <a:ext cx="1500120" cy="914400"/>
          </a:xfrm>
          <a:prstGeom prst="pi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entury Schoolbook"/>
              </a:rPr>
              <a:t>РАССКАЗ  Е.Носова «Кукла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95280" y="1628640"/>
            <a:ext cx="79725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Этот рассказ сначала был назван «Акимыч», а потом «Кукла». Почему автор решил изменить название рассказа?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вятотатство – (книжн.) Поругание, оскорбление чего-нибудь заветного, святого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Century Schoolbook"/>
              </a:rPr>
              <a:t>СТАДИЯ ОСМЫСЛЕНИЯ</a:t>
            </a:r>
            <a:br>
              <a:rPr sz="2800"/>
            </a:b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БЕСЕДА ПО ВОПРОСАМ.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7" name=""/>
          <p:cNvSpPr/>
          <p:nvPr/>
        </p:nvSpPr>
        <p:spPr>
          <a:xfrm>
            <a:off x="395280" y="1484280"/>
            <a:ext cx="3384720" cy="1368360"/>
          </a:xfrm>
          <a:prstGeom prst="rect">
            <a:avLst/>
          </a:prstGeom>
          <a:solidFill>
            <a:srgbClr val="7598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то изменило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при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 несколько ле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743120" y="2584440"/>
            <a:ext cx="11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427640" y="1341360"/>
            <a:ext cx="3600360" cy="165600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то такой Акимыч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м он занимается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4000" y="3500280"/>
            <a:ext cx="2735280" cy="2449800"/>
          </a:xfrm>
          <a:prstGeom prst="rect">
            <a:avLst/>
          </a:prstGeom>
          <a:solidFill>
            <a:srgbClr val="aede5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да нас прив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имыч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чему у Акимы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ое отнош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 кукл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564000" y="3402000"/>
            <a:ext cx="4103640" cy="2835360"/>
          </a:xfrm>
          <a:prstGeom prst="roundRect">
            <a:avLst>
              <a:gd name="adj" fmla="val 16667"/>
            </a:avLst>
          </a:prstGeom>
          <a:solidFill>
            <a:srgbClr val="5adc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 чему может приве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внодушие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чему люди оста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езучаст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 преступлению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0:08:41Z</dcterms:created>
  <dc:creator>1</dc:creator>
  <dc:description/>
  <dc:language>en-US</dc:language>
  <cp:lastModifiedBy>User</cp:lastModifiedBy>
  <dcterms:modified xsi:type="dcterms:W3CDTF">2010-04-21T18:48:37Z</dcterms:modified>
  <cp:revision>161</cp:revision>
  <dc:subject/>
  <dc:title>Урок- размышление с использованием технологии развития критического мышления через чтение и письмо»Жить по законам человечности»( по рассказу А.Платонова»Юшка»).</dc:title>
</cp:coreProperties>
</file>