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4.jpeg" ContentType="image/jpeg"/>
  <Override PartName="/ppt/media/image8.png" ContentType="image/png"/>
  <Override PartName="/ppt/media/image12.wmf" ContentType="image/x-wmf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1" initials="1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2-02T20:16:48.031000000" idx="1">
    <p:pos x="10" y="10"/>
    <p:text/>
  </p:cm>
  <p:cm authorId="0" dt="2007-12-02T20:17:02.031000000" idx="2">
    <p:pos x="4593" y="-135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4FF0-BC43-4D2C-BBAD-165CCB0DBA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F13D-9C24-4BDC-9E12-371ECC5E77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F86D-B924-4B9E-BD4E-96584C31B9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D70-FE7F-4068-9ABA-539C25F7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365-B6C2-4E00-B068-130494B6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7992-684C-485C-98FD-883BF030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FE4-14B6-4B07-9BF3-09139ED5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DFB0-3F76-48CD-A2C5-9C130923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2C4D-0B64-48C6-A181-416A4BD8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E9C1-01C2-48E3-BDDB-6DD7E4DB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EE14-C9F7-4934-B49A-597BE0E1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1D7D-5549-4698-B1D2-09EB484B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95FB-448F-4221-8795-5736C336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F0D4-0CD0-4C8C-9B55-172317A7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FAFC-80CB-4D6B-AF48-CD2BD6D2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DE3A-15E2-424B-9D96-F35C3046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67E8-24EE-4D07-9922-9C89812F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0E35-A470-4BA9-9AF4-2BBCFDF1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C258-16D6-4391-80E5-CC78ECE7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A96C-B69E-4452-AE82-4B8C8D22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0480F-1B9A-4DAB-AFBD-69795120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C07AD-09D7-400E-9408-C2C77E7D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6AFC9-9C7E-43A3-B80D-1B21FB05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90A84-7BAC-4F6D-AE03-1A2B168E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2D4B5-3FEF-4104-BE5F-10DC96BF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03FC-9451-4D8D-A771-99805966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33283-7C4F-41C3-AAB5-BC5E39A3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8BBB4-3FE5-4E8F-AC8E-551D5176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5E547-4531-405D-AF8A-F194EA8C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267CA-1E0E-4D47-A081-C46129FA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0A689-9CC2-4E42-A741-811FF9D1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D3A1B-5FE6-4ADC-B6B2-34F40D10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6B186-8347-4625-8BF7-CDEDF1F1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6F49A7-B5CF-4575-A3BA-22C43C0C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5948FD-45D4-4B75-B7FB-5CF241C5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A2081E-8633-4E0C-91E6-31F19019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845-93AF-4073-8E53-0BBA4577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36498-1E11-4F72-9373-3AA00A1F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9F790E-B5F5-45C7-825C-090445B0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1D11C8-722A-437E-8C2F-BD150B5C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D11B48-BECF-40EE-9FE8-1362C985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AB4E7C-6F9C-4D8C-A03E-98351A73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D5A8D3-B958-4EA4-9FF8-D1F6FCC5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02634-9A83-4A86-8D7F-78C9B676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CFAD78-5CEC-408F-93A3-55BB4FCE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9CA29-3A5D-41F6-A715-D7ADD068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9613A-C79E-4301-A0BF-DB318718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0B0-F8B8-4E32-8753-22739B88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8438C4-98C1-4CF0-A0AE-A7EE5F8D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1877D-DEA5-46C3-8E7A-25E6ED01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2D272-3C7A-463E-AC32-D6802572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7D943-C1E7-4399-9AC7-BE7B24E7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9DCFF-D679-4698-9CA2-10EC85D7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9B4291-F0C5-4021-83CF-C3958DFC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8E17E-FB17-46A9-99F8-9E694463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1507E-42F4-4A71-B69D-DFFE335B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0CD6A6-A363-485D-8CD8-D59804A7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BC42D-A4DF-452E-B640-B7194FE5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82C-E58D-4C15-9308-C093E4C8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BDD5F8-A1C0-4DDB-89F8-0B4D867A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8249B-951C-4442-A718-AB6AA45E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03077D-BF7C-4656-AE74-FAA1FAED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10107-835F-4BC8-B28D-66DB864A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4CB930-4B0A-4B6E-AF68-8D405E18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8F2669-A336-4292-8F91-F04024EA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2616A-1CCD-44EB-A6E2-3AB9EA1A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F733F-8EE0-449D-8B07-E749A3CC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AB854E-0B46-4BDA-9873-D9302B17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11243B-F985-47C7-B2D3-3AB42E13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1AB-244B-4732-92C0-7799709C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11CBE2-2CFC-4131-BF95-6C7FB163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1177EF-7684-419C-BA0E-7B067796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F087D-A9B0-4A9E-92D2-22AE8DE5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B30C-0DAC-4343-925F-7A3142B6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173-0140-4272-8164-C5901655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773E-BC06-4499-8675-3CC1427A25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4A3D-3176-4162-B5E8-C818769D0C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2D7F-FDAC-4283-B3C9-DB7A7D8571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6C6C-20D4-4024-A0D5-9BDC7AD78F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CD7E-5777-4BB2-8ABA-6CCEE316A5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548B-EF08-4286-AA6F-816E72ECF9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28880" y="1356840"/>
            <a:ext cx="6027840" cy="35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1" lang="en-US" sz="1300" spc="-1" strike="noStrike">
                <a:solidFill>
                  <a:srgbClr val="00b050"/>
                </a:solidFill>
                <a:latin typeface="Century Schoolbook"/>
              </a:rPr>
              <a:t> </a:t>
            </a: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Урок-размышление по рассказу Е.И.Носова «Кукла»</a:t>
            </a:r>
            <a:br>
              <a:rPr sz="1300"/>
            </a:br>
            <a:br>
              <a:rPr sz="13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2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72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entury Schoolbook"/>
              </a:rPr>
              <a:t>КАКИМ ЧУВСТВОМ ПЕРЕПОЛНЕНО СЕРДЦЕ                               АКИМЫЧА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Сердце 2"/>
          <p:cNvSpPr/>
          <p:nvPr/>
        </p:nvSpPr>
        <p:spPr>
          <a:xfrm>
            <a:off x="3000240" y="1785960"/>
            <a:ext cx="2643480" cy="3286080"/>
          </a:xfrm>
          <a:prstGeom prst="pie">
            <a:avLst/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Схема 3" descr=""/>
          <p:cNvPicPr/>
          <p:nvPr/>
        </p:nvPicPr>
        <p:blipFill>
          <a:blip r:embed="rId2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  <p:pic>
        <p:nvPicPr>
          <p:cNvPr id="355" name="Схема 4" descr=""/>
          <p:cNvPicPr/>
          <p:nvPr/>
        </p:nvPicPr>
        <p:blipFill>
          <a:blip r:embed="rId3"/>
          <a:stretch/>
        </p:blipFill>
        <p:spPr>
          <a:xfrm>
            <a:off x="250920" y="487440"/>
            <a:ext cx="829620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Прямоугольник 37"/>
          <p:cNvSpPr/>
          <p:nvPr/>
        </p:nvSpPr>
        <p:spPr>
          <a:xfrm>
            <a:off x="3357720" y="3983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Люб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Схема 45" descr=""/>
          <p:cNvPicPr/>
          <p:nvPr/>
        </p:nvPicPr>
        <p:blipFill>
          <a:blip r:embed="rId2"/>
          <a:stretch/>
        </p:blipFill>
        <p:spPr>
          <a:xfrm>
            <a:off x="-2292480" y="-6480"/>
            <a:ext cx="12941280" cy="687096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46"/>
          <p:cNvSpPr/>
          <p:nvPr/>
        </p:nvSpPr>
        <p:spPr>
          <a:xfrm>
            <a:off x="2286000" y="450072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Люб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                                                     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ЖИЗН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ердце 70"/>
          <p:cNvSpPr/>
          <p:nvPr/>
        </p:nvSpPr>
        <p:spPr>
          <a:xfrm>
            <a:off x="3000240" y="1785960"/>
            <a:ext cx="2643480" cy="3286080"/>
          </a:xfrm>
          <a:prstGeom prst="pie">
            <a:avLst/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C:\Program Files\Microsoft Office\MEDIA\CAGCAT10\j0240719.wmf"/>
          <p:cNvPicPr/>
          <p:nvPr/>
        </p:nvPicPr>
        <p:blipFill>
          <a:blip r:embed="rId3"/>
          <a:stretch/>
        </p:blipFill>
        <p:spPr>
          <a:xfrm>
            <a:off x="6572160" y="0"/>
            <a:ext cx="1163880" cy="1827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9" descr="C:\Program Files\Microsoft Office\MEDIA\CAGCAT10\j0304933.wmf"/>
          <p:cNvPicPr/>
          <p:nvPr/>
        </p:nvPicPr>
        <p:blipFill>
          <a:blip r:embed="rId4"/>
          <a:stretch/>
        </p:blipFill>
        <p:spPr>
          <a:xfrm>
            <a:off x="6507000" y="4145040"/>
            <a:ext cx="1819440" cy="16682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C:\Program Files\Microsoft Office\MEDIA\CAGCAT10\j0090386.wmf"/>
          <p:cNvPicPr/>
          <p:nvPr/>
        </p:nvPicPr>
        <p:blipFill>
          <a:blip r:embed="rId5"/>
          <a:stretch/>
        </p:blipFill>
        <p:spPr>
          <a:xfrm>
            <a:off x="214200" y="0"/>
            <a:ext cx="2086200" cy="1785960"/>
          </a:xfrm>
          <a:prstGeom prst="rect">
            <a:avLst/>
          </a:prstGeom>
          <a:ln w="0">
            <a:noFill/>
          </a:ln>
        </p:spPr>
      </p:pic>
      <p:sp>
        <p:nvSpPr>
          <p:cNvPr id="364" name="plant"/>
          <p:cNvSpPr/>
          <p:nvPr/>
        </p:nvSpPr>
        <p:spPr>
          <a:xfrm>
            <a:off x="714240" y="47862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43800" cy="3938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Давайте поразмышляем.</a:t>
            </a:r>
            <a:br>
              <a:rPr sz="2800"/>
            </a:b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 Сегодня истерзана кукла, и все прошло безнаказанно, а завтра…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Акимыч несет куклу закапывать. Почему он это делает?</a:t>
            </a:r>
            <a:r>
              <a:rPr b="1" lang="ru-RU" sz="2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0920" y="2565360"/>
            <a:ext cx="8172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«Не бойся врага своего, в худшем случае он может убить. Не бойся друга своего, в худшем случае он может предать. Бойся равнодушных, они не убивают и не предают, но только с их молчаливого согласия существуют на земле предательство и убийство».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Бруно Ясенски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803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ДАВАЙТЕ СОЗДАДИМ ДЕРЕВО ДОБРА,</a:t>
            </a:r>
            <a:br>
              <a:rPr sz="2400"/>
            </a:b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ПЛОДЫ КАКИХ ЧЕЛОВЕЧЕСКИХ  КАЧЕСТВ ВЫ РАЗМЕСТИТЕ НА НЁМ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Рисунок 4" descr="img240_0.tmp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Рисунок 4" descr="img240_0.tmp"/>
          <p:cNvPicPr/>
          <p:nvPr/>
        </p:nvPicPr>
        <p:blipFill>
          <a:blip r:embed="rId2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13" descr="img240_0.tmp"/>
          <p:cNvPicPr/>
          <p:nvPr/>
        </p:nvPicPr>
        <p:blipFill>
          <a:blip r:embed="rId3"/>
          <a:stretch/>
        </p:blipFill>
        <p:spPr>
          <a:xfrm>
            <a:off x="3571920" y="107172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13" descr="img240_0.tmp"/>
          <p:cNvPicPr/>
          <p:nvPr/>
        </p:nvPicPr>
        <p:blipFill>
          <a:blip r:embed="rId4"/>
          <a:stretch/>
        </p:blipFill>
        <p:spPr>
          <a:xfrm>
            <a:off x="1785960" y="1428840"/>
            <a:ext cx="1357200" cy="114300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13" descr="img240_0.tmp"/>
          <p:cNvPicPr/>
          <p:nvPr/>
        </p:nvPicPr>
        <p:blipFill>
          <a:blip r:embed="rId5"/>
          <a:stretch/>
        </p:blipFill>
        <p:spPr>
          <a:xfrm>
            <a:off x="5214960" y="2357280"/>
            <a:ext cx="1411200" cy="121464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13" descr="img240_0.tmp"/>
          <p:cNvPicPr/>
          <p:nvPr/>
        </p:nvPicPr>
        <p:blipFill>
          <a:blip r:embed="rId6"/>
          <a:stretch/>
        </p:blipFill>
        <p:spPr>
          <a:xfrm>
            <a:off x="3786120" y="2571840"/>
            <a:ext cx="133992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13" descr="img240_0.tmp"/>
          <p:cNvPicPr/>
          <p:nvPr/>
        </p:nvPicPr>
        <p:blipFill>
          <a:blip r:embed="rId7"/>
          <a:stretch/>
        </p:blipFill>
        <p:spPr>
          <a:xfrm>
            <a:off x="6715080" y="2071800"/>
            <a:ext cx="1428840" cy="121428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8"/>
          <p:cNvSpPr/>
          <p:nvPr/>
        </p:nvSpPr>
        <p:spPr>
          <a:xfrm>
            <a:off x="1714680" y="601488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ДОБРО                                             ЧЕЛОВЕ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9"/>
          <p:cNvSpPr/>
          <p:nvPr/>
        </p:nvSpPr>
        <p:spPr>
          <a:xfrm>
            <a:off x="4165560" y="307188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0"/>
          <p:cNvSpPr/>
          <p:nvPr/>
        </p:nvSpPr>
        <p:spPr>
          <a:xfrm>
            <a:off x="2428920" y="3244680"/>
            <a:ext cx="25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В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11"/>
          <p:cNvSpPr/>
          <p:nvPr/>
        </p:nvSpPr>
        <p:spPr>
          <a:xfrm>
            <a:off x="5357880" y="2857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ЛЮБ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12"/>
          <p:cNvSpPr/>
          <p:nvPr/>
        </p:nvSpPr>
        <p:spPr>
          <a:xfrm>
            <a:off x="3500280" y="16430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ПРО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13"/>
          <p:cNvSpPr/>
          <p:nvPr/>
        </p:nvSpPr>
        <p:spPr>
          <a:xfrm>
            <a:off x="5429160" y="13572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ИСТ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14"/>
          <p:cNvSpPr/>
          <p:nvPr/>
        </p:nvSpPr>
        <p:spPr>
          <a:xfrm>
            <a:off x="6929280" y="25718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5"/>
          <p:cNvSpPr/>
          <p:nvPr/>
        </p:nvSpPr>
        <p:spPr>
          <a:xfrm>
            <a:off x="1714680" y="18572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НАД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6"/>
          <p:cNvSpPr/>
          <p:nvPr/>
        </p:nvSpPr>
        <p:spPr>
          <a:xfrm>
            <a:off x="7000920" y="264312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милосерд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Рисунок 13" descr="img240_0.tmp"/>
          <p:cNvPicPr/>
          <p:nvPr/>
        </p:nvPicPr>
        <p:blipFill>
          <a:blip r:embed="rId8"/>
          <a:stretch/>
        </p:blipFill>
        <p:spPr>
          <a:xfrm>
            <a:off x="785880" y="2571840"/>
            <a:ext cx="1411200" cy="121428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18"/>
          <p:cNvSpPr/>
          <p:nvPr/>
        </p:nvSpPr>
        <p:spPr>
          <a:xfrm>
            <a:off x="571680" y="300024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состр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C:\Program Files\Microsoft Office\MEDIA\OFFICE12\Bullets\BD21298_.gif"/>
          <p:cNvPicPr/>
          <p:nvPr/>
        </p:nvPicPr>
        <p:blipFill>
          <a:blip r:embed="rId9"/>
          <a:stretch/>
        </p:blipFill>
        <p:spPr>
          <a:xfrm flipH="1" rot="18514800">
            <a:off x="2469960" y="4836600"/>
            <a:ext cx="2143080" cy="3466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C:\Program Files\Microsoft Office\MEDIA\OFFICE12\Bullets\BD21298_.gif"/>
          <p:cNvPicPr/>
          <p:nvPr/>
        </p:nvPicPr>
        <p:blipFill>
          <a:blip r:embed="rId10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C:\Program Files\Microsoft Office\MEDIA\OFFICE12\Bullets\BD21298_.gif"/>
          <p:cNvPicPr/>
          <p:nvPr/>
        </p:nvPicPr>
        <p:blipFill>
          <a:blip r:embed="rId11"/>
          <a:stretch/>
        </p:blipFill>
        <p:spPr>
          <a:xfrm flipH="1" rot="12790800">
            <a:off x="3979440" y="4707720"/>
            <a:ext cx="244476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2"/>
          <p:cNvSpPr/>
          <p:nvPr/>
        </p:nvSpPr>
        <p:spPr>
          <a:xfrm>
            <a:off x="428760" y="428760"/>
            <a:ext cx="7929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Вывод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-Быть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человеком на земле</a:t>
            </a: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, быть добры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сыном земли</a:t>
            </a: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, любить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се живое</a:t>
            </a: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, помогать всему, что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живет на земле</a:t>
            </a: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, - таков урок этого произведен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3357720"/>
            <a:ext cx="8043840" cy="22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ЦЕЛИ И ЗАДАЧИ УРОКА. </a:t>
            </a:r>
            <a:br>
              <a:rPr sz="2700"/>
            </a:br>
            <a:r>
              <a:rPr b="0" lang="ru-RU" sz="2700" spc="-1" strike="noStrike">
                <a:solidFill>
                  <a:srgbClr val="3668c4"/>
                </a:solidFill>
                <a:latin typeface="Century Schoolbook"/>
              </a:rPr>
              <a:t>СОЗДАТЬ УСЛОВИЯ ДЛЯ 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:</a:t>
            </a:r>
            <a:br>
              <a:rPr sz="2700"/>
            </a:br>
            <a:br>
              <a:rPr sz="27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1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. становления рефлексивного, творческого, нравственного отношения учащихся к  собственной жизни;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2. развития ключевых компетентностей;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3. открытости, доброжелательности, сотворчества в общении, формировать умение отстаивать свою позицию.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4220640"/>
            <a:ext cx="7215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РЕФЛЕКСИЯ</a:t>
            </a:r>
            <a:br>
              <a:rPr sz="2400"/>
            </a:b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Century Schoolbook"/>
              </a:rPr>
              <a:t>КАКИЕ МЫСЛИ ВОЗНИКЛИ У ВАС </a:t>
            </a: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Century Schoolbook"/>
              </a:rPr>
              <a:t>ПОСЛЕ НАШЕГО РАЗГОВОРА? </a:t>
            </a: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Century Schoolbook"/>
              </a:rPr>
              <a:t>                 </a:t>
            </a:r>
            <a:br>
              <a:rPr sz="2000"/>
            </a:br>
            <a:r>
              <a:rPr b="0" lang="en-US" sz="20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entury Schoolbook"/>
              </a:rPr>
              <a:t>ДОМАШНЕЕ ЗАДАНИЕ. </a:t>
            </a:r>
            <a:br>
              <a:rPr sz="2000"/>
            </a:br>
            <a:r>
              <a:rPr b="0" lang="en-US" sz="2000" spc="-1" strike="noStrike">
                <a:solidFill>
                  <a:srgbClr val="575f6d"/>
                </a:solidFill>
                <a:latin typeface="Century Schoolbook"/>
              </a:rPr>
              <a:t>1.РИСУНКИ К РАССКАЗУ,</a:t>
            </a:r>
            <a:br>
              <a:rPr sz="2000"/>
            </a:br>
            <a:r>
              <a:rPr b="0" lang="en-US" sz="2000" spc="-1" strike="noStrike">
                <a:solidFill>
                  <a:srgbClr val="575f6d"/>
                </a:solidFill>
                <a:latin typeface="Century Schoolbook"/>
              </a:rPr>
              <a:t>2.ХАРАКТЕРИСТИКА АКИМЫЧА</a:t>
            </a:r>
            <a:br>
              <a:rPr sz="2000"/>
            </a:br>
            <a:r>
              <a:rPr b="0" lang="en-US" sz="2000" spc="-1" strike="noStrike">
                <a:solidFill>
                  <a:srgbClr val="575f6d"/>
                </a:solidFill>
                <a:latin typeface="Century Schoolbook"/>
              </a:rPr>
              <a:t>3.НАПИШИТЕ «ПИСЬМО ЛЮДЯМ ОТ ИМЕНИ ИГРУШКИ»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Сердце 2"/>
          <p:cNvSpPr/>
          <p:nvPr/>
        </p:nvSpPr>
        <p:spPr>
          <a:xfrm>
            <a:off x="5508720" y="549360"/>
            <a:ext cx="3132000" cy="3430440"/>
          </a:xfrm>
          <a:prstGeom prst="pie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Напишите мини-сочинение,                                                      стихотворение, синквейн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Улыбающееся лицо 4"/>
          <p:cNvSpPr/>
          <p:nvPr/>
        </p:nvSpPr>
        <p:spPr>
          <a:xfrm>
            <a:off x="6215040" y="5857920"/>
            <a:ext cx="914400" cy="64296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-252360" y="-3240"/>
            <a:ext cx="9793080" cy="68612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85800" y="1295280"/>
            <a:ext cx="3809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«Старая мудрость говорит: не плачьте о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умершем – плачьте о потерявшем душу и совес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. Распу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00600" y="3352680"/>
            <a:ext cx="297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«Возлюби ближнего своего, как самого себ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бл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Рисунок 3" descr="Воскрешение Господа Иисуса Христа..jpg"/>
          <p:cNvPicPr/>
          <p:nvPr/>
        </p:nvPicPr>
        <p:blipFill>
          <a:blip r:embed="rId3"/>
          <a:srcRect l="0" t="0" r="0" b="31543"/>
          <a:stretch/>
        </p:blipFill>
        <p:spPr>
          <a:xfrm>
            <a:off x="5181480" y="609480"/>
            <a:ext cx="2543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Схема 1" descr=""/>
          <p:cNvPicPr/>
          <p:nvPr/>
        </p:nvPicPr>
        <p:blipFill>
          <a:blip r:embed="rId2"/>
          <a:stretch/>
        </p:blipFill>
        <p:spPr>
          <a:xfrm>
            <a:off x="1420920" y="682560"/>
            <a:ext cx="7229520" cy="620568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01040" cy="6215040"/>
          </a:xfrm>
          <a:prstGeom prst="rect">
            <a:avLst/>
          </a:prstGeom>
          <a:noFill/>
          <a:ln w="9360">
            <a:solidFill>
              <a:srgbClr val="2c303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.</a:t>
            </a:r>
            <a:r>
              <a:rPr b="0" lang="ru-RU" sz="2700" spc="-1" strike="noStrike" u="sng">
                <a:solidFill>
                  <a:srgbClr val="ff0000"/>
                </a:solidFill>
                <a:uFillTx/>
                <a:latin typeface="Century Schoolbook"/>
              </a:rPr>
              <a:t> СТАДИЯ ВЫЗОВА 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СОСТАВЛЕНИЕ КЛАСТЕР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РОВЕРИМ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30" name="Схема 4" descr=""/>
          <p:cNvPicPr/>
          <p:nvPr/>
        </p:nvPicPr>
        <p:blipFill>
          <a:blip r:embed="rId2"/>
          <a:stretch/>
        </p:blipFill>
        <p:spPr>
          <a:xfrm>
            <a:off x="1517760" y="-42840"/>
            <a:ext cx="7272360" cy="6980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Schoolbook"/>
              </a:rPr>
              <a:t>СЛОВАРНАЯ РАБОТА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668c4"/>
                </a:solidFill>
                <a:latin typeface="Century Schoolbook"/>
              </a:rPr>
              <a:t>СОСТРАДАНИЕ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668c4"/>
                </a:solidFill>
                <a:latin typeface="Century Schoolbook"/>
              </a:rPr>
              <a:t>ПРАВЕДНИК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668c4"/>
                </a:solidFill>
                <a:latin typeface="Century Schoolbook"/>
              </a:rPr>
              <a:t>МИЛОСЕРДИЕ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668c4"/>
                </a:solidFill>
                <a:latin typeface="Century Schoolbook"/>
              </a:rPr>
              <a:t>юродивый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684360" y="476280"/>
            <a:ext cx="4105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Добро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все положительное, хорошее, полез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Милосердие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готовность помочь кому-нибудь или простить кого-нибудь из сострадания, человеколюб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4859280" y="476280"/>
            <a:ext cx="396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Зло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нечто дурное, вредное, противоположное доб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Сострадание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жалость, сочувствие, возбуждаемое несчастьем друго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090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Какие пословицы и поговорки вы знаете?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11280" y="1628280"/>
            <a:ext cx="7246800" cy="48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92d05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Игра «Собери пословицу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7120" y="2286000"/>
          <a:ext cx="8286840" cy="4419720"/>
        </p:xfrm>
        <a:graphic>
          <a:graphicData uri="http://schemas.openxmlformats.org/drawingml/2006/table">
            <a:tbl>
              <a:tblPr/>
              <a:tblGrid>
                <a:gridCol w="4143600"/>
                <a:gridCol w="4143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.Добро дел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 словно свету принес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7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Добро не гор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fc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не то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.Добро не умр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 спешить надоб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.Добро пом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 а зло пропад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.Доброе брат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5c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 лучше богат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.Доброе де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 ста родствен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.Доброе дело пит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 мягкого пир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.Доброе слово луч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a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 без награды не остан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.Доброму вез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 да дела их жив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.Добрые умира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 а зло забыв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.Добрый друг луч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 и разум и те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.Добрый человек прид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b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 доб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403280" y="907920"/>
          <a:ext cx="5429160" cy="730080"/>
        </p:xfrm>
        <a:graphic>
          <a:graphicData uri="http://schemas.openxmlformats.org/drawingml/2006/table">
            <a:tbl>
              <a:tblPr/>
              <a:tblGrid>
                <a:gridCol w="452520"/>
                <a:gridCol w="452160"/>
                <a:gridCol w="452520"/>
                <a:gridCol w="452520"/>
                <a:gridCol w="452520"/>
                <a:gridCol w="452160"/>
                <a:gridCol w="452520"/>
                <a:gridCol w="452520"/>
                <a:gridCol w="380880"/>
                <a:gridCol w="500040"/>
                <a:gridCol w="476280"/>
                <a:gridCol w="452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642960" y="1397160"/>
          <a:ext cx="7929720" cy="1960560"/>
        </p:xfrm>
        <a:graphic>
          <a:graphicData uri="http://schemas.openxmlformats.org/drawingml/2006/table">
            <a:tbl>
              <a:tblPr/>
              <a:tblGrid>
                <a:gridCol w="660240"/>
                <a:gridCol w="662040"/>
                <a:gridCol w="660600"/>
                <a:gridCol w="660240"/>
                <a:gridCol w="660600"/>
                <a:gridCol w="661680"/>
                <a:gridCol w="660600"/>
                <a:gridCol w="660240"/>
                <a:gridCol w="660600"/>
                <a:gridCol w="662040"/>
                <a:gridCol w="660240"/>
                <a:gridCol w="660600"/>
              </a:tblGrid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Schoolbook"/>
              </a:rPr>
              <a:t>ПРОВЕРЬ СЕБЯ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Улыбающееся лицо 4"/>
          <p:cNvSpPr/>
          <p:nvPr/>
        </p:nvSpPr>
        <p:spPr>
          <a:xfrm>
            <a:off x="3857760" y="3786120"/>
            <a:ext cx="128592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Облако 6"/>
          <p:cNvSpPr/>
          <p:nvPr/>
        </p:nvSpPr>
        <p:spPr>
          <a:xfrm>
            <a:off x="6000840" y="3857760"/>
            <a:ext cx="1500120" cy="91440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entury Schoolbook"/>
              </a:rPr>
              <a:t>РАССКАЗ  Е.Носова «Кукла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95280" y="1628640"/>
            <a:ext cx="79725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Этот рассказ сначала был назван «Акимыч», а потом «Кукла». Почему автор решил изменить название рассказа?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вятотатство – (книжн.) Поругание, оскорбление чего-нибудь заветного, святог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Century Schoolbook"/>
              </a:rPr>
              <a:t>СТАДИЯ ОСМЫСЛЕНИЯ</a:t>
            </a:r>
            <a:br>
              <a:rPr sz="2800"/>
            </a:b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БЕСЕДА ПО ВОПРОСАМ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7" name=""/>
          <p:cNvSpPr/>
          <p:nvPr/>
        </p:nvSpPr>
        <p:spPr>
          <a:xfrm>
            <a:off x="395280" y="1484280"/>
            <a:ext cx="3384720" cy="1368360"/>
          </a:xfrm>
          <a:prstGeom prst="rect">
            <a:avLst/>
          </a:pr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измени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 несколько л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43120" y="2584440"/>
            <a:ext cx="11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27640" y="1341360"/>
            <a:ext cx="3600360" cy="1656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такой Акимыч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он занимается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3500280"/>
            <a:ext cx="2735280" cy="2449800"/>
          </a:xfrm>
          <a:prstGeom prst="rect">
            <a:avLst/>
          </a:prstGeom>
          <a:solidFill>
            <a:srgbClr val="aede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да нас прив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имы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чему у Акимы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ое отно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кукл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64000" y="3402000"/>
            <a:ext cx="4103640" cy="2835360"/>
          </a:xfrm>
          <a:prstGeom prst="roundRect">
            <a:avLst>
              <a:gd name="adj" fmla="val 16667"/>
            </a:avLst>
          </a:prstGeom>
          <a:solidFill>
            <a:srgbClr val="5adc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 чему может приве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внодушие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чему люди ост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езучаст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 преступлению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0:08:41Z</dcterms:created>
  <dc:creator>1</dc:creator>
  <dc:description/>
  <dc:language>en-US</dc:language>
  <cp:lastModifiedBy>User</cp:lastModifiedBy>
  <dcterms:modified xsi:type="dcterms:W3CDTF">2010-04-21T18:48:37Z</dcterms:modified>
  <cp:revision>161</cp:revision>
  <dc:subject/>
  <dc:title>Урок- размышление с использованием технологии развития критического мышления через чтение и письмо»Жить по законам человечности»( по рассказу А.Платонова»Юшка»).</dc:title>
</cp:coreProperties>
</file>