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23F-C29E-42F6-8318-CFD96281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118-10E9-4273-A969-8777290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EC2-17B2-48B7-B1A2-A7D7B961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632-3334-40D0-9203-CBADDFDA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3A89-0907-498D-9A21-57079301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8B7E-9747-46C0-B691-45F7E064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035B-CDB9-45A5-84BE-43C0B61D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BFEE-16B4-4104-8157-E9E65EB0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F290-9BD6-4A2E-AED6-C904C059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18E-5A9C-43E7-B873-9427F8AD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F616-0070-4DF7-8881-A7680DA0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AE0-E4C9-4EA4-B123-7CB6BFB8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04D-9CA4-4A09-8EBC-AE269AC7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4E8-9C4D-4FAF-8FA0-B6C3B2C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EB53-FD58-4105-807B-19D926A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3F1C-31B9-4EDA-A1D5-9B4C5B96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261C-86AB-4BFB-A164-27452EE9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AF060-8850-4038-9BD5-79E1ACE1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8557E-EFBD-4F83-A4E7-7357EAB4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59612-6E05-44F1-9E65-3738EF1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E97D1-BF83-40F1-88C3-BBBD58B1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48E28-F744-49A1-B72A-484850F2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769-6AB4-4007-B1D6-3351BD18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DEA03-EE20-4695-870C-91DE995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A66FC-99AF-4577-A718-75D4EDC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5ABEB-B785-4087-AE9D-0F24744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4A5A9-BED1-4CE6-8675-4D26B2A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9088E-047F-477C-8F4B-8E8905A8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31FA8-99B6-4390-99B4-F0A75795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F6E30-02BC-487C-8029-271F2835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B96F8-46EB-4087-8312-EA2345E3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48C18-8D15-40A7-AB40-B640244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8CF98-9770-403A-AAD0-E7FF8E09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7C8-CB7F-4E42-AA4C-E4BE873C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66F97-2EC1-4AF4-BD22-CA24BF8B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B8FC9-7056-4A2B-88EF-EFFF67AF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EA778-6268-45CC-A6A7-BE98A442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F13CD-D692-47D9-B2B8-B77BC773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4CC3D-F508-45B7-800C-3D7BD5C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DBFCF-0745-4EC3-AE49-D0D68E8D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A49D0-5D35-4305-93DC-127780D5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1416E-9FA3-453A-BB07-393AAF95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31C89-DF32-4085-9DF3-D995F8EF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B149E-5864-419B-8318-542AD4E0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FA2-A33E-4565-8D07-4976400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C4854-15F9-4A3C-8F42-325E5CD2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8B31B-AE45-4CB9-8B1D-AB42803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46243-FC09-47AE-AD79-E8791DD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C5D6D-FFDC-49B0-BAB9-41A0131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36C7F-84F3-4B88-9EB0-87C8DFB6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20A9B-114D-41FD-A7B9-1C97C68A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699BB-28A7-43F4-8771-498D810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98A5B-22F0-4870-B891-89BB52C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21001-2072-4048-9C6D-A33AC1B9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4B3D2-862E-4D09-8F4D-0A95D736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0E1-DA88-4D9D-92CB-AA82BFB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FA818-9A6E-41DB-9544-2BD57E1A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6629F-4751-4C29-8DAA-81D61AA3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2764-A788-497B-AF06-A13857D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761E8-53F5-49A3-9946-BBD61355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BB92-02D6-4D1E-818E-C7AEC6EA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2833-E30E-4E83-A93B-5FE87AF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E7A79-E157-457C-9449-392634E3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008D-FCD6-4020-B102-6A776E7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B862-8F82-4537-A80E-6FA5600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3FA7-D44D-4858-88B5-F6BA527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C83-EE5E-443E-A55F-2AE1A4A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7730C-B958-4DBC-BE4B-18B0849E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73F1-CF1B-4463-A430-AED11885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6AB0-8BEE-4285-9A0D-926918C4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47854-0905-47CE-95A1-0A357DA3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C2D9C7-7FBE-43F7-8809-1BCBCCE2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85DFA-9250-41BC-AEA7-1112856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07C73-B8C1-4110-9B04-D9027AB7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C10E8-62F7-4122-AF8D-01BEB5F7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7C25C-B778-4538-BC3F-42AC9D5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2EE17-C8AF-43B3-A185-4BB41E7C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BF6-9017-4C30-954F-F92FA0F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F15C3-D899-42E2-B677-14DE39A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1B94D-4925-4A40-BD5D-F36C7621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4ACE2-95D0-4EDC-A259-333147D7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0DAAB-DDDB-446D-83C2-119D3CB1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6EF00-68C3-49DB-A261-2CE79009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C309-E2A8-4E9B-9DEF-5DFB2998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9510D-E2BE-4F76-B50C-03EDC4AD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3499-7DDC-42D8-8F3C-7C5ED06E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C8D23-B2A4-4763-91E8-9630964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5051B-2ADE-4355-8C82-8712B87C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B3C-ED2A-48AF-B2CF-569E795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19DDB-84D3-4242-BFDB-27DF328A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840C8-53D9-4FD6-A6F7-16F8D8C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342F-5893-4E31-9DC3-2AE453F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DEEC-A69F-458D-BF0A-0C699BB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C89B3-CC7C-4736-AB2C-9B14EC9A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77DD0-615E-468D-8464-CE2747DB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4D3A9-9E91-4617-B7AA-F8807CF0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9447-BF07-40A1-9AC1-C0CE97CEEF8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04E7-4D5C-4AEC-ACFC-BDB42871DF83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925C-9332-4758-BB4B-7569BAAF8682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8402-D06A-4157-B245-E0C0769AD0C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8505-4B3F-4550-B186-CD24B33B283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F163-889A-4CCD-B0AE-553B2F71A01E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B264-17DF-4B18-9791-92AE77F86F9B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D3C0-B36A-43F3-B25D-CB8A82A2813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03280" y="1557000"/>
            <a:ext cx="58690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bddc3"/>
                </a:solidFill>
                <a:latin typeface="Calibri"/>
              </a:rPr>
              <a:t>МАЯКОВСКИЙ</a:t>
            </a:r>
            <a:br>
              <a:rPr sz="6600"/>
            </a:b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ВЛАДИМИР ВЛАДИМИРОВИЧ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276360" y="3860280"/>
            <a:ext cx="165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d19d"/>
                </a:solidFill>
                <a:latin typeface="Calibri"/>
              </a:rPr>
              <a:t>1893</a:t>
            </a:r>
            <a:r>
              <a:rPr b="0" lang="en-US" sz="2400" spc="-1" strike="noStrike">
                <a:solidFill>
                  <a:srgbClr val="e8d19d"/>
                </a:solidFill>
                <a:latin typeface="Tw Cen MT"/>
              </a:rPr>
              <a:t>–</a:t>
            </a:r>
            <a:r>
              <a:rPr b="0" lang="ru-RU" sz="2400" spc="-1" strike="noStrike">
                <a:solidFill>
                  <a:srgbClr val="e8d19d"/>
                </a:solidFill>
                <a:latin typeface="Calibri"/>
              </a:rPr>
              <a:t>193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Содержимое 13" descr="46467591_Vladimir_Vladimirovich_Mayakovskiy_.jpg"/>
          <p:cNvPicPr/>
          <p:nvPr/>
        </p:nvPicPr>
        <p:blipFill>
          <a:blip r:embed="rId1"/>
          <a:stretch/>
        </p:blipFill>
        <p:spPr>
          <a:xfrm>
            <a:off x="108000" y="1557360"/>
            <a:ext cx="3117960" cy="39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78920" y="2742840"/>
            <a:ext cx="87138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декабре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12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выходит сборник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 «Пощёчина общественному вкусу»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13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. Маяковский совершает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тур по областям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месте с Хлебниковым, Бурлюком и другими футуристами с целью привлечь внимание к новому стилю. Поэт публикует сборник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«Я»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, написанный от руки. Затем обращается к драматургии, ставит программную трагедию «Владимир Маяковски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4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феврале 1914 Бурлюк и Маяковский исключены из училищ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Когда вспыхнула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I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Мировая Война, Маяковский был освобождён от службы (единственный сын вдовы), а после призыва не исполнял военную обязан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течение всего 1914 и части 1915 годов поэт работает над поэмой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«Облако в штанах»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59280" y="2742840"/>
            <a:ext cx="5905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июле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1915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Маяковский знакомится с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Лилей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Юрьевной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и Осипом Максимовичем Бриками. Именно Осип Брик выкупил поэмы Маяковского, который тот писал, будучи на военной службе в Петрограде в Учебной автомобильной школе.  Фактически Осип Брик стал издателем Маяковского, его литературным помощником и соратник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юбов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Picture 2" descr="C:\Users\Яна\Desktop\Новая папка (6)\222185120.jpg"/>
          <p:cNvPicPr/>
          <p:nvPr/>
        </p:nvPicPr>
        <p:blipFill>
          <a:blip r:embed="rId1"/>
          <a:stretch/>
        </p:blipFill>
        <p:spPr>
          <a:xfrm>
            <a:off x="324000" y="2637000"/>
            <a:ext cx="2592360" cy="400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Яна\Desktop\Новая папка (6)\0017-017-Poet-Majakovskij.jpg"/>
          <p:cNvPicPr/>
          <p:nvPr/>
        </p:nvPicPr>
        <p:blipFill>
          <a:blip r:embed="rId1"/>
          <a:stretch/>
        </p:blipFill>
        <p:spPr>
          <a:xfrm>
            <a:off x="250920" y="2781360"/>
            <a:ext cx="5029200" cy="3770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Яна\Desktop\Новая папка (6)\1928_LYuB_editing_film.jpg"/>
          <p:cNvPicPr/>
          <p:nvPr/>
        </p:nvPicPr>
        <p:blipFill>
          <a:blip r:embed="rId2"/>
          <a:stretch/>
        </p:blipFill>
        <p:spPr>
          <a:xfrm>
            <a:off x="5724360" y="2852640"/>
            <a:ext cx="2962440" cy="364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скоре последовал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бурный роман 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(он нашёл отражение в поэмах «Флейта-позвоночник» и «Человек») Маяковский почти все свои произведения посвящал Лиле Брик; в 1928 году, с публикацией первого собрания сочинений, поэт посвятил ей и все произведения, созданные до их знаком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С лета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1918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Маяковский и Брики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жили совместно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. Тогда же они окончательно перешли на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большевистские политические позиции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. Весной 1919 года все трое переехали в Москву и поначалу жили в коммуналке. Маяковский и Лиля работали в «Окнах РОСТА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608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1918 г. Маяковский организовал группу «Комфут», в 1922 году — издательство МАФ, в котором вышло несколько его книг. В 1923 году организовал группу ЛЕФ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Годы гражданской войны 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Маяковский считает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лучшим временем в жизни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, в поэме «Хорошо!» благополучного 1927 года ностальгические глав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Users\Яна\Desktop\Новая папка (6)\001-men-vladimir-mayakovsky-portrait-www.starwiki.org.jpg"/>
          <p:cNvPicPr/>
          <p:nvPr/>
        </p:nvPicPr>
        <p:blipFill>
          <a:blip r:embed="rId1"/>
          <a:stretch/>
        </p:blipFill>
        <p:spPr>
          <a:xfrm>
            <a:off x="6156360" y="2637000"/>
            <a:ext cx="2868480" cy="414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78920" y="2742840"/>
            <a:ext cx="87138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1922 живёт отдельно от Бриков ввиду напряжённой ситуации с Лилей, поставившей поэту ультимату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1922—1924 гг. Маяковский совершил несколько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поездок за границу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 — Латвия, Франция, Германия; результат – очерки и стихотворения. В 1925 едет в Америку на три месяца. Знакомится с Элли Джон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С 1922 сотрудничает с различными журналами, с 1926 по 1927 написал 9 киносценариев. Работает в агитке и рекламе и потому подвергается критике Б. Пастернака и М. Свет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95640" y="2742840"/>
            <a:ext cx="48974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Несмотря на отношения с Лилей у Маяковского было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немало романов «на стороне»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: Софья Шамардина, Наталья Брюханенко, от брака с которой отговорила поэта Вероника Полонская, его последняя пассия. В Париже Маяковский знакомится с Т. Яковлевой, в которую влюбляет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C:\Users\Яна\Desktop\Новая папка (6)\222260164.jpg"/>
          <p:cNvPicPr/>
          <p:nvPr/>
        </p:nvPicPr>
        <p:blipFill>
          <a:blip r:embed="rId1"/>
          <a:stretch/>
        </p:blipFill>
        <p:spPr>
          <a:xfrm>
            <a:off x="250920" y="2781360"/>
            <a:ext cx="3600360" cy="384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5688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феврале 1930 Брики уехали в Европу. 14 апреля рано утром у поэта было назначено свидание с Вероникой. К тому времени Маяковский был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угнетён вечно ускользающей любовью Лили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и одиночеств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мерть Маяковског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5" name="Picture 2" descr="C:\Users\Яна\Desktop\Новая папка (6)\Mayak-1924.jpg"/>
          <p:cNvPicPr/>
          <p:nvPr/>
        </p:nvPicPr>
        <p:blipFill>
          <a:blip r:embed="rId1"/>
          <a:stretch/>
        </p:blipFill>
        <p:spPr>
          <a:xfrm>
            <a:off x="6300720" y="2637000"/>
            <a:ext cx="2668680" cy="4057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4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Маяковский убеждал Веронику переехать в нему немедленно и насовсем, та колебалась, зная, что в любой момент их роман с Маяковским может прерва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Он отпустил её. Дойдя до парадной двери, Вероника услышала выстрел, заметалась и вернулась в квартиру, где увидела распластанного на полу Маяковского с открытыми ещё глазами. Он силился сказать что-то, но вскоре замолчал и стал бледн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0" y="1700280"/>
            <a:ext cx="5148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ладимир Владимирович Маяковский – советский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поэт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реформатор поэтического языка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Он оказал большое влияние на поэзию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XX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6868"/>
                </a:solidFill>
                <a:latin typeface="Calibri"/>
              </a:rPr>
              <a:t>Кроме этого он был киносценаристом, драматургом, киноактёром, художником, редактировал журналы «ЛЕФ» и «Новый ЛЕ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C:\Users\Яна\Desktop\Новая папка (6)\220042604.jpg"/>
          <p:cNvPicPr/>
          <p:nvPr/>
        </p:nvPicPr>
        <p:blipFill>
          <a:blip r:embed="rId1"/>
          <a:stretch/>
        </p:blipFill>
        <p:spPr>
          <a:xfrm>
            <a:off x="5364000" y="1773360"/>
            <a:ext cx="3635640" cy="488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03640" y="2742840"/>
            <a:ext cx="5689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Своей семьёй в предсмертной записке от 12 апреля Маяковский называл Лилю Брик, свою вечную музу, маму, сестёр и Веронику Полонскую - впоследствии одну из старейших актрис МХ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Также просил Лилю любить его, а все стихи и архивы передать Бр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C:\Users\Яна\Desktop\Новая папка (6)\221806993.jpg"/>
          <p:cNvPicPr/>
          <p:nvPr/>
        </p:nvPicPr>
        <p:blipFill>
          <a:blip r:embed="rId1"/>
          <a:stretch/>
        </p:blipFill>
        <p:spPr>
          <a:xfrm>
            <a:off x="179280" y="2637000"/>
            <a:ext cx="2880000" cy="410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78000" y="5921280"/>
            <a:ext cx="426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26868"/>
                </a:solidFill>
                <a:latin typeface="Calibri"/>
              </a:rPr>
              <a:t>- Николай Денисовский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484280"/>
            <a:ext cx="91440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f7f7f"/>
                </a:solidFill>
                <a:latin typeface="Georgia"/>
              </a:rPr>
              <a:t>В день похорон уже невозможно было пройти к гробу, хотя и были пропуска… Милиция оцепила все переулки и площади, которые выходили на улицу Воровского, а сама улица была забита народом… Невозможно было пропихнуться. Стояли на тротуарах, мостовой, в подъездах, висели, прицепившись к фонарям, к деревьям и заборам. Крыши были черны от забравшихся на них людей, некоторые крыши даже провалились... Когда гроб внесли в крематорий, все хлынули следом. Началась давка… Казалось, сейчас затрещит здание крематория… Москва провожала Маяковског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4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Ночь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2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Облако в штанах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4-1915);  «Война объявлена» (1914); 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Флейта-позвоночник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4-1915); «Мама и убитый немцами вечер» (1914); «Я и Наполеон» (1915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Человек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16-1917);  «Лиличка» (1916); «Революция» (1917); «Люблю» (1922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Про это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23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ладимир Ильич Ленин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24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Хорошо!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927); «Клоп» (1928); «Во весь голос» (1928-1930); «Баня» (1929); «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сем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» (12 апреля 1930 го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сновные произвед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50560" y="2636640"/>
            <a:ext cx="85690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ладимир Маяковский родился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 июля 1893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года в один день со своим отцом, поэтому и был назван в его честь. Отец его,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дворянин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, работал лесничим; мать была из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рода кубанских казаков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Кроме этого в семье было две девочки – Оля и Люда, старшие сёстры Владимира. Братья Константин и Александр умерли в раннем дет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Семья Маяковских жила у деда в Грузии, 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селе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Багдади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Кутаисской губер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ет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ом-музей В.В. Маяковского в Багдади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Содержимое 4" descr="Wallpaper1web_3.png"/>
          <p:cNvPicPr/>
          <p:nvPr/>
        </p:nvPicPr>
        <p:blipFill>
          <a:blip r:embed="rId1"/>
          <a:stretch/>
        </p:blipFill>
        <p:spPr>
          <a:xfrm>
            <a:off x="1258920" y="2708280"/>
            <a:ext cx="6692760" cy="400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347640" y="2742840"/>
            <a:ext cx="55450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02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. мальчик поступает  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гимназию в Кутаиси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С третьего класса гимназии начинает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интересоваться митингами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и революционными песн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06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.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умирает отец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семейства, в результате чего у Маяковского остаётся бактериофобия на всю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C:\Users\Яна\Desktop\Новая папка (6)\221806217.jpg"/>
          <p:cNvPicPr/>
          <p:nvPr/>
        </p:nvPicPr>
        <p:blipFill>
          <a:blip r:embed="rId1"/>
          <a:stretch/>
        </p:blipFill>
        <p:spPr>
          <a:xfrm>
            <a:off x="250920" y="2708280"/>
            <a:ext cx="2955960" cy="388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6697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После похорон кормильца мать Маяковского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перевозит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семью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в Москву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Там Владимир поступает в 5</a:t>
            </a:r>
            <a:r>
              <a:rPr b="0" lang="ru-RU" sz="2800" spc="-1" strike="noStrike" baseline="30000">
                <a:solidFill>
                  <a:srgbClr val="726868"/>
                </a:solidFill>
                <a:latin typeface="Calibri"/>
              </a:rPr>
              <a:t>ую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классическую гимназию в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IV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класс. Однако в марте 1908 года был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исключён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из </a:t>
            </a:r>
            <a:r>
              <a:rPr b="0" lang="en-US" sz="2800" spc="-1" strike="noStrike">
                <a:solidFill>
                  <a:srgbClr val="726868"/>
                </a:solidFill>
                <a:latin typeface="Tw Cen MT"/>
              </a:rPr>
              <a:t>V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класса за неуплату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Посещает социал-демократический кружок и становится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членом большевистской партии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езд в Москв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Picture 2" descr="C:\Users\Яна\Desktop\Новая папка (6)\18.jpg"/>
          <p:cNvPicPr/>
          <p:nvPr/>
        </p:nvPicPr>
        <p:blipFill>
          <a:blip r:embed="rId1"/>
          <a:stretch/>
        </p:blipFill>
        <p:spPr>
          <a:xfrm>
            <a:off x="7020000" y="2637000"/>
            <a:ext cx="1904760" cy="3971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07640" y="2636640"/>
            <a:ext cx="8785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1908-1909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гг. следуют три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ареста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 Маяковского. Освобождался почти сразу за неимением улик. В августе 1908 г. будущий поэт поступает в подготовительный класс Строгановского училищ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июле 1909г. арестован в третий раз. По выходе в январе 1910 г. из тюрьмы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партийную работу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решил не возобновл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августе 1911 г. сдаёт экзамены в Училище живописи и сразу принят в фигурный кла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851280" y="2742840"/>
            <a:ext cx="51134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В тюрьме поэт часто скандалил, именно поэтому его переводили из тюрьмы в тюрьму. В конечном счете он завершил свое пребывание в одиночной камере в Бутырской Тюрьме. Именно здесь он исписал </a:t>
            </a:r>
            <a:r>
              <a:rPr b="1" lang="ru-RU" sz="2600" spc="-1" strike="noStrike">
                <a:solidFill>
                  <a:srgbClr val="726868"/>
                </a:solidFill>
                <a:latin typeface="Calibri"/>
              </a:rPr>
              <a:t>первыми стихами </a:t>
            </a:r>
            <a:r>
              <a:rPr b="0" lang="ru-RU" sz="2600" spc="-1" strike="noStrike">
                <a:solidFill>
                  <a:srgbClr val="726868"/>
                </a:solidFill>
                <a:latin typeface="Calibri"/>
              </a:rPr>
              <a:t>целую тетрадь, которую, впрочем, при выходе отобрали надзирате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чало творчест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7" name="Picture 2" descr="C:\Users\Яна\Desktop\Новая папка (6)\221823910.jpg"/>
          <p:cNvPicPr/>
          <p:nvPr/>
        </p:nvPicPr>
        <p:blipFill>
          <a:blip r:embed="rId1"/>
          <a:stretch/>
        </p:blipFill>
        <p:spPr>
          <a:xfrm>
            <a:off x="179280" y="2637000"/>
            <a:ext cx="3606840" cy="409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59054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В училище Маяковский решает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изучать искусство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Там он знакомится с Давидом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Бурлюком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, попадает под его влияние и примыкает к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кубофутуристам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. Тогда же публикует первое стихотворение – </a:t>
            </a:r>
            <a:r>
              <a:rPr b="1" lang="ru-RU" sz="2800" spc="-1" strike="noStrike">
                <a:solidFill>
                  <a:srgbClr val="726868"/>
                </a:solidFill>
                <a:latin typeface="Calibri"/>
              </a:rPr>
              <a:t>«Ночь» </a:t>
            </a:r>
            <a:r>
              <a:rPr b="0" lang="ru-RU" sz="2800" spc="-1" strike="noStrike">
                <a:solidFill>
                  <a:srgbClr val="726868"/>
                </a:solidFill>
                <a:latin typeface="Calibri"/>
              </a:rPr>
              <a:t>(1912). В том же году публично выступает в артистическом подвале «Бродячая соба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2" descr="C:\Users\Яна\Desktop\Новая папка (6)\Маяк.jpg"/>
          <p:cNvPicPr/>
          <p:nvPr/>
        </p:nvPicPr>
        <p:blipFill>
          <a:blip r:embed="rId1"/>
          <a:stretch/>
        </p:blipFill>
        <p:spPr>
          <a:xfrm>
            <a:off x="6168960" y="2708280"/>
            <a:ext cx="2789280" cy="3932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3:04:47Z</dcterms:created>
  <dc:creator>Демонстрационная версия</dc:creator>
  <dc:description/>
  <dc:language>en-US</dc:language>
  <cp:lastModifiedBy>Chernaya</cp:lastModifiedBy>
  <dcterms:modified xsi:type="dcterms:W3CDTF">2012-03-05T09:27:24Z</dcterms:modified>
  <cp:revision>55</cp:revision>
  <dc:subject/>
  <dc:title>Маяковский Владимир Владимирович</dc:title>
</cp:coreProperties>
</file>