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25D4-8811-422D-830B-462D5E54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0A8A-048D-4092-89EA-6CA84604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BBD0-02C2-4C6F-AD2F-BE65CC013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1A32-BA99-4439-97FE-8C6903CBD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4572-7FB5-4978-97F9-AA948652F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ACF0-6E21-42CD-A3EE-3A1C7D18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5CE7-AE6D-4FBB-B88E-04E72926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139A-5F29-4A6A-8702-7EB2FB37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3E7D-5820-406D-841E-CF5871F2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FD0C-0627-473A-94C6-2A6DE65A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E29B-0EED-4B1A-819E-06456147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C624-7C41-41D4-936B-C27F98F1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7BBD-032E-4E0C-B9A2-A4A24A37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92D1-9481-4A0A-91EA-25954878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CD40-BDF5-429C-B772-5DECA8A3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DF63-C5E3-4CFE-AB8D-74B51E74C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784B-D104-40A4-B7DB-01AEB600F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6EABD7-0355-4570-A9C2-FD9A7940E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98A1D6-7BC7-49AA-A9AA-8B13AB23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43416A-5807-4237-B296-A6A8D423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22B90C-266B-4DAD-9022-9FD5E430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0E9758-2989-4291-8E9A-2371B406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4565-67D0-464B-82F5-29900A31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C66B83-2696-442A-A6CB-6D2C6A81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ECB166-8A66-4483-BD58-6432E261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946620-3671-484F-92F1-E2D634FC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327149-152B-40B4-B397-DFAFF8A2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E0EC35-E8C0-4BC5-8A83-E1CBB685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F69D1A-FC45-4896-A12A-480AFE421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14340F-A5E0-4990-A467-96981DF12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1A303A-60DA-4FDC-A190-EB850793D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BB2049-4920-4695-AFD6-8FF4A1EE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D0CB8B-B2E5-4CBC-A4D3-DE578CD6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EB7F-DDEF-407D-A112-15A1869F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9F2EFE-760F-4E17-9D0C-20688EFD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BC29BE-820F-4E8E-81C4-887CD66F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8146B2-6EFC-46FA-B002-D20F64F5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CDDBD5-0291-4724-9D40-0B6A923A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D6E865-5420-4F26-B2AE-F1FA145E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CF29E9-3A28-4E19-9CC5-2604F840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874745-7E68-4A43-9BAD-9BE927CC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6CA9F3-E12B-44E1-9285-91611B421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817F9D-C25E-4A0B-9050-8D7971A16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F36BB3-80B1-4B00-9C45-6B4929C78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A3FD-3DE1-4EAD-94BD-6FB1369B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9A1BB7-87CF-4885-AD0F-E8A04764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8FDFEE-E49F-405E-BF0C-F25DEDCD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3AD88A-0545-4B9F-BD18-7C92626F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D33701-15FE-4428-A155-9D967553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3814FC-C05D-4F51-BC56-759D7AD7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9D4394-F209-4EC6-A696-BC25D774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F19C6F-2884-476B-A63B-8B901A53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645F75-9C3C-4D2A-B209-8A67BE25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283C44-7E3D-4D81-B600-5D826FFA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FF902C-D539-4715-A033-6C2390CAF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8312-40B9-4142-A273-E94BF047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FB49A2-612F-436D-97BA-BBF2A088A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9D5FC-7F03-4F62-B94F-B1B7E387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0D9DF-88D6-441C-9088-29A77F39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4BCE6-4295-43FC-9AF7-5C3EE7B9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9ABED-B246-4F17-8992-3EEE1644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D7621-770B-46B7-AAE9-81280228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FB537-787F-456E-B01B-DEBE33D3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3DEB8-0FC6-4EC0-A91F-2F50A60F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5AAF6-B51D-4741-B034-243F3125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89F48-5924-41EE-92D2-72E31835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78B5-F4DE-422A-BC21-3B875DB1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3B833-4A5D-431D-83E0-AB7A4A93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FC4D5-8081-4F80-9A90-F40661E7E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114B2-E947-4869-96DF-9AB03E108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77005C-EA19-48CF-94C6-0A2651BCF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D31F9E-2309-41C4-8019-6788D875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93C79E-BF51-4245-84CF-1115CEDF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235302-F059-428E-B48C-B8D737F9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6EF6F9-DC97-4CFF-B1C0-8616AD50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5D3E60-CC2B-4533-B059-0A01A3F9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A493CD-F5B8-4271-8148-8B96B1B9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D1BA-0B12-4432-B31D-232791C0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49C7E8-11D4-4396-8F7C-D29AABFE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54A8C8-209E-4E8C-8C23-21F7F713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890782-0204-4E93-90B1-FDD9C502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89F08E-35F3-46AB-A4CD-8A34205D1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5D0967-9568-430D-A691-BA254A295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02A16-522B-4D7A-AA48-98BC8B4F4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CE8AA-36A0-4B05-8007-D7507C07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B0FCE-A459-4694-9BAA-E0E820D3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4A73B-1830-4746-A55D-F62B9A4D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F1A34-33CE-45D3-AF33-658BD481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422B-118F-47F4-8684-375A8474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DF1E8-879A-4783-9CD3-62D5A861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2183D-7353-4598-89DC-E3DFA101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74BBB-F01A-41FB-AF98-4F53B19C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B19A2-D527-4C36-BFC4-46C1035F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063F9-C904-44CF-91F6-E8576583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6958F-6DB1-4BF8-9016-F234FF00A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ECFA4-C42D-4172-A07A-E7845F283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2E99-AF31-46AF-886B-5C086B744B54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A424-337D-45B8-A268-D771F0976464}" type="slidenum">
              <a:rPr b="1" lang="ru-RU" sz="1400" spc="-1" strike="noStrike">
                <a:solidFill>
                  <a:srgbClr val="ebddc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9A57-2E69-4EBC-85F0-C3287AC16D1E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9B14-F9BE-4ACC-A018-E62E1466A700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B396-B712-4ADA-BB40-BBBA3DA596CB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B316-4F7B-45B4-A1B3-16C3CF9F4886}" type="slidenum">
              <a:rPr b="1" lang="ru-RU" sz="1400" spc="-1" strike="noStrike">
                <a:solidFill>
                  <a:srgbClr val="775f55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523D-DD58-4C8D-94BE-F487B289293F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C838-BD84-4A3E-A072-DB0B26C6ECC6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203280" y="1557000"/>
            <a:ext cx="5869080" cy="23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bddc3"/>
                </a:solidFill>
                <a:latin typeface="Calibri"/>
              </a:rPr>
              <a:t>МАЯКОВСКИЙ</a:t>
            </a:r>
            <a:br>
              <a:rPr sz="6600"/>
            </a:br>
            <a:r>
              <a:rPr b="0" lang="ru-RU" sz="4000" spc="-1" strike="noStrike">
                <a:solidFill>
                  <a:srgbClr val="ebddc3"/>
                </a:solidFill>
                <a:latin typeface="Calibri"/>
              </a:rPr>
              <a:t>ВЛАДИМИР ВЛАДИМИРОВИЧ</a:t>
            </a: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3276360" y="3860280"/>
            <a:ext cx="165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8d19d"/>
                </a:solidFill>
                <a:latin typeface="Calibri"/>
              </a:rPr>
              <a:t>1893</a:t>
            </a:r>
            <a:r>
              <a:rPr b="0" lang="en-US" sz="2400" spc="-1" strike="noStrike">
                <a:solidFill>
                  <a:srgbClr val="e8d19d"/>
                </a:solidFill>
                <a:latin typeface="Tw Cen MT"/>
              </a:rPr>
              <a:t>–</a:t>
            </a:r>
            <a:r>
              <a:rPr b="0" lang="ru-RU" sz="2400" spc="-1" strike="noStrike">
                <a:solidFill>
                  <a:srgbClr val="e8d19d"/>
                </a:solidFill>
                <a:latin typeface="Calibri"/>
              </a:rPr>
              <a:t>193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2" name="Содержимое 13" descr="46467591_Vladimir_Vladimirovich_Mayakovskiy_.jpg"/>
          <p:cNvPicPr/>
          <p:nvPr/>
        </p:nvPicPr>
        <p:blipFill>
          <a:blip r:embed="rId1"/>
          <a:stretch/>
        </p:blipFill>
        <p:spPr>
          <a:xfrm>
            <a:off x="108000" y="1557360"/>
            <a:ext cx="3117960" cy="3933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178920" y="2742840"/>
            <a:ext cx="871380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В декабре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1912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 выходит сборник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 «Пощёчина общественному вкусу»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В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1913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 г. Маяковский совершает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тур по областям 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вместе с Хлебниковым, Бурлюком и другими футуристами с целью привлечь внимание к новому стилю. Поэт публикует сборник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«Я»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, написанный от руки. Затем обращается к драматургии, ставит программную трагедию «Владимир Маяковский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179280" y="2742840"/>
            <a:ext cx="864072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В феврале 1914 Бурлюк и Маяковский исключены из училищ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Когда вспыхнула </a:t>
            </a:r>
            <a:r>
              <a:rPr b="0" lang="en-US" sz="2800" spc="-1" strike="noStrike">
                <a:solidFill>
                  <a:srgbClr val="726868"/>
                </a:solidFill>
                <a:latin typeface="Tw Cen MT"/>
              </a:rPr>
              <a:t>I 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Мировая Война, Маяковский был освобождён от службы (единственный сын вдовы), а после призыва не исполнял военную обязанн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В течение всего 1914 и части 1915 годов поэт работает над поэмой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«Облако в штанах»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3059280" y="2742840"/>
            <a:ext cx="590544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26868"/>
                </a:solidFill>
                <a:latin typeface="Calibri"/>
              </a:rPr>
              <a:t>В июле </a:t>
            </a:r>
            <a:r>
              <a:rPr b="1" lang="ru-RU" sz="2600" spc="-1" strike="noStrike">
                <a:solidFill>
                  <a:srgbClr val="726868"/>
                </a:solidFill>
                <a:latin typeface="Calibri"/>
              </a:rPr>
              <a:t>1915</a:t>
            </a:r>
            <a:r>
              <a:rPr b="0" lang="ru-RU" sz="2600" spc="-1" strike="noStrike">
                <a:solidFill>
                  <a:srgbClr val="726868"/>
                </a:solidFill>
                <a:latin typeface="Calibri"/>
              </a:rPr>
              <a:t> Маяковский знакомится с </a:t>
            </a:r>
            <a:r>
              <a:rPr b="1" lang="ru-RU" sz="2600" spc="-1" strike="noStrike">
                <a:solidFill>
                  <a:srgbClr val="726868"/>
                </a:solidFill>
                <a:latin typeface="Calibri"/>
              </a:rPr>
              <a:t>Лилей</a:t>
            </a:r>
            <a:r>
              <a:rPr b="0" lang="ru-RU" sz="2600" spc="-1" strike="noStrike">
                <a:solidFill>
                  <a:srgbClr val="726868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726868"/>
                </a:solidFill>
                <a:latin typeface="Calibri"/>
              </a:rPr>
              <a:t>Юрьевной</a:t>
            </a:r>
            <a:r>
              <a:rPr b="0" lang="ru-RU" sz="2600" spc="-1" strike="noStrike">
                <a:solidFill>
                  <a:srgbClr val="726868"/>
                </a:solidFill>
                <a:latin typeface="Calibri"/>
              </a:rPr>
              <a:t> и Осипом Максимовичем Бриками. Именно Осип Брик выкупил поэмы Маяковского, который тот писал, будучи на военной службе в Петрограде в Учебной автомобильной школе.  Фактически Осип Брик стал издателем Маяковского, его литературным помощником и соратнико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Любовь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74" name="Picture 2" descr="C:\Users\Яна\Desktop\Новая папка (6)\222185120.jpg"/>
          <p:cNvPicPr/>
          <p:nvPr/>
        </p:nvPicPr>
        <p:blipFill>
          <a:blip r:embed="rId1"/>
          <a:stretch/>
        </p:blipFill>
        <p:spPr>
          <a:xfrm>
            <a:off x="324000" y="2637000"/>
            <a:ext cx="2592360" cy="4003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C:\Users\Яна\Desktop\Новая папка (6)\0017-017-Poet-Majakovskij.jpg"/>
          <p:cNvPicPr/>
          <p:nvPr/>
        </p:nvPicPr>
        <p:blipFill>
          <a:blip r:embed="rId1"/>
          <a:stretch/>
        </p:blipFill>
        <p:spPr>
          <a:xfrm>
            <a:off x="250920" y="2781360"/>
            <a:ext cx="5029200" cy="37702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C:\Users\Яна\Desktop\Новая папка (6)\1928_LYuB_editing_film.jpg"/>
          <p:cNvPicPr/>
          <p:nvPr/>
        </p:nvPicPr>
        <p:blipFill>
          <a:blip r:embed="rId2"/>
          <a:stretch/>
        </p:blipFill>
        <p:spPr>
          <a:xfrm>
            <a:off x="5724360" y="2852640"/>
            <a:ext cx="2962440" cy="3645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0" y="2636640"/>
            <a:ext cx="91440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26868"/>
                </a:solidFill>
                <a:latin typeface="Calibri"/>
              </a:rPr>
              <a:t>Вскоре последовал </a:t>
            </a:r>
            <a:r>
              <a:rPr b="1" lang="ru-RU" sz="2600" spc="-1" strike="noStrike">
                <a:solidFill>
                  <a:srgbClr val="726868"/>
                </a:solidFill>
                <a:latin typeface="Calibri"/>
              </a:rPr>
              <a:t>бурный роман </a:t>
            </a:r>
            <a:r>
              <a:rPr b="0" lang="ru-RU" sz="2600" spc="-1" strike="noStrike">
                <a:solidFill>
                  <a:srgbClr val="726868"/>
                </a:solidFill>
                <a:latin typeface="Calibri"/>
              </a:rPr>
              <a:t>(он нашёл отражение в поэмах «Флейта-позвоночник» и «Человек») Маяковский почти все свои произведения посвящал Лиле Брик; в 1928 году, с публикацией первого собрания сочинений, поэт посвятил ей и все произведения, созданные до их знакомст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26868"/>
                </a:solidFill>
                <a:latin typeface="Calibri"/>
              </a:rPr>
              <a:t>С лета </a:t>
            </a:r>
            <a:r>
              <a:rPr b="1" lang="ru-RU" sz="2600" spc="-1" strike="noStrike">
                <a:solidFill>
                  <a:srgbClr val="726868"/>
                </a:solidFill>
                <a:latin typeface="Calibri"/>
              </a:rPr>
              <a:t>1918</a:t>
            </a:r>
            <a:r>
              <a:rPr b="0" lang="ru-RU" sz="2600" spc="-1" strike="noStrike">
                <a:solidFill>
                  <a:srgbClr val="726868"/>
                </a:solidFill>
                <a:latin typeface="Calibri"/>
              </a:rPr>
              <a:t> Маяковский и Брики </a:t>
            </a:r>
            <a:r>
              <a:rPr b="1" lang="ru-RU" sz="2600" spc="-1" strike="noStrike">
                <a:solidFill>
                  <a:srgbClr val="726868"/>
                </a:solidFill>
                <a:latin typeface="Calibri"/>
              </a:rPr>
              <a:t>жили совместно</a:t>
            </a:r>
            <a:r>
              <a:rPr b="0" lang="ru-RU" sz="2600" spc="-1" strike="noStrike">
                <a:solidFill>
                  <a:srgbClr val="726868"/>
                </a:solidFill>
                <a:latin typeface="Calibri"/>
              </a:rPr>
              <a:t>. Тогда же они окончательно перешли на </a:t>
            </a:r>
            <a:r>
              <a:rPr b="1" lang="ru-RU" sz="2600" spc="-1" strike="noStrike">
                <a:solidFill>
                  <a:srgbClr val="726868"/>
                </a:solidFill>
                <a:latin typeface="Calibri"/>
              </a:rPr>
              <a:t>большевистские политические позиции</a:t>
            </a:r>
            <a:r>
              <a:rPr b="0" lang="ru-RU" sz="2600" spc="-1" strike="noStrike">
                <a:solidFill>
                  <a:srgbClr val="726868"/>
                </a:solidFill>
                <a:latin typeface="Calibri"/>
              </a:rPr>
              <a:t>. Весной 1919 года все трое переехали в Москву и поначалу жили в коммуналке. Маяковский и Лиля работали в «Окнах РОСТА»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0" y="2637000"/>
            <a:ext cx="608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26868"/>
                </a:solidFill>
                <a:latin typeface="Calibri"/>
              </a:rPr>
              <a:t>В 1918 г. Маяковский организовал группу «Комфут», в 1922 году — издательство МАФ, в котором вышло несколько его книг. В 1923 году организовал группу ЛЕФ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26868"/>
                </a:solidFill>
                <a:latin typeface="Calibri"/>
              </a:rPr>
              <a:t>Годы гражданской войны </a:t>
            </a:r>
            <a:r>
              <a:rPr b="0" lang="ru-RU" sz="2600" spc="-1" strike="noStrike">
                <a:solidFill>
                  <a:srgbClr val="726868"/>
                </a:solidFill>
                <a:latin typeface="Calibri"/>
              </a:rPr>
              <a:t>Маяковский считает </a:t>
            </a:r>
            <a:r>
              <a:rPr b="1" lang="ru-RU" sz="2600" spc="-1" strike="noStrike">
                <a:solidFill>
                  <a:srgbClr val="726868"/>
                </a:solidFill>
                <a:latin typeface="Calibri"/>
              </a:rPr>
              <a:t>лучшим временем в жизни</a:t>
            </a:r>
            <a:r>
              <a:rPr b="0" lang="ru-RU" sz="2600" spc="-1" strike="noStrike">
                <a:solidFill>
                  <a:srgbClr val="726868"/>
                </a:solidFill>
                <a:latin typeface="Calibri"/>
              </a:rPr>
              <a:t>, в поэме «Хорошо!» благополучного 1927 года ностальгические глав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2" descr="C:\Users\Яна\Desktop\Новая папка (6)\001-men-vladimir-mayakovsky-portrait-www.starwiki.org.jpg"/>
          <p:cNvPicPr/>
          <p:nvPr/>
        </p:nvPicPr>
        <p:blipFill>
          <a:blip r:embed="rId1"/>
          <a:stretch/>
        </p:blipFill>
        <p:spPr>
          <a:xfrm>
            <a:off x="6156360" y="2637000"/>
            <a:ext cx="2868480" cy="4149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78920" y="2742840"/>
            <a:ext cx="8713800" cy="38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26868"/>
                </a:solidFill>
                <a:latin typeface="Calibri"/>
              </a:rPr>
              <a:t>В 1922 живёт отдельно от Бриков ввиду напряжённой ситуации с Лилей, поставившей поэту ультимату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26868"/>
                </a:solidFill>
                <a:latin typeface="Calibri"/>
              </a:rPr>
              <a:t>В 1922—1924 гг. Маяковский совершил несколько </a:t>
            </a:r>
            <a:r>
              <a:rPr b="1" lang="ru-RU" sz="2600" spc="-1" strike="noStrike">
                <a:solidFill>
                  <a:srgbClr val="726868"/>
                </a:solidFill>
                <a:latin typeface="Calibri"/>
              </a:rPr>
              <a:t>поездок за границу</a:t>
            </a:r>
            <a:r>
              <a:rPr b="0" lang="ru-RU" sz="2600" spc="-1" strike="noStrike">
                <a:solidFill>
                  <a:srgbClr val="726868"/>
                </a:solidFill>
                <a:latin typeface="Calibri"/>
              </a:rPr>
              <a:t> — Латвия, Франция, Германия; результат – очерки и стихотворения. В 1925 едет в Америку на три месяца. Знакомится с Элли Джонс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26868"/>
                </a:solidFill>
                <a:latin typeface="Calibri"/>
              </a:rPr>
              <a:t>С 1922 сотрудничает с различными журналами, с 1926 по 1927 написал 9 киносценариев. Работает в агитке и рекламе и потому подвергается критике Б. Пастернака и М. Светло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3995640" y="2742840"/>
            <a:ext cx="4897440" cy="38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26868"/>
                </a:solidFill>
                <a:latin typeface="Calibri"/>
              </a:rPr>
              <a:t>Несмотря на отношения с Лилей у Маяковского было </a:t>
            </a:r>
            <a:r>
              <a:rPr b="1" lang="ru-RU" sz="2600" spc="-1" strike="noStrike">
                <a:solidFill>
                  <a:srgbClr val="726868"/>
                </a:solidFill>
                <a:latin typeface="Calibri"/>
              </a:rPr>
              <a:t>немало романов «на стороне»</a:t>
            </a:r>
            <a:r>
              <a:rPr b="0" lang="ru-RU" sz="2600" spc="-1" strike="noStrike">
                <a:solidFill>
                  <a:srgbClr val="726868"/>
                </a:solidFill>
                <a:latin typeface="Calibri"/>
              </a:rPr>
              <a:t>: Софья Шамардина, Наталья Брюханенко, от брака с которой отговорила поэта Вероника Полонская, его последняя пассия. В Париже Маяковский знакомится с Т. Яковлевой, в которую влюбляетс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Picture 2" descr="C:\Users\Яна\Desktop\Новая папка (6)\222260164.jpg"/>
          <p:cNvPicPr/>
          <p:nvPr/>
        </p:nvPicPr>
        <p:blipFill>
          <a:blip r:embed="rId1"/>
          <a:stretch/>
        </p:blipFill>
        <p:spPr>
          <a:xfrm>
            <a:off x="250920" y="2781360"/>
            <a:ext cx="3600360" cy="3840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324000" y="3068640"/>
            <a:ext cx="5688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В феврале 1930 Брики уехали в Европу. 14 апреля рано утром у поэта было назначено свидание с Вероникой. К тому времени Маяковский был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угнетён вечно ускользающей любовью Лили 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и одиночеств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мерть Маяковского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85" name="Picture 2" descr="C:\Users\Яна\Desktop\Новая папка (6)\Mayak-1924.jpg"/>
          <p:cNvPicPr/>
          <p:nvPr/>
        </p:nvPicPr>
        <p:blipFill>
          <a:blip r:embed="rId1"/>
          <a:stretch/>
        </p:blipFill>
        <p:spPr>
          <a:xfrm>
            <a:off x="6300720" y="2637000"/>
            <a:ext cx="2668680" cy="4057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179280" y="2742840"/>
            <a:ext cx="864072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Маяковский убеждал Веронику переехать в нему немедленно и насовсем, та колебалась, зная, что в любой момент их роман с Маяковским может прерватьс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Он отпустил её. Дойдя до парадной двери, Вероника услышала выстрел, заметалась и вернулась в квартиру, где увидела распластанного на полу Маяковского с открытыми ещё глазами. Он силился сказать что-то, но вскоре замолчал и стал бледне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оугольник 2"/>
          <p:cNvSpPr/>
          <p:nvPr/>
        </p:nvSpPr>
        <p:spPr>
          <a:xfrm>
            <a:off x="0" y="1700280"/>
            <a:ext cx="514836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Владимир Владимирович Маяковский – советский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поэт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 и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реформатор поэтического языка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. Он оказал большое влияние на поэзию </a:t>
            </a:r>
            <a:r>
              <a:rPr b="0" lang="en-US" sz="2800" spc="-1" strike="noStrike">
                <a:solidFill>
                  <a:srgbClr val="726868"/>
                </a:solidFill>
                <a:latin typeface="Tw Cen MT"/>
              </a:rPr>
              <a:t>XX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 ве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26868"/>
                </a:solidFill>
                <a:latin typeface="Calibri"/>
              </a:rPr>
              <a:t>Кроме этого он был киносценаристом, драматургом, киноактёром, художником, редактировал журналы «ЛЕФ» и «Новый ЛЕФ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3" descr="C:\Users\Яна\Desktop\Новая папка (6)\220042604.jpg"/>
          <p:cNvPicPr/>
          <p:nvPr/>
        </p:nvPicPr>
        <p:blipFill>
          <a:blip r:embed="rId1"/>
          <a:stretch/>
        </p:blipFill>
        <p:spPr>
          <a:xfrm>
            <a:off x="5364000" y="1773360"/>
            <a:ext cx="3635640" cy="4886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3203640" y="2742840"/>
            <a:ext cx="568944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Своей семьёй в предсмертной записке от 12 апреля Маяковский называл Лилю Брик, свою вечную музу, маму, сестёр и Веронику Полонскую - впоследствии одну из старейших актрис МХА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Также просил Лилю любить его, а все стихи и архивы передать Брик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8" name="Picture 2" descr="C:\Users\Яна\Desktop\Новая папка (6)\221806993.jpg"/>
          <p:cNvPicPr/>
          <p:nvPr/>
        </p:nvPicPr>
        <p:blipFill>
          <a:blip r:embed="rId1"/>
          <a:stretch/>
        </p:blipFill>
        <p:spPr>
          <a:xfrm>
            <a:off x="179280" y="2637000"/>
            <a:ext cx="2880000" cy="4105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878000" y="5921280"/>
            <a:ext cx="4265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26868"/>
                </a:solidFill>
                <a:latin typeface="Calibri"/>
              </a:rPr>
              <a:t>- Николай Денисовский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0" y="1484280"/>
            <a:ext cx="914400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f7f7f"/>
                </a:solidFill>
                <a:latin typeface="Georgia"/>
              </a:rPr>
              <a:t>В день похорон уже невозможно было пройти к гробу, хотя и были пропуска… Милиция оцепила все переулки и площади, которые выходили на улицу Воровского, а сама улица была забита народом… Невозможно было пропихнуться. Стояли на тротуарах, мостовой, в подъездах, висели, прицепившись к фонарям, к деревьям и заборам. Крыши были черны от забравшихся на них людей, некоторые крыши даже провалились... Когда гроб внесли в крематорий, все хлынули следом. Началась давка… Казалось, сейчас затрещит здание крематория… Москва провожала Маяковского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179280" y="2742840"/>
            <a:ext cx="864072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«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Ночь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» (1912); «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Облако в штанах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» (1914-1915);  «Война объявлена» (1914);  «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Флейта-позвоночник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» (1914-1915); «Мама и убитый немцами вечер» (1914); «Я и Наполеон» (1915); «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Человек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» (1916-1917);  «Лиличка» (1916); «Революция» (1917); «Люблю» (1922); «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Про это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» (1923); «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Владимир Ильич Ленин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» (1924); «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Хорошо!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» (1927); «Клоп» (1928); «Во весь голос» (1928-1930); «Баня» (1929); «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Всем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» (12 апреля 1930 год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сновные произведения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250560" y="2636640"/>
            <a:ext cx="856908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Владимир Маяковский родился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19 июля 1893 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года в один день со своим отцом, поэтому и был назван в его честь. Отец его,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дворянин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, работал лесничим; мать была из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рода кубанских казаков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. Кроме этого в семье было две девочки – Оля и Люда, старшие сёстры Владимира. Братья Константин и Александр умерли в раннем детств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Семья Маяковских жила у деда в Грузии, в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селе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Багдади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 Кутаисской губерн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Детство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Дом-музей В.В. Маяковского в Багдади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58" name="Содержимое 4" descr="Wallpaper1web_3.png"/>
          <p:cNvPicPr/>
          <p:nvPr/>
        </p:nvPicPr>
        <p:blipFill>
          <a:blip r:embed="rId1"/>
          <a:stretch/>
        </p:blipFill>
        <p:spPr>
          <a:xfrm>
            <a:off x="1258920" y="2708280"/>
            <a:ext cx="6692760" cy="4006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3347640" y="2742840"/>
            <a:ext cx="5545080" cy="38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В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1902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 г. мальчик поступает  в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гимназию в Кутаиси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. С третьего класса гимназии начинает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интересоваться митингами 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и революционными песня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В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1906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 г.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умирает отец 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семейства, в результате чего у Маяковского остаётся бактериофобия на всю жизн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3" descr="C:\Users\Яна\Desktop\Новая папка (6)\221806217.jpg"/>
          <p:cNvPicPr/>
          <p:nvPr/>
        </p:nvPicPr>
        <p:blipFill>
          <a:blip r:embed="rId1"/>
          <a:stretch/>
        </p:blipFill>
        <p:spPr>
          <a:xfrm>
            <a:off x="250920" y="2708280"/>
            <a:ext cx="2955960" cy="3889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178920" y="2637000"/>
            <a:ext cx="66978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После похорон кормильца мать Маяковского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перевозит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 семью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в Москву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. Там Владимир поступает в 5</a:t>
            </a:r>
            <a:r>
              <a:rPr b="0" lang="ru-RU" sz="2800" spc="-1" strike="noStrike" baseline="30000">
                <a:solidFill>
                  <a:srgbClr val="726868"/>
                </a:solidFill>
                <a:latin typeface="Calibri"/>
              </a:rPr>
              <a:t>ую 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классическую гимназию в </a:t>
            </a:r>
            <a:r>
              <a:rPr b="0" lang="en-US" sz="2800" spc="-1" strike="noStrike">
                <a:solidFill>
                  <a:srgbClr val="726868"/>
                </a:solidFill>
                <a:latin typeface="Tw Cen MT"/>
              </a:rPr>
              <a:t>IV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 класс. Однако в марте 1908 года был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исключён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 из </a:t>
            </a:r>
            <a:r>
              <a:rPr b="0" lang="en-US" sz="2800" spc="-1" strike="noStrike">
                <a:solidFill>
                  <a:srgbClr val="726868"/>
                </a:solidFill>
                <a:latin typeface="Tw Cen MT"/>
              </a:rPr>
              <a:t>V 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класса за неуплату обуч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Посещает социал-демократический кружок и становится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членом большевистской партии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ереезд в Москву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63" name="Picture 2" descr="C:\Users\Яна\Desktop\Новая папка (6)\18.jpg"/>
          <p:cNvPicPr/>
          <p:nvPr/>
        </p:nvPicPr>
        <p:blipFill>
          <a:blip r:embed="rId1"/>
          <a:stretch/>
        </p:blipFill>
        <p:spPr>
          <a:xfrm>
            <a:off x="7020000" y="2637000"/>
            <a:ext cx="1904760" cy="3971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107640" y="2636640"/>
            <a:ext cx="87850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В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1908-1909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 гг. следуют три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ареста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 Маяковского. Освобождался почти сразу за неимением улик. В августе 1908 г. будущий поэт поступает в подготовительный класс Строгановского училищ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В июле 1909г. арестован в третий раз. По выходе в январе 1910 г. из тюрьмы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партийную работу 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решил не возобновля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В августе 1911 г. сдаёт экзамены в Училище живописи и сразу принят в фигурный клас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3851280" y="2742840"/>
            <a:ext cx="5113440" cy="38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26868"/>
                </a:solidFill>
                <a:latin typeface="Calibri"/>
              </a:rPr>
              <a:t>В тюрьме поэт часто скандалил, именно поэтому его переводили из тюрьмы в тюрьму. В конечном счете он завершил свое пребывание в одиночной камере в Бутырской Тюрьме. Именно здесь он исписал </a:t>
            </a:r>
            <a:r>
              <a:rPr b="1" lang="ru-RU" sz="2600" spc="-1" strike="noStrike">
                <a:solidFill>
                  <a:srgbClr val="726868"/>
                </a:solidFill>
                <a:latin typeface="Calibri"/>
              </a:rPr>
              <a:t>первыми стихами </a:t>
            </a:r>
            <a:r>
              <a:rPr b="0" lang="ru-RU" sz="2600" spc="-1" strike="noStrike">
                <a:solidFill>
                  <a:srgbClr val="726868"/>
                </a:solidFill>
                <a:latin typeface="Calibri"/>
              </a:rPr>
              <a:t>целую тетрадь, которую, впрочем, при выходе отобрали надзирател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Начало творчеств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67" name="Picture 2" descr="C:\Users\Яна\Desktop\Новая папка (6)\221823910.jpg"/>
          <p:cNvPicPr/>
          <p:nvPr/>
        </p:nvPicPr>
        <p:blipFill>
          <a:blip r:embed="rId1"/>
          <a:stretch/>
        </p:blipFill>
        <p:spPr>
          <a:xfrm>
            <a:off x="179280" y="2637000"/>
            <a:ext cx="3606840" cy="4092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179280" y="2742840"/>
            <a:ext cx="5905440" cy="38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В училище Маяковский решает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изучать искусство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. Там он знакомится с Давидом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Бурлюком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, попадает под его влияние и примыкает к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кубофутуристам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. Тогда же публикует первое стихотворение –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«Ночь» 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(1912). В том же году публично выступает в артистическом подвале «Бродячая собак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Picture 2" descr="C:\Users\Яна\Desktop\Новая папка (6)\Маяк.jpg"/>
          <p:cNvPicPr/>
          <p:nvPr/>
        </p:nvPicPr>
        <p:blipFill>
          <a:blip r:embed="rId1"/>
          <a:stretch/>
        </p:blipFill>
        <p:spPr>
          <a:xfrm>
            <a:off x="6168960" y="2708280"/>
            <a:ext cx="2789280" cy="3932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13:04:47Z</dcterms:created>
  <dc:creator>Демонстрационная версия</dc:creator>
  <dc:description/>
  <dc:language>en-US</dc:language>
  <cp:lastModifiedBy>Chernaya</cp:lastModifiedBy>
  <dcterms:modified xsi:type="dcterms:W3CDTF">2012-03-05T09:27:24Z</dcterms:modified>
  <cp:revision>55</cp:revision>
  <dc:subject/>
  <dc:title>Маяковский Владимир Владимирович</dc:title>
</cp:coreProperties>
</file>