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4B6D-2C3A-4DD7-9856-E36408B44D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кторина для 1-4 классов «Условия безопасного поведения обуч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ирование навыков безопасного поведения в чрезвычайных жизн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крепить знания по правилам поведения в условиях автономного существов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ктивизировать познавательную и аналитическую деятельность обучающихся по формированию навыков безопас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итывать у детей умение вести себя в экстремальных ситуациях, формировать чувство ответственности, коллективизма и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4B36-81F5-43B6-9274-9572BC698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и «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едицинская помощь без взрослы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дагог: В каждом доме есть аптечка. Конечно. Без разрешения взрослых ее трогать нельзя. Но иногда помощь нужно оказать, а взрослых рядом нет. Что 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мандам предлагается решить тест, ответы выбирать и проставлять номер правильного ответа с номером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D67-DADB-41F3-B3A0-AC36D17227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«Составь наибольшее количество с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манды получают карточку со словом безопас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 составить как можно больше слов, используя буквы данного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AEA-53FD-4506-9C1B-0B6A6CDEB4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«Как поступить»? (решение проблемных ситу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F061-B829-4C18-AE84-AEC1287552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ый процесс горения (пожа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тепла и всевозможных пожаров в походе (ко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при горении (ого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ьется над костром (ды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редмет при возгорании нельзя заливать водой? (телевиз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ор для тушения пожара (огнетуш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естественным веществом можно тушить костер зимой? (снег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пожара, охватывающий кроны деревьев? (верхо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ой Проме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2449-798A-432D-8E4B-6F85705F61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ома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2ECF-504F-4EFF-92FD-094C0F01E7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инка «Путешествие по сказка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алыш вылечил Карлс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олело у Ильи Муром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7883-711B-49F4-A781-F4FF730C1B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снула Спящая царев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правило личной гигиены не соблюдал герой сказки «Мойдодыр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ешало спать принцессе и в какой это сказ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гигиены нарушила Маша из сказки «Три медвед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B557-B6C8-422E-B2AC-B73917AAB6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царевна умерла из-за отравленного яблока и кто ее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попали осколки льда Каю в сказке «Снежная королева» и кто ее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го превратился один из героев сказки после того, как попил грязной воды из лужи? Какая это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один из героев был слепым, а другой – хром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66C-F99F-4690-AC32-6996FC73E4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200"/>
                </a:solidFill>
                <a:latin typeface="Calibri"/>
              </a:rPr>
              <a:t>Виктори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Вынеси из дома вещи которыми можно отравить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Педагог: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Эти вещества есть в каждом доме. Но при неправильном хранении и применении они могут представлять опасность для человека. С какими веществами нужно быть предельно осторожными? (На карточке отметить опасные ве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9C1-273D-4D24-BF80-A923029F6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200"/>
                </a:solidFill>
                <a:latin typeface="Calibri"/>
              </a:rPr>
              <a:t>Викторина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«Собери рюкз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Педагог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: Вы все любите ходить в походы, а умеете ли вы собираться в пох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(Каждой команде выдается лист с названием предметов и веще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ам необходимо выбрать 15 необходимых (рядом со словом поставить галочк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266-CF05-4BE4-8660-EBE71FB59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85C-25C2-4747-B129-41C1746D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117-8372-4989-9F3C-8A71D930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251-5FE3-4747-9C7A-7219D14A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774-EEF8-4DC2-B6D1-EFF14C23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C99-C4D8-49AC-B155-93B6C271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1D1-B6C8-460F-BB8F-CBCF721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91C-6DA4-484D-B212-98E89F7D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3EF-C58F-4F92-94AF-6EACF81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8B2-B5B4-47AD-ACF9-124F98E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870-CF27-4A4D-BA5F-C2728B3C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F37-3973-4612-96E2-A4BBE41C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CD6-7DCD-4974-A80C-710CB90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4D1-5AA5-49C0-9C87-F25195CAAD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5111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200"/>
                </a:solidFill>
                <a:latin typeface="Times New Roman"/>
              </a:rPr>
              <a:t>Условия безопасного повед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едицинская помощь без взросл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дом\Documents\03.jpg"/>
          <p:cNvPicPr/>
          <p:nvPr/>
        </p:nvPicPr>
        <p:blipFill>
          <a:blip r:embed="rId1"/>
          <a:stretch/>
        </p:blipFill>
        <p:spPr>
          <a:xfrm>
            <a:off x="890640" y="1785960"/>
            <a:ext cx="6110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920" y="714240"/>
            <a:ext cx="585792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Тест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ое средство из аптечки вы выберете, если человек упал в обморок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дом\Documents\спирт.jpg"/>
          <p:cNvPicPr/>
          <p:nvPr/>
        </p:nvPicPr>
        <p:blipFill>
          <a:blip r:embed="rId1"/>
          <a:stretch/>
        </p:blipFill>
        <p:spPr>
          <a:xfrm>
            <a:off x="1285920" y="2928960"/>
            <a:ext cx="3929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ак остановить сильное кровотечен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Users\дом\Documents\кровь.jpg"/>
          <p:cNvPicPr/>
          <p:nvPr/>
        </p:nvPicPr>
        <p:blipFill>
          <a:blip r:embed="rId1"/>
          <a:stretch/>
        </p:blipFill>
        <p:spPr>
          <a:xfrm>
            <a:off x="1643040" y="2143080"/>
            <a:ext cx="5500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е средство вы выберете если порезалис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дом\Documents\перикись.jpg"/>
          <p:cNvPicPr/>
          <p:nvPr/>
        </p:nvPicPr>
        <p:blipFill>
          <a:blip r:embed="rId1"/>
          <a:stretch/>
        </p:blipFill>
        <p:spPr>
          <a:xfrm>
            <a:off x="2071800" y="2112840"/>
            <a:ext cx="53578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средство вы выберете, если при падении вы получили ссадину, а рану нужно обработ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Users\дом\Documents\йод.jpg"/>
          <p:cNvPicPr/>
          <p:nvPr/>
        </p:nvPicPr>
        <p:blipFill>
          <a:blip r:embed="rId1"/>
          <a:stretch/>
        </p:blipFill>
        <p:spPr>
          <a:xfrm>
            <a:off x="1000080" y="2523960"/>
            <a:ext cx="60008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е средство вы выберете, если сильно заболел зуб или голов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Users\дом\Documents\ана.jpg"/>
          <p:cNvPicPr/>
          <p:nvPr/>
        </p:nvPicPr>
        <p:blipFill>
          <a:blip r:embed="rId1"/>
          <a:stretch/>
        </p:blipFill>
        <p:spPr>
          <a:xfrm>
            <a:off x="1500120" y="2523960"/>
            <a:ext cx="5643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Составь слова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БЕЗОПАСНОСТЬ</a:t>
            </a:r>
            <a:br>
              <a:rPr sz="8000"/>
            </a:br>
            <a:br>
              <a:rPr sz="36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ак поступить?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ы один дома, смотришь любимую передачу, и вдруг у тебя задымился телевизор. Что нужно сделать?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Залить телевизор вод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звать кого-нибудь на помощ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опытаться потушить, а если не получится, вызвать пожарных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отключить ток, накинуть па телевизор плотную ткань, позвонить по телефону 0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ы вечером возвращаешься домой и чувствуешь сильный запах газа. Что ты сделаешь?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ервым делом! зажгу свет и спичкой проверю, откуда идет г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йду понюхаю, откуда пахн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озвоню в газовую службу и пойду на улицу ждать, когда они приеду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ткрою окно, постараюсь перекрыть газ и позвоню по телефону 04. и все эт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у делать, не включа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68360" y="1268280"/>
          <a:ext cx="8136000" cy="4286520"/>
        </p:xfrm>
        <a:graphic>
          <a:graphicData uri="http://schemas.openxmlformats.org/drawingml/2006/table">
            <a:tbl>
              <a:tblPr/>
              <a:tblGrid>
                <a:gridCol w="603360"/>
                <a:gridCol w="571320"/>
                <a:gridCol w="571680"/>
                <a:gridCol w="500040"/>
                <a:gridCol w="571320"/>
                <a:gridCol w="642960"/>
                <a:gridCol w="571680"/>
                <a:gridCol w="657000"/>
                <a:gridCol w="422280"/>
                <a:gridCol w="511200"/>
                <a:gridCol w="466920"/>
                <a:gridCol w="466560"/>
                <a:gridCol w="571680"/>
                <a:gridCol w="504720"/>
                <a:gridCol w="50328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На Земле жизнь светла и прекрасна,</a:t>
            </a:r>
            <a:br>
              <a:rPr sz="4400"/>
            </a:b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Все мы дети природы родной.</a:t>
            </a:r>
            <a:br>
              <a:rPr sz="4400"/>
            </a:b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Но немало явлений опасных</a:t>
            </a:r>
            <a:br>
              <a:rPr sz="4400"/>
            </a:b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Угрожают нам с вами поро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Молодцы!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Спасибо за участие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2" descr=":)"/>
          <p:cNvPicPr/>
          <p:nvPr/>
        </p:nvPicPr>
        <p:blipFill>
          <a:blip r:embed="rId1"/>
          <a:stretch/>
        </p:blipFill>
        <p:spPr>
          <a:xfrm>
            <a:off x="1476360" y="4437000"/>
            <a:ext cx="100800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опасност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– это состояние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щищён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человека, его имущества и окружающей среды от воздействия неблагоприятных фактор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857160" y="1214280"/>
            <a:ext cx="7358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Апельсин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как дольки апельсина.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дружны и недели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000080"/>
            <a:ext cx="40417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Улыбка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Улыбайся каждый раз, для здоровья это клас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дом\Documents\улыбка.jpg"/>
          <p:cNvPicPr/>
          <p:nvPr/>
        </p:nvPicPr>
        <p:blipFill>
          <a:blip r:embed="rId1"/>
          <a:stretch/>
        </p:blipFill>
        <p:spPr>
          <a:xfrm>
            <a:off x="5500800" y="3143160"/>
            <a:ext cx="22590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дом\Documents\апельсин.jpg"/>
          <p:cNvPicPr/>
          <p:nvPr/>
        </p:nvPicPr>
        <p:blipFill>
          <a:blip r:embed="rId2"/>
          <a:stretch/>
        </p:blipFill>
        <p:spPr>
          <a:xfrm>
            <a:off x="1357200" y="3714840"/>
            <a:ext cx="2214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713880"/>
            <a:ext cx="67867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утешествие по сказк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Users\дом\Documents\малыш и карлсон.jpg"/>
          <p:cNvPicPr/>
          <p:nvPr/>
        </p:nvPicPr>
        <p:blipFill>
          <a:blip r:embed="rId1"/>
          <a:stretch/>
        </p:blipFill>
        <p:spPr>
          <a:xfrm>
            <a:off x="642960" y="1785960"/>
            <a:ext cx="235728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дом\Documents\Илья Муромец.jpg"/>
          <p:cNvPicPr/>
          <p:nvPr/>
        </p:nvPicPr>
        <p:blipFill>
          <a:blip r:embed="rId2"/>
          <a:stretch/>
        </p:blipFill>
        <p:spPr>
          <a:xfrm>
            <a:off x="3071880" y="1857240"/>
            <a:ext cx="4786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ocuments\спящая царевна.jpg"/>
          <p:cNvPicPr/>
          <p:nvPr/>
        </p:nvPicPr>
        <p:blipFill>
          <a:blip r:embed="rId1"/>
          <a:stretch/>
        </p:blipFill>
        <p:spPr>
          <a:xfrm>
            <a:off x="214200" y="357120"/>
            <a:ext cx="395316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дом\Documents\мойдодыр.jpg"/>
          <p:cNvPicPr/>
          <p:nvPr/>
        </p:nvPicPr>
        <p:blipFill>
          <a:blip r:embed="rId2"/>
          <a:stretch/>
        </p:blipFill>
        <p:spPr>
          <a:xfrm>
            <a:off x="4429080" y="500040"/>
            <a:ext cx="3857760" cy="271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дом\Documents\принцесса нагорошине.jpg"/>
          <p:cNvPicPr/>
          <p:nvPr/>
        </p:nvPicPr>
        <p:blipFill>
          <a:blip r:embed="rId3"/>
          <a:stretch/>
        </p:blipFill>
        <p:spPr>
          <a:xfrm>
            <a:off x="214200" y="3143160"/>
            <a:ext cx="366732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дом\Documents\маша и три медведя.jpg"/>
          <p:cNvPicPr/>
          <p:nvPr/>
        </p:nvPicPr>
        <p:blipFill>
          <a:blip r:embed="rId4"/>
          <a:stretch/>
        </p:blipFill>
        <p:spPr>
          <a:xfrm>
            <a:off x="3929040" y="342900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дом\Documents\царевнв.jpg"/>
          <p:cNvPicPr/>
          <p:nvPr/>
        </p:nvPicPr>
        <p:blipFill>
          <a:blip r:embed="rId1"/>
          <a:stretch/>
        </p:blipFill>
        <p:spPr>
          <a:xfrm>
            <a:off x="500040" y="500040"/>
            <a:ext cx="4143240" cy="278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дом\Documents\снежная королева.png"/>
          <p:cNvPicPr/>
          <p:nvPr/>
        </p:nvPicPr>
        <p:blipFill>
          <a:blip r:embed="rId2"/>
          <a:stretch/>
        </p:blipFill>
        <p:spPr>
          <a:xfrm>
            <a:off x="4643280" y="714240"/>
            <a:ext cx="4214880" cy="300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дом\Documents\Аленушка.jpg"/>
          <p:cNvPicPr/>
          <p:nvPr/>
        </p:nvPicPr>
        <p:blipFill>
          <a:blip r:embed="rId3"/>
          <a:stretch/>
        </p:blipFill>
        <p:spPr>
          <a:xfrm>
            <a:off x="142920" y="32148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дом\Documents\буратино.jpg"/>
          <p:cNvPicPr/>
          <p:nvPr/>
        </p:nvPicPr>
        <p:blipFill>
          <a:blip r:embed="rId4"/>
          <a:stretch/>
        </p:blipFill>
        <p:spPr>
          <a:xfrm>
            <a:off x="3571920" y="3357720"/>
            <a:ext cx="45003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Times New Roman"/>
              </a:rPr>
              <a:t>Викторин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Вынеси из дома вещи которыми можно отравитьс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00040" y="178596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лекар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ранящиеся в доступности для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редства бытовой хим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редство для мытья посуды, стоящее на полочке в кухне), сельскохозяйственные препараты (удобрения на даче), яды (средство от насекомых, грызунов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жигающие жидк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бензин в гараже, керосин, ацетон, лаки, краски, растворители и другие испаряющиеся вещества;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ксусная эссен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 кухне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коголь 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85880" y="15001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5"/>
          <p:cNvSpPr/>
          <p:nvPr/>
        </p:nvSpPr>
        <p:spPr>
          <a:xfrm rot="10236000">
            <a:off x="4581000" y="75049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00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«Собери рюкза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Users\дом\Documents\рюкзак.jpg"/>
          <p:cNvPicPr/>
          <p:nvPr/>
        </p:nvPicPr>
        <p:blipFill>
          <a:blip r:embed="rId1"/>
          <a:stretch/>
        </p:blipFill>
        <p:spPr>
          <a:xfrm>
            <a:off x="1000080" y="2000160"/>
            <a:ext cx="67867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дом</cp:lastModifiedBy>
  <dcterms:modified xsi:type="dcterms:W3CDTF">2015-10-08T13:10:07Z</dcterms:modified>
  <cp:revision>79</cp:revision>
  <dc:subject/>
  <dc:title>Слайд 1</dc:title>
</cp:coreProperties>
</file>