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4070-7FC4-4770-AF8C-54334D5BFA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кторина для 1-4 классов «Условия безопасного поведения обучаю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ормирование навыков безопасного поведения в чрезвычайных жизненных 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разовате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акрепить знания по правилам поведения в условиях автономного существова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вающ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активизировать познавательную и аналитическую деятельность обучающихся по формированию навыков безопасн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питывать у детей умение вести себя в экстремальных ситуациях, формировать чувство ответственности, коллективизма и товари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7F2E-620E-4B21-8056-A405089A72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задачи «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едицинская помощь без взрослы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едагог: В каждом доме есть аптечка. Конечно. Без разрешения взрослых ее трогать нельзя. Но иногда помощь нужно оказать, а взрослых рядом нет. Что 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омандам предлагается решить тест, ответы выбирать и проставлять номер правильного ответа с номером во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F37C-DE0F-4D25-A808-723FE352A6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 «Составь наибольшее количество сл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манды получают карточку со словом безопас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даг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обходимо составить как можно больше слов, используя буквы данного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A1A5-469A-40C6-BA8D-B6453C80C7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 «Как поступить»? (решение проблемных ситу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58F2-2E24-4207-9F42-2F7D1193F2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гадай кроссво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тролируемый процесс горения (пожа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тепла и всевозможных пожаров в походе (кос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при горении (ого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ьется над костром (ды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предмет при возгорании нельзя заливать водой? (телевиз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ор для тушения пожара (огнетушит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естественным веществом можно тушить костер зимой? (снег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пожара, охватывающий кроны деревьев? (верхо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акой Промет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0649-7BE5-4F5A-9567-C3F5D78483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кома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7196-EC7A-4829-AB2F-81DAA42544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инка «Путешествие по сказка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малыш вылечил Карлсо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болело у Ильи Муромц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B758-BCA5-45F3-B432-281D513042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снула Спящая царев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правило личной гигиены не соблюдал герой сказки «Мойдодыр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ешало спать принцессе и в какой это сказ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авила гигиены нарушила Маша из сказки «Три медведя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06C0-8774-4EAF-9FE9-708D7E48AD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царевна умерла из-за отравленного яблока и кто ее авто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попали осколки льда Каю в сказке «Снежная королева» и кто ее авто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го превратился один из героев сказки после того, как попил грязной воды из лужи? Какая это сказ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один из героев был слепым, а другой – хром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FE15-EB6A-45C5-95E1-7169A013C0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200"/>
                </a:solidFill>
                <a:latin typeface="Calibri"/>
              </a:rPr>
              <a:t>Виктори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«Вынеси из дома вещи которыми можно отравить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0000"/>
                </a:solidFill>
                <a:uFillTx/>
                <a:latin typeface="Calibri"/>
              </a:rPr>
              <a:t>Педагог: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Эти вещества есть в каждом доме. Но при неправильном хранении и применении они могут представлять опасность для человека. С какими веществами нужно быть предельно осторожными? (На карточке отметить опасные веще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AC73-D34B-4925-929F-AAD97B7A3B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200"/>
                </a:solidFill>
                <a:latin typeface="Calibri"/>
              </a:rPr>
              <a:t>Викторина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«Собери рюкза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Педагог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: Вы все любите ходить в походы, а умеете ли вы собираться в пох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(Каждой команде выдается лист с названием предметов и веще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ам необходимо выбрать 15 необходимых (рядом со словом поставить галочк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D578-E2AC-42B6-AF13-F1FE4A5682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1CF-730E-428A-8769-4943DD00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45E-04A4-43BC-8FF0-088C08E0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A32-F0F4-4C0F-BF70-C7AAD171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4D1-6A0B-4C6C-81B7-6F63B612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314-86F7-431F-879C-C322CE4C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5B3-B2BB-4AD0-BA08-96E8B2FB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B73-7F5B-47C1-AC47-72539429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A6D-9405-40E0-A397-C33D0E38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4E5-D981-497E-ABBB-03DFDE7C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DCF-CDBD-4F48-89E6-517440CD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7AB-D118-4139-BD3C-D947633F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969-2451-49F2-B01E-BA84AEB5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076C-956B-4A75-B4EE-223C7BABD8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2276640"/>
            <a:ext cx="51116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4200"/>
                </a:solidFill>
                <a:latin typeface="Times New Roman"/>
              </a:rPr>
              <a:t>Условия безопасного поведе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Медицинская помощь без взросл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Users\дом\Documents\03.jpg"/>
          <p:cNvPicPr/>
          <p:nvPr/>
        </p:nvPicPr>
        <p:blipFill>
          <a:blip r:embed="rId1"/>
          <a:stretch/>
        </p:blipFill>
        <p:spPr>
          <a:xfrm>
            <a:off x="890640" y="1785960"/>
            <a:ext cx="6110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920" y="714240"/>
            <a:ext cx="585792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Тест</a:t>
            </a: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акое средство из аптечки вы выберете, если человек упал в обморок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C:\Users\дом\Documents\спирт.jpg"/>
          <p:cNvPicPr/>
          <p:nvPr/>
        </p:nvPicPr>
        <p:blipFill>
          <a:blip r:embed="rId1"/>
          <a:stretch/>
        </p:blipFill>
        <p:spPr>
          <a:xfrm>
            <a:off x="1285920" y="2928960"/>
            <a:ext cx="39290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Как остановить сильное кровотечени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C:\Users\дом\Documents\кровь.jpg"/>
          <p:cNvPicPr/>
          <p:nvPr/>
        </p:nvPicPr>
        <p:blipFill>
          <a:blip r:embed="rId1"/>
          <a:stretch/>
        </p:blipFill>
        <p:spPr>
          <a:xfrm>
            <a:off x="1643040" y="2143080"/>
            <a:ext cx="5500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ое средство вы выберете если порезались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C:\Users\дом\Documents\перикись.jpg"/>
          <p:cNvPicPr/>
          <p:nvPr/>
        </p:nvPicPr>
        <p:blipFill>
          <a:blip r:embed="rId1"/>
          <a:stretch/>
        </p:blipFill>
        <p:spPr>
          <a:xfrm>
            <a:off x="2071800" y="2112840"/>
            <a:ext cx="53578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е средство вы выберете, если при падении вы получили ссадину, а рану нужно обработа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C:\Users\дом\Documents\йод.jpg"/>
          <p:cNvPicPr/>
          <p:nvPr/>
        </p:nvPicPr>
        <p:blipFill>
          <a:blip r:embed="rId1"/>
          <a:stretch/>
        </p:blipFill>
        <p:spPr>
          <a:xfrm>
            <a:off x="1000080" y="2523960"/>
            <a:ext cx="600084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ое средство вы выберете, если сильно заболел зуб или голов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C:\Users\дом\Documents\ана.jpg"/>
          <p:cNvPicPr/>
          <p:nvPr/>
        </p:nvPicPr>
        <p:blipFill>
          <a:blip r:embed="rId1"/>
          <a:stretch/>
        </p:blipFill>
        <p:spPr>
          <a:xfrm>
            <a:off x="1500120" y="2523960"/>
            <a:ext cx="5643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8584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Составь слова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8000" spc="-1" strike="noStrike">
                <a:solidFill>
                  <a:srgbClr val="c00000"/>
                </a:solidFill>
                <a:latin typeface="Times New Roman"/>
              </a:rPr>
              <a:t>БЕЗОПАСНОСТЬ</a:t>
            </a:r>
            <a:br>
              <a:rPr sz="8000"/>
            </a:br>
            <a:br>
              <a:rPr sz="36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ак поступить?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ы один дома, смотришь любимую передачу, и вдруг у тебя задымился телевизор. Что нужно сделать?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Залить телевизор вод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позвать кого-нибудь на помощ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попытаться потушить, а если не получится, вызвать пожарных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отключить ток, накинуть па телевизор плотную ткань, позвонить по телефону 0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ы вечером возвращаешься домой и чувствуешь сильный запах газа. Что ты сделаешь?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Первым делом! зажгу свет и спичкой проверю, откуда идет га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пойду понюхаю, откуда пахн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позвоню в газовую службу и пойду на улицу ждать, когда они приеду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открою окно, постараюсь перекрыть газ и позвоню по телефону 04. и все эт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у делать, не включа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468360" y="1268280"/>
          <a:ext cx="8136000" cy="4286520"/>
        </p:xfrm>
        <a:graphic>
          <a:graphicData uri="http://schemas.openxmlformats.org/drawingml/2006/table">
            <a:tbl>
              <a:tblPr/>
              <a:tblGrid>
                <a:gridCol w="603360"/>
                <a:gridCol w="571320"/>
                <a:gridCol w="571680"/>
                <a:gridCol w="500040"/>
                <a:gridCol w="571320"/>
                <a:gridCol w="642960"/>
                <a:gridCol w="571680"/>
                <a:gridCol w="657000"/>
                <a:gridCol w="422280"/>
                <a:gridCol w="511200"/>
                <a:gridCol w="466920"/>
                <a:gridCol w="466560"/>
                <a:gridCol w="571680"/>
                <a:gridCol w="504720"/>
                <a:gridCol w="503280"/>
              </a:tblGrid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9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200"/>
                </a:solidFill>
                <a:latin typeface="Times New Roman"/>
              </a:rPr>
              <a:t>На Земле жизнь светла и прекрасна,</a:t>
            </a:r>
            <a:br>
              <a:rPr sz="4400"/>
            </a:br>
            <a:r>
              <a:rPr b="1" lang="ru-RU" sz="4400" spc="-1" strike="noStrike">
                <a:solidFill>
                  <a:srgbClr val="004200"/>
                </a:solidFill>
                <a:latin typeface="Times New Roman"/>
              </a:rPr>
              <a:t>Все мы дети природы родной.</a:t>
            </a:r>
            <a:br>
              <a:rPr sz="4400"/>
            </a:br>
            <a:r>
              <a:rPr b="1" lang="ru-RU" sz="4400" spc="-1" strike="noStrike">
                <a:solidFill>
                  <a:srgbClr val="004200"/>
                </a:solidFill>
                <a:latin typeface="Times New Roman"/>
              </a:rPr>
              <a:t>Но немало явлений опасных</a:t>
            </a:r>
            <a:br>
              <a:rPr sz="4400"/>
            </a:br>
            <a:r>
              <a:rPr b="1" lang="ru-RU" sz="4400" spc="-1" strike="noStrike">
                <a:solidFill>
                  <a:srgbClr val="004200"/>
                </a:solidFill>
                <a:latin typeface="Times New Roman"/>
              </a:rPr>
              <a:t>Угрожают нам с вами поро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Times New Roman"/>
              </a:rPr>
              <a:t>Молодцы!</a:t>
            </a: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c00000"/>
                </a:solidFill>
                <a:latin typeface="Times New Roman"/>
              </a:rPr>
              <a:t>Спасибо за участие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2" descr=":)"/>
          <p:cNvPicPr/>
          <p:nvPr/>
        </p:nvPicPr>
        <p:blipFill>
          <a:blip r:embed="rId1"/>
          <a:stretch/>
        </p:blipFill>
        <p:spPr>
          <a:xfrm>
            <a:off x="1476360" y="4437000"/>
            <a:ext cx="100800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езопасность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– это состояние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щищённо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человека, его имущества и окружающей среды от воздействия неблагоприятных факторо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857160" y="1214280"/>
            <a:ext cx="73580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Апельсин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 как дольки апельсина.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 дружны и недели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000080"/>
            <a:ext cx="40417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Улыбка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Улыбайся каждый раз, для здоровья это класс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Users\дом\Documents\улыбка.jpg"/>
          <p:cNvPicPr/>
          <p:nvPr/>
        </p:nvPicPr>
        <p:blipFill>
          <a:blip r:embed="rId1"/>
          <a:stretch/>
        </p:blipFill>
        <p:spPr>
          <a:xfrm>
            <a:off x="5500800" y="3143160"/>
            <a:ext cx="22590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дом\Documents\апельсин.jpg"/>
          <p:cNvPicPr/>
          <p:nvPr/>
        </p:nvPicPr>
        <p:blipFill>
          <a:blip r:embed="rId2"/>
          <a:stretch/>
        </p:blipFill>
        <p:spPr>
          <a:xfrm>
            <a:off x="1357200" y="3714840"/>
            <a:ext cx="2214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713880"/>
            <a:ext cx="67867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утешествие по сказк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C:\Users\дом\Documents\малыш и карлсон.jpg"/>
          <p:cNvPicPr/>
          <p:nvPr/>
        </p:nvPicPr>
        <p:blipFill>
          <a:blip r:embed="rId1"/>
          <a:stretch/>
        </p:blipFill>
        <p:spPr>
          <a:xfrm>
            <a:off x="642960" y="1785960"/>
            <a:ext cx="2357280" cy="221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дом\Documents\Илья Муромец.jpg"/>
          <p:cNvPicPr/>
          <p:nvPr/>
        </p:nvPicPr>
        <p:blipFill>
          <a:blip r:embed="rId2"/>
          <a:stretch/>
        </p:blipFill>
        <p:spPr>
          <a:xfrm>
            <a:off x="3071880" y="1857240"/>
            <a:ext cx="4786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дом\Documents\спящая царевна.jpg"/>
          <p:cNvPicPr/>
          <p:nvPr/>
        </p:nvPicPr>
        <p:blipFill>
          <a:blip r:embed="rId1"/>
          <a:stretch/>
        </p:blipFill>
        <p:spPr>
          <a:xfrm>
            <a:off x="214200" y="357120"/>
            <a:ext cx="3953160" cy="285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дом\Documents\мойдодыр.jpg"/>
          <p:cNvPicPr/>
          <p:nvPr/>
        </p:nvPicPr>
        <p:blipFill>
          <a:blip r:embed="rId2"/>
          <a:stretch/>
        </p:blipFill>
        <p:spPr>
          <a:xfrm>
            <a:off x="4429080" y="500040"/>
            <a:ext cx="3857760" cy="271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дом\Documents\принцесса нагорошине.jpg"/>
          <p:cNvPicPr/>
          <p:nvPr/>
        </p:nvPicPr>
        <p:blipFill>
          <a:blip r:embed="rId3"/>
          <a:stretch/>
        </p:blipFill>
        <p:spPr>
          <a:xfrm>
            <a:off x="214200" y="3143160"/>
            <a:ext cx="366732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дом\Documents\маша и три медведя.jpg"/>
          <p:cNvPicPr/>
          <p:nvPr/>
        </p:nvPicPr>
        <p:blipFill>
          <a:blip r:embed="rId4"/>
          <a:stretch/>
        </p:blipFill>
        <p:spPr>
          <a:xfrm>
            <a:off x="3929040" y="342900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дом\Documents\царевнв.jpg"/>
          <p:cNvPicPr/>
          <p:nvPr/>
        </p:nvPicPr>
        <p:blipFill>
          <a:blip r:embed="rId1"/>
          <a:stretch/>
        </p:blipFill>
        <p:spPr>
          <a:xfrm>
            <a:off x="500040" y="500040"/>
            <a:ext cx="4143240" cy="2786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дом\Documents\снежная королева.png"/>
          <p:cNvPicPr/>
          <p:nvPr/>
        </p:nvPicPr>
        <p:blipFill>
          <a:blip r:embed="rId2"/>
          <a:stretch/>
        </p:blipFill>
        <p:spPr>
          <a:xfrm>
            <a:off x="4643280" y="714240"/>
            <a:ext cx="4214880" cy="3000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дом\Documents\Аленушка.jpg"/>
          <p:cNvPicPr/>
          <p:nvPr/>
        </p:nvPicPr>
        <p:blipFill>
          <a:blip r:embed="rId3"/>
          <a:stretch/>
        </p:blipFill>
        <p:spPr>
          <a:xfrm>
            <a:off x="142920" y="32148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дом\Documents\буратино.jpg"/>
          <p:cNvPicPr/>
          <p:nvPr/>
        </p:nvPicPr>
        <p:blipFill>
          <a:blip r:embed="rId4"/>
          <a:stretch/>
        </p:blipFill>
        <p:spPr>
          <a:xfrm>
            <a:off x="3571920" y="3357720"/>
            <a:ext cx="45003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Times New Roman"/>
              </a:rPr>
              <a:t>Викторин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«Вынеси из дома вещи которыми можно отравитьс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500040" y="178596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 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лекар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хранящиеся в доступности для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 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редства бытовой хим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редство для мытья посуды, стоящее на полочке в кухне), сельскохозяйственные препараты (удобрения на даче), яды (средство от насекомых, грызунов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 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рижигающие жидк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бензин в гараже, керосин, ацетон, лаки, краски, растворители и другие испаряющиеся вещества;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уксусная эссен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 кухне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коголь 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785880" y="15001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5"/>
          <p:cNvSpPr/>
          <p:nvPr/>
        </p:nvSpPr>
        <p:spPr>
          <a:xfrm rot="10236000">
            <a:off x="4581000" y="75049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200"/>
                </a:solidFill>
                <a:latin typeface="Times New Roman"/>
              </a:rPr>
              <a:t>Викторина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«Собери рюкзак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C:\Users\дом\Documents\рюкзак.jpg"/>
          <p:cNvPicPr/>
          <p:nvPr/>
        </p:nvPicPr>
        <p:blipFill>
          <a:blip r:embed="rId1"/>
          <a:stretch/>
        </p:blipFill>
        <p:spPr>
          <a:xfrm>
            <a:off x="1000080" y="2000160"/>
            <a:ext cx="67867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дом</cp:lastModifiedBy>
  <dcterms:modified xsi:type="dcterms:W3CDTF">2015-10-08T13:10:07Z</dcterms:modified>
  <cp:revision>79</cp:revision>
  <dc:subject/>
  <dc:title>Слайд 1</dc:title>
</cp:coreProperties>
</file>