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F53-80A6-48F9-98CD-F6595BAB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0D8-5B44-45B3-814A-909CC704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611-59C1-4109-AC36-5C5DD97A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9B4-E225-48B5-9B95-2B859F23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D2B0-010E-44C8-B52A-401FAB05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E725-C8C3-4AAE-9108-ACDC892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D41-9E13-4AB3-92E8-FFE6D28B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2B8-8493-4BEF-BA44-A477F5B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46F-8D30-453D-87E4-9C8515B9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9311-196A-46E3-A16E-5DB42DB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14E-1CCC-4556-ABF8-15FF334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60-D276-4798-943E-8A4CD51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28D-DF4B-4531-868C-347D7A3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6F02-95CF-4FD9-83A3-9AD082B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97FA-79E8-46B5-A491-D06EBECA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9888-57A6-4DDF-9B0A-270F5C7F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9512-77E5-4893-B0EF-9CA3AD67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0812-8C69-4936-91B2-9E685592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9659-9940-4C1F-A1D7-C7DD1C1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DBB2-78A6-4BBA-B4EE-46AC9797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C595-193F-4F01-A036-C3B06D5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3D3B-6DF6-4E0F-8749-E6030223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848-2588-439E-962B-CCB5FB4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C068-F517-47B5-B280-C75A1627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8C58-19AE-4E85-A6E3-7F9338C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3569-D7AB-4209-870C-91D18EC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4D57-115E-4E36-8033-4BE68A0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1468-5451-4B6A-9991-BB31E35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5CA4-81BC-4088-8A32-65AA977C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0ED3-F022-48C1-8F95-8BB0FAEA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B1C5-FB16-4FFB-8F8C-32B46CF0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2786-83CB-40C4-97AE-3A60BDC4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6539-30DD-45E4-B427-1C2DED0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B8C-8214-4C97-B039-CAEDDA7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B44D-E8C3-4355-8420-42ED385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A1D4-9090-45E8-8A0A-47F89002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2FEC-E2DE-46F5-ADE0-7AC32387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1AEF-FB4C-4B40-AF49-3C38D52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C178-332C-414E-9E34-91E787A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EBD7-A0E3-4633-AA4D-A7F36DB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E269-EA93-42EB-83EC-13D16CC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5E6D-CFCF-41D7-AD9F-178E7E79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0A32-E935-4F6E-B6C9-CE7EE3B0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21AD-1061-4153-A6A0-A6C2AB72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EA9-0050-412D-88A4-E8A28C8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07D7-AB39-48C2-92B2-692001E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F455-4B29-4427-A737-0C99075F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5ABA-4E78-4B21-9F73-1A3A362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DC29-C4CD-49EF-A09C-04197AE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77CB-B481-4AEB-BC3B-7B7A8B07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7AB0-4C72-4697-AA47-61346DD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2BFD-32EA-4283-A735-E79CF5F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59411-234A-48DC-85CE-7FAB506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46DE-1D12-415E-BD96-84BCF45F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B208-1E62-4CB4-91C2-30487D65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2AF-3D70-4869-8264-47996EE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4669-AF13-4868-9937-E006337D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245-FA83-49AB-93FC-0346907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80C-2BCB-4F2C-89FD-C8720FF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513-FC10-453A-AE1C-6EE376E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BD4-77D5-45E7-96CB-086D154DA8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4C64-74FC-4B90-BE45-04534078F4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F39-E2D8-4160-A07A-8CB83AFD1D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173-0953-4530-BCC8-D9286F2B44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CD7-ABE2-40F7-AF32-24482BBBB2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071720" y="549360"/>
            <a:ext cx="738792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мер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071800" y="27082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Алфавитный подхо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780000" y="53737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БОУ СОШ № 28 г.Симферопо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харова Наталия Ива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7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95280" y="549360"/>
            <a:ext cx="842472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 алфавитном подходе  считают, что каждый символ текста, имеет информационный ве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символа зависит от мощности алфави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ем больше алфавит, тем больше информационный вес симво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объёма информации необходимо определить сколько раз информация равная 1 биту содержится в определяемом объёме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361800" y="1625760"/>
            <a:ext cx="864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2 чашки – красная и белая и 2 блюдца – красное и бел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колько и каких существует набор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57"/>
          <p:cNvSpPr/>
          <p:nvPr/>
        </p:nvSpPr>
        <p:spPr>
          <a:xfrm>
            <a:off x="214200" y="585792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Каждый символ четырёхзначного алфавита весит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 бита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38" descr="http://www.boom-dom.ru/image/data/2/29/294/29478129_8314.jpg"/>
          <p:cNvPicPr/>
          <p:nvPr/>
        </p:nvPicPr>
        <p:blipFill>
          <a:blip r:embed="rId1"/>
          <a:stretch/>
        </p:blipFill>
        <p:spPr>
          <a:xfrm>
            <a:off x="279360" y="2963880"/>
            <a:ext cx="1959120" cy="1306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0" descr="http://img1.liveinternet.ru/images/attach/c/6/93/626/93626239_chashka.htm"/>
          <p:cNvPicPr/>
          <p:nvPr/>
        </p:nvPicPr>
        <p:blipFill>
          <a:blip r:embed="rId2"/>
          <a:stretch/>
        </p:blipFill>
        <p:spPr>
          <a:xfrm>
            <a:off x="326880" y="4365720"/>
            <a:ext cx="1797120" cy="1347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2" descr="http://u2.abo.com.ua/image/0F627/d-cup-saucer-kawi-s-d-9-8sm-h-8-2sm-d-15cm-color-it-bly-chervoniy.jpg"/>
          <p:cNvPicPr/>
          <p:nvPr/>
        </p:nvPicPr>
        <p:blipFill>
          <a:blip r:embed="rId3"/>
          <a:stretch/>
        </p:blipFill>
        <p:spPr>
          <a:xfrm>
            <a:off x="2556000" y="296388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4" descr="http://www.hypermarka.com/res_ru/0_svc_319621_1.jpg"/>
          <p:cNvPicPr/>
          <p:nvPr/>
        </p:nvPicPr>
        <p:blipFill>
          <a:blip r:embed="rId4"/>
          <a:stretch/>
        </p:blipFill>
        <p:spPr>
          <a:xfrm>
            <a:off x="2397240" y="4334040"/>
            <a:ext cx="1623960" cy="16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200480" y="3068640"/>
          <a:ext cx="436680" cy="741240"/>
        </p:xfrm>
        <a:graphic>
          <a:graphicData uri="http://schemas.openxmlformats.org/drawingml/2006/table">
            <a:tbl>
              <a:tblPr/>
              <a:tblGrid>
                <a:gridCol w="436680"/>
              </a:tblGrid>
              <a:tr h="3715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97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356000" y="4149720"/>
          <a:ext cx="4518000" cy="1011240"/>
        </p:xfrm>
        <a:graphic>
          <a:graphicData uri="http://schemas.openxmlformats.org/drawingml/2006/table">
            <a:tbl>
              <a:tblPr/>
              <a:tblGrid>
                <a:gridCol w="1128960"/>
                <a:gridCol w="1130040"/>
                <a:gridCol w="1128960"/>
                <a:gridCol w="11300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на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3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050920" y="115920"/>
            <a:ext cx="6266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Задача про Белоснеж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620640"/>
            <a:ext cx="842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лоснежка предложила гномам раскрасить флажки к празднику, но в Сказочном лесу только 2 карандаша – красный и синий. К удивлению Белоснежки все флаги были разными. Она тоже раскрасила флажок и он получился не похожим на осталь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к были раскрашены флажк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539640" y="270828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539640" y="2708280"/>
            <a:ext cx="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755640" y="2781360"/>
            <a:ext cx="503280" cy="503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Равнобедренный треугольник 7"/>
          <p:cNvSpPr/>
          <p:nvPr/>
        </p:nvSpPr>
        <p:spPr>
          <a:xfrm>
            <a:off x="1403280" y="278136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2124000" y="2781360"/>
            <a:ext cx="503280" cy="5032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66960" y="3645000"/>
          <a:ext cx="868320" cy="7412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265" name="Прямоугольник 10"/>
          <p:cNvSpPr/>
          <p:nvPr/>
        </p:nvSpPr>
        <p:spPr>
          <a:xfrm>
            <a:off x="3276720" y="2533680"/>
            <a:ext cx="2303280" cy="71928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Овал 11"/>
          <p:cNvSpPr/>
          <p:nvPr/>
        </p:nvSpPr>
        <p:spPr>
          <a:xfrm>
            <a:off x="3492360" y="2695680"/>
            <a:ext cx="503280" cy="50472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Равнобедренный треугольник 12"/>
          <p:cNvSpPr/>
          <p:nvPr/>
        </p:nvSpPr>
        <p:spPr>
          <a:xfrm>
            <a:off x="4140360" y="2612880"/>
            <a:ext cx="576000" cy="505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4859280" y="2612880"/>
            <a:ext cx="504720" cy="5050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3276720" y="3549600"/>
            <a:ext cx="23032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Овал 15"/>
          <p:cNvSpPr/>
          <p:nvPr/>
        </p:nvSpPr>
        <p:spPr>
          <a:xfrm>
            <a:off x="3492360" y="3621240"/>
            <a:ext cx="503280" cy="50472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Равнобедренный треугольник 16"/>
          <p:cNvSpPr/>
          <p:nvPr/>
        </p:nvSpPr>
        <p:spPr>
          <a:xfrm>
            <a:off x="4140360" y="362124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4859280" y="3581280"/>
            <a:ext cx="504720" cy="50508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Прямоугольник 18"/>
          <p:cNvSpPr/>
          <p:nvPr/>
        </p:nvSpPr>
        <p:spPr>
          <a:xfrm>
            <a:off x="3271680" y="451332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Овал 19"/>
          <p:cNvSpPr/>
          <p:nvPr/>
        </p:nvSpPr>
        <p:spPr>
          <a:xfrm>
            <a:off x="3487680" y="4586400"/>
            <a:ext cx="503280" cy="50328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Равнобедренный треугольник 20"/>
          <p:cNvSpPr/>
          <p:nvPr/>
        </p:nvSpPr>
        <p:spPr>
          <a:xfrm>
            <a:off x="4135320" y="458640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оугольник 21"/>
          <p:cNvSpPr/>
          <p:nvPr/>
        </p:nvSpPr>
        <p:spPr>
          <a:xfrm>
            <a:off x="4856040" y="4545000"/>
            <a:ext cx="503280" cy="50472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22"/>
          <p:cNvSpPr/>
          <p:nvPr/>
        </p:nvSpPr>
        <p:spPr>
          <a:xfrm>
            <a:off x="3271680" y="5484960"/>
            <a:ext cx="230364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Овал 23"/>
          <p:cNvSpPr/>
          <p:nvPr/>
        </p:nvSpPr>
        <p:spPr>
          <a:xfrm>
            <a:off x="3487680" y="5557680"/>
            <a:ext cx="503280" cy="50328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Равнобедренный треугольник 24"/>
          <p:cNvSpPr/>
          <p:nvPr/>
        </p:nvSpPr>
        <p:spPr>
          <a:xfrm>
            <a:off x="4135320" y="551664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оугольник 25"/>
          <p:cNvSpPr/>
          <p:nvPr/>
        </p:nvSpPr>
        <p:spPr>
          <a:xfrm>
            <a:off x="4856040" y="5516640"/>
            <a:ext cx="50328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26"/>
          <p:cNvSpPr/>
          <p:nvPr/>
        </p:nvSpPr>
        <p:spPr>
          <a:xfrm>
            <a:off x="6227640" y="254160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Овал 27"/>
          <p:cNvSpPr/>
          <p:nvPr/>
        </p:nvSpPr>
        <p:spPr>
          <a:xfrm>
            <a:off x="6443640" y="2612880"/>
            <a:ext cx="504720" cy="5050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Равнобедренный треугольник 28"/>
          <p:cNvSpPr/>
          <p:nvPr/>
        </p:nvSpPr>
        <p:spPr>
          <a:xfrm>
            <a:off x="7093080" y="2612880"/>
            <a:ext cx="574560" cy="505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оугольник 29"/>
          <p:cNvSpPr/>
          <p:nvPr/>
        </p:nvSpPr>
        <p:spPr>
          <a:xfrm>
            <a:off x="7812000" y="2612880"/>
            <a:ext cx="505080" cy="5050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6227640" y="3565440"/>
            <a:ext cx="2305080" cy="71928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Овал 31"/>
          <p:cNvSpPr/>
          <p:nvPr/>
        </p:nvSpPr>
        <p:spPr>
          <a:xfrm>
            <a:off x="6443640" y="3597120"/>
            <a:ext cx="504720" cy="5032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Равнобедренный треугольник 32"/>
          <p:cNvSpPr/>
          <p:nvPr/>
        </p:nvSpPr>
        <p:spPr>
          <a:xfrm>
            <a:off x="7093080" y="3597120"/>
            <a:ext cx="574560" cy="503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33"/>
          <p:cNvSpPr/>
          <p:nvPr/>
        </p:nvSpPr>
        <p:spPr>
          <a:xfrm>
            <a:off x="7812000" y="3597120"/>
            <a:ext cx="50508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34"/>
          <p:cNvSpPr/>
          <p:nvPr/>
        </p:nvSpPr>
        <p:spPr>
          <a:xfrm>
            <a:off x="6227640" y="462600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Овал 35"/>
          <p:cNvSpPr/>
          <p:nvPr/>
        </p:nvSpPr>
        <p:spPr>
          <a:xfrm>
            <a:off x="6443640" y="4657680"/>
            <a:ext cx="504720" cy="50328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Равнобедренный треугольник 36"/>
          <p:cNvSpPr/>
          <p:nvPr/>
        </p:nvSpPr>
        <p:spPr>
          <a:xfrm>
            <a:off x="7093080" y="4657680"/>
            <a:ext cx="5745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Прямоугольник 37"/>
          <p:cNvSpPr/>
          <p:nvPr/>
        </p:nvSpPr>
        <p:spPr>
          <a:xfrm>
            <a:off x="7812000" y="4657680"/>
            <a:ext cx="505080" cy="503280"/>
          </a:xfrm>
          <a:prstGeom prst="rect">
            <a:avLst/>
          </a:prstGeom>
          <a:solidFill>
            <a:srgbClr val="0070c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оугольник 38"/>
          <p:cNvSpPr/>
          <p:nvPr/>
        </p:nvSpPr>
        <p:spPr>
          <a:xfrm>
            <a:off x="6227640" y="5629320"/>
            <a:ext cx="2305080" cy="720720"/>
          </a:xfrm>
          <a:prstGeom prst="rect">
            <a:avLst/>
          </a:prstGeom>
          <a:solidFill>
            <a:srgbClr val="1b587c"/>
          </a:solidFill>
          <a:ln w="42480">
            <a:solidFill>
              <a:srgbClr val="113e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Овал 39"/>
          <p:cNvSpPr/>
          <p:nvPr/>
        </p:nvSpPr>
        <p:spPr>
          <a:xfrm>
            <a:off x="6443640" y="5661000"/>
            <a:ext cx="504720" cy="50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Равнобедренный треугольник 40"/>
          <p:cNvSpPr/>
          <p:nvPr/>
        </p:nvSpPr>
        <p:spPr>
          <a:xfrm>
            <a:off x="7093080" y="5661000"/>
            <a:ext cx="574560" cy="50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Прямоугольник 41"/>
          <p:cNvSpPr/>
          <p:nvPr/>
        </p:nvSpPr>
        <p:spPr>
          <a:xfrm>
            <a:off x="7812000" y="5661000"/>
            <a:ext cx="50508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79280" y="2444760"/>
          <a:ext cx="8777520" cy="1200240"/>
        </p:xfrm>
        <a:graphic>
          <a:graphicData uri="http://schemas.openxmlformats.org/drawingml/2006/table">
            <a:tbl>
              <a:tblPr/>
              <a:tblGrid>
                <a:gridCol w="2300400"/>
                <a:gridCol w="1650960"/>
                <a:gridCol w="603360"/>
                <a:gridCol w="603000"/>
                <a:gridCol w="603360"/>
                <a:gridCol w="603360"/>
                <a:gridCol w="603360"/>
                <a:gridCol w="603000"/>
                <a:gridCol w="603360"/>
                <a:gridCol w="603360"/>
              </a:tblGrid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тырёхзначный алфа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ядков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98" name="Text Box 90"/>
          <p:cNvSpPr/>
          <p:nvPr/>
        </p:nvSpPr>
        <p:spPr>
          <a:xfrm>
            <a:off x="611280" y="333360"/>
            <a:ext cx="8532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фавит мощностью 8 знаков можно закодировать на машинном языке с помощью трёх символов двоичного алфав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39"/>
          <p:cNvSpPr/>
          <p:nvPr/>
        </p:nvSpPr>
        <p:spPr>
          <a:xfrm>
            <a:off x="179280" y="4292640"/>
            <a:ext cx="8713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ес символа восьмизначного алфавита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 би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http://wiki.iteach.ru/images/f/f0/%D0%92%D0%BE%D0%BF%D1%80%D0%BE%D1%811.jpg"/>
          <p:cNvPicPr/>
          <p:nvPr/>
        </p:nvPicPr>
        <p:blipFill>
          <a:blip r:embed="rId1"/>
          <a:stretch/>
        </p:blipFill>
        <p:spPr>
          <a:xfrm>
            <a:off x="3059280" y="2205000"/>
            <a:ext cx="3151080" cy="38880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" descr=""/>
          <p:cNvPicPr/>
          <p:nvPr/>
        </p:nvPicPr>
        <p:blipFill>
          <a:blip r:embed="rId2"/>
          <a:stretch/>
        </p:blipFill>
        <p:spPr>
          <a:xfrm>
            <a:off x="2682720" y="304920"/>
            <a:ext cx="377352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95280" y="227664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ый вес каждого символа, выраженный в битах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 мощность алфавит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аны между собой формулой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 = 2</a:t>
            </a:r>
            <a:r>
              <a:rPr b="1" lang="en-US" sz="28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5892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58920" y="189000"/>
            <a:ext cx="788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пользуемся формулой </a:t>
            </a:r>
            <a:r>
              <a:rPr b="1" lang="en-US" sz="2400" spc="-1" strike="noStrike">
                <a:solidFill>
                  <a:srgbClr val="6b9f25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6b9f25"/>
                </a:solidFill>
                <a:latin typeface="Tahoma"/>
              </a:rPr>
              <a:t> = 2</a:t>
            </a:r>
            <a:r>
              <a:rPr b="1" lang="en-US" sz="24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6b9f25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узнаем мощность алфавита, в зависимости от объёма информации, содержащегося в одном символе данного алфави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Tahoma"/>
              </a:rPr>
              <a:t>*Используйте калькулято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7883640" y="3544920"/>
            <a:ext cx="100332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29"/>
          <p:cNvSpPr/>
          <p:nvPr/>
        </p:nvSpPr>
        <p:spPr>
          <a:xfrm>
            <a:off x="711360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6343560" y="3544920"/>
            <a:ext cx="770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573880" y="3544920"/>
            <a:ext cx="76968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26"/>
          <p:cNvSpPr/>
          <p:nvPr/>
        </p:nvSpPr>
        <p:spPr>
          <a:xfrm>
            <a:off x="504684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519440" y="3544920"/>
            <a:ext cx="5274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399240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346536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93832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1"/>
          <p:cNvSpPr/>
          <p:nvPr/>
        </p:nvSpPr>
        <p:spPr>
          <a:xfrm>
            <a:off x="2411280" y="3544920"/>
            <a:ext cx="52704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179280" y="3544920"/>
            <a:ext cx="2232000" cy="105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щность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7883640" y="2492280"/>
            <a:ext cx="100332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11360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6343560" y="2492280"/>
            <a:ext cx="770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5573880" y="2492280"/>
            <a:ext cx="76968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504684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519440" y="2492280"/>
            <a:ext cx="5274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99240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46536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293832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411280" y="2492280"/>
            <a:ext cx="52704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79280" y="2492280"/>
            <a:ext cx="2232000" cy="1052640"/>
          </a:xfrm>
          <a:prstGeom prst="rect">
            <a:avLst/>
          </a:prstGeom>
          <a:solidFill>
            <a:srgbClr val="9b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бит в одном символе алфав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33"/>
          <p:cNvSpPr/>
          <p:nvPr/>
        </p:nvSpPr>
        <p:spPr>
          <a:xfrm>
            <a:off x="179280" y="249228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34"/>
          <p:cNvSpPr/>
          <p:nvPr/>
        </p:nvSpPr>
        <p:spPr>
          <a:xfrm>
            <a:off x="179280" y="3544920"/>
            <a:ext cx="870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179280" y="4595760"/>
            <a:ext cx="8707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17928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37"/>
          <p:cNvSpPr/>
          <p:nvPr/>
        </p:nvSpPr>
        <p:spPr>
          <a:xfrm>
            <a:off x="24112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38"/>
          <p:cNvSpPr/>
          <p:nvPr/>
        </p:nvSpPr>
        <p:spPr>
          <a:xfrm>
            <a:off x="293832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39"/>
          <p:cNvSpPr/>
          <p:nvPr/>
        </p:nvSpPr>
        <p:spPr>
          <a:xfrm>
            <a:off x="34653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40"/>
          <p:cNvSpPr/>
          <p:nvPr/>
        </p:nvSpPr>
        <p:spPr>
          <a:xfrm>
            <a:off x="39924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41"/>
          <p:cNvSpPr/>
          <p:nvPr/>
        </p:nvSpPr>
        <p:spPr>
          <a:xfrm>
            <a:off x="45194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42"/>
          <p:cNvSpPr/>
          <p:nvPr/>
        </p:nvSpPr>
        <p:spPr>
          <a:xfrm>
            <a:off x="50468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557388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44"/>
          <p:cNvSpPr/>
          <p:nvPr/>
        </p:nvSpPr>
        <p:spPr>
          <a:xfrm>
            <a:off x="634356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45"/>
          <p:cNvSpPr/>
          <p:nvPr/>
        </p:nvSpPr>
        <p:spPr>
          <a:xfrm>
            <a:off x="711360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6"/>
          <p:cNvSpPr/>
          <p:nvPr/>
        </p:nvSpPr>
        <p:spPr>
          <a:xfrm>
            <a:off x="7883640" y="249228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9"/>
          <p:cNvSpPr/>
          <p:nvPr/>
        </p:nvSpPr>
        <p:spPr>
          <a:xfrm>
            <a:off x="8886960" y="2492280"/>
            <a:ext cx="0" cy="210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1332000" y="692280"/>
            <a:ext cx="7488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фавит из которого составляется на компьютере текст (документ) состоит из 256 симво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4000" y="1844640"/>
            <a:ext cx="864072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алфавит содержит символы: строчные и прописные латинские и русские буквы, цифры, знаки арифметических операций, всевозможные скобки, знаки препинания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24000" y="3429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формулы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en-US" sz="3200" spc="-1" strike="noStrike" baseline="30000">
                <a:solidFill>
                  <a:srgbClr val="6b9f25"/>
                </a:solidFill>
                <a:latin typeface="Tahoma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е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25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lang="ru-RU" sz="3200" spc="-1" strike="noStrike" baseline="30000">
                <a:solidFill>
                  <a:srgbClr val="6b9f25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57120" y="407196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Значит, каждый символ алфавита используемого в компьютере для печати документов веси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8 бит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42960" y="5072040"/>
            <a:ext cx="7921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у величину приняли так же за единицу измерения информации и дали название бай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9f25"/>
                </a:solidFill>
                <a:latin typeface="Tahoma"/>
              </a:rPr>
              <a:t>8 бит = 1 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AutoShape 9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8028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Куб 9"/>
          <p:cNvSpPr/>
          <p:nvPr/>
        </p:nvSpPr>
        <p:spPr>
          <a:xfrm>
            <a:off x="714240" y="1714680"/>
            <a:ext cx="2500560" cy="25002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крупных единиц в мел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14240" y="5214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0 байт =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Куб 8"/>
          <p:cNvSpPr/>
          <p:nvPr/>
        </p:nvSpPr>
        <p:spPr>
          <a:xfrm>
            <a:off x="5857920" y="2071800"/>
            <a:ext cx="1571760" cy="15714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Стрелка вправо 10"/>
          <p:cNvSpPr/>
          <p:nvPr/>
        </p:nvSpPr>
        <p:spPr>
          <a:xfrm>
            <a:off x="3357720" y="2643120"/>
            <a:ext cx="2286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Овальная выноска 11"/>
          <p:cNvSpPr/>
          <p:nvPr/>
        </p:nvSpPr>
        <p:spPr>
          <a:xfrm>
            <a:off x="4286160" y="1071720"/>
            <a:ext cx="1571760" cy="1143000"/>
          </a:xfrm>
          <a:prstGeom prst="wedgeEllipseCallout">
            <a:avLst>
              <a:gd name="adj1" fmla="val -60361"/>
              <a:gd name="adj2" fmla="val 81606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Verdana"/>
              </a:rPr>
              <a:t>*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785880" y="4857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ит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Прямоугольник 38" descr=""/>
          <p:cNvPicPr/>
          <p:nvPr/>
        </p:nvPicPr>
        <p:blipFill>
          <a:blip r:embed="rId1"/>
          <a:stretch/>
        </p:blipFill>
        <p:spPr>
          <a:xfrm>
            <a:off x="2736720" y="4973760"/>
            <a:ext cx="315144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Куб 9"/>
          <p:cNvSpPr/>
          <p:nvPr/>
        </p:nvSpPr>
        <p:spPr>
          <a:xfrm>
            <a:off x="5572080" y="1928880"/>
            <a:ext cx="2500200" cy="250020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857160" y="52862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2 бита =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Куб 8"/>
          <p:cNvSpPr/>
          <p:nvPr/>
        </p:nvSpPr>
        <p:spPr>
          <a:xfrm>
            <a:off x="1214280" y="2786040"/>
            <a:ext cx="1571760" cy="1571760"/>
          </a:xfrm>
          <a:prstGeom prst="cube">
            <a:avLst>
              <a:gd name="adj" fmla="val 2500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Л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ДИНИЦ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Стрелка вправо 10"/>
          <p:cNvSpPr/>
          <p:nvPr/>
        </p:nvSpPr>
        <p:spPr>
          <a:xfrm>
            <a:off x="3214800" y="3214800"/>
            <a:ext cx="1857240" cy="4284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Овальная выноска 11"/>
          <p:cNvSpPr/>
          <p:nvPr/>
        </p:nvSpPr>
        <p:spPr>
          <a:xfrm>
            <a:off x="3500280" y="1357200"/>
            <a:ext cx="1571760" cy="1357560"/>
          </a:xfrm>
          <a:prstGeom prst="wedgeEllipseCallout">
            <a:avLst>
              <a:gd name="adj1" fmla="val -22148"/>
              <a:gd name="adj2" fmla="val 84560"/>
            </a:avLst>
          </a:prstGeom>
          <a:solidFill>
            <a:srgbClr val="c19859"/>
          </a:solidFill>
          <a:ln w="4248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928800" y="28584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вод из мелких единиц в круп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928800" y="49291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ведите  в байт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Прямоугольник 38" descr=""/>
          <p:cNvPicPr/>
          <p:nvPr/>
        </p:nvPicPr>
        <p:blipFill>
          <a:blip r:embed="rId1"/>
          <a:stretch/>
        </p:blipFill>
        <p:spPr>
          <a:xfrm>
            <a:off x="2876400" y="4973760"/>
            <a:ext cx="354816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8d3e"/>
                </a:solidFill>
                <a:uFillTx/>
                <a:latin typeface="Verdana"/>
              </a:rPr>
              <a:t>Оглав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1" action="ppaction://hlinksldjump"/>
              </a:rPr>
              <a:t>Введ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2" action="ppaction://hlinksldjump"/>
              </a:rPr>
              <a:t>Подходы к измерению информ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3" action="ppaction://hlinksldjump"/>
              </a:rPr>
              <a:t>Алфав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4" action="ppaction://hlinksldjump"/>
              </a:rPr>
              <a:t>Задача с чаш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5" action="ppaction://hlinksldjump"/>
              </a:rPr>
              <a:t>Задача «Белоснеж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ицы измерения информационного обь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468360" y="260280"/>
            <a:ext cx="828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ья содержит 30 страниц, на каждой странице - 40 строк, в каждой строке 50 символов. Какой объём информации содержит стать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00000" y="2610000"/>
            <a:ext cx="799308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На каждой странице 5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40 = 2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) во всей статье 2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30 = 60000 символ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) т. к. вес каждого символа равен 1 байту, следовательно, информационный объём всей стать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1 = 60000 бай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ли 60000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8 = 480000 б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539640" y="476280"/>
          <a:ext cx="7772400" cy="85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85392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фавит содержит 32 буквы. Какое количество информации несет одна букв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Rectangle 1"/>
          <p:cNvSpPr/>
          <p:nvPr/>
        </p:nvSpPr>
        <p:spPr>
          <a:xfrm>
            <a:off x="1182600" y="39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11280" y="1268280"/>
          <a:ext cx="7772400" cy="7318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32 =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значит вес одного символа b = 5 б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2"/>
          <p:cNvSpPr/>
          <p:nvPr/>
        </p:nvSpPr>
        <p:spPr>
          <a:xfrm>
            <a:off x="1182600" y="389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5280" y="2220840"/>
          <a:ext cx="8640720" cy="1279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28016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, записанное буквами из 16 символьного алфавита, содержит 10 символов. Какой объем информации в битах оно нес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3"/>
          <p:cNvSpPr/>
          <p:nvPr/>
        </p:nvSpPr>
        <p:spPr>
          <a:xfrm>
            <a:off x="1182600" y="389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95280" y="3778200"/>
          <a:ext cx="7772400" cy="7304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щность алфавита N = 16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 состоит из 10 симво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4"/>
          <p:cNvSpPr/>
          <p:nvPr/>
        </p:nvSpPr>
        <p:spPr>
          <a:xfrm>
            <a:off x="1182600" y="36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95280" y="4844880"/>
          <a:ext cx="8353440" cy="14637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46376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16 =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значит вес одного символа b = 4 би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Всего символов 10, значит объем информации 10 * 4 = 40 б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5"/>
          <p:cNvSpPr/>
          <p:nvPr/>
        </p:nvSpPr>
        <p:spPr>
          <a:xfrm>
            <a:off x="118260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900000" y="333360"/>
          <a:ext cx="7772400" cy="1096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09764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ое сообщение объемом 300 бит содержит 100 символ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ва мощность алфави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3"/>
          <p:cNvSpPr/>
          <p:nvPr/>
        </p:nvSpPr>
        <p:spPr>
          <a:xfrm>
            <a:off x="1182600" y="39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55640" y="2205000"/>
          <a:ext cx="7772400" cy="7318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31880">
                <a:tc>
                  <a:txBody>
                    <a:bodyPr lIns="127080" rIns="12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 сообщения = 300 бит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 состоит из 100 симво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Rectangle 4"/>
          <p:cNvSpPr/>
          <p:nvPr/>
        </p:nvSpPr>
        <p:spPr>
          <a:xfrm>
            <a:off x="1182600" y="36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39640" y="3800520"/>
          <a:ext cx="7772400" cy="1096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097640">
                <a:tc>
                  <a:txBody>
                    <a:bodyPr lIns="127080" rIns="12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Определим вес одного символа: 300 / 100 = 3 би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Мощность алфавита определяем по формуле: 2 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= 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27080" marR="12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5"/>
          <p:cNvSpPr/>
          <p:nvPr/>
        </p:nvSpPr>
        <p:spPr>
          <a:xfrm>
            <a:off x="118260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Единицы измерения информационного объё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39640" y="2214720"/>
            <a:ext cx="817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байт    = 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ит = 8 би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Кбайт  = 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айт = 1024 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Мбайт  =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байт = 1024 К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Гбайт  =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байт =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024 М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 Тбайт =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байт =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024 Гбай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32400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битов информации содержится в сообщении размером 8 байто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1403280" y="1268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1 байт равен 8 бит. 8×8=64 б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293760" y="2133720"/>
            <a:ext cx="29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байтов информации содержится в сообщении размером четверть мегабайт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3492360" y="2276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Мб=1024 Кб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24 Кб / 4=256 Кб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Кб=1024 бай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6 Кб ∙ 1024=262 144 бай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Стр. 28 учеб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№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4, № 6, №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611280" y="8366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макин И.Г., Залогова Л.А., Русаков С.В., Шестакова Л.В. Информатика и ИКТ. Базовый курс: Учебник для 7 класса. – М.: БИНОМ. Лаборатория знаний,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r-prekpasen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presentaci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slide.r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онгуш Л.М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school-collection.edu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419040" y="461880"/>
            <a:ext cx="8535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роцесс познания окружающего мира приводит к накоплению информации в форме знаний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Как же узнать много получено информации или нет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6" descr="http://s.fishki.net/upload/post/201503/06/1454199/2_02.jpg"/>
          <p:cNvPicPr/>
          <p:nvPr/>
        </p:nvPicPr>
        <p:blipFill>
          <a:blip r:embed="rId1"/>
          <a:stretch/>
        </p:blipFill>
        <p:spPr>
          <a:xfrm>
            <a:off x="1476360" y="1798560"/>
            <a:ext cx="58276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366920" y="476280"/>
            <a:ext cx="1909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90680" y="1238400"/>
            <a:ext cx="7777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ояние измеряют в миллиметрах, сантиметрах, дециметр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ссу измеряют в граммах, килограммах, тоннах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я измеряют в секундах, минутах, сутках, годах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50920" y="443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Для измерения информации должна быть введена своя эталонная едини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16000" y="333360"/>
            <a:ext cx="7488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одходы к измерению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95280" y="206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Содержательный (вероятностны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284720" y="2060640"/>
            <a:ext cx="46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Алфави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(обьемны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816440" y="3257640"/>
            <a:ext cx="414324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использовании данного подхода объём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е связывают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екста и объём зависи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т информационного веса симво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57120" y="328608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информ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вязывается с содерж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мыслом) полученного сообщения или с учётом вероятности собы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2411280" y="1557360"/>
            <a:ext cx="2160720" cy="576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726080" y="1536840"/>
            <a:ext cx="2162160" cy="5968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фавитный подход к измерению информ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2111400"/>
            <a:ext cx="8373960" cy="457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алфавит включают и пробел (пропуск между словам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щность алфавит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- полное число символов в алфави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663480" y="476280"/>
            <a:ext cx="796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лфави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есь набор букв, знаков препинания, цифр, скобок и других символов, используемых в тек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623880" y="476280"/>
            <a:ext cx="79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именьшую мощность имеет алфавит, используемый в компьютере (машинный язык), его называют двоичным алфавитом, т.к. он содержит только два знака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0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1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44680" y="3357720"/>
            <a:ext cx="8281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Tahoma"/>
              </a:rPr>
              <a:t>Информационный вес символа двоичного алфавита принят за единицу измерения информации и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b9f25"/>
                </a:solidFill>
                <a:latin typeface="Tahoma"/>
              </a:rPr>
              <a:t>1 би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539640" y="708120"/>
            <a:ext cx="8064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Информация, записанная на машинном языке, веси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 100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0 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011 001 101 111 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2073240" y="2176560"/>
            <a:ext cx="2760840" cy="1500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2"/>
          <a:stretch/>
        </p:blipFill>
        <p:spPr>
          <a:xfrm>
            <a:off x="4432320" y="2895480"/>
            <a:ext cx="2760480" cy="15004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3"/>
          <a:stretch/>
        </p:blipFill>
        <p:spPr>
          <a:xfrm>
            <a:off x="981000" y="3621240"/>
            <a:ext cx="3176640" cy="15001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3" descr=""/>
          <p:cNvPicPr/>
          <p:nvPr/>
        </p:nvPicPr>
        <p:blipFill>
          <a:blip r:embed="rId4"/>
          <a:stretch/>
        </p:blipFill>
        <p:spPr>
          <a:xfrm>
            <a:off x="4516560" y="5072040"/>
            <a:ext cx="319536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3:54:09Z</dcterms:created>
  <dc:creator>1</dc:creator>
  <dc:description/>
  <dc:language>en-US</dc:language>
  <cp:lastModifiedBy>z</cp:lastModifiedBy>
  <dcterms:modified xsi:type="dcterms:W3CDTF">2015-10-09T20:23:24Z</dcterms:modified>
  <cp:revision>30</cp:revision>
  <dc:subject/>
  <dc:title>Слайд 1</dc:title>
</cp:coreProperties>
</file>