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BA8-C1B8-4CA9-B96A-50A46B6D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A47-79F2-4BAC-B217-AC59CF0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17-2857-412D-A52B-3FBE9B99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DD8-DBA2-472F-A913-3ACE971D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8B5-A761-4740-8510-DE7F4243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F52-9D5A-45F9-9657-232B05CA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379-3283-4860-844A-AA3F87E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B4F-145F-472E-8631-DA07909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B59-E762-4685-B19E-AD16DB4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9A3-8C2B-4970-8F70-2750991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F45-8EE7-499C-ACB6-7DBDCF5C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77C-FA69-4D31-A6AF-3A04ACF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47DD-3589-4A49-BF6A-3E3AF6B9E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303280" cy="153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92360" y="4508640"/>
            <a:ext cx="2305080" cy="15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556000" cy="159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56360" y="148428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348000" y="2060640"/>
            <a:ext cx="2592360" cy="176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42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021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 _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39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_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580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– Support -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981000"/>
          <a:ext cx="8229600" cy="554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nagers should get pocket mo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v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gives a sense of independ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 the independence lead to crime or no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- Box - Syne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жите лист бумаги четыре раза, в центре нарисуйте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или зарисуйте 3 неодушевленных предмета и один одушевленный в каждом квадра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292640"/>
            <a:ext cx="8424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up 4 sent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looks like ______ because 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9:17:38Z</dcterms:created>
  <dc:creator>admin</dc:creator>
  <dc:description/>
  <dc:language>en-US</dc:language>
  <cp:lastModifiedBy>admin</cp:lastModifiedBy>
  <dcterms:modified xsi:type="dcterms:W3CDTF">2014-12-10T19:38:55Z</dcterms:modified>
  <cp:revision>2</cp:revision>
  <dc:subject/>
  <dc:title>The 11th of December.</dc:title>
</cp:coreProperties>
</file>