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726-EA13-4811-8EB8-EB12CB74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FCB-763F-4822-930C-4FF640F3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B8B4-C242-400F-8658-E3A7C9F5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B58-368B-404C-B4FC-BC78350F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AFF-E1D3-461A-8686-5C577BE5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993-E390-4421-AF67-DE6B1202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1FE-076E-41B6-8CBD-776EA21B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E218-FC1C-48F6-9878-2C2AD3D4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9298-AF4C-4F71-9519-E2E270FB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33E-3EE9-4251-917C-6B159A5A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3B4-32F3-4280-A183-CD4D29F1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FF9-34AD-44DC-B98E-AE627858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E49D-90D7-45BB-950F-CF0105558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1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ec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052280"/>
            <a:ext cx="8137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2303280" cy="1535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92360" y="4508640"/>
            <a:ext cx="2305080" cy="153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00720" y="4005360"/>
            <a:ext cx="2556000" cy="1598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156360" y="1484280"/>
            <a:ext cx="2160720" cy="1616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348000" y="2060640"/>
            <a:ext cx="2592360" cy="1768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3429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_ _ _ _ _ _ _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021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_ _ _ _ _ _ _ _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3933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_ _ _ _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6308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_ _ _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59640" y="32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 _ _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 _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5805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_ _ _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 – Support -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981000"/>
          <a:ext cx="8229600" cy="5546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0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nagers should get pocket mo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ov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es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gives a sense of independen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s the independence lead to crime or no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- Box - Synec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жите лист бумаги четыре раза, в центре нарисуйте квад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ишите или зарисуйте 3 неодушевленных предмета и один одушевленный в каждом квадра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292640"/>
            <a:ext cx="8424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ke up 4 sente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looks like ______ because 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0T19:17:38Z</dcterms:created>
  <dc:creator>admin</dc:creator>
  <dc:description/>
  <dc:language>en-US</dc:language>
  <cp:lastModifiedBy>admin</cp:lastModifiedBy>
  <dcterms:modified xsi:type="dcterms:W3CDTF">2014-12-10T19:38:55Z</dcterms:modified>
  <cp:revision>2</cp:revision>
  <dc:subject/>
  <dc:title>The 11th of December.</dc:title>
</cp:coreProperties>
</file>