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notesSlide2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32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2.jpeg" ContentType="image/jpeg"/>
  <Override PartName="/ppt/media/image23.png" ContentType="image/png"/>
  <Override PartName="/ppt/media/image13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3.png" ContentType="image/png"/>
  <Override PartName="/ppt/media/image28.jpeg" ContentType="image/jpeg"/>
  <Override PartName="/ppt/media/image34.jpeg" ContentType="image/jpeg"/>
  <Override PartName="/ppt/media/image37.png" ContentType="image/png"/>
  <Override PartName="/ppt/media/image7.jpeg" ContentType="image/jpeg"/>
  <Override PartName="/ppt/media/image3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36.jpeg" ContentType="image/jpeg"/>
  <Override PartName="/ppt/media/image2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dt" idx="3"/>
          </p:nvPr>
        </p:nvSpPr>
        <p:spPr>
          <a:xfrm>
            <a:off x="3884760" y="0"/>
            <a:ext cx="2962080" cy="4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2640" cy="3419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sldNum" idx="4"/>
          </p:nvPr>
        </p:nvSpPr>
        <p:spPr>
          <a:xfrm>
            <a:off x="3884760" y="8685000"/>
            <a:ext cx="2962080" cy="44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EBF60A-BC0A-443F-A913-15C694F68F03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Microsoft YaHei"/>
            </a:endParaRPr>
          </a:p>
        </p:txBody>
      </p:sp>
      <p:sp>
        <p:nvSpPr>
          <p:cNvPr id="22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E5AAFB-74A9-47C2-BA89-843F0384CF8F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Microsoft YaHei"/>
            </a:endParaRPr>
          </a:p>
        </p:txBody>
      </p:sp>
      <p:sp>
        <p:nvSpPr>
          <p:cNvPr id="25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A43C24-8E62-4E2B-A31C-73517C1D74D7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Microsoft YaHei"/>
            </a:endParaRPr>
          </a:p>
        </p:txBody>
      </p:sp>
      <p:sp>
        <p:nvSpPr>
          <p:cNvPr id="25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7B0495-1BAB-46F8-84BD-A12E3924A0AF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Microsoft YaHei"/>
            </a:endParaRPr>
          </a:p>
        </p:txBody>
      </p:sp>
      <p:sp>
        <p:nvSpPr>
          <p:cNvPr id="228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9C3478-6400-4561-BB11-71C7FE006958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Microsoft YaHei"/>
            </a:endParaRPr>
          </a:p>
        </p:txBody>
      </p:sp>
      <p:sp>
        <p:nvSpPr>
          <p:cNvPr id="258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12342A-A852-45A0-8301-0B8248CCF385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Microsoft YaHei"/>
            </a:endParaRPr>
          </a:p>
        </p:txBody>
      </p:sp>
      <p:sp>
        <p:nvSpPr>
          <p:cNvPr id="261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A38E83-2BC2-452A-93D1-30424DEED95C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Microsoft YaHei"/>
            </a:endParaRPr>
          </a:p>
        </p:txBody>
      </p:sp>
      <p:sp>
        <p:nvSpPr>
          <p:cNvPr id="264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72E6BB-5DD5-4A43-A015-AB9F9FE6040D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Microsoft YaHei"/>
            </a:endParaRPr>
          </a:p>
        </p:txBody>
      </p:sp>
      <p:sp>
        <p:nvSpPr>
          <p:cNvPr id="231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4287BB-17A2-4BB1-AE51-93D69DC6CA80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Microsoft YaHei"/>
            </a:endParaRPr>
          </a:p>
        </p:txBody>
      </p:sp>
      <p:sp>
        <p:nvSpPr>
          <p:cNvPr id="234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083411-1CC3-4E2D-9BF9-4E780B3DCA9C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Microsoft YaHei"/>
            </a:endParaRPr>
          </a:p>
        </p:txBody>
      </p:sp>
      <p:sp>
        <p:nvSpPr>
          <p:cNvPr id="237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9B2AB8-54C8-4D1A-A26F-4736DFC7BB91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Microsoft YaHei"/>
            </a:endParaRPr>
          </a:p>
        </p:txBody>
      </p:sp>
      <p:sp>
        <p:nvSpPr>
          <p:cNvPr id="240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DDBCB6-5A65-459E-910E-47E6B3159DF8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Microsoft YaHei"/>
            </a:endParaRPr>
          </a:p>
        </p:txBody>
      </p:sp>
      <p:sp>
        <p:nvSpPr>
          <p:cNvPr id="243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FB6598-7AF2-4435-AE85-0F0BAF8B495E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Microsoft YaHei"/>
            </a:endParaRPr>
          </a:p>
        </p:txBody>
      </p:sp>
      <p:sp>
        <p:nvSpPr>
          <p:cNvPr id="246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185BCE-D0B9-4D06-85CE-38080DC98D96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Microsoft YaHei"/>
            </a:endParaRPr>
          </a:p>
        </p:txBody>
      </p:sp>
      <p:sp>
        <p:nvSpPr>
          <p:cNvPr id="249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182232-8242-466D-9109-D7B7EB2C4DBD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7FA671-5D83-4500-AFC6-03A7746B0B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3400" y="743040"/>
            <a:ext cx="77709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768348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7720" y="4302720"/>
            <a:ext cx="768348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AABE99-9245-4B8B-A733-7F064E6848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3400" y="743040"/>
            <a:ext cx="77709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494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75040" y="2362320"/>
            <a:ext cx="37494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7720" y="4302720"/>
            <a:ext cx="37494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75040" y="4302720"/>
            <a:ext cx="37494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7FEF31-4C89-491B-BCD2-A1AE44BA47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3400" y="743040"/>
            <a:ext cx="77709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247392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5840" y="2362320"/>
            <a:ext cx="247392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33600" y="2362320"/>
            <a:ext cx="247392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7720" y="4302720"/>
            <a:ext cx="247392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5840" y="4302720"/>
            <a:ext cx="247392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33600" y="4302720"/>
            <a:ext cx="247392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A7BCC2-BB11-49EB-B87E-CEAF7FBE9F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D5304E-0BE7-4854-93E4-84F6AA00B7E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3400" y="743040"/>
            <a:ext cx="77709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7720" y="2362320"/>
            <a:ext cx="7683480" cy="371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6DCE42-511F-4146-92DB-040CC0F1859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3400" y="743040"/>
            <a:ext cx="77709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7683480" cy="371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5085E9-DE8C-42A2-A66F-7847CF27CFE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3400" y="743040"/>
            <a:ext cx="77709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49400" cy="371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75040" y="2362320"/>
            <a:ext cx="3749400" cy="371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82B2C1-F470-482C-9A6C-296D95288D5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3400" y="743040"/>
            <a:ext cx="77709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E89740-D482-4972-872F-B9E0FDC99EF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3400" y="743040"/>
            <a:ext cx="777096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D56FEA-7AA0-4A29-8BD9-819C92108B8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3400" y="743040"/>
            <a:ext cx="77709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494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75040" y="2362320"/>
            <a:ext cx="3749400" cy="371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7720" y="4302720"/>
            <a:ext cx="37494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947A5F-2CBB-4738-AFE0-BE1B09944D4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3400" y="743040"/>
            <a:ext cx="77709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7720" y="2362320"/>
            <a:ext cx="7683480" cy="371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A38809-A766-43B1-9185-31B7E6B3F6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3400" y="743040"/>
            <a:ext cx="77709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49400" cy="371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75040" y="2362320"/>
            <a:ext cx="37494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75040" y="4302720"/>
            <a:ext cx="37494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A14457-3547-4667-BD42-2E259E1671B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3400" y="743040"/>
            <a:ext cx="77709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494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75040" y="2362320"/>
            <a:ext cx="37494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7720" y="4302720"/>
            <a:ext cx="768348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39D467-BD17-4BA7-A1BF-976221359C8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3400" y="743040"/>
            <a:ext cx="77709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768348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7720" y="4302720"/>
            <a:ext cx="768348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BBD852-0874-4340-9786-1782B37815F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3400" y="743040"/>
            <a:ext cx="77709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494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75040" y="2362320"/>
            <a:ext cx="37494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7720" y="4302720"/>
            <a:ext cx="37494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75040" y="4302720"/>
            <a:ext cx="37494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4A1D5E-FBC1-423A-B4E2-E722FDA4464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3400" y="743040"/>
            <a:ext cx="77709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247392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5840" y="2362320"/>
            <a:ext cx="247392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33600" y="2362320"/>
            <a:ext cx="247392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7720" y="4302720"/>
            <a:ext cx="247392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5840" y="4302720"/>
            <a:ext cx="247392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33600" y="4302720"/>
            <a:ext cx="247392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F157A3-1E43-497C-93CE-43619352BB8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3400" y="743040"/>
            <a:ext cx="77709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7683480" cy="371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E68CEE-F005-411F-856B-D4C7B8E9E9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3400" y="743040"/>
            <a:ext cx="77709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49400" cy="371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75040" y="2362320"/>
            <a:ext cx="3749400" cy="371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62A279-0CFE-45AE-AAFC-0C5219147D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3400" y="743040"/>
            <a:ext cx="77709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B4032F-78E4-447C-A22C-C2F96AC3CF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3400" y="743040"/>
            <a:ext cx="777096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A0F6D6-A84A-463C-871D-E8E96571F3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3400" y="743040"/>
            <a:ext cx="77709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494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75040" y="2362320"/>
            <a:ext cx="3749400" cy="371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7720" y="4302720"/>
            <a:ext cx="37494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B429DF-CAD3-40CD-BD3D-EEA66E1252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3400" y="743040"/>
            <a:ext cx="77709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49400" cy="371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75040" y="2362320"/>
            <a:ext cx="37494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75040" y="4302720"/>
            <a:ext cx="37494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DD136A-AEED-455C-813E-EC5FA0B268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3400" y="743040"/>
            <a:ext cx="77709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494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75040" y="2362320"/>
            <a:ext cx="37494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7720" y="4302720"/>
            <a:ext cx="768348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A91E83-4201-4DCA-A575-5CE3344130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10400" cy="6848640"/>
            <a:chOff x="0" y="0"/>
            <a:chExt cx="7610400" cy="684864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191040" cy="6848640"/>
              <a:chOff x="0" y="0"/>
              <a:chExt cx="3191040" cy="684864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52400" cy="684864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33840" cy="115740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240" y="1981080"/>
              <a:ext cx="7382160" cy="309600"/>
              <a:chOff x="228240" y="1981080"/>
              <a:chExt cx="7382160" cy="30960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00920" cy="30816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7880" y="1981080"/>
                <a:ext cx="384120" cy="30960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3400" y="743040"/>
            <a:ext cx="77709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7720" y="2362320"/>
            <a:ext cx="7683480" cy="371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1"/>
          </p:nvPr>
        </p:nvSpPr>
        <p:spPr>
          <a:xfrm>
            <a:off x="83880" y="6242040"/>
            <a:ext cx="57780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21A5D7-2086-4EFA-BFF9-17857E482167}" type="slidenum">
              <a:rPr b="0" lang="ru-RU" sz="18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57920" cy="6848640"/>
            <a:chOff x="0" y="0"/>
            <a:chExt cx="5857920" cy="684864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62640" cy="684864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72120" cy="18954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67560" cy="309600"/>
            <a:chOff x="3632040" y="4889520"/>
            <a:chExt cx="4867560" cy="30960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15200" cy="30780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50920" cy="30960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3400" y="743040"/>
            <a:ext cx="77709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7720" y="2362320"/>
            <a:ext cx="7683480" cy="371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sldNum" idx="2"/>
          </p:nvPr>
        </p:nvSpPr>
        <p:spPr>
          <a:xfrm>
            <a:off x="75960" y="6238800"/>
            <a:ext cx="577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09C0ED3-F180-4F6B-ADBB-670864BE87A0}" type="slidenum">
              <a:rPr b="1" lang="ru-RU" sz="26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1;&#1072;&#1090;&#1080;&#1085;&#1089;&#1082;&#1080;&#1081;_&#1103;&#1079;&#1099;&#1082;" TargetMode="External"/><Relationship Id="rId2" Type="http://schemas.openxmlformats.org/officeDocument/2006/relationships/hyperlink" Target="http://ru.wikipedia.org/wiki/&#1057;&#1080;&#1085;&#1086;&#1085;&#1080;&#1084;" TargetMode="External"/><Relationship Id="rId3" Type="http://schemas.openxmlformats.org/officeDocument/2006/relationships/hyperlink" Target="http://ru.wikipedia.org/wiki/&#1057;&#1080;&#1085;&#1086;&#1085;&#1080;&#1084;" TargetMode="External"/><Relationship Id="rId4" Type="http://schemas.openxmlformats.org/officeDocument/2006/relationships/hyperlink" Target="http://ru.wikipedia.org/wiki/&#1057;&#1080;&#1085;&#1086;&#1085;&#1080;&#1084;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1;&#1072;&#1090;&#1080;&#1085;&#1089;&#1082;&#1080;&#1081;_&#1103;&#1079;&#1099;&#1082;" TargetMode="External"/><Relationship Id="rId2" Type="http://schemas.openxmlformats.org/officeDocument/2006/relationships/hyperlink" Target="http://ru.wikipedia.org/wiki/&#1043;&#1088;&#1077;&#1095;&#1077;&#1089;&#1082;&#1080;&#1081;_&#1103;&#1079;&#1099;&#1082;" TargetMode="External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826920" y="1413000"/>
            <a:ext cx="691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Человек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получает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информацию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971640" y="2565360"/>
            <a:ext cx="1676160" cy="25146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3276720" y="2637000"/>
            <a:ext cx="1766880" cy="17668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5651640" y="2781360"/>
            <a:ext cx="2367000" cy="17668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4"/>
          <a:stretch/>
        </p:blipFill>
        <p:spPr>
          <a:xfrm>
            <a:off x="2987640" y="5013360"/>
            <a:ext cx="2233800" cy="15033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5"/>
          <a:stretch/>
        </p:blipFill>
        <p:spPr>
          <a:xfrm>
            <a:off x="6227640" y="5013360"/>
            <a:ext cx="2303640" cy="150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38080" y="2362320"/>
            <a:ext cx="7693200" cy="37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lvl="1" marL="743040" indent="-276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743040"/>
                <a:tab algn="l" pos="1190520"/>
                <a:tab algn="l" pos="1639800"/>
                <a:tab algn="l" pos="2089080"/>
                <a:tab algn="l" pos="2538360"/>
                <a:tab algn="l" pos="2987640"/>
                <a:tab algn="l" pos="3436920"/>
                <a:tab algn="l" pos="3886200"/>
                <a:tab algn="l" pos="4335480"/>
                <a:tab algn="l" pos="4784760"/>
                <a:tab algn="l" pos="5234040"/>
                <a:tab algn="l" pos="5683320"/>
                <a:tab algn="l" pos="6132600"/>
                <a:tab algn="l" pos="6581880"/>
                <a:tab algn="l" pos="7031160"/>
                <a:tab algn="l" pos="7480440"/>
                <a:tab algn="l" pos="7929720"/>
                <a:tab algn="l" pos="8379000"/>
                <a:tab algn="l" pos="8827920"/>
                <a:tab algn="l" pos="9277200"/>
                <a:tab algn="l" pos="972648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  <a:ea typeface="Arial"/>
              </a:rPr>
              <a:t>Между словами ставится один пробел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743040"/>
                <a:tab algn="l" pos="1190520"/>
                <a:tab algn="l" pos="1639800"/>
                <a:tab algn="l" pos="2089080"/>
                <a:tab algn="l" pos="2538360"/>
                <a:tab algn="l" pos="2987640"/>
                <a:tab algn="l" pos="3436920"/>
                <a:tab algn="l" pos="3886200"/>
                <a:tab algn="l" pos="4335480"/>
                <a:tab algn="l" pos="4784760"/>
                <a:tab algn="l" pos="5234040"/>
                <a:tab algn="l" pos="5683320"/>
                <a:tab algn="l" pos="6132600"/>
                <a:tab algn="l" pos="6581880"/>
                <a:tab algn="l" pos="7031160"/>
                <a:tab algn="l" pos="7480440"/>
                <a:tab algn="l" pos="7929720"/>
                <a:tab algn="l" pos="8379000"/>
                <a:tab algn="l" pos="8827920"/>
                <a:tab algn="l" pos="9277200"/>
                <a:tab algn="l" pos="972648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Знаки препинания в тексте (кроме тире) не отделяются пробелом от слова, за которым стоят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743040"/>
                <a:tab algn="l" pos="1190520"/>
                <a:tab algn="l" pos="1639800"/>
                <a:tab algn="l" pos="2089080"/>
                <a:tab algn="l" pos="2538360"/>
                <a:tab algn="l" pos="2987640"/>
                <a:tab algn="l" pos="3436920"/>
                <a:tab algn="l" pos="3886200"/>
                <a:tab algn="l" pos="4335480"/>
                <a:tab algn="l" pos="4784760"/>
                <a:tab algn="l" pos="5234040"/>
                <a:tab algn="l" pos="5683320"/>
                <a:tab algn="l" pos="6132600"/>
                <a:tab algn="l" pos="6581880"/>
                <a:tab algn="l" pos="7031160"/>
                <a:tab algn="l" pos="7480440"/>
                <a:tab algn="l" pos="7929720"/>
                <a:tab algn="l" pos="8379000"/>
                <a:tab algn="l" pos="8827920"/>
                <a:tab algn="l" pos="9277200"/>
                <a:tab algn="l" pos="972648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Скобки и кавычки также присоединяются к выделяемым словам без пробела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250920" y="549360"/>
            <a:ext cx="8893080" cy="612432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466560" y="836640"/>
            <a:ext cx="778068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Древняя Греция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-252360" y="259920"/>
            <a:ext cx="7921440" cy="46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468360" y="4300560"/>
            <a:ext cx="4068720" cy="255744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4788000" y="5805360"/>
            <a:ext cx="23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АБАК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0" y="476280"/>
            <a:ext cx="8712360" cy="57373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4356000" y="765000"/>
            <a:ext cx="417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4400" spc="-1" strike="noStrike">
                <a:solidFill>
                  <a:srgbClr val="ff0000"/>
                </a:solidFill>
                <a:latin typeface="Arial"/>
              </a:rPr>
              <a:t>Древний Рим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468360" y="3716280"/>
            <a:ext cx="4429080" cy="295740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5651640" y="5445000"/>
            <a:ext cx="309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Калкули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497800" cy="638964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2771640" y="549360"/>
            <a:ext cx="554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4000" spc="-1" strike="noStrike">
                <a:solidFill>
                  <a:srgbClr val="ff0000"/>
                </a:solidFill>
                <a:latin typeface="Arial"/>
              </a:rPr>
              <a:t>Древний Китай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5364000" y="3916440"/>
            <a:ext cx="3351240" cy="274644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5327640" y="393372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66ff"/>
                </a:solidFill>
                <a:latin typeface="Arial"/>
              </a:rPr>
              <a:t>Суан-пан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684000" y="2060280"/>
            <a:ext cx="76928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539640" y="476280"/>
            <a:ext cx="8604360" cy="548784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5148360" y="765000"/>
            <a:ext cx="316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4400" spc="-1" strike="noStrike">
                <a:solidFill>
                  <a:srgbClr val="ff0000"/>
                </a:solidFill>
                <a:latin typeface="Arial"/>
              </a:rPr>
              <a:t>Русь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324000" y="3141720"/>
            <a:ext cx="2323800" cy="34560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3348000" y="5667480"/>
            <a:ext cx="44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Русские счёты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324000" y="692280"/>
            <a:ext cx="3190680" cy="380988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4284720" y="836640"/>
            <a:ext cx="40323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ff0000"/>
                </a:solidFill>
                <a:latin typeface="Arial"/>
              </a:rPr>
              <a:t>Блез Паскаль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ff0000"/>
                </a:solidFill>
                <a:latin typeface="Arial"/>
              </a:rPr>
              <a:t>17 век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4211640" y="3502080"/>
            <a:ext cx="4645080" cy="311148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539640" y="5445000"/>
            <a:ext cx="30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3600" spc="-1" strike="noStrike">
                <a:solidFill>
                  <a:srgbClr val="ff0000"/>
                </a:solidFill>
                <a:latin typeface="Arial"/>
              </a:rPr>
              <a:t>Паскалина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468360" y="620640"/>
            <a:ext cx="5869080" cy="351324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2124000" y="4797360"/>
            <a:ext cx="61930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ff0000"/>
                </a:solidFill>
                <a:latin typeface="Arial"/>
              </a:rPr>
              <a:t>Арифмометр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ff0000"/>
                </a:solidFill>
                <a:latin typeface="Arial"/>
              </a:rPr>
              <a:t>Первая половина ХХ века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611280" y="260280"/>
            <a:ext cx="5076720" cy="349560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4427640" y="3235320"/>
            <a:ext cx="4506840" cy="342756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324000" y="4292640"/>
            <a:ext cx="403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3600" spc="-1" strike="noStrike">
                <a:solidFill>
                  <a:srgbClr val="ff0000"/>
                </a:solidFill>
                <a:latin typeface="Arial"/>
              </a:rPr>
              <a:t>Вычислительные машины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3600" spc="-1" strike="noStrike">
                <a:solidFill>
                  <a:srgbClr val="ff0000"/>
                </a:solidFill>
                <a:latin typeface="Arial"/>
              </a:rPr>
              <a:t>Калькулятор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611280" y="2205000"/>
            <a:ext cx="3809880" cy="38098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643280" y="1916280"/>
            <a:ext cx="4124520" cy="380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798480" y="774720"/>
            <a:ext cx="78519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838080" y="2362320"/>
            <a:ext cx="7693200" cy="37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33360">
              <a:spcBef>
                <a:spcPts val="700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1280" indent="-33336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Графический редактор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- это прикладная программа, предназначенная для обработки графической информации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1280" indent="-333360">
              <a:spcBef>
                <a:spcPts val="700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Человек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передаёт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информацию</a:t>
            </a:r>
            <a:br>
              <a:rPr sz="3200"/>
            </a:b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1476360" y="2565360"/>
            <a:ext cx="2081160" cy="1558800"/>
            <a:chOff x="1476360" y="2565360"/>
            <a:chExt cx="2081160" cy="1558800"/>
          </a:xfrm>
        </p:grpSpPr>
        <p:pic>
          <p:nvPicPr>
            <p:cNvPr id="116" name="" descr=""/>
            <p:cNvPicPr/>
            <p:nvPr/>
          </p:nvPicPr>
          <p:blipFill>
            <a:blip r:embed="rId1"/>
            <a:stretch/>
          </p:blipFill>
          <p:spPr>
            <a:xfrm>
              <a:off x="1476360" y="2565360"/>
              <a:ext cx="2081160" cy="155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1476360" y="2565360"/>
              <a:ext cx="2081160" cy="155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932360" y="2565360"/>
            <a:ext cx="1805040" cy="17622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2411280" y="4653000"/>
            <a:ext cx="1495440" cy="103644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4"/>
          <a:stretch/>
        </p:blipFill>
        <p:spPr>
          <a:xfrm>
            <a:off x="4500720" y="4941720"/>
            <a:ext cx="1636560" cy="122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3360" indent="-33336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333360"/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Самый простой и распространённый графический редактор –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PAI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3360" indent="0">
              <a:spcBef>
                <a:spcPts val="700"/>
              </a:spcBef>
              <a:buNone/>
              <a:tabLst>
                <a:tab algn="l" pos="0"/>
                <a:tab algn="l" pos="333360"/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3360" indent="0">
              <a:spcBef>
                <a:spcPts val="700"/>
              </a:spcBef>
              <a:buNone/>
              <a:tabLst>
                <a:tab algn="l" pos="0"/>
                <a:tab algn="l" pos="333360"/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  </a:t>
            </a:r>
            <a:r>
              <a:rPr b="0" i="1" lang="en-US" sz="2800" spc="-1" strike="noStrike">
                <a:solidFill>
                  <a:srgbClr val="0066ff"/>
                </a:solidFill>
                <a:latin typeface="Arial"/>
              </a:rPr>
              <a:t>to paint</a:t>
            </a: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 (</a:t>
            </a:r>
            <a:r>
              <a:rPr b="0" lang="ru-RU" sz="2800" spc="-1" strike="noStrike">
                <a:solidFill>
                  <a:srgbClr val="006666"/>
                </a:solidFill>
                <a:latin typeface="Arial"/>
              </a:rPr>
              <a:t>англ.) – заниматься живописью, рисовать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1476360" y="260280"/>
            <a:ext cx="5884920" cy="604836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7524720" y="3417840"/>
            <a:ext cx="1440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Полосы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прокрутки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524720" y="3357720"/>
            <a:ext cx="1224000" cy="93492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H="1" flipV="1">
            <a:off x="7299360" y="2698920"/>
            <a:ext cx="738000" cy="668160"/>
          </a:xfrm>
          <a:prstGeom prst="line">
            <a:avLst/>
          </a:prstGeom>
          <a:ln w="5724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flipH="1">
            <a:off x="5067360" y="4292640"/>
            <a:ext cx="2682720" cy="1008000"/>
          </a:xfrm>
          <a:prstGeom prst="line">
            <a:avLst/>
          </a:prstGeom>
          <a:ln w="5724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3360" indent="-33336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333360"/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Arial"/>
              </a:rPr>
              <a:t>Щелчком 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левой</a:t>
            </a:r>
            <a:r>
              <a:rPr b="0" lang="ru-RU" sz="3600" spc="-1" strike="noStrike">
                <a:solidFill>
                  <a:srgbClr val="003366"/>
                </a:solidFill>
                <a:latin typeface="Arial"/>
              </a:rPr>
              <a:t> кнопки мыши выбирается из палитры 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основной</a:t>
            </a:r>
            <a:r>
              <a:rPr b="0" lang="ru-RU" sz="3600" spc="-1" strike="noStrike">
                <a:solidFill>
                  <a:srgbClr val="003366"/>
                </a:solidFill>
                <a:latin typeface="Arial"/>
              </a:rPr>
              <a:t> цвет.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33360" indent="-33336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333360"/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Arial"/>
              </a:rPr>
              <a:t>Щелчком 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правой</a:t>
            </a:r>
            <a:r>
              <a:rPr b="0" lang="ru-RU" sz="3600" spc="-1" strike="noStrike">
                <a:solidFill>
                  <a:srgbClr val="003366"/>
                </a:solidFill>
                <a:latin typeface="Arial"/>
              </a:rPr>
              <a:t> кнопки мыши выбирается цвет 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фона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3360" indent="0">
              <a:spcBef>
                <a:spcPts val="700"/>
              </a:spcBef>
              <a:buNone/>
              <a:tabLst>
                <a:tab algn="l" pos="0"/>
                <a:tab algn="l" pos="333360"/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3360" indent="-33336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333360"/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Чтобы отменить последнее неудачное действие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3360" indent="-33336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333360"/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ПРАВКА – ОТМЕНИТЬ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3360" indent="0">
              <a:spcBef>
                <a:spcPts val="700"/>
              </a:spcBef>
              <a:buNone/>
              <a:tabLst>
                <a:tab algn="l" pos="0"/>
                <a:tab algn="l" pos="333360"/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Или 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TRL-Z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3360" indent="0">
              <a:spcBef>
                <a:spcPts val="700"/>
              </a:spcBef>
              <a:buNone/>
              <a:tabLst>
                <a:tab algn="l" pos="0"/>
                <a:tab algn="l" pos="333360"/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762120" y="747720"/>
            <a:ext cx="7619760" cy="536256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826920" y="765000"/>
            <a:ext cx="2232360" cy="3603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Фрагмент рисунка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857160" y="2286000"/>
            <a:ext cx="7693200" cy="37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3360" indent="-33336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Фрагме́нт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(</a:t>
            </a:r>
            <a:r>
              <a:rPr b="0" lang="ru-RU" sz="28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лат.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 </a:t>
            </a:r>
            <a:r>
              <a:rPr b="0" i="1" lang="ru-RU" sz="2800" spc="-1" strike="noStrike">
                <a:solidFill>
                  <a:srgbClr val="003366"/>
                </a:solidFill>
                <a:latin typeface="Arial"/>
              </a:rPr>
              <a:t>fragmentum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 — обломок, кусок, осколок) — какая-либо часть целого.</a:t>
            </a:r>
            <a:r>
              <a:rPr b="0" lang="ru-RU" sz="28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3360" indent="-333360">
              <a:spcBef>
                <a:spcPts val="700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3360" indent="-33336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синоним</a:t>
            </a:r>
            <a:r>
              <a:rPr b="0" lang="ru-RU" sz="28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3366"/>
                </a:solidFill>
                <a:latin typeface="Arial"/>
              </a:rPr>
              <a:t>части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3360" indent="-333360">
              <a:spcBef>
                <a:spcPts val="700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3360" indent="-333360">
              <a:spcBef>
                <a:spcPts val="700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838080" y="2362320"/>
            <a:ext cx="7693200" cy="37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3360" indent="-33336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Для обозначения границ фрагмента используется инструмент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Выделение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3360" indent="-33336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Можно выделить прямоугольную или произвольную область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3360" indent="-33336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Можно выделить фрагмент вместе с фоном или без фона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833400" y="806400"/>
            <a:ext cx="778032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Вспомогательные построения</a:t>
            </a: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.</a:t>
            </a:r>
            <a:br>
              <a:rPr sz="3200"/>
            </a:b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3360" indent="-33336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333360"/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Вспомогательные линии рисуют цветом отличным от основного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3360" indent="-33336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333360"/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Чтобы удалить их нужно «залить» область вокруг рисунка сначала цветом вспомогательных линий, а затем белым цветом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3400" y="750960"/>
            <a:ext cx="77803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3600" spc="-1" strike="noStrike">
                <a:solidFill>
                  <a:srgbClr val="ff0000"/>
                </a:solidFill>
                <a:latin typeface="Arial"/>
              </a:rPr>
              <a:t>Построения с помощью </a:t>
            </a:r>
            <a:br>
              <a:rPr sz="3600"/>
            </a:br>
            <a:r>
              <a:rPr b="0" i="1" lang="ru-RU" sz="3600" spc="-1" strike="noStrike">
                <a:solidFill>
                  <a:srgbClr val="ff0000"/>
                </a:solidFill>
                <a:latin typeface="Arial"/>
              </a:rPr>
              <a:t>клавиши </a:t>
            </a:r>
            <a:r>
              <a:rPr b="0" i="1" lang="en-US" sz="3600" spc="-1" strike="noStrike">
                <a:solidFill>
                  <a:srgbClr val="ff0000"/>
                </a:solidFill>
                <a:latin typeface="Arial"/>
              </a:rPr>
              <a:t>Shift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3360" indent="-33336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333360"/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Чтобы нарисовать квадрат – инструмент </a:t>
            </a:r>
            <a:r>
              <a:rPr b="0" i="1" lang="ru-RU" sz="2800" spc="-1" strike="noStrike">
                <a:solidFill>
                  <a:srgbClr val="ff0000"/>
                </a:solidFill>
                <a:latin typeface="Arial"/>
              </a:rPr>
              <a:t>Прямоугольник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+ 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Shift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3360" indent="-33336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333360"/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Чтобы нарисовать круг – инструмент </a:t>
            </a:r>
            <a:r>
              <a:rPr b="0" i="1" lang="ru-RU" sz="2800" spc="-1" strike="noStrike">
                <a:solidFill>
                  <a:srgbClr val="ff0000"/>
                </a:solidFill>
                <a:latin typeface="Arial"/>
              </a:rPr>
              <a:t>Эллипс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+ 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Shift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3360" indent="-33336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333360"/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Линия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+ 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Shift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– строго горизонтальная, вертикальная линия или под углом 45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º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724360" cy="439740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1835280" y="4508640"/>
            <a:ext cx="6192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 u="sng">
                <a:solidFill>
                  <a:srgbClr val="003366"/>
                </a:solidFill>
                <a:uFillTx/>
                <a:latin typeface="Arial"/>
              </a:rPr>
              <a:t>1.    Нарисовать линию горизонта.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 u="sng">
                <a:solidFill>
                  <a:srgbClr val="003366"/>
                </a:solidFill>
                <a:uFillTx/>
                <a:latin typeface="Arial"/>
              </a:rPr>
              <a:t>2.    Подобрать цвета и залить дорожку и траву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 u="sng">
                <a:solidFill>
                  <a:srgbClr val="003366"/>
                </a:solidFill>
                <a:uFillTx/>
                <a:latin typeface="Arial"/>
              </a:rPr>
              <a:t>3.    Отдельные части картинки  (кусты, деревья, тени) исполняются инструментом «Кривая линия» и «Распылитель»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838080" y="2362320"/>
            <a:ext cx="7693200" cy="37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Человек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накапливает</a:t>
            </a: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 и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хранит</a:t>
            </a: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 информацию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258920" y="2421000"/>
            <a:ext cx="1905120" cy="16254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rcRect l="0" t="0" r="0" b="25936"/>
          <a:stretch/>
        </p:blipFill>
        <p:spPr>
          <a:xfrm>
            <a:off x="4284720" y="2733840"/>
            <a:ext cx="1522440" cy="10746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6732720" y="2925720"/>
            <a:ext cx="1342800" cy="13222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1692360" y="458136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4643280" y="4365720"/>
            <a:ext cx="1727280" cy="1346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Пиксель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1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3360" indent="-33336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333360"/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сокращение от 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pic</a:t>
            </a:r>
            <a:r>
              <a:rPr b="0" i="1" lang="ru-RU" sz="2800" spc="-1" strike="noStrike">
                <a:solidFill>
                  <a:srgbClr val="003366"/>
                </a:solidFill>
                <a:latin typeface="Arial"/>
              </a:rPr>
              <a:t>ture 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el</a:t>
            </a:r>
            <a:r>
              <a:rPr b="0" i="1" lang="ru-RU" sz="2800" spc="-1" strike="noStrike">
                <a:solidFill>
                  <a:srgbClr val="003366"/>
                </a:solidFill>
                <a:latin typeface="Arial"/>
              </a:rPr>
              <a:t>ement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или 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pic</a:t>
            </a:r>
            <a:r>
              <a:rPr b="0" i="1" lang="ru-RU" sz="2800" spc="-1" strike="noStrike">
                <a:solidFill>
                  <a:srgbClr val="003366"/>
                </a:solidFill>
                <a:latin typeface="Arial"/>
              </a:rPr>
              <a:t>ture с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el</a:t>
            </a:r>
            <a:r>
              <a:rPr b="0" i="1" lang="ru-RU" sz="2800" spc="-1" strike="noStrike">
                <a:solidFill>
                  <a:srgbClr val="003366"/>
                </a:solidFill>
                <a:latin typeface="Arial"/>
              </a:rPr>
              <a:t>l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— элемент изображения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3360" indent="-33336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333360"/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Пиксель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представляет собой неделимый объект прямоугольной, обычно квадратной, или круглой формы, обладающий определённым цветом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3360" indent="-33336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333360"/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Пиксель </a:t>
            </a:r>
            <a:r>
              <a:rPr b="0" lang="ru-RU" sz="2800" spc="-1" strike="noStrike">
                <a:solidFill>
                  <a:srgbClr val="666699"/>
                </a:solidFill>
                <a:latin typeface="Arial"/>
              </a:rPr>
              <a:t>– это единица измерения экрана монитор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3360" indent="0">
              <a:spcBef>
                <a:spcPts val="700"/>
              </a:spcBef>
              <a:buNone/>
              <a:tabLst>
                <a:tab algn="l" pos="0"/>
                <a:tab algn="l" pos="333360"/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ru-RU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Изображение, построенное из отдельных цветных элементов, можно увидеть не только на компьютере.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1116000" y="154080"/>
            <a:ext cx="6983280" cy="638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900000" y="1268280"/>
            <a:ext cx="7559640" cy="4422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55280" y="76320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Как увеличить изображение в графическом редакторе 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Paint</a:t>
            </a: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?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8080" y="2362320"/>
            <a:ext cx="7693200" cy="39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. Для  рассматривания и редактирования рисунка в крупном масштабе удобно отделить пиксели друг от друга, для этого выбрать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команду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меню Вид ► Масштаб ► Показать сетку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. Рабочее поле станет похоже на клеточный лист, где каждая клеточка будет обозначать один пиксель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Если вы хотите одновременно видеть и увеличенное, и обычное изображение, используйте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команду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Вид ► Масштаб ► Показать эскиз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Arial"/>
              </a:rPr>
              <a:t>Пиктограмма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3360" indent="-33336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333360"/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Пиктогра́мма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(от </a:t>
            </a:r>
            <a:r>
              <a:rPr b="0" lang="ru-RU" sz="28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лат.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 </a:t>
            </a:r>
            <a:r>
              <a:rPr b="0" i="1" lang="ru-RU" sz="2800" spc="-1" strike="noStrike">
                <a:solidFill>
                  <a:srgbClr val="003366"/>
                </a:solidFill>
                <a:latin typeface="Arial"/>
              </a:rPr>
              <a:t>pictus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 — рисовать и </a:t>
            </a:r>
            <a:r>
              <a:rPr b="0" lang="ru-RU" sz="28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греч.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l-GR" sz="2800" spc="-1" strike="noStrike">
                <a:solidFill>
                  <a:srgbClr val="003366"/>
                </a:solidFill>
                <a:latin typeface="Arial"/>
              </a:rPr>
              <a:t>γράμμα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 — запись) — схематическое изображение различных предметов и явлений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539640" y="404640"/>
            <a:ext cx="6337440" cy="618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Надписи в рисунках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3360" indent="-33336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333360"/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Для вставки текста в рисунок используется инструмент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Текст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3360" indent="-33336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333360"/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Установить ѵ 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Вид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–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Панели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атрибутов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текст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3360" indent="-33336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333360"/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Настроить шрифт для надписи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804000" y="2781360"/>
            <a:ext cx="504720" cy="561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800" spc="-1" strike="noStrike">
                <a:solidFill>
                  <a:srgbClr val="ff0000"/>
                </a:solidFill>
                <a:latin typeface="Arial"/>
              </a:rPr>
              <a:t>АЛГОРИТМЫ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826920" y="234936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3360" indent="-33336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333360"/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      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Описание последовательности действий, строгое исполнение которых приведёт к задуманному результату, называется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алгоритмом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611280" y="404640"/>
            <a:ext cx="4628880" cy="308304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1332000" y="3500280"/>
            <a:ext cx="6516720" cy="26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buClr>
                <a:srgbClr val="006666"/>
              </a:buClr>
              <a:buSzPct val="70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Памятник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Мухаммеду бен Муса аль-Хорезми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был установлен в 1983 г. близ медресе Мухаммед-Амин-хана. Аль-Хорезми, уроженец Хорезма, при халифе аль-Мамуне (813-833 гг.) возглавил в Багдаде библиотеку «Дома мудрости». Им было написано первое руководство по арифметике, сохранились его трактаты об алгебре и о календаре. Термин «алгебра», как международное название математической науки, произошел от слова «ал-джебр», то есть от названия трактата аль-Хорезми «Хисаб ал-джебр вал-мукабала»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Человек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обрабатывает</a:t>
            </a: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 информацию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838080" y="2362320"/>
            <a:ext cx="7693200" cy="37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059280" y="3068640"/>
            <a:ext cx="2385720" cy="2386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38080" y="2362320"/>
            <a:ext cx="7693200" cy="37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3360" indent="-33336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Windows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[</a:t>
            </a:r>
            <a:r>
              <a:rPr b="0" i="1" lang="ru-RU" sz="2800" spc="-1" strike="noStrike">
                <a:solidFill>
                  <a:srgbClr val="003366"/>
                </a:solidFill>
                <a:latin typeface="Arial"/>
              </a:rPr>
              <a:t>виндоуз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] –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главная управляющая программа на наших компьютерах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193920" y="2421000"/>
            <a:ext cx="92160" cy="71280"/>
          </a:xfrm>
          <a:prstGeom prst="line">
            <a:avLst/>
          </a:prstGeom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550160" y="4149720"/>
            <a:ext cx="254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Windows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6699"/>
                </a:solidFill>
                <a:latin typeface="Arial"/>
              </a:rPr>
              <a:t>(</a:t>
            </a:r>
            <a:r>
              <a:rPr b="0" lang="ru-RU" sz="1800" spc="-1" strike="noStrike">
                <a:solidFill>
                  <a:srgbClr val="666699"/>
                </a:solidFill>
                <a:latin typeface="Arial"/>
              </a:rPr>
              <a:t>англ.) - окно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258920" y="2565360"/>
            <a:ext cx="7692840" cy="37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3360" indent="-33336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Текстовый курсор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показывает место, где появится символ, набранный на клавиатуре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Клавиатура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362320"/>
            <a:ext cx="7693200" cy="37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3360" indent="-33336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Строчные буквы, цифры и знаки «-», =, «.» набираются простым нажатием клавиш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3360" indent="-33336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Прописные буквы, знаки на цифровых клавишах, а также «_», «+», «,» набираются при нажатой клавише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Shif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38080" y="2362320"/>
            <a:ext cx="7693200" cy="37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33720"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337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Клавиша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Backspac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стирает ненужный символ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38080" y="2362320"/>
            <a:ext cx="7693200" cy="37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3360" indent="-33336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Клавиша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aps Lock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включает режим прописных букв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2T17:57:10Z</dcterms:created>
  <dc:creator>acer</dc:creator>
  <dc:description/>
  <dc:language>en-US</dc:language>
  <cp:lastModifiedBy>User</cp:lastModifiedBy>
  <dcterms:modified xsi:type="dcterms:W3CDTF">2015-10-09T15:48:09Z</dcterms:modified>
  <cp:revision>47</cp:revision>
  <dc:subject/>
  <dc:title>5 класс</dc:title>
</cp:coreProperties>
</file>