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E3FC4-5D6D-4303-91C8-A8A468E90A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64DCF-3E38-4FB0-8945-B7EC3A24FC0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0BE73-95D7-45A4-A993-934A6C3DB22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51DAC-378B-41DB-BB52-4393B32C4DD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56C8C-2FED-4A1E-98BE-B7BD6D6B314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2AF32-2B1C-4236-86E4-6961F12AA97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875A-27F4-4A02-A590-CA66FB7B624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02219-D0DD-42C0-9CCF-FA6C137675A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C3C00-9BAF-45B7-AF3E-1DF0524D3B5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59084-F04A-4EDD-975F-E59B1BF8A70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49091-D64D-435F-AF8A-DBF7D6A5415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AE030-5263-4767-8C53-B28DB25C22A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79372-B94D-4BBB-8A9B-7BA8529E6FC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5BB6A-C712-41FE-9D80-78AFC544388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2355F-3870-423E-BB52-BBAFE8AA201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6FCC-E190-46BC-8F5B-9631719FA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F062-3ECE-476C-94CF-E9479730F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BAEA-B66C-41C3-BCB1-047A1CDCB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EC0F-3EB8-4678-845E-1D0476406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A958-3954-44A1-ACD7-D5E63103B1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F44D-7B0B-4245-BCD4-F266DD20E9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51E8-2B0E-4E10-9E1B-61C362C1BC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B0F8-D63A-4D90-BA36-69521E6283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94F9-0C81-405C-93D1-D1B72C4FDC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43040"/>
            <a:ext cx="77709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634E-64CD-4FAB-BDEA-B356D188B8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E47C-2BE0-4DB5-8D4B-C63A70B710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5817-9B40-48D2-BD04-37F4533B1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464D-21E7-484B-869D-B318A5B249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A8B0-B70B-4A1D-BD30-FFB25FDC0B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02A8-A3EB-4614-8EF8-6054CA4828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FB74-6C2C-4410-BB19-44C824E312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F581-1D34-4BD3-90AA-EE425C6B3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D624-F8DF-46DC-96D1-5555432F1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A9C3-FBA0-4EA1-9F7E-886169AA3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5C6F-4095-4187-9F28-E9027CDF6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43040"/>
            <a:ext cx="77709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3426-8895-46F4-8554-5CAB17839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0045-20EB-490C-B314-DA2F4B0D9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5AEB-1760-4BE5-A930-600D14711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6D5C-3E2D-441A-969D-7FF870BEB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0400" cy="6848640"/>
            <a:chOff x="0" y="0"/>
            <a:chExt cx="7610400" cy="684864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1040" cy="6848640"/>
              <a:chOff x="0" y="0"/>
              <a:chExt cx="3191040" cy="684864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2400" cy="684864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3840" cy="115740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2160" cy="309600"/>
              <a:chOff x="228240" y="1981080"/>
              <a:chExt cx="7382160" cy="30960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0920" cy="30816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84120" cy="3096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77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8476A-ED6A-4177-AABF-15A81DF50DDB}" type="slidenum">
              <a:rPr b="0" lang="ru-RU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57920" cy="6848640"/>
            <a:chOff x="0" y="0"/>
            <a:chExt cx="5857920" cy="684864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2640" cy="68486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2120" cy="1895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67560" cy="309600"/>
            <a:chOff x="3632040" y="4889520"/>
            <a:chExt cx="4867560" cy="30960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15200" cy="3078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0920" cy="309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75960" y="6238800"/>
            <a:ext cx="577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C11571-C8D8-4D78-B83A-2BD998AF771D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7;&#1080;&#1085;&#1086;&#1085;&#1080;&#1084;" TargetMode="External"/><Relationship Id="rId3" Type="http://schemas.openxmlformats.org/officeDocument/2006/relationships/hyperlink" Target="http://ru.wikipedia.org/wiki/&#1057;&#1080;&#1085;&#1086;&#1085;&#1080;&#1084;" TargetMode="External"/><Relationship Id="rId4" Type="http://schemas.openxmlformats.org/officeDocument/2006/relationships/hyperlink" Target="http://ru.wikipedia.org/wiki/&#1057;&#1080;&#1085;&#1086;&#1085;&#1080;&#1084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1413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учает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формац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51640" y="2781360"/>
            <a:ext cx="2367000" cy="17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987640" y="5013360"/>
            <a:ext cx="2233800" cy="150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227640" y="5013360"/>
            <a:ext cx="230364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76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Между словами ставится один пробе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ки препинания в тексте (кроме тире) не отделяются пробелом от слова, за которым стоя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бки и кавычки также присоединяются к выделяемым словам без пробе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893080" cy="6124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6560" y="836640"/>
            <a:ext cx="77806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ревняя Грец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252360" y="259920"/>
            <a:ext cx="792144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4300560"/>
            <a:ext cx="4068720" cy="2557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5805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БА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712360" cy="5737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356000" y="765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Древний Ри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429080" cy="2957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51640" y="5445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лкул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38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71640" y="549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Древний Китай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64000" y="3916440"/>
            <a:ext cx="3351240" cy="2746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27640" y="393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уан-па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60436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148360" y="765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232380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8000" y="56674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усские счёт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190680" cy="3809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4720" y="836640"/>
            <a:ext cx="40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17 ве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11640" y="3502080"/>
            <a:ext cx="4645080" cy="3111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544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аскалин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869080" cy="351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24000" y="479736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рифмомет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ервая половина ХХ ве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5076720" cy="3495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27640" y="3235320"/>
            <a:ext cx="4506840" cy="3427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429264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ычислительные машин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1245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98480" y="774720"/>
            <a:ext cx="7851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336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рафический редакто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икладная программа, предназначенная для обработки графической информ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336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лове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даё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нформацию</a:t>
            </a:r>
            <a:br>
              <a:rPr sz="32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76360" y="2565360"/>
            <a:ext cx="2081160" cy="1558800"/>
            <a:chOff x="1476360" y="2565360"/>
            <a:chExt cx="2081160" cy="1558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476360" y="2565360"/>
              <a:ext cx="20811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476360" y="2565360"/>
              <a:ext cx="20811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1805040" cy="176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1495440" cy="103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500720" y="4941720"/>
            <a:ext cx="16365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ый простой и распространённый графический редактор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to paint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нгл.) – заниматься живописью, рисо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884920" cy="604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24720" y="341784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о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крут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357720"/>
            <a:ext cx="1224000" cy="93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299360" y="2698920"/>
            <a:ext cx="738000" cy="6681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067360" y="4292640"/>
            <a:ext cx="2682720" cy="10080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Щелчко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евой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кнопки мыши выбирается из палитры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сновной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цвет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Щелчко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авой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кнопки мыши выбирается цвет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отменить последнее неудачное действ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КА – ОТМЕН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ли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TRL-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26920" y="765000"/>
            <a:ext cx="223236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рагмент рисун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7160" y="22860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рагме́н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fragmentu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обломок, кусок, осколок) — какая-либо часть целого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иноним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ча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обозначения границ фрагмента используется инструме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дел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жно выделить прямоугольную или произвольную обла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жно выделить фрагмент вместе с фоном или без фо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3400" y="806400"/>
            <a:ext cx="77803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помогательные построен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32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помогательные линии рисуют цветом отличным от основног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удалить их нужно «залить» область вокруг рисунка сначала цветом вспомогательных линий, а затем белым цве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остроения с помощью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лавиши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нарисовать квадрат – инструмент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ик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нарисовать круг – инструмент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Эллипс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трого горизонтальная, вертикальная линия или под углом 4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4397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35280" y="4508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1.    Нарисовать линию горизонт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.    Подобрать цвета и залить дорожку и трав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3.    Отдельные части картинки  (кусты, деревья, тени) исполняются инструментом «Кривая линия» и «Распылитель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Челове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капливает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анит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информац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1905120" cy="1625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0" b="25936"/>
          <a:stretch/>
        </p:blipFill>
        <p:spPr>
          <a:xfrm>
            <a:off x="4284720" y="2733840"/>
            <a:ext cx="1522440" cy="107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732720" y="2925720"/>
            <a:ext cx="1342800" cy="132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692360" y="4581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43280" y="4365720"/>
            <a:ext cx="17272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иксел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ение о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pic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ture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emen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pic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ture 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— элемент изображ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иксел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едставляет собой неделимый объект прямоугольной, обычно квадратной, или круглой формы, обладающий определённым цвето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иксель 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– это единица измерения экрана монит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ображение, построенное из отдельных цветных элементов, можно увидеть не только на компьютере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16000" y="154080"/>
            <a:ext cx="69832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559640" cy="44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763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 увеличить изображение в графическом редактор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int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Для  рассматривания и редактирования рисунка в крупном масштабе удобно отделить пиксели друг от друга, для этого выбра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анд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ню Вид ► Масштаб ► Показать сетк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Рабочее поле станет похоже на клеточный лист, где каждая клеточка будет обозначать один пиксел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одновременно видеть и увеличенное, и обычное изображение, используйт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анд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ид ► Масштаб ► Показать эски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иктограмм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иктогра́мм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т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pictu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рисовать и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реч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γράμμα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запись) — схематическое изображение различных предметов и явлени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337440" cy="61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дписи в рисунка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вставки текста в рисунок используется инструме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тановить ѵ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ид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нел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трибуто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кс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строить шрифт для надпис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04000" y="2781360"/>
            <a:ext cx="50472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АЛГОРИТМ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исание последовательности действий, строгое исполнение которых приведёт к задуманному результату, 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лгоритм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628880" cy="3083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332000" y="3500280"/>
            <a:ext cx="651672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SzPct val="70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мятни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ухаммеду бен Муса аль-Хорезм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был установлен в 1983 г. близ медресе Мухаммед-Амин-хана. Аль-Хорезми, уроженец Хорезма, при халифе аль-Мамуне (813-833 гг.) возглавил в Багдаде библиотеку «Дома мудрости». Им было написано первое руководство по арифметике, сохранились его трактаты об алгебре и о календаре. Термин «алгебра», как международное название математической науки, произошел от слова «ал-джебр», то есть от названия трактата аль-Хорезми «Хисаб ал-джебр вал-мукабал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еловек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обрабатывает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информацию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38572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[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виндоуз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вная управляющая программа на наших компьютер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93920" y="2421000"/>
            <a:ext cx="92160" cy="71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50160" y="41497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англ.) - окн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256536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кстовый курсо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казывает место, где появится символ, набранный на клавиатур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лавиату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очные буквы, цифры и знаки «-», =, «.» набираются простым нажатием клави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писные буквы, знаки на цифровых клавишах, а также «_», «+», «,» набираются при нажатой клавиш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337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виш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cksp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рает ненужный симво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виш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s Loc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ключает режим прописных бук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7:57:10Z</dcterms:created>
  <dc:creator>acer</dc:creator>
  <dc:description/>
  <dc:language>en-US</dc:language>
  <cp:lastModifiedBy>User</cp:lastModifiedBy>
  <dcterms:modified xsi:type="dcterms:W3CDTF">2015-10-09T15:48:09Z</dcterms:modified>
  <cp:revision>47</cp:revision>
  <dc:subject/>
  <dc:title>5 класс</dc:title>
</cp:coreProperties>
</file>