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2FDA7-F8FE-43D4-9DD8-2A00A1FDE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CDF8A-11D1-49FB-95A0-14A06FF5D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98591-5226-4363-984D-6AEB9BCD1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381A0-8F96-4267-ABCE-5257EE011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CB4EB-8CB8-416D-BC97-7BAC35E0E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0EB81-F771-4507-9FF0-15E1D7E02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C842C-4694-46B5-B853-4D0B07C0D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F5159-0E40-4D7D-ABFA-29B5DDCC5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92435-8651-4B96-903F-A9668335A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FDEC7-4A84-40D3-ACC3-F3DB173A6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63E0F-07A5-4986-985D-4F2BBD28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B6DEE-A937-4775-92C1-ABC2330F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2d050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92d050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ea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b77bb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e077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3E36A-516F-4023-B6BD-DFDD14A6EA54}" type="slidenum">
              <a:rPr b="0" lang="ru-RU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7eced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1913E-DE61-4DC6-993F-E178623EF9AA}" type="datetime">
              <a:rPr b="0" lang="ru-RU" sz="1200" spc="-1" strike="noStrike">
                <a:solidFill>
                  <a:srgbClr val="e7eced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Номер слайда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C5B20-2C28-4AE2-A4E9-E16005E2D9E6}" type="slidenum">
              <a:rPr b="0" lang="ru-RU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" name="Прямоугольник 5"/>
          <p:cNvGrpSpPr/>
          <p:nvPr/>
        </p:nvGrpSpPr>
        <p:grpSpPr>
          <a:xfrm>
            <a:off x="476280" y="3048120"/>
            <a:ext cx="7802640" cy="2474640"/>
            <a:chOff x="476280" y="3048120"/>
            <a:chExt cx="7802640" cy="2474640"/>
          </a:xfrm>
        </p:grpSpPr>
        <p:pic>
          <p:nvPicPr>
            <p:cNvPr id="45" name="Прямоугольник 5" descr=""/>
            <p:cNvPicPr/>
            <p:nvPr/>
          </p:nvPicPr>
          <p:blipFill>
            <a:blip r:embed="rId1"/>
            <a:stretch/>
          </p:blipFill>
          <p:spPr>
            <a:xfrm>
              <a:off x="476280" y="3048120"/>
              <a:ext cx="7802640" cy="247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611280" y="3143160"/>
              <a:ext cx="7539120" cy="221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262626"/>
                  </a:solidFill>
                  <a:latin typeface="Основной текст"/>
                  <a:ea typeface="Estrangelo Edessa"/>
                </a:rPr>
                <a:t>Кордюкова Любовь Владимировна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262626"/>
                  </a:solidFill>
                  <a:latin typeface="Основной текст"/>
                  <a:ea typeface="Estrangelo Edessa"/>
                </a:rPr>
                <a:t>г. Покачи, МАОУ СОШ № 2, учитель- логопед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" name="TextBox 6"/>
          <p:cNvSpPr/>
          <p:nvPr/>
        </p:nvSpPr>
        <p:spPr>
          <a:xfrm>
            <a:off x="1143000" y="1500120"/>
            <a:ext cx="627840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ограмма летнего лагеря с дневным пребыванием детей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Я - Гражданин России!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лагере с дневным пребыванием «Улыбка»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 МАОУ СОШ №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9721e"/>
                </a:solidFill>
                <a:latin typeface="Cambria"/>
              </a:rPr>
              <a:t>Объективные факторы работы лагеря с дневным пребыванием детей в каникулярное время «Улыбка»</a:t>
            </a:r>
            <a:br>
              <a:rPr sz="2400"/>
            </a:br>
            <a:endParaRPr b="0" lang="en-US" sz="2400" spc="-1" strike="noStrike">
              <a:solidFill>
                <a:srgbClr val="92d050"/>
              </a:solidFill>
              <a:latin typeface="Cambria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85840" y="714240"/>
            <a:ext cx="7929360" cy="56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212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одель лагеря имеет ряд объективных факторов, которые и определяют специфику её работ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212400">
              <a:spcBef>
                <a:spcPts val="45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ременный характер детского объедине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212400">
              <a:spcBef>
                <a:spcPts val="45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нообразная деятельность – насыщенность всего периода разноплановой интересной деятельностью делают пребывание в лагере очень привлекательным для детей, которые в силу своего возраста стремятся «попробовать всё и успеть везде». В летнем лагере предлагается самый разнообразный спектр занят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212400">
              <a:spcBef>
                <a:spcPts val="45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тенсивность освоения детьми различных видов деятельности – заинтересованность ребёнка каким-либо делом посредством достижения последующего определённого положительного результата. В этом смысле личностно-ориентированный подход означает, что степень интенсивности должна быть адекватна индивидуальным возможностям челове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212400">
              <a:spcBef>
                <a:spcPts val="45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менение позиции ребёнка – своеобразное разрушение прежнего, подчас негативного, стереотипа поведения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212400">
              <a:spcBef>
                <a:spcPts val="45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родно-климатическая база – природное окружение, чистый воздух является важной составляющей успеха лагер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212400">
              <a:spcBef>
                <a:spcPts val="45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ёткий режим жизнедеятельности – максимальное использование природно-климатических факторов, рациональная организация всей жизнедеятельности дете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212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212400">
              <a:spcBef>
                <a:spcPts val="45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Номер слайда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3B423-8226-4051-BD13-D9E943B99DBE}" type="slidenum">
              <a:rPr b="0" lang="ru-RU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9680" y="-360"/>
            <a:ext cx="76201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49721e"/>
                </a:solidFill>
                <a:uFillTx/>
                <a:latin typeface="Cambria"/>
              </a:rPr>
              <a:t>Материально-технические условия предусматривают: </a:t>
            </a:r>
            <a:br>
              <a:rPr sz="3200"/>
            </a:br>
            <a:endParaRPr b="0" lang="en-US" sz="1800" spc="-1" strike="noStrike">
              <a:solidFill>
                <a:srgbClr val="92d050"/>
              </a:solidFill>
              <a:latin typeface="Cambria"/>
            </a:endParaRPr>
          </a:p>
        </p:txBody>
      </p:sp>
      <p:sp>
        <p:nvSpPr>
          <p:cNvPr id="79" name="Номер слайда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C3B2B-1AAB-4C6A-9795-3A7F8C744CBB}" type="slidenum">
              <a:rPr b="0" lang="ru-RU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428760" y="198360"/>
          <a:ext cx="7929360" cy="6943680"/>
        </p:xfrm>
        <a:graphic>
          <a:graphicData uri="http://schemas.openxmlformats.org/drawingml/2006/table">
            <a:tbl>
              <a:tblPr/>
              <a:tblGrid>
                <a:gridCol w="1101600"/>
                <a:gridCol w="2541600"/>
                <a:gridCol w="2571840"/>
                <a:gridCol w="1714320"/>
              </a:tblGrid>
              <a:tr h="385920"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не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точник финансирования и материальная баз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ственн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5160"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бинет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ната отдыха, игровые комнаты, комната психологической разгруз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риальная база школы.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ительские средства на закупку канцелярских принадлежностей для творческих мастерских, отрядных дел, подготовки стендов и материалов для конкурс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ьник лагеря, воспитатели,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ический персона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920"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ртивны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я спортом, состязания,  линейка ( в случае плохой погоды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риальная база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ртивный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оводите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ртивная площад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нейка, проведение общелагерных  игр на воздухе, спартакиады, спортивные состяз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риальная база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ртивный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оводите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ьный дво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рядные дела, игры-путешеств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риальная база школ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итатели, администрация лагер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овы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здничные мероприятия и концерты, постановка спектаклей, работа детской творческой мастерско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риальная база школ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итатели, администрация лагер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000"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бин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й контроль мероприятий лагерной смен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риальная база школ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й работник школ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ьная библиоте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тература для педагогов и детей лагер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риальная база школ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блиотекар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ьная столов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трак, обе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нд социального страхов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едующая пищеблоко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наты кружковой работ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жки рукоделия, рисования, моделиров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ительские средства на закупку  материалов для поделок и занятий в кружка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ьник лагер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ический кабин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ворческая  мастерская вожатых, воспитателей, руководителей кружк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риальная база школ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рший воспитате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0160"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наты гигиен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алеты, места для мытья рук, сушилки для полотенец, раздевал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риальная база школ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ьник лагеря, воспитатели, технический персона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714240"/>
            <a:ext cx="762012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9721e"/>
                </a:solidFill>
                <a:latin typeface="Cambria"/>
              </a:rPr>
              <a:t>Ожидаемые результаты</a:t>
            </a:r>
            <a:br>
              <a:rPr sz="2400"/>
            </a:br>
            <a:r>
              <a:rPr b="1" lang="ru-RU" sz="4600" spc="-1" strike="noStrike">
                <a:solidFill>
                  <a:srgbClr val="92d050"/>
                </a:solidFill>
                <a:latin typeface="Cambria"/>
              </a:rPr>
              <a:t> </a:t>
            </a:r>
            <a:br>
              <a:rPr sz="4600"/>
            </a:br>
            <a:endParaRPr b="0" lang="en-US" sz="4600" spc="-1" strike="noStrike">
              <a:solidFill>
                <a:srgbClr val="92d050"/>
              </a:solidFill>
              <a:latin typeface="Cambria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85840" y="571680"/>
            <a:ext cx="8215200" cy="58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217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217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ходе реализации данной программы ожидается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217080">
              <a:lnSpc>
                <a:spcPct val="100000"/>
              </a:lnSpc>
              <a:spcBef>
                <a:spcPts val="4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е оздоровление воспитанников, укрепление их здоровь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217080">
              <a:lnSpc>
                <a:spcPct val="100000"/>
              </a:lnSpc>
              <a:spcBef>
                <a:spcPts val="4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епление физических и психологических сил детей и подростков, развитие лидерских и организаторских качеств, приобретение новых знаний, развитие творческих способностей, детской самостоятельности и самодеятельност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217080">
              <a:lnSpc>
                <a:spcPct val="100000"/>
              </a:lnSpc>
              <a:spcBef>
                <a:spcPts val="4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знание ответственности за судьбу страны, формирование гордости за сопричастность к деяниям предыдущих поколени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217080">
              <a:lnSpc>
                <a:spcPct val="100000"/>
              </a:lnSpc>
              <a:spcBef>
                <a:spcPts val="4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ь к самореализации в пространстве российского государства, формирование активной жизненной позиции; знание и соблюдение норм правового государств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217080">
              <a:lnSpc>
                <a:spcPct val="100000"/>
              </a:lnSpc>
              <a:spcBef>
                <a:spcPts val="4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ение участниками смены умений и навыков  индивидуальной и коллективной творческой и трудовой деятельности, социальной активност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217080">
              <a:lnSpc>
                <a:spcPct val="100000"/>
              </a:lnSpc>
              <a:spcBef>
                <a:spcPts val="4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коммуникативных способностей и толерантност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217080">
              <a:lnSpc>
                <a:spcPct val="100000"/>
              </a:lnSpc>
              <a:spcBef>
                <a:spcPts val="4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творческой активности детей путем вовлечения их в социально-значимую деятельность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217080">
              <a:lnSpc>
                <a:spcPct val="100000"/>
              </a:lnSpc>
              <a:spcBef>
                <a:spcPts val="4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бретение новых знаний и умений в результате занятий в кружках (разучивание песен, игр, составление проектов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217080">
              <a:lnSpc>
                <a:spcPct val="100000"/>
              </a:lnSpc>
              <a:spcBef>
                <a:spcPts val="4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ение кругозора дете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217080">
              <a:lnSpc>
                <a:spcPct val="100000"/>
              </a:lnSpc>
              <a:spcBef>
                <a:spcPts val="4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общей культуры учащихся, привитие им социально-нравственных нор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217080">
              <a:lnSpc>
                <a:spcPct val="100000"/>
              </a:lnSpc>
              <a:spcBef>
                <a:spcPts val="4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ный рост участников смен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217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Номер слайда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299E5-1DEA-45BA-A283-0D25C8821F70}" type="slidenum">
              <a:rPr b="0" lang="ru-RU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499680"/>
            <a:ext cx="762012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9721e"/>
                </a:solidFill>
                <a:latin typeface="Cambria"/>
              </a:rPr>
              <a:t>Структура взаимодействия с общественными учреждениями лагеря с дневным пребыванием детей в каникулярное время «Улыбка»</a:t>
            </a:r>
            <a:br>
              <a:rPr sz="1800"/>
            </a:br>
            <a:r>
              <a:rPr b="1" lang="ru-RU" sz="4600" spc="-1" strike="noStrike">
                <a:solidFill>
                  <a:srgbClr val="92d050"/>
                </a:solidFill>
                <a:latin typeface="Cambria"/>
              </a:rPr>
              <a:t> </a:t>
            </a:r>
            <a:br>
              <a:rPr sz="4600"/>
            </a:br>
            <a:endParaRPr b="0" lang="en-US" sz="4600" spc="-1" strike="noStrike">
              <a:solidFill>
                <a:srgbClr val="92d050"/>
              </a:solidFill>
              <a:latin typeface="Cambria"/>
            </a:endParaRPr>
          </a:p>
        </p:txBody>
      </p:sp>
      <p:sp>
        <p:nvSpPr>
          <p:cNvPr id="85" name="Номер слайда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8D3DA-E229-4482-A9DB-E7C88E56293A}" type="slidenum">
              <a:rPr b="0" lang="ru-RU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" name="Group 1"/>
          <p:cNvGrpSpPr/>
          <p:nvPr/>
        </p:nvGrpSpPr>
        <p:grpSpPr>
          <a:xfrm>
            <a:off x="571680" y="623880"/>
            <a:ext cx="7715160" cy="5877000"/>
            <a:chOff x="571680" y="623880"/>
            <a:chExt cx="7715160" cy="5877000"/>
          </a:xfrm>
        </p:grpSpPr>
        <p:sp>
          <p:nvSpPr>
            <p:cNvPr id="88" name="AutoShape 21"/>
            <p:cNvSpPr/>
            <p:nvPr/>
          </p:nvSpPr>
          <p:spPr>
            <a:xfrm>
              <a:off x="571680" y="643320"/>
              <a:ext cx="7715160" cy="577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Rectangle 20"/>
            <p:cNvSpPr/>
            <p:nvPr/>
          </p:nvSpPr>
          <p:spPr>
            <a:xfrm>
              <a:off x="1000080" y="1132560"/>
              <a:ext cx="716040" cy="44262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  </a:t>
              </a:r>
              <a:r>
                <a:rPr b="1" lang="ru-RU" sz="16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У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  </a:t>
              </a:r>
              <a:r>
                <a:rPr b="1" lang="ru-RU" sz="16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Ч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  </a:t>
              </a:r>
              <a:r>
                <a:rPr b="1" lang="ru-RU" sz="16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А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  </a:t>
              </a:r>
              <a:r>
                <a:rPr b="1" lang="ru-RU" sz="16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С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  </a:t>
              </a:r>
              <a:r>
                <a:rPr b="1" lang="ru-RU" sz="16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Т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  </a:t>
              </a:r>
              <a:r>
                <a:rPr b="1" lang="ru-RU" sz="16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Н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  </a:t>
              </a:r>
              <a:r>
                <a:rPr b="1" lang="ru-RU" sz="16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И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  </a:t>
              </a:r>
              <a:r>
                <a:rPr b="1" lang="ru-RU" sz="16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К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  </a:t>
              </a:r>
              <a:r>
                <a:rPr b="1" lang="ru-RU" sz="16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И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  </a:t>
              </a:r>
              <a:r>
                <a:rPr b="1" lang="ru-RU" sz="16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С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  </a:t>
              </a:r>
              <a:r>
                <a:rPr b="1" lang="ru-RU" sz="16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М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  </a:t>
              </a:r>
              <a:r>
                <a:rPr b="1" lang="ru-RU" sz="16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Е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  </a:t>
              </a:r>
              <a:r>
                <a:rPr b="1" lang="ru-RU" sz="16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Н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  </a:t>
              </a:r>
              <a:r>
                <a:rPr b="1" lang="ru-RU" sz="16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Ы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Rectangle 19"/>
            <p:cNvSpPr/>
            <p:nvPr/>
          </p:nvSpPr>
          <p:spPr>
            <a:xfrm>
              <a:off x="3241080" y="623880"/>
              <a:ext cx="3054600" cy="4201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ЦЕНТР «ВИКТОРИЯ»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Rectangle 18"/>
            <p:cNvSpPr/>
            <p:nvPr/>
          </p:nvSpPr>
          <p:spPr>
            <a:xfrm>
              <a:off x="3242160" y="1132560"/>
              <a:ext cx="3053520" cy="421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КОМИТЕТ КУЛЬТУРЫ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Rectangle 17"/>
            <p:cNvSpPr/>
            <p:nvPr/>
          </p:nvSpPr>
          <p:spPr>
            <a:xfrm>
              <a:off x="3242160" y="1764720"/>
              <a:ext cx="3053520" cy="421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ДОМ КУЛЬТУРЫ «ОКТЯБРЬ»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Rectangle 16"/>
            <p:cNvSpPr/>
            <p:nvPr/>
          </p:nvSpPr>
          <p:spPr>
            <a:xfrm>
              <a:off x="3242160" y="2396880"/>
              <a:ext cx="3053520" cy="421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ВЫСТАВОЧНЫЙ ЗАЛ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ectangle 15"/>
            <p:cNvSpPr/>
            <p:nvPr/>
          </p:nvSpPr>
          <p:spPr>
            <a:xfrm>
              <a:off x="3242160" y="3029760"/>
              <a:ext cx="3053520" cy="4212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КРАЕВЕДЧЕСКИЙ МУЗЕЙ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Rectangle 14"/>
            <p:cNvSpPr/>
            <p:nvPr/>
          </p:nvSpPr>
          <p:spPr>
            <a:xfrm>
              <a:off x="3242160" y="3661920"/>
              <a:ext cx="3053520" cy="4208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ГОРОДСКАЯ БИБЛИОТЕКА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Rectangle 13"/>
            <p:cNvSpPr/>
            <p:nvPr/>
          </p:nvSpPr>
          <p:spPr>
            <a:xfrm>
              <a:off x="3242160" y="4399200"/>
              <a:ext cx="3053520" cy="4590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КСК «НЕФТЯНИК»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Line 12"/>
            <p:cNvSpPr/>
            <p:nvPr/>
          </p:nvSpPr>
          <p:spPr>
            <a:xfrm flipV="1">
              <a:off x="1716480" y="816120"/>
              <a:ext cx="1525680" cy="31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Line 11"/>
            <p:cNvSpPr/>
            <p:nvPr/>
          </p:nvSpPr>
          <p:spPr>
            <a:xfrm>
              <a:off x="1716480" y="1448640"/>
              <a:ext cx="152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Line 10"/>
            <p:cNvSpPr/>
            <p:nvPr/>
          </p:nvSpPr>
          <p:spPr>
            <a:xfrm>
              <a:off x="1716480" y="1975680"/>
              <a:ext cx="152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Line 9"/>
            <p:cNvSpPr/>
            <p:nvPr/>
          </p:nvSpPr>
          <p:spPr>
            <a:xfrm>
              <a:off x="1716480" y="2607840"/>
              <a:ext cx="152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Line 8"/>
            <p:cNvSpPr/>
            <p:nvPr/>
          </p:nvSpPr>
          <p:spPr>
            <a:xfrm>
              <a:off x="1716480" y="3240000"/>
              <a:ext cx="152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Line 7"/>
            <p:cNvSpPr/>
            <p:nvPr/>
          </p:nvSpPr>
          <p:spPr>
            <a:xfrm>
              <a:off x="1716480" y="3872520"/>
              <a:ext cx="152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Line 6"/>
            <p:cNvSpPr/>
            <p:nvPr/>
          </p:nvSpPr>
          <p:spPr>
            <a:xfrm>
              <a:off x="1716480" y="4610520"/>
              <a:ext cx="152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tangle 5"/>
            <p:cNvSpPr/>
            <p:nvPr/>
          </p:nvSpPr>
          <p:spPr>
            <a:xfrm>
              <a:off x="3242160" y="5137560"/>
              <a:ext cx="3053520" cy="506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БУ  ХМАО «Покачевская городская больница»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Line 4"/>
            <p:cNvSpPr/>
            <p:nvPr/>
          </p:nvSpPr>
          <p:spPr>
            <a:xfrm>
              <a:off x="1714680" y="5298480"/>
              <a:ext cx="15271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Rectangle 3"/>
            <p:cNvSpPr/>
            <p:nvPr/>
          </p:nvSpPr>
          <p:spPr>
            <a:xfrm>
              <a:off x="3242160" y="5979960"/>
              <a:ext cx="3054600" cy="520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ЛЕДОВЫЙ ДВОРЕЦ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   </a:t>
              </a:r>
              <a:r>
                <a:rPr b="1" lang="ru-RU" sz="16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« КРИСТАЛЛ»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Line 2"/>
            <p:cNvSpPr/>
            <p:nvPr/>
          </p:nvSpPr>
          <p:spPr>
            <a:xfrm>
              <a:off x="1714680" y="5558760"/>
              <a:ext cx="1438200" cy="65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9721e"/>
                </a:solidFill>
                <a:latin typeface="Cambria"/>
              </a:rPr>
              <a:t>Штатное расписание работников лагеря с дневным пребыванием «Улыбка» на 50 детей</a:t>
            </a:r>
            <a:br>
              <a:rPr sz="2000"/>
            </a:br>
            <a:r>
              <a:rPr b="1" lang="ru-RU" sz="2000" spc="-1" strike="noStrike">
                <a:solidFill>
                  <a:srgbClr val="49721e"/>
                </a:solidFill>
                <a:latin typeface="Cambria"/>
              </a:rPr>
              <a:t>с 20 июля по 11 августа 2015г.</a:t>
            </a:r>
            <a:br>
              <a:rPr sz="2000"/>
            </a:br>
            <a:endParaRPr b="0" lang="en-US" sz="2000" spc="-1" strike="noStrike">
              <a:solidFill>
                <a:srgbClr val="92d050"/>
              </a:solidFill>
              <a:latin typeface="Cambria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B260D-6A2F-4801-8591-FBC3ECDCB0B6}" type="slidenum">
              <a:rPr b="0" lang="ru-RU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928800" y="1571760"/>
          <a:ext cx="7215120" cy="3230280"/>
        </p:xfrm>
        <a:graphic>
          <a:graphicData uri="http://schemas.openxmlformats.org/drawingml/2006/table">
            <a:tbl>
              <a:tblPr/>
              <a:tblGrid>
                <a:gridCol w="509400"/>
                <a:gridCol w="4633920"/>
                <a:gridCol w="2071800"/>
              </a:tblGrid>
              <a:tr h="50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е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ьник лагер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агог дополнительного обра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зыкальный руководи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труктор по физкультур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ита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й работ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менный воспита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борщ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62012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9721e"/>
                </a:solidFill>
                <a:latin typeface="Cambria"/>
              </a:rPr>
              <a:t>Литература:</a:t>
            </a:r>
            <a:br>
              <a:rPr sz="2800"/>
            </a:br>
            <a:endParaRPr b="0" lang="en-US" sz="2800" spc="-1" strike="noStrike">
              <a:solidFill>
                <a:srgbClr val="92d050"/>
              </a:solidFill>
              <a:latin typeface="Cambri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14200" y="499680"/>
            <a:ext cx="8501040" cy="59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214560">
              <a:lnSpc>
                <a:spcPct val="100000"/>
              </a:lnSpc>
              <a:spcBef>
                <a:spcPts val="45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Астахов П.А. « Я и государство», М, 2009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214560">
              <a:lnSpc>
                <a:spcPct val="100000"/>
              </a:lnSpc>
              <a:spcBef>
                <a:spcPts val="45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Афанасьев С.П. Коморин С.В. - Что делать с детьми в загородном лагере, - М.: 2009 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214560">
              <a:lnSpc>
                <a:spcPct val="100000"/>
              </a:lnSpc>
              <a:spcBef>
                <a:spcPts val="45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Жиренко О. Е. Мир праздников, шоу, викторин, - М.: «5» за знания,2008 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214560">
              <a:lnSpc>
                <a:spcPct val="100000"/>
              </a:lnSpc>
              <a:spcBef>
                <a:spcPts val="45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Лобачёва С.И.,Великородная В.А. Загородный летний лагерь.– М.:ВАКО,2008 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214560">
              <a:lnSpc>
                <a:spcPct val="100000"/>
              </a:lnSpc>
              <a:spcBef>
                <a:spcPts val="45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Пашенцев Д.А. « История государства и права России» 2010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214560">
              <a:lnSpc>
                <a:spcPct val="100000"/>
              </a:lnSpc>
              <a:spcBef>
                <a:spcPts val="45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Роткина Т. С., Курзова О. А., Нестеренко А. В. Уроки добра и милосердия, - О.: «Детство», 2007 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214560">
              <a:lnSpc>
                <a:spcPct val="100000"/>
              </a:lnSpc>
              <a:spcBef>
                <a:spcPts val="45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Соколова Н. В. Лето, каникулы – путь к успеху: сборник программ и игр для детей и подростков в условиях детского оздоровительного лагеря, - О.: «Детство», 2009 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214560">
              <a:lnSpc>
                <a:spcPct val="100000"/>
              </a:lnSpc>
              <a:spcBef>
                <a:spcPts val="45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Титов С.В. Здравствуй, лето! - Волгоград, Учитель, 2007 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214560">
              <a:lnSpc>
                <a:spcPct val="100000"/>
              </a:lnSpc>
              <a:spcBef>
                <a:spcPts val="45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Шмаков С.А. Игры-шутки, игры-минутки. М., 2009 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214560">
              <a:lnSpc>
                <a:spcPct val="100000"/>
              </a:lnSpc>
              <a:spcBef>
                <a:spcPts val="45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мисина, В.Г. Духовно- нравственное воспитание детей младшего школьного возраста [Текст] / сост. В.Г.Черемисина. - Кемерово: КРИПКиПРО, 2010. - 14- 36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214560">
              <a:lnSpc>
                <a:spcPct val="100000"/>
              </a:lnSpc>
              <a:spcBef>
                <a:spcPts val="45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макова, С.А. Летний лагерь: вчера и сегодня. / С.А. Шмакова. ─ М.: ООО «ДОД», 2008. ─ 120 с. // Библиотечка для УДОД. ─ 2009. ─ №1. ─ С20-77. Щербаков, А.В. Календарь вожатого / А.В. Щербаков, Д.А. Шилков // Работа социального педагога в школе и микрорайоне. ─ 2009. ─ № 2. ─ С. 74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214560">
              <a:spcBef>
                <a:spcPts val="45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214560">
              <a:spcBef>
                <a:spcPts val="45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214560">
              <a:spcBef>
                <a:spcPts val="45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0F220-E26C-4033-9077-87533687FD54}" type="slidenum">
              <a:rPr b="0" lang="ru-RU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76201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9721e"/>
                </a:solidFill>
                <a:latin typeface="Cambria"/>
              </a:rPr>
              <a:t>Паспорт программы. </a:t>
            </a:r>
            <a:br>
              <a:rPr sz="1600"/>
            </a:br>
            <a:r>
              <a:rPr b="1" lang="ru-RU" sz="1600" spc="-1" strike="noStrike">
                <a:solidFill>
                  <a:srgbClr val="49721e"/>
                </a:solidFill>
                <a:latin typeface="Cambria"/>
              </a:rPr>
              <a:t>Наименование программы:</a:t>
            </a:r>
            <a:r>
              <a:rPr b="0" lang="ru-RU" sz="1600" spc="-1" strike="noStrike">
                <a:solidFill>
                  <a:srgbClr val="49721e"/>
                </a:solidFill>
                <a:latin typeface="Cambria"/>
              </a:rPr>
              <a:t> </a:t>
            </a:r>
            <a:br>
              <a:rPr sz="1600"/>
            </a:br>
            <a:r>
              <a:rPr b="1" lang="ru-RU" sz="1600" spc="-1" strike="noStrike">
                <a:solidFill>
                  <a:srgbClr val="49721e"/>
                </a:solidFill>
                <a:latin typeface="Cambria"/>
              </a:rPr>
              <a:t> </a:t>
            </a:r>
            <a:r>
              <a:rPr b="0" lang="ru-RU" sz="1600" spc="-1" strike="noStrike">
                <a:solidFill>
                  <a:srgbClr val="49721e"/>
                </a:solidFill>
                <a:latin typeface="Cambria"/>
              </a:rPr>
              <a:t>«Я - Гражданин России !»</a:t>
            </a:r>
            <a:br>
              <a:rPr sz="1800"/>
            </a:br>
            <a:endParaRPr b="0" lang="en-US" sz="1600" spc="-1" strike="noStrike">
              <a:solidFill>
                <a:srgbClr val="92d050"/>
              </a:solidFill>
              <a:latin typeface="Cambri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85840" y="571680"/>
            <a:ext cx="8501040" cy="58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вое обоснование для разработки програм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нвенция о правах ребён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кон РФ « Об основных гарантиях прав ребёнка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кон РФ « Об образовании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кон РФ «О качестве и безопасности пищевых продуктов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кон РФ от 06.10.2003 № 131 – ФЗ « Об общих принципах организации местного самоуправления в РФ» в соответствии с законом ХМАО – Югры от 30.12.2009 № 250 – оз « Об организации и обеспечении отдыха и оздоровления детей, проживающих в ХМАО – Югр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становления Правительства ХМАО – Югры от 09.10.2013 № 421 – п « О государственной программе ХМАО – Югры» Социальная поддержка жителей ХМАО – Югры на 2014 – 2020 годы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становления администрации города Покачи от 10. 09. 2012 № 931 « О долгосрочной целевой программе « Организация отдыха детей города Покачи в каникулярное время 2013 – 2015 годы»( с изменениями от 09.02.2015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становления администрации города Покачи от 27. 09. 2010 № 653 « Об утверждении Положения об организации отдыха детей в городе Покачи в каникулярное время»( с изменениями от 06.06.201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каз Департамента образования и науки ХМАО-Югры «О мерах по обеспечению безопасности при организации детского летнего отдых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становление Администрация города Покачи от 16.03.2015г., приказ № 356; «Об организации отдыха детей города Покачи в каникулярное время в 2015 году 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анитарные эпидемиологические правила СП 3.1.1.1117-02 «Профилактика инфекционных заболеваний. Кишечных инфекций» от 17 марта 2002го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Санитарно-эпидемиологические правила и нормативы СанПиН 2.4.5.2409-08 «Организация питания учащихся в ОУ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анитарно-эпидемиологические правила и нормативы СанПиН 2.4.4.2599 -10 «Гигиенические требования к устройству, содержанию и организации режима  в учреждениях с дневным пребыванием детей в период каникул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азчик программы: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образования г. Пока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чик программы: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ректор лагеря с дневным пребыванием детей в каникулярное время «Улыбка» учитель – логопед  Кордюкова Л.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Номер слайда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D57CC-83F4-4F3F-8E3A-EB3739A60B27}" type="slidenum">
              <a:rPr b="0" lang="ru-RU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9721e"/>
                </a:solidFill>
                <a:latin typeface="Cambria"/>
              </a:rPr>
              <a:t>Информационная карта программы</a:t>
            </a:r>
            <a:br>
              <a:rPr sz="1800"/>
            </a:br>
            <a:endParaRPr b="0" lang="en-US" sz="1800" spc="-1" strike="noStrike">
              <a:solidFill>
                <a:srgbClr val="92d050"/>
              </a:solidFill>
              <a:latin typeface="Cambria"/>
            </a:endParaRPr>
          </a:p>
        </p:txBody>
      </p:sp>
      <p:sp>
        <p:nvSpPr>
          <p:cNvPr id="53" name="Номер слайда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A8EBD-3A74-486E-A526-9CDBE9344F34}" type="slidenum">
              <a:rPr b="0" lang="ru-RU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42960" y="793800"/>
          <a:ext cx="7929720" cy="6076800"/>
        </p:xfrm>
        <a:graphic>
          <a:graphicData uri="http://schemas.openxmlformats.org/drawingml/2006/table">
            <a:tbl>
              <a:tblPr/>
              <a:tblGrid>
                <a:gridCol w="625320"/>
                <a:gridCol w="2192400"/>
                <a:gridCol w="5112000"/>
              </a:tblGrid>
              <a:tr h="547560"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orbe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ритори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нты-Мансийский автономный округ - Югра (Тюменская область),  город  Покач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orbe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orbel"/>
                        </a:rPr>
                        <a:t>Полное название програм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orbel"/>
                        </a:rPr>
                        <a:t>Программа летнего лагеря  с дневным пребыванием детей в каникулярное время «Улыбка». ( целевая , краткосрочна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orbe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orbel"/>
                        </a:rPr>
                        <a:t>«Я – Гражданин России!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orbe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orbel"/>
                        </a:rPr>
                        <a:t>Цель програм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ить качественный отдых,  занятость детей; создать условия для развития личности ребенка в каникулярное время, развитие гражданской и социальной ответственности как важнейшей черты личности, проявляющейся в заботе о благополучии своей страны, края, города, школы, семьи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orbe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orbel"/>
                        </a:rPr>
                        <a:t>Направление 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orbel"/>
                        </a:rPr>
                        <a:t>Гражданско - патриотическое  развитие детей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orbe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orbel"/>
                        </a:rPr>
                        <a:t>Краткое содержание програм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orbel"/>
                        </a:rPr>
                        <a:t>Программа содержит: мероприятия, реализующие Программу; ожидаемые результаты и условия реализации; приложе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orbe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orbel"/>
                        </a:rPr>
                        <a:t>Автор програм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orbel"/>
                        </a:rPr>
                        <a:t>Учитель - логопед Кордюкова Л.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5120"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orbe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orbel"/>
                        </a:rPr>
                        <a:t>Муниципальное образовательное учреждение, представившее программ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orbel"/>
                        </a:rPr>
                        <a:t>Муниципальное автономное общеобразовательное учреждение  «Средняя общеобразовательная школа №2» г. Покач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orbe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orbel"/>
                        </a:rPr>
                        <a:t>Адрес, телеф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orbel"/>
                        </a:rPr>
                        <a:t>628661, ХМАО – Югра, Тюменская обла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orbe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orbel"/>
                        </a:rPr>
                        <a:t>г. Покачи, ул. Мира д. 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orbel"/>
                        </a:rPr>
                        <a:t>Тел. 834669 73078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orbel"/>
                        </a:rPr>
                        <a:t> posh2@mail.r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orbe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orbel"/>
                        </a:rPr>
                        <a:t>Место реализ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orbel"/>
                        </a:rPr>
                        <a:t>Летний лагерь с дневным пребыванием детей при МАОУ СОШ №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orbe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orbel"/>
                        </a:rPr>
                        <a:t>Количество, возраст учащих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orbel"/>
                        </a:rPr>
                        <a:t>50 учащихся с 6 до 17 лет ( учащиеся из  всех школ города Покач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orbe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orbel"/>
                        </a:rPr>
                        <a:t>Сроки проведения, количество сме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orbel"/>
                        </a:rPr>
                        <a:t>С 20 июля -11 августа 2015 года, 3смен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762012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9721e"/>
                </a:solidFill>
                <a:latin typeface="Cambria"/>
              </a:rPr>
              <a:t>Пояснительная записка</a:t>
            </a:r>
            <a:endParaRPr b="0" lang="en-US" sz="1800" spc="-1" strike="noStrike">
              <a:solidFill>
                <a:srgbClr val="92d050"/>
              </a:solidFill>
              <a:latin typeface="Cambria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-360" y="571680"/>
            <a:ext cx="8643960" cy="58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нравственного и патриотического воспитания ребенка остается актуальной в современной школе. Именно здесь происходит становление интересов и ценностных  ориентаций челове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тние каникулы составляют значительную часть свободного времени детей. Этот период как нельзя более благоприятен для развития их творческого потенциала, совершенствования личностных возможностей, приобщения к ценностям культуры, создания системы гражданско-патриотического воспит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деятельности лагеря  направлено на формирования личности гражданина и патриота России с присущими ему ценностями, взглядами, ориентациями, установками, мотивами деятельности и поведения.            Программа “Я – Гражданин России!”  предполагает формирование патриотических чувств и сознание на основе исторических ценностей и роли России в судьбах мира, развитие чувства гордости за свою страну; воспитание личности гражданина – патриота России, способного встать на защиту интересов страны; формирование комплекса нормативного, правового и организационно-методического обеспечения функционирования системы патриотического воспитания. Любовь к Родине, патриотические чувства формируются у детей постепенно, в процессе накопления знаний и представлений об окружающем мире, об истории и традициях русского народа, о жизни страны, о труде людей и о родной природ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гружая ребенка в атмосферу лагеря, мы даем ему возможность открыть в себе положительные качества личности, ощутить значимость собственного «я»; осознать себя личностью, вызывающей положительную оценку в глазах других людей; повысить самооценку; выйти на новый уровень общения, где нет места агрессии и груб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амма  универсальна, так как может использоваться для работы с детьми из различных социальных групп, разного возраста, уровня развития и состояния здоровья. Программа ориентирована на работу в разновозрастном детском коллективе и представляет собой одну сме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амма рассчитана на учащихся  6 – 17 лет. Оптимальное количество детей 25 человек в отряде. Психолого-педагогическое сопровождение деятельности осуществляют директор лагеря, воспитатели (преподаватели школ, воспитатели детских садов),  музыкальный работник, учитель физкультуры.  Для обеспечения  работы лагеря используется актовый и спортивный зал , библиот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Номер слайда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E3E13-3104-45FE-80EB-09E92654D312}" type="slidenum">
              <a:rPr b="0" lang="ru-RU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6840" y="142560"/>
            <a:ext cx="8186760" cy="62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Цель программы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беспечить качественный отдых,  занятость детей; создать условия для развития личности ребенка в каникулярное время, развитие гражданской и социальной ответственности как важнейшей черты личности, проявляющейся в заботе о благополучии своей страны, края, города, школы, семьи. 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Задачи программы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349"/>
              </a:spcBef>
              <a:buClr>
                <a:srgbClr val="92d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сширение знаний  о России: её истории, традициях, культуре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349"/>
              </a:spcBef>
              <a:buClr>
                <a:srgbClr val="92d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оспитание у школьников уважение к культурному наследию страны;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349"/>
              </a:spcBef>
              <a:buClr>
                <a:srgbClr val="92d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офилактика детской и подростковой безнадзорности, правонарушений в летний период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349"/>
              </a:spcBef>
              <a:buClr>
                <a:srgbClr val="92d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звитие  творческих, организаторских, интеллектуальных способностей у детей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349"/>
              </a:spcBef>
              <a:buClr>
                <a:srgbClr val="92d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оздание условий для самоопределения каждого ребёнка через выявление его интересов и способностей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349"/>
              </a:spcBef>
              <a:buClr>
                <a:srgbClr val="92d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оспитание уважения к родному краю, истории и традициям государства;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349"/>
              </a:spcBef>
              <a:buClr>
                <a:srgbClr val="92d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бучение нормам социальной жизни, культуре взаимоотношени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349"/>
              </a:spcBef>
              <a:buClr>
                <a:srgbClr val="92d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оздание доброжелательной атмосферы, способствующей ориентации ребёнка на положительные действия и поступки.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роки реализации программы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Ежедневно, в период деятельности лагеря (21 день)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 20.07.15 – 11. 08.15г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Этапы реализации программы: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Подготовительный  этап.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 Организационный этап.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. Основной этап.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4. Заключительный этап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Номер слайда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651D0-17C1-42AF-B27C-CA0BBACBA915}" type="slidenum">
              <a:rPr b="0" lang="ru-RU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9721e"/>
                </a:solidFill>
                <a:latin typeface="Cambria"/>
              </a:rPr>
              <a:t>ПЛАНИРУЕМЫЕ РЕЗУЛЬТАТЫ</a:t>
            </a:r>
            <a:br>
              <a:rPr sz="2400"/>
            </a:br>
            <a:r>
              <a:rPr b="0" i="1" lang="ru-RU" sz="4600" spc="-1" strike="noStrike">
                <a:solidFill>
                  <a:srgbClr val="92d050"/>
                </a:solidFill>
                <a:latin typeface="Cambria"/>
              </a:rPr>
              <a:t> </a:t>
            </a:r>
            <a:endParaRPr b="0" lang="en-US" sz="4600" spc="-1" strike="noStrike">
              <a:solidFill>
                <a:srgbClr val="92d050"/>
              </a:solidFill>
              <a:latin typeface="Cambria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357120"/>
            <a:ext cx="7972560" cy="60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контроля и оценки достиж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уемых результа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целью контроля реализации программы ее эффективности организуется мониторинг эффективности внедрения программы, который проводится  2 раза в  (начале и в конце смены)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и средства контр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ностика нравственной воспитанности по методике М.И.Шиловой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кета «Необитаемый остров»;  «Настоящий друг» (А.С.Прутченков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 самооценки личности младшего школьника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ка определения самооценки (Т.В.Дембо, С.Я.Рубинштейн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ная методика «Автопортрет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 рисунков «Я и мой  отряд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ометр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социальной активности школьника по методике Е.Н.Степано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ки «Пословицы» (С.М.Петрова), «Наши отношения» (Л.М.Фридман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ностика уровня воспитанности (методика Н.П. Капустино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 «Размышляем о жизненном опыте» (.Е.Щурковой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ностные установки и планируемые результа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ностные установки: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овь к России, к своему народу,  к своей малой родине, закон и правопорядок, свобода и ответственность, доверие к людям,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г перед старшим поколением, семьей, почитание родителей, забота о старших и младших, справедливость, милосердие, честь, достоинство, толерантност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ная земля, заповедная природа, планета Земл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ота, гармония, духовный мир человека, эстетическое развитие, художественное творч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Номер слайда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F7A56-AF4F-4D3A-901E-36FA40DFEB42}" type="slidenum">
              <a:rPr b="0" lang="ru-RU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Номер слайда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EC11C-BBC6-4C8E-BC03-CBE071CFC9D8}" type="slidenum">
              <a:rPr b="0" lang="ru-RU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14200" y="546120"/>
          <a:ext cx="8358480" cy="6184800"/>
        </p:xfrm>
        <a:graphic>
          <a:graphicData uri="http://schemas.openxmlformats.org/drawingml/2006/table">
            <a:tbl>
              <a:tblPr/>
              <a:tblGrid>
                <a:gridCol w="2714760"/>
                <a:gridCol w="2587680"/>
                <a:gridCol w="3056040"/>
              </a:tblGrid>
              <a:tr h="823320">
                <a:tc>
                  <a:txBody>
                    <a:bodyPr lIns="11520" rIns="11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ритерии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итер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520" rIns="11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дикат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520" rIns="11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змеритель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мери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 rowSpan="4">
                  <a:txBody>
                    <a:bodyPr lIns="11520" rIns="11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етение чувства гражданственности, патриотизма и уважения к правам, свободам и обязанностям челове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520" rIns="11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ет четкое представление о принадлежности к РФ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520" rIns="11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ке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1520" rIns="11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ытывает чувство гордости за родную стран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520" rIns="11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кета, педагогическое наблюдение, педагогический анали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1520" rIns="11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ет представление о понятии «гражданин»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520" rIns="11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ке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1520" rIns="11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ет начальные представления о правах, свободах и обязанностях челове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520" rIns="11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кета, анализ творческих работ, собеседован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11520" rIns="11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ормированность моральных норм и правил повед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520" rIns="11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блюдает моральные нормы и правила повед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520" rIns="11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ика изучения уровня воспитанности, наблюдение педагогов, родителей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040">
                <a:tc rowSpan="2">
                  <a:txBody>
                    <a:bodyPr lIns="11520" rIns="11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ностное отношение к учебному труду; сформированность первоначальных навыков общественно-полезной и личностно-значимой деятельност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520" rIns="11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ет ценностную установку «Учение», «Труд»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520" rIns="11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ика изучения ценностных установок и ориентаций,  результаты выполнения отрядных дел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1520" rIns="11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вует в общественно-полезной деятельности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520" rIns="11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ниторинг участия в общественно-полезных делах, акция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11520" rIns="11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ностное отношение к природе, окружающей сред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520" rIns="11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ет ценностную установку «Природа»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520" rIns="11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ика изучения ценностных установок и ориентаций,  результаты выполнения творческих рабо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5240">
                <a:tc>
                  <a:txBody>
                    <a:bodyPr lIns="11520" rIns="11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ностное отношение к прекрасному, сформированность представления об эстетических идеала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520" rIns="11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ет ценностную установку «Прекрасное», интерес к чтению, произведениям искусства, спектаклям, концертам, выставкам, музыке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520" rIns="11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ика изучения ценностных установок и ориентаций, педагогическое наблюдение, учащихся, результаты выполнения творческих рабо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680">
                <a:tc>
                  <a:txBody>
                    <a:bodyPr lIns="11520" rIns="11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ностное отношение к  семье, старшему поколению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520" rIns="11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ет ценностную установку «Семья»,   начальные представления об этических нормах взаимоотношений в семье, между поколения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520" rIns="11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кета, анализ творческих  работ, собеседование, отзывы родителе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760">
                <a:tc>
                  <a:txBody>
                    <a:bodyPr lIns="11520" rIns="11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ое социальное партнерств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520" rIns="11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пень участия и эффективность взаимодействия с учреждениями дополнительного образова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520" rIns="11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из воспитательной работы отряда, отзывы социальных партнеров, достижения  учащихс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2"/>
          <p:cNvSpPr/>
          <p:nvPr/>
        </p:nvSpPr>
        <p:spPr>
          <a:xfrm>
            <a:off x="-140040" y="72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9721e"/>
                </a:solidFill>
                <a:latin typeface="Cambria"/>
              </a:rPr>
              <a:t>Ожидаемые конечные результаты реализации программы:</a:t>
            </a:r>
            <a:br>
              <a:rPr sz="4800"/>
            </a:br>
            <a:r>
              <a:rPr b="1" lang="ru-RU" sz="4800" spc="-1" strike="noStrike">
                <a:solidFill>
                  <a:srgbClr val="92d050"/>
                </a:solidFill>
                <a:latin typeface="Cambria"/>
              </a:rPr>
              <a:t> </a:t>
            </a:r>
            <a:br>
              <a:rPr sz="4800"/>
            </a:br>
            <a:endParaRPr b="0" lang="en-US" sz="4800" spc="-1" strike="noStrike">
              <a:solidFill>
                <a:srgbClr val="92d050"/>
              </a:solidFill>
              <a:latin typeface="Cambria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14200" y="285840"/>
            <a:ext cx="8429760" cy="61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219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9040" indent="-219240"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оведение совещаний при директоре и заместителе директора по АХР по подготовке школы к летнему сезон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9040" indent="-219240"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издание приказа по школе об организации  лагеря с дневным пребыванием дет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9040" indent="-219240"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азработка программы деятельности  лагеря с дневным пребыванием детей в каникулярное время «Улыбка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9040" indent="-219240"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дготовка методического материала для работников лагер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9040" indent="-219240"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тбор кадров для работы в  летнем лагере с дневным пребыванием дет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9040" indent="-219240"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оставление необходимой документации для деятельности лагеря (план-сетка, положение, должностные обязанности, инструкции т.д.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9040" indent="-219240"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бор детей в  лагерь с дневным пребыванием детей (прием заявлений, сбор документов дете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9040" indent="-219240"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формирование базы данных детей посещающих лагер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9040" indent="-219240"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знакомство с нормативной документацией, локальными актами, проведение инструктажей сотрудников лагерной сме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9040" indent="-219240"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оведение ознакомительного общего родительского собр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9040" indent="-219240"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аспределение детей по отрядам, в соответствии с возрастными особенностя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9040" indent="-219240"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формление отрядных комнат, информационного угол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9040" indent="-219240"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еализация основной идеи сме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9040" indent="-219240"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овлечение детей и подростков в различные виды коллективно- творческих де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9040" indent="-219240"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абота творческих мастерски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9040" indent="-219240"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дведение итогов сме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9040" indent="-219240"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ыработка перспектив деятельности организ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9040" indent="-219240"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анализ предложений детей, родителей, педагогов, внесенных по деятельности летнего лагеря в будущ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9040" indent="-219240"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азвитие у детей интереса к занятиям физкультурой и спортом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9040" indent="-219240"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Занятость детей организованной формой отдых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9040" indent="-219240"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Укрепление дружбы и сотрудничества между детьми разных возрастов и национальност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9040" indent="-219240"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Формирование осознанного отношения к себе, как к части окружающего мира.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9040" indent="-219240"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сознание ответственности за судьбу страны, формирование гордости за сопричастность к деяниям предыдущих поколе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9040" indent="-219240"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ость к самореализации в пространстве российского государства, формирование активной жизненной позиции; знание и соблюдение норм правового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9040" indent="-219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9040" indent="-219240"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9040" indent="-219240"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Номер слайда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66F1D-7E2E-4419-B19C-C0B37A3D491E}" type="slidenum">
              <a:rPr b="0" lang="ru-RU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762012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49721e"/>
                </a:solidFill>
                <a:uFillTx/>
                <a:latin typeface="Cambria"/>
              </a:rPr>
              <a:t>ПЛАН-СЕТКА</a:t>
            </a:r>
            <a:br>
              <a:rPr sz="1800"/>
            </a:br>
            <a:r>
              <a:rPr b="1" lang="ru-RU" sz="1800" spc="-1" strike="noStrike" u="sng">
                <a:solidFill>
                  <a:srgbClr val="49721e"/>
                </a:solidFill>
                <a:uFillTx/>
                <a:latin typeface="Cambria"/>
              </a:rPr>
              <a:t>МЕРОПРИЯТИЙ ЛЕТНЕГО  ЛАГЕРЯ  С ДНЕВНЫМ ПРЕБЫВАНИЕМ </a:t>
            </a:r>
            <a:br>
              <a:rPr sz="1800"/>
            </a:br>
            <a:r>
              <a:rPr b="1" lang="ru-RU" sz="1800" spc="-1" strike="noStrike" u="sng">
                <a:solidFill>
                  <a:srgbClr val="49721e"/>
                </a:solidFill>
                <a:uFillTx/>
                <a:latin typeface="Cambria"/>
              </a:rPr>
              <a:t>«Улыбка» при МАОУ СОШ №2 </a:t>
            </a:r>
            <a:br>
              <a:rPr sz="4800"/>
            </a:br>
            <a:endParaRPr b="0" lang="en-US" sz="1800" spc="-1" strike="noStrike">
              <a:solidFill>
                <a:srgbClr val="92d050"/>
              </a:solidFill>
              <a:latin typeface="Cambria"/>
            </a:endParaRPr>
          </a:p>
        </p:txBody>
      </p:sp>
      <p:sp>
        <p:nvSpPr>
          <p:cNvPr id="73" name="Номер слайда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DE2B7-40EB-47D4-B1E1-F610F97992DE}" type="slidenum">
              <a:rPr b="0" lang="ru-RU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42920" y="785880"/>
          <a:ext cx="8786880" cy="6040440"/>
        </p:xfrm>
        <a:graphic>
          <a:graphicData uri="http://schemas.openxmlformats.org/drawingml/2006/table">
            <a:tbl>
              <a:tblPr/>
              <a:tblGrid>
                <a:gridCol w="1757160"/>
                <a:gridCol w="1757520"/>
                <a:gridCol w="1757520"/>
                <a:gridCol w="1757160"/>
                <a:gridCol w="1757520"/>
              </a:tblGrid>
              <a:tr h="1680840"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07 </a:t>
                      </a:r>
                      <a:r>
                        <a:rPr b="1" lang="ru-RU" sz="7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День открытия «Сказочной смены»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Организационное мероприятие «Расскажи мне о себе»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Конкурс рисунков на асфальте «Миру мир!»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Проведение инструктажа по ТБ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ртивный час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ы на знакомств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.07     </a:t>
                      </a:r>
                      <a:r>
                        <a:rPr b="1" lang="ru-RU" sz="7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«Здравствуй, это я!»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Утверждение правил поведения в лагере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«Вместе весело живется».  Рождение отрядов, (придумать эмблему, название, девиз). Оформление уголка лагеря «Наш отрядный дом»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Минутки здоровья «Твой режим дня на каникулах»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ртивный час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ЗДРАВСТВУЙТЕ, ЭТО МЫ!»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промт-программа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07  </a:t>
                      </a:r>
                      <a:r>
                        <a:rPr b="1" lang="ru-RU" sz="7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«День Здоровья и спорта»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«Веселая мозаика»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ртивно-экологическая игра-путешествие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Веселые старты «Ай да мы»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Минутки здоровья «Путешествие в страну Витаминию»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ртивный праздник «Перестрелка»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Академия Джеймса Бонда» игровая программа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.07 </a:t>
                      </a:r>
                      <a:r>
                        <a:rPr b="1" lang="ru-RU" sz="7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«День Волшебных сказок»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Конкурс юных сказочников «Жили-были…» (сочиняем сказки сами)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Пушкинский праздник «Там русский дух, там Русью пахнет…»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Минутки здоровья «Гигиена тела»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елые старты «В стране сказок»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Старые сказки о главном» викторина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.07</a:t>
                      </a:r>
                      <a:r>
                        <a:rPr b="1" lang="ru-RU" sz="7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«День Туриста»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«На лесной опушке…» экскурсия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 Минутки здоровья «Зеленая аптечка»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овая программа на свежем воздухе Эстафета лесных сюрпризов «Веселый турист»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5960"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.07 « </a:t>
                      </a:r>
                      <a:r>
                        <a:rPr b="1" lang="ru-RU" sz="7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</a:rPr>
                        <a:t>День России»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Праздник «Без березки не мыслю России»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Соревнования по мини-футболу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Минутки здоровья «Первая помощь при укусах насекомых»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ртивный час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Морской бой» интеллектуальная игра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.07 «День талантов»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Конкурс рисунков «Здравствуй, лето!»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Игры на свежем воздухе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рытие летней спартакиады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Хоровод подвижных игр»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.07 «</a:t>
                      </a:r>
                      <a:r>
                        <a:rPr b="1" lang="ru-RU" sz="7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День ПДД»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Викторина «Дорожная азбука»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Путешествие на планету веселых игр «Мы не будем унывать»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гкая атлетик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навательная игра «Робинзонада»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.07 «</a:t>
                      </a:r>
                      <a:r>
                        <a:rPr b="1" lang="ru-RU" sz="7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День путешествий»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курсии по городу, посещение памятных мест, городского музея, выставочного зала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тбол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курсно-игровая программ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Путь к Камелоту»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.07 </a:t>
                      </a:r>
                      <a:r>
                        <a:rPr b="1" lang="ru-RU" sz="7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«День малых олимпийских игр»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Проведение «Малых олимпийских игр» 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Минутки здоровья «Друзья Мойдодыра и наше здоровье»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скебол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леш-моб «Люблю тебя, моя  Россия!»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3720"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.07 </a:t>
                      </a:r>
                      <a:r>
                        <a:rPr b="1" lang="ru-RU" sz="7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«День семьи»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«Кто нас очень крепко любит?» Игровая программа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«Мама, папа, я – спортивная семья» Час русской игры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Минутки здоровья «Что мы едим»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дминтон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А ну-ка, пары!» конкурсно-игровая программа.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.08 </a:t>
                      </a:r>
                      <a:r>
                        <a:rPr b="1" lang="ru-RU" sz="7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«День памяти и скорби»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«Нас война отметила меткой особою…» Конкурс рисунков о войне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Минутки здоровья «Если хочешь быть здоров – закаляйся»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оса препятств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а «Своя игра»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.08 </a:t>
                      </a:r>
                      <a:r>
                        <a:rPr b="1" lang="ru-RU" sz="7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«День смеха и забав»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а «Рассмеши соседа»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Юмор важен в спорте и не спорте»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мористическая эстафет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утки здоровья «От чего зависит твое настроение»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ревнования по велоспорту «Крути педали»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рытие летней олимпиады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нец-игра «Играйте и танцуйте вместе с нами»</a:t>
                      </a:r>
                      <a:r>
                        <a:rPr b="1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.08</a:t>
                      </a:r>
                      <a:r>
                        <a:rPr b="1" lang="ru-RU" sz="7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«День природы»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«Удивительная жизнь растений» викторина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Минутки здоровья «Закаливание»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Из чего же, из чего же…» экспромт - программ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Д «Ромашка»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.08 </a:t>
                      </a:r>
                      <a:r>
                        <a:rPr b="1" lang="ru-RU" sz="7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«День музыки и кино»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Кто куда, а мы в кино! (просмотр мультфильмов)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«Любимые песни из кинофильмов, мультфильмов»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а-викторина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Минутки здоровья «Солнце, Воздух,  и Вода наши лучшие друзья»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Алло, мы ищем таланты!»конкурсно-развлекательная программ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0840"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6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8  </a:t>
                      </a:r>
                      <a:r>
                        <a:rPr b="1" lang="ru-RU" sz="7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«День открытий»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«Хочу все знать»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ейн-ринг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Конкурс «Самый фантастический проект»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Парад моделированной одежды из бросового материала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ртивный час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Золотая подкова» игровая программа</a:t>
                      </a: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.08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«День Индейца»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«Я из племени Острый глаз» Соревнование по стрельбе из лука (дартс)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Конкурс на лучшую индейскую раскраску и костюм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Минутки здоровья «Игры на свежем воздухе»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ртивный час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У прохожих на виду» конкурсная программ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.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7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«День </a:t>
                      </a:r>
                      <a:r>
                        <a:rPr b="1" i="1" lang="ru-RU" sz="7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Права»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ртивный час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кторина «Здоровье в твоих руках»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а «Путешествие по городу Прав»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«День экологии»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-КВН «Когда ты станешь взрослым?»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ологическое ассорти «Мир вокруг нас»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08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7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Закрытие сезона «Лагерная свеча»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Праздничный концерт «До новых встреч»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</a:t>
                      </a: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отек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05T15:23:49Z</dcterms:created>
  <dc:creator>Home</dc:creator>
  <dc:description/>
  <dc:language>en-US</dc:language>
  <cp:lastModifiedBy>логопед</cp:lastModifiedBy>
  <dcterms:modified xsi:type="dcterms:W3CDTF">2015-09-21T06:48:40Z</dcterms:modified>
  <cp:revision>195</cp:revision>
  <dc:subject/>
  <dc:title>ОТВЕТСТВЕННОСТЬ НАДЕЖНОСТЬ АДАПТАЦИЯ К ИЗВЕСТНОМУ АДАПТАЦИЯ К НЕИЗВЕСТНОМУ</dc:title>
</cp:coreProperties>
</file>