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3100-C20E-4475-9DC3-25B84733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C82F-2B4D-4156-8A7D-C7DFA056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8A34-83C6-4DCF-AEDA-E95297D3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6E0A-B762-4338-8898-19C8D20D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6669-BC47-488D-9C9A-93CCF67B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F5B5-F710-4B1B-A0D4-E9A48DE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C009-27D8-4EAE-B3DA-7A88248D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2194-7BAA-4064-AAD7-826E39FF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D4CC-B954-4A6F-965F-26B706C5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50A5-901B-4BD4-B526-14EAC85D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FD4C-7B8A-47D5-A121-A0E9A7E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5801-711A-40AB-B0B5-CEDBFA9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e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b77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e07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401D-0EAC-4A7E-B93D-5F1367F0C8A7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eced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6BC7-40D2-46BD-9C71-345B1A0C3F41}" type="datetime">
              <a:rPr b="0" lang="ru-RU" sz="1200" spc="-1" strike="noStrike">
                <a:solidFill>
                  <a:srgbClr val="e7eced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2F7A-F1D3-4213-A929-72A0259FE6CB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Прямоугольник 5"/>
          <p:cNvGrpSpPr/>
          <p:nvPr/>
        </p:nvGrpSpPr>
        <p:grpSpPr>
          <a:xfrm>
            <a:off x="476280" y="3048120"/>
            <a:ext cx="7802640" cy="2474640"/>
            <a:chOff x="476280" y="3048120"/>
            <a:chExt cx="7802640" cy="2474640"/>
          </a:xfrm>
        </p:grpSpPr>
        <p:pic>
          <p:nvPicPr>
            <p:cNvPr id="4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476280" y="3048120"/>
              <a:ext cx="7802640" cy="24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11280" y="3143160"/>
              <a:ext cx="753912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Кордюкова Любовь Владимировн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г. Покачи, МАОУ СОШ № 2, учитель- логопед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TextBox 6"/>
          <p:cNvSpPr/>
          <p:nvPr/>
        </p:nvSpPr>
        <p:spPr>
          <a:xfrm>
            <a:off x="1143000" y="1500120"/>
            <a:ext cx="6278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грамма летнего лагеря с дневным пребыванием дете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Я - Гражданин России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лагере с дневным пребыванием «Улыбк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МАОУ СОШ №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mbria"/>
              </a:rPr>
              <a:t>Объективные факторы работы лагеря с дневным пребыванием детей в каникулярное время «Улыбка»</a:t>
            </a:r>
            <a:br>
              <a:rPr sz="2400"/>
            </a:br>
            <a:endParaRPr b="0" lang="en-US" sz="24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840" y="714240"/>
            <a:ext cx="792936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дель лагеря имеет ряд объективных факторов, которые и определяют специфику её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енный характер детского объедин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образная деятельность – насыщенность всего периода разноплановой интересной деятельностью делают пребывание в лагере очень привлекательным для детей, которые в силу своего возраста стремятся «попробовать всё и успеть везде». В летнем лагере предлагается самый разнообразный спектр зан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нсивность освоения детьми различных видов деятельности – заинтересованность ребёнка каким-либо делом посредством достижения последующего определённого положительного результата. В этом смысле личностно-ориентированный подход означает, что степень интенсивности должна быть адекватна индивидуальным возможностям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ение позиции ребёнка – своеобразное разрушение прежнего, подчас негативного, стереотипа повед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дно-климатическая база – природное окружение, чистый воздух является важной составляющей успеха лаге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ий режим жизнедеятельности – максимальное использование природно-климатических факторов, рациональная организация всей жизнедеятельности дет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DBE9-D1DE-4853-A520-E1D1FBDF60E8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6201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9721e"/>
                </a:solidFill>
                <a:uFillTx/>
                <a:latin typeface="Cambria"/>
              </a:rPr>
              <a:t>Материально-технические условия предусматривают: </a:t>
            </a:r>
            <a:br>
              <a:rPr sz="3200"/>
            </a:br>
            <a:endParaRPr b="0" lang="en-US" sz="1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FED4-3111-473C-800B-FF076762AD1F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8760" y="198360"/>
          <a:ext cx="7929360" cy="6943680"/>
        </p:xfrm>
        <a:graphic>
          <a:graphicData uri="http://schemas.openxmlformats.org/drawingml/2006/table">
            <a:tbl>
              <a:tblPr/>
              <a:tblGrid>
                <a:gridCol w="1101600"/>
                <a:gridCol w="2541600"/>
                <a:gridCol w="2571840"/>
                <a:gridCol w="1714320"/>
              </a:tblGrid>
              <a:tr h="3859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 финансирования и материальная б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ната отдыха, игровые комнаты, комната психологической разгруз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ие средства на закупку канцелярских принадлежностей для творческих мастерских, отрядных дел, подготовки стендов и материалов для конкур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лагеря, воспитатели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персон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 спортом, состязания,  линейка ( в случае плохой погод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ая площад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ка, проведение общелагерных  игр на воздухе, спартакиады, спортивные состяз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дв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ные дела, игры-путеше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, администрация лаге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о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чные мероприятия и концерты, постановка спектаклей, работа детской творческой мастерск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, администрация лаге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й контроль мероприятий лагерной см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й работник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ая библиоте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 для педагогов и детей лаге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ка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ая столов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трак, обе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 социального страх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ая пищеблок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наты кружковой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ки рукоделия, рисования, модел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ие средства на закупку  материалов для поделок и занятий в круж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лаге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й каби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 мастерская вожатых, воспитателей, руководителей круж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наты гиги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алеты, места для мытья рук, сушилки для полотенец, раздевал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ая база шко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лагеря, воспитатели, технический персон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76201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mbria"/>
              </a:rPr>
              <a:t>Ожидаемые результаты</a:t>
            </a:r>
            <a:br>
              <a:rPr sz="2400"/>
            </a:br>
            <a:r>
              <a:rPr b="1" lang="ru-RU" sz="4600" spc="-1" strike="noStrike">
                <a:solidFill>
                  <a:srgbClr val="92d050"/>
                </a:solidFill>
                <a:latin typeface="Cambria"/>
              </a:rPr>
              <a:t> </a:t>
            </a:r>
            <a:br>
              <a:rPr sz="4600"/>
            </a:b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571680"/>
            <a:ext cx="82152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еализации данной программы ожида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оздоровление воспитанников, укрепление их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физических и психологических сил детей и подростков, развитие лидерских и организаторских качеств, приобретение новых знаний, развитие творческих способностей, детской самостоятельности и само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ответственности за судьбу страны, формирование гордости за сопричастность к деяниям предыдущих поко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самореализации в пространстве российского государства, формирование активной жизненной позиции; знание и соблюдение норм правового государ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участниками смены умений и навыков  индивидуальной и коллективной творческой и трудовой деятельности, социальной актив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ых способностей и толерант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творческой активности детей путем вовлечения их в социально-значимую деятель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новых знаний и умений в результате занятий в кружках (разучивание песен, игр, составление проект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кругозора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бщей культуры учащихся, привитие им социально-нравственных нор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рост участников сме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4F57-1AD0-4785-ADC5-D6343F380EE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6201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721e"/>
                </a:solidFill>
                <a:latin typeface="Cambria"/>
              </a:rPr>
              <a:t>Структура взаимодействия с общественными учреждениями лагеря с дневным пребыванием детей в каникулярное время «Улыбка»</a:t>
            </a:r>
            <a:br>
              <a:rPr sz="1800"/>
            </a:br>
            <a:r>
              <a:rPr b="1" lang="ru-RU" sz="4600" spc="-1" strike="noStrike">
                <a:solidFill>
                  <a:srgbClr val="92d050"/>
                </a:solidFill>
                <a:latin typeface="Cambria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A724-D040-4B41-8780-7FC909759569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1"/>
          <p:cNvGrpSpPr/>
          <p:nvPr/>
        </p:nvGrpSpPr>
        <p:grpSpPr>
          <a:xfrm>
            <a:off x="571680" y="623880"/>
            <a:ext cx="7715160" cy="5877000"/>
            <a:chOff x="571680" y="623880"/>
            <a:chExt cx="7715160" cy="5877000"/>
          </a:xfrm>
        </p:grpSpPr>
        <p:sp>
          <p:nvSpPr>
            <p:cNvPr id="88" name="AutoShape 21"/>
            <p:cNvSpPr/>
            <p:nvPr/>
          </p:nvSpPr>
          <p:spPr>
            <a:xfrm>
              <a:off x="571680" y="643320"/>
              <a:ext cx="7715160" cy="57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0"/>
            <p:cNvSpPr/>
            <p:nvPr/>
          </p:nvSpPr>
          <p:spPr>
            <a:xfrm>
              <a:off x="1000080" y="1132560"/>
              <a:ext cx="716040" cy="4426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9"/>
            <p:cNvSpPr/>
            <p:nvPr/>
          </p:nvSpPr>
          <p:spPr>
            <a:xfrm>
              <a:off x="3241080" y="623880"/>
              <a:ext cx="3054600" cy="420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ЦЕНТР «ВИКТОРИЯ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18"/>
            <p:cNvSpPr/>
            <p:nvPr/>
          </p:nvSpPr>
          <p:spPr>
            <a:xfrm>
              <a:off x="3242160" y="1132560"/>
              <a:ext cx="3053520" cy="42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ОМИТЕТ КУЛЬТУР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3242160" y="1764720"/>
              <a:ext cx="3053520" cy="42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М КУЛЬТУРЫ «ОКТЯБРЬ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3242160" y="2396880"/>
              <a:ext cx="3053520" cy="42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СТАВОЧНЫЙ ЗА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3242160" y="3029760"/>
              <a:ext cx="3053520" cy="421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РАЕВЕДЧЕСКИЙ МУЗЕ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242160" y="3661920"/>
              <a:ext cx="3053520" cy="420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ОРОДСКАЯ БИБЛИОТЕК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3242160" y="4399200"/>
              <a:ext cx="3053520" cy="459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СК «НЕФТЯНИК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1716480" y="816120"/>
              <a:ext cx="15256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1716480" y="144864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>
              <a:off x="1716480" y="197568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716480" y="260784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1716480" y="324000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7"/>
            <p:cNvSpPr/>
            <p:nvPr/>
          </p:nvSpPr>
          <p:spPr>
            <a:xfrm>
              <a:off x="1716480" y="387252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1716480" y="4610520"/>
              <a:ext cx="15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3242160" y="5137560"/>
              <a:ext cx="3053520" cy="50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У  ХМАО «Покачевская городская больница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4"/>
            <p:cNvSpPr/>
            <p:nvPr/>
          </p:nvSpPr>
          <p:spPr>
            <a:xfrm>
              <a:off x="1714680" y="5298480"/>
              <a:ext cx="152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"/>
            <p:cNvSpPr/>
            <p:nvPr/>
          </p:nvSpPr>
          <p:spPr>
            <a:xfrm>
              <a:off x="3242160" y="5979960"/>
              <a:ext cx="3054600" cy="520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ЛЕДОВЫЙ ДВОРЕЦ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« КРИСТАЛЛ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"/>
            <p:cNvSpPr/>
            <p:nvPr/>
          </p:nvSpPr>
          <p:spPr>
            <a:xfrm>
              <a:off x="1714680" y="5558760"/>
              <a:ext cx="1438200" cy="65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9721e"/>
                </a:solidFill>
                <a:latin typeface="Cambria"/>
              </a:rPr>
              <a:t>Штатное расписание работников лагеря с дневным пребыванием «Улыбка» на 50 детей</a:t>
            </a:r>
            <a:br>
              <a:rPr sz="2000"/>
            </a:br>
            <a:r>
              <a:rPr b="1" lang="ru-RU" sz="2000" spc="-1" strike="noStrike">
                <a:solidFill>
                  <a:srgbClr val="49721e"/>
                </a:solidFill>
                <a:latin typeface="Cambria"/>
              </a:rPr>
              <a:t>с 20 июля по 11 августа 2015г.</a:t>
            </a:r>
            <a:br>
              <a:rPr sz="2000"/>
            </a:br>
            <a:endParaRPr b="0" lang="en-US" sz="20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DEBD-BD78-41DB-BC3D-5835DEA9C2A5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28800" y="1571760"/>
          <a:ext cx="7215120" cy="3230280"/>
        </p:xfrm>
        <a:graphic>
          <a:graphicData uri="http://schemas.openxmlformats.org/drawingml/2006/table">
            <a:tbl>
              <a:tblPr/>
              <a:tblGrid>
                <a:gridCol w="509400"/>
                <a:gridCol w="4633920"/>
                <a:gridCol w="2071800"/>
              </a:tblGrid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лаге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й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 по физ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й работ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енны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орщ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721e"/>
                </a:solidFill>
                <a:latin typeface="Cambria"/>
              </a:rPr>
              <a:t>Литература:</a:t>
            </a:r>
            <a:br>
              <a:rPr sz="2800"/>
            </a:br>
            <a:endParaRPr b="0" lang="en-US" sz="2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4200" y="499680"/>
            <a:ext cx="850104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стахов П.А. « Я и государство», М, 2009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Афанасьев С.П. Коморин С.В. - Что делать с детьми в загородном лагере, - М.: 200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Жиренко О. Е. Мир праздников, шоу, викторин, - М.: «5» за знания,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Лобачёва С.И.,Великородная В.А. Загородный летний лагерь.– М.:ВАКО,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ашенцев Д.А. « История государства и права России» 2010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Роткина Т. С., Курзова О. А., Нестеренко А. В. Уроки добра и милосердия, - О.: «Детство», 2007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Соколова Н. В. Лето, каникулы – путь к успеху: сборник программ и игр для детей и подростков в условиях детского оздоровительного лагеря, - О.: «Детство», 200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Титов С.В. Здравствуй, лето! - Волгоград, Учитель, 2007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Шмаков С.А. Игры-шутки, игры-минутки. М., 200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мисина, В.Г. Духовно- нравственное воспитание детей младшего школьного возраста [Текст] / сост. В.Г.Черемисина. - Кемерово: КРИПКиПРО, 2010. - 14- 3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макова, С.А. Летний лагерь: вчера и сегодня. / С.А. Шмакова. ─ М.: ООО «ДОД», 2008. ─ 120 с. // Библиотечка для УДОД. ─ 2009. ─ №1. ─ С20-77. Щербаков, А.В. Календарь вожатого / А.В. Щербаков, Д.А. Шилков // Работа социального педагога в школе и микрорайоне. ─ 2009. ─ № 2. ─ С. 74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214560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228E-2C9B-4C57-8762-F3536516F76B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620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9721e"/>
                </a:solidFill>
                <a:latin typeface="Cambria"/>
              </a:rPr>
              <a:t>Паспорт программы. </a:t>
            </a:r>
            <a:br>
              <a:rPr sz="1600"/>
            </a:br>
            <a:r>
              <a:rPr b="1" lang="ru-RU" sz="1600" spc="-1" strike="noStrike">
                <a:solidFill>
                  <a:srgbClr val="49721e"/>
                </a:solidFill>
                <a:latin typeface="Cambria"/>
              </a:rPr>
              <a:t>Наименование программы:</a:t>
            </a:r>
            <a:r>
              <a:rPr b="0" lang="ru-RU" sz="1600" spc="-1" strike="noStrike">
                <a:solidFill>
                  <a:srgbClr val="49721e"/>
                </a:solidFill>
                <a:latin typeface="Cambria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49721e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49721e"/>
                </a:solidFill>
                <a:latin typeface="Cambria"/>
              </a:rPr>
              <a:t>«Я - Гражданин России !»</a:t>
            </a:r>
            <a:br>
              <a:rPr sz="1800"/>
            </a:br>
            <a:endParaRPr b="0" lang="en-US" sz="1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840" y="571680"/>
            <a:ext cx="850104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основание для разработк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венция о правах ребё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 РФ « Об основных гарантиях прав ребёнк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 РФ « Об образован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 РФ «О качестве и безопасности пищевых продуктов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 РФ от 06.10.2003 № 131 – ФЗ « Об общих принципах организации местного самоуправления в РФ» в соответствии с законом ХМАО – Югры от 30.12.2009 № 250 – оз « Об организации и обеспечении отдыха и оздоровления детей, проживающих в ХМАО – Югр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ления Правительства ХМАО – Югры от 09.10.2013 № 421 – п « О государственной программе ХМАО – Югры» Социальная поддержка жителей ХМАО – Югры на 2014 – 2020 год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ления администрации города Покачи от 10. 09. 2012 № 931 « О долгосрочной целевой программе « Организация отдыха детей города Покачи в каникулярное время 2013 – 2015 годы»( с изменениями от 09.02.201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ления администрации города Покачи от 27. 09. 2010 № 653 « Об утверждении Положения об организации отдыха детей в городе Покачи в каникулярное время»( с изменениями от 06.06.20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каз Департамента образования и науки ХМАО-Югры «О мерах по обеспечению безопасности при организации детского летнего отды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ление Администрация города Покачи от 16.03.2015г., приказ № 356; «Об организации отдыха детей города Покачи в каникулярное время в 2015 году 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итарные эпидемиологические правила СП 3.1.1.1117-02 «Профилактика инфекционных заболеваний. Кишечных инфекций» от 17 марта 2002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анитарно-эпидемиологические правила и нормативы СанПиН 2.4.5.2409-08 «Организация питания учащихся в О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итарно-эпидемиологические правила и нормативы СанПиН 2.4.4.2599 -10 «Гигиенические требования к устройству, содержанию и организации режима  в учреждениях с дневным пребыванием детей в период канику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чик программы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г. Пок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 программы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лагеря с дневным пребыванием детей в каникулярное время «Улыбка» учитель – логопед  Кордюкова Л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4CD-C43F-4309-B20C-8FA2671BA29A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721e"/>
                </a:solidFill>
                <a:latin typeface="Cambria"/>
              </a:rPr>
              <a:t>Информационная карта программы</a:t>
            </a:r>
            <a:br>
              <a:rPr sz="1800"/>
            </a:br>
            <a:endParaRPr b="0" lang="en-US" sz="1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7803-A9C8-4271-A99E-6F682370FB33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42960" y="793800"/>
          <a:ext cx="7929720" cy="6076800"/>
        </p:xfrm>
        <a:graphic>
          <a:graphicData uri="http://schemas.openxmlformats.org/drawingml/2006/table">
            <a:tbl>
              <a:tblPr/>
              <a:tblGrid>
                <a:gridCol w="625320"/>
                <a:gridCol w="2192400"/>
                <a:gridCol w="5112000"/>
              </a:tblGrid>
              <a:tr h="5475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Мансийский автономный округ - Югра (Тюменская область),  город  Пок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Полное названи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Программа летнего лагеря  с дневным пребыванием детей в каникулярное время «Улыбка». ( целевая , краткосроч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«Я – Гражданин России!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Цель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качественный отдых,  занятость детей; создать условия для развития личности ребенка в каникулярное время, развитие гражданской и социальной ответственности как важнейшей черты личности, проявляющейся в заботе о благополучии своей страны, края, города, школы, семь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Направление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Гражданско - патриотическое  развитие дете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Краткое содержани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Программа содержит: мероприятия, реализующие Программу; ожидаемые результаты и условия реализации; прило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Автор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Учитель - логопед Кордюкова Л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Муниципальное образовательное учреждение, представившее програм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Муниципальное автономное общеобразовательное учреждение  «Средняя общеобразовательная школа №2» г. Пок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Адрес, теле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628661, ХМАО – Югра, Тюме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г. Покачи, ул. Мира д.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Тел. 834669 73078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 posh2@mail.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Место реал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Летний лагерь с дневным пребыванием детей при МАОУ СОШ №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Количество, возраст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50 учащихся с 6 до 17 лет ( учащиеся из  всех школ города Покач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Сроки проведения, количество см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rbel"/>
                        </a:rPr>
                        <a:t>С 20 июля -11 августа 2015 года, 3сме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62012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721e"/>
                </a:solidFill>
                <a:latin typeface="Cambria"/>
              </a:rPr>
              <a:t>Пояснительная записка</a:t>
            </a:r>
            <a:endParaRPr b="0" lang="en-US" sz="1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571680"/>
            <a:ext cx="864396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нравственного и патриотического воспитания ребенка остается актуальной в современной школе. Именно здесь происходит становление интересов и ценностных  ориентаций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ние каникулы составляют значительную часть свободного времени детей. Этот период как нельзя более благоприятен для развития их творческого потенциала, совершенствования личностных возможностей, приобщения к ценностям культуры, создания системы гражданско-патриотического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еятельности лагеря  направлено на формирования личности гражданина и патриота России с присущими ему ценностями, взглядами, ориентациями, установками, мотивами деятельности и поведения.            Программа “Я – Гражданин России!”  предполагает формирование патриотических чувств и сознание на основе исторических ценностей и роли России в судьбах мира, развитие чувства гордости за свою страну; воспитание личности гражданина – патриота России, способного встать на защиту интересов страны; формирование комплекса нормативного, правового и организационно-методического обеспечения функционирования системы патриотического воспитания. Любовь к Родине, патриотические чувства формируются у детей постепенно, в процессе накопления знаний и представлений об окружающем мире, об истории и традициях русского народа, о жизни страны, о труде людей и о родной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ужая ребенка в атмосферу лагеря, мы даем ему возможность открыть в себе положительные качества личности, ощутить значимость собственного «я»; осознать себя личностью, вызывающей положительную оценку в глазах других людей; повысить самооценку; выйти на новый уровень общения, где нет места агрессии и груб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 универсальна, так как может использоваться для работы с детьми из различных социальных групп, разного возраста, уровня развития и состояния здоровья. Программа ориентирована на работу в разновозрастном детском коллективе и представляет собой одну сме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рассчитана на учащихся  6 – 17 лет. Оптимальное количество детей 25 человек в отряде. Психолого-педагогическое сопровождение деятельности осуществляют директор лагеря, воспитатели (преподаватели школ, воспитатели детских садов),  музыкальный работник, учитель физкультуры.  Для обеспечения  работы лагеря используется актовый и спортивный зал , библи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2DEC-9165-46FD-A69A-3D749247D003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42560"/>
            <a:ext cx="818676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 программы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еспечить качественный отдых,  занятость детей; создать условия для развития личности ребенка в каникулярное время, развитие гражданской и социальной ответственности как важнейшей черты личности, проявляющейся в заботе о благополучии своей страны, края, города, школы, семьи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ение знаний  о России: её истории, традициях, культу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ние у школьников уважение к культурному наследию страны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филактика детской и подростковой безнадзорности, правонарушений в летний перио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витие  творческих, организаторских, интеллектуальных способностей у дет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условий для самоопределения каждого ребёнка через выявление его интересов и способност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ние уважения к родному краю, истории и традициям государства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учение нормам социальной жизни, культуре взаимо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92d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доброжелательной атмосферы, способствующей ориентации ребёнка на положительные действия и поступки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оки реализации програм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жедневно, в период деятельности лагеря (21 день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 20.07.15 – 11. 08.15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апы реализации программы: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Подготовительный  этап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рганизационный этап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сновной этап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Заключительный этап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B1EE-8DA7-47D0-9E92-4732B6CBBFC8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mbria"/>
              </a:rPr>
              <a:t>ПЛАНИРУЕМЫЕ РЕЗУЛЬТАТЫ</a:t>
            </a:r>
            <a:br>
              <a:rPr sz="2400"/>
            </a:br>
            <a:r>
              <a:rPr b="0" i="1" lang="ru-RU" sz="4600" spc="-1" strike="noStrike">
                <a:solidFill>
                  <a:srgbClr val="92d050"/>
                </a:solidFill>
                <a:latin typeface="Cambria"/>
              </a:rPr>
              <a:t> 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57120"/>
            <a:ext cx="797256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нтроля и оценки дости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контроля реализации программы ее эффективности организуется мониторинг эффективности внедрения программы, который проводится  2 раза в  (начале и в конце сме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 средства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нравственной воспитанности по методике М.И.Шиловой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«Необитаемый остров»;  «Настоящий друг» (А.С.Прутч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амооценки личности младшего школьник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определения самооценки (Т.В.Дембо, С.Я.Рубинштей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методика «Автопортрет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рисунков «Я и мой  отряд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метр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оциальной активности школьника по методике Е.Н.Степано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и «Пословицы» (С.М.Петрова), «Наши отношения» (Л.М.Фридм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уровня воспитанности (методика Н.П. Капустин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«Размышляем о жизненном опыте» (.Е.Щурков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е установки и планируем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е установки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к России, к своему народу,  к своей малой родине, закон и правопорядок, свобода и ответственность, доверие к людям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 перед старшим поколением, семьей, почитание родителей, забота о старших и младших, справедливость, милосердие, честь, достоинство, толеран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ая земля, заповедная природа, планета Зем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та, гармония, духовный мир человека, эстетическое развитие, художественное 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B722-6895-4B19-9B20-7E279D35AD1C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7982-56A4-46FC-8417-F7E926DA62D3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4200" y="546120"/>
          <a:ext cx="8358480" cy="6184800"/>
        </p:xfrm>
        <a:graphic>
          <a:graphicData uri="http://schemas.openxmlformats.org/drawingml/2006/table">
            <a:tbl>
              <a:tblPr/>
              <a:tblGrid>
                <a:gridCol w="2714760"/>
                <a:gridCol w="2587680"/>
                <a:gridCol w="3056040"/>
              </a:tblGrid>
              <a:tr h="82332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итер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рител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р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 rowSpan="4"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етение чувства гражданственности, патриотизма и уважения к правам, свободам и обязанностям челове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четкое представление о принадлежности к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ывает чувство гордости за родную стр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, педагогическое наблюдение, педагогический анали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представление о понятии «гражданин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начальные представления о правах, свободах и обязанностях челове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, анализ творческих работ, собесед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моральных норм и правил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ет моральные нормы и правил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изучения уровня воспитанности, наблюдение педагогов, родител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 rowSpan="2"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е отношение к учебному труду; сформированность первоначальных навыков общественно-полезной и личностно-значимой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ценностную установку «Учение», «Труд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изучения ценностных установок и ориентаций,  результаты выполнения отрядных де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ует в общественно-полезной деятельности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участия в общественно-полезных делах, акци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е отношение к природе, окружающей сре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ценностную установку «Природ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изучения ценностных установок и ориентаций,  результаты выполнения творческих раб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е отношение к прекрасному, сформированность представления об эстетических идеал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ценностную установку «Прекрасное», интерес к чтению, произведениям искусства, спектаклям, концертам, выставкам, музык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изучения ценностных установок и ориентаций, педагогическое наблюдение, учащихся, результаты выполнения творческих раб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е отношение к  семье, старшему поколению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ценностную установку «Семья»,   начальные представления об этических нормах взаимоотношений в семье, между поколени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а, анализ творческих  работ, собеседование, отзывы род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ое социальное партнер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астия и эффективность взаимодействия с учреждениями дополнительного 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воспитательной работы отряда, отзывы социальных партнеров, достижения  уча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-140040" y="72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9721e"/>
                </a:solidFill>
                <a:latin typeface="Cambria"/>
              </a:rPr>
              <a:t>Ожидаемые конечные результаты реализации программы:</a:t>
            </a:r>
            <a:br>
              <a:rPr sz="4800"/>
            </a:br>
            <a:r>
              <a:rPr b="1" lang="ru-RU" sz="4800" spc="-1" strike="noStrike">
                <a:solidFill>
                  <a:srgbClr val="92d050"/>
                </a:solidFill>
                <a:latin typeface="Cambria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200" y="285840"/>
            <a:ext cx="8429760" cy="61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дение совещаний при директоре и заместителе директора по АХР по подготовке школы к летнему сезо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дание приказа по школе об организации  лагеря с дневным пребыванием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работка программы деятельности  лагеря с дневным пребыванием детей в каникулярное время «Улыбк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готовка методического материала для работников лаге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бор кадров для работы в  летнем лагере с дневным пребыванием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тавление необходимой документации для деятельности лагеря (план-сетка, положение, должностные обязанности, инструкци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детей в  лагерь с дневным пребыванием детей (прием заявлений, сбор документов дет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базы данных детей посещающих лаге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накомство с нормативной документацией, локальными актами, проведение инструктажей сотрудников лагерной см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дение ознакомительного общего родительского собр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спределение детей по отрядам, в соответствии с 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формление отрядных комнат, информационного уго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изация основной идеи см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влечение детей и подростков в различные виды коллективно- творческих де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бота творческих мастер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ведение итогов см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ыработка перспектив деятельности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ализ предложений детей, родителей, педагогов, внесенных по деятельности летнего лагеря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тие у детей интереса к занятиям физкультурой и спорт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нятость детей организованной формой отды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крепление дружбы и сотрудничества между детьми разных возрастов и националь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го отношения к себе, как к части окружающего мир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ознание ответственности за судьбу страны, формирование гордости за сопричастность к деяниям предыдущих покол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самореализации в пространстве российского государства, формирование активной жизненной позиции; знание и соблюдение норм правов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3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77B8-9F83-4101-8153-9D3B935F6550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620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9721e"/>
                </a:solidFill>
                <a:uFillTx/>
                <a:latin typeface="Cambria"/>
              </a:rPr>
              <a:t>ПЛАН-СЕТКА</a:t>
            </a:r>
            <a:br>
              <a:rPr sz="1800"/>
            </a:br>
            <a:r>
              <a:rPr b="1" lang="ru-RU" sz="1800" spc="-1" strike="noStrike" u="sng">
                <a:solidFill>
                  <a:srgbClr val="49721e"/>
                </a:solidFill>
                <a:uFillTx/>
                <a:latin typeface="Cambria"/>
              </a:rPr>
              <a:t>МЕРОПРИЯТИЙ ЛЕТНЕГО  ЛАГЕРЯ  С ДНЕВНЫМ ПРЕБЫВАНИЕМ </a:t>
            </a:r>
            <a:br>
              <a:rPr sz="1800"/>
            </a:br>
            <a:r>
              <a:rPr b="1" lang="ru-RU" sz="1800" spc="-1" strike="noStrike" u="sng">
                <a:solidFill>
                  <a:srgbClr val="49721e"/>
                </a:solidFill>
                <a:uFillTx/>
                <a:latin typeface="Cambria"/>
              </a:rPr>
              <a:t>«Улыбка» при МАОУ СОШ №2 </a:t>
            </a:r>
            <a:br>
              <a:rPr sz="4800"/>
            </a:br>
            <a:endParaRPr b="0" lang="en-US" sz="18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0349-4ADA-44FD-8BEE-E973107DEBDA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2920" y="785880"/>
          <a:ext cx="8786880" cy="6040440"/>
        </p:xfrm>
        <a:graphic>
          <a:graphicData uri="http://schemas.openxmlformats.org/drawingml/2006/table">
            <a:tbl>
              <a:tblPr/>
              <a:tblGrid>
                <a:gridCol w="1757160"/>
                <a:gridCol w="1757520"/>
                <a:gridCol w="1757520"/>
                <a:gridCol w="1757160"/>
                <a:gridCol w="1757520"/>
              </a:tblGrid>
              <a:tr h="168084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7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нь открытия «Сказочной смены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рганизационное мероприятие «Расскажи мне о себе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курс рисунков на асфальте «Миру мир!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оведение инструктажа по ТБ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на знакомств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7    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Здравствуй, это я!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тверждение правил поведения в лагер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Вместе весело живется».  Рождение отрядов, (придумать эмблему, название, девиз). Оформление уголка лагеря «Наш отрядный дом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Твой режим дня на каникулах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РАВСТВУЙТЕ, ЭТО МЫ!»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ромт-программ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7 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Здоровья и спорт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Веселая мозаик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экологическая игра-путешестви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еселые старты «Ай да мы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Путешествие в страну Витаминию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праздник «Перестрелк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кадемия Джеймса Бонда» игровая программ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7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Волшебных сказок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нкурс юных сказочников «Жили-были…» (сочиняем сказки сами)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шкинский праздник «Там русский дух, там Русью пахнет…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Гигиена тел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ые старты «В стране сказок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тарые сказки о главном» викторин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7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Турист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На лесной опушке…» экскурсия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Минутки здоровья «Зеленая аптечк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ая программа на свежем воздухе Эстафета лесных сюрпризов «Веселый турист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7 « </a:t>
                      </a:r>
                      <a:r>
                        <a:rPr b="1" lang="ru-RU" sz="7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нь России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здник «Без березки не мыслю России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ревнования по мини-футболу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Первая помощь при укусах насекомых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рской бой» интеллектуальная игра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7 «День талантов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нкурс рисунков «Здравствуй, лето!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гры на свежем воздух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летней спартакиа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Хоровод подвижных игр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07 «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нь ПДД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икторина «Дорожная азбука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тешествие на планету веселых игр «Мы не будем унывать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ая атлети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 игра «Робинзонад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7 «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нь путешествий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 по городу, посещение памятных мест, городского музея, выставочного зал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но-игровая программ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уть к Камелоту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7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малых олимпийских игр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«Малых олимпийских игр» 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инутки здоровья «Друзья Мойдодыра и наше здоровье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кебо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еш-моб «Люблю тебя, моя  Россия!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7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07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семьи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Кто нас очень крепко любит?» Игровая программ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Мама, папа, я – спортивная семья» Час русской игры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Что мы едим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минто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 ну-ка, пары!» конкурсно-игровая программа.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8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памяти и скорби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Нас война отметила меткой особою…» Конкурс рисунков о войн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инутки здоровья «Если хочешь быть здоров – закаляйся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са препятств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Своя игр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08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смеха и забав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Рассмеши сосед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Юмор важен в спорте и не спорте»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истическая эстаф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тки здоровья «От чего зависит твое настроение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 по велоспорту «Крути педали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ие летней олимпиа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ец-игра «Играйте и танцуйте вместе с нами»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8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природы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Удивительная жизнь растений» викторин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инутки здоровья «Закаливание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чего же, из чего же…» экспромт - программ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Д «Ромашк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.08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музыки и кино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то куда, а мы в кино! (просмотр мультфильмов)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Любимые песни из кинофильмов, мультфильмов»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викторин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Солнце, Воздух,  и Вода наши лучшие друзья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лло, мы ищем таланты!»конкурсно-развлекательная программ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084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6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 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открытий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Хочу все знать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йн-ринг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курс «Самый фантастический проект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арад моделированной одежды из бросового материал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отая подкова» игровая программа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08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Индейц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Я из племени Острый глаз» Соревнование по стрельбе из лука (дартс)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курс на лучшую индейскую раскраску и костюм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нутки здоровья «Игры на свежем воздухе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 прохожих на виду» конкурсная программ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</a:t>
                      </a:r>
                      <a:r>
                        <a:rPr b="1" i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ав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на «Здоровье в твоих руках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Путешествие по городу Прав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«День экологии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-КВН «Когда ты станешь взрослым?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ое ассорти «Мир вокруг нас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8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крытие сезона «Лагерная свеча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здничный концерт «До новых встреч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те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15:23:49Z</dcterms:created>
  <dc:creator>Home</dc:creator>
  <dc:description/>
  <dc:language>en-US</dc:language>
  <cp:lastModifiedBy>логопед</cp:lastModifiedBy>
  <dcterms:modified xsi:type="dcterms:W3CDTF">2015-09-21T06:48:40Z</dcterms:modified>
  <cp:revision>195</cp:revision>
  <dc:subject/>
  <dc:title>ОТВЕТСТВЕННОСТЬ НАДЕЖНОСТЬ АДАПТАЦИЯ К ИЗВЕСТНОМУ АДАПТАЦИЯ К НЕИЗВЕСТНОМУ</dc:title>
</cp:coreProperties>
</file>