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4F0F-24B5-4DB0-982A-88DEFC8A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3803-2C93-4B50-8D07-214D2479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C10-99D9-450A-B265-0B461D8D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AB6-5016-4927-9D7A-9C34D3D8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762B-0E87-42B0-8DB3-416DD5A9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119A-0355-43B5-A93F-B9C8465D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67C3-39E7-434A-85AB-B1F0D8E9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382B-2E95-45D2-B3AF-20E97F53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66DB-4309-4B84-B14B-18195419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A8E9-378D-48F0-BA84-1E2F9C9F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0EAC-88DB-44F8-B908-C22E0E0A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B049-8F82-4ED5-ACEE-AC29676C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59F0-04B7-4994-A5CC-FA7FB873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063D-7E21-48C8-BE1D-AD8B4594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C41D-1425-4D29-8F14-DA3E54ED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24F7-3319-47B2-A12A-8C6B8BE3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3537-DCF7-46F0-B596-9B4B2E57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5F94-FC01-4A3A-8621-17480730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3F15-A399-421C-9D1A-B05A6EE3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7152-DABB-4555-A21E-B866A21F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099F-5B7B-42C8-9D68-ED531A3A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DDC6-58A6-4799-B484-E4D46C8F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CA95-FC3C-48CD-ADB6-C5B2E3B9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A389-7893-42C5-8BF6-89EAEB2D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F313-53CE-45AF-A1E0-9E4EFA1E7BC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8D97-093F-4D27-872D-10CD508E7C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Эффективность работы учителя по обеспечению качественной подготовки учащихся к итоговой аттестации, использование ИКТ технологий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спользование информационных технологий способствуют активизации познавательной деятельности учащих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КОЛЛЕКЦИИ  ЭЛЕКТРОННЫХ ОБРАЗОВАТЕЛЬНЫХ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РЕСУРСОВ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Федеральный центр информационно-образовательных ресурсов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http://fcior.edu.ru http://eor.edu.ru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5520" y="2209680"/>
            <a:ext cx="89884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Единое окно доступа к образовательным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есурсам»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http://window.edu.r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ЕДИНАЯ КОЛЛЕКЦИЯ ЦИФРОВЫХ ОБРАЗОВАТЕЛЬНЫХ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СУРС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бщие ресурсы для подготовки к ГИА и ЕГЭ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сурсы по предметам образовательной программ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30556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ткрытый банк заданий ФИП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22636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6814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http://www.ctege.inf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45496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8-26T12:00:4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