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7285-9941-4D8C-B077-CB4A416E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4DE4-768E-48E2-BE01-DAD9D59B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793F-1DCD-4EE6-A1BC-FE7E50A3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AA6D-34A0-4EAB-8294-A0D66379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E5D4-0A80-4C4C-824A-99C04DAA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8754-4B69-44AC-A702-DF930B8D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3978-AD54-43ED-B4DB-34E41604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A568-889C-4F33-B911-7DCE545C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2D60-2B5C-43E7-90D1-87D905BC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4908-C755-4D7C-ACA7-E413BFBF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4E1A-4692-49BE-AD6E-084EA357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B7C-36A7-4539-88E5-ED617376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7378-23C4-4E31-8F61-2B29582D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30D6-E466-468C-A03D-78883471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BD5F-2F7F-4CDA-AD1C-0C0D235D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AD3F-68DA-404B-9824-8514D2A5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D63A-4A61-442A-8E66-021F598B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446D-0BDD-4CD2-A23E-563962FA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A8B2-39C1-447D-ADA7-5FE15E10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3CED-AA80-49BA-ADFF-C2695BA0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0249-36B6-44AB-91A2-5A86BE36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107A-8939-4F12-AB67-8D16411A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A80B-CB0F-4E52-9576-B97983EF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84FA-F57C-427A-BCA5-DD9B52E3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CE9C-5022-4879-90C5-F679705643F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CDBB-4864-4D83-BFAB-ADF65D04232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Эффективность работы учителя по обеспечению качественной подготовки учащихся к итоговой аттестации, использование ИКТ технологий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спользование информационных технологий способствуют активизации познавательной деятельности учащих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КОЛЛЕКЦИИ  ЭЛЕКТРОННЫХ ОБРАЗОВАТЕЛЬНЫХ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РЕСУРСОВ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Федеральный центр информационно-образовательных ресурсов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http://fcior.edu.ru http://eor.edu.ru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5520" y="2209680"/>
            <a:ext cx="89884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Единое окно доступа к образовательным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есурсам»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http://window.edu.r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ЕДИНАЯ КОЛЛЕКЦИЯ ЦИФРОВЫХ ОБРАЗОВАТЕЛЬНЫХ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СУРС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бщие ресурсы для подготовки к ГИА и ЕГЭ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сурсы по предметам образовательной программ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30556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ткрытый банк заданий ФИП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22636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6814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http://www.ctege.inf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45496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8-26T12:00:4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