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0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F8F-689D-4836-8F92-DABAB878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9DF7-9559-4495-9F8F-8F7BA5D1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F66-6F81-440B-8938-FCFE3C92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7EC-8739-4E9B-8BEE-D26F3DEA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22A-7AC7-4F3F-866D-5FF1BD1D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9090-B2D4-49C9-9D66-FF670689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6F6-6F87-4ECC-A6CB-7BF9269D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96B-88DA-431A-B742-C2E14814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E12-4187-45E6-BDDC-2D3C0D05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C98-FE2F-4F98-A338-79066F03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1AC-CEAE-4ED8-84BF-AF2586C5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385A-9289-4DB2-A985-A139282A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A695-729E-479B-89CF-1223BF6254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6165720"/>
            <a:ext cx="4176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зентация учителя ГОУ СОШ № 69 Федоровой С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348000" y="476280"/>
            <a:ext cx="6012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Bookman Old Style"/>
              </a:rPr>
              <a:t>Великая </a:t>
            </a: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Bookman Old Style"/>
              </a:rPr>
              <a:t>Отечественная война</a:t>
            </a: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Bookman Old Style"/>
              </a:rPr>
              <a:t>22 июня 1941 – </a:t>
            </a: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Bookman Old Style"/>
              </a:rPr>
              <a:t>9 мая 194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Bundesarchiv_Bild_183-E0406-0022-018%2C_Berlin%2C_Siegesfeier_der_Roten_Armee"/>
          <p:cNvPicPr/>
          <p:nvPr/>
        </p:nvPicPr>
        <p:blipFill>
          <a:blip r:embed="rId1"/>
          <a:stretch/>
        </p:blipFill>
        <p:spPr>
          <a:xfrm>
            <a:off x="179280" y="189000"/>
            <a:ext cx="5243760" cy="3728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20100430_berlin_ukaz_dbc0s7uwnbk84ggwkokskw8c8_ejcuplo1l0oo0sk8c40s8osc4_th"/>
          <p:cNvPicPr/>
          <p:nvPr/>
        </p:nvPicPr>
        <p:blipFill>
          <a:blip r:embed="rId2"/>
          <a:stretch/>
        </p:blipFill>
        <p:spPr>
          <a:xfrm>
            <a:off x="5580000" y="549360"/>
            <a:ext cx="3162240" cy="226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b002_006"/>
          <p:cNvPicPr/>
          <p:nvPr/>
        </p:nvPicPr>
        <p:blipFill>
          <a:blip r:embed="rId3"/>
          <a:stretch/>
        </p:blipFill>
        <p:spPr>
          <a:xfrm>
            <a:off x="2357280" y="3429000"/>
            <a:ext cx="49118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612144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довольственная помощь нем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13.05 – рад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14.05 – ме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15.05 – газ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20 кинотеатр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80 шк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Bundesarchiv_Bild_183-J31387%2C_Berlin%2C_Bau_von_Stra%C3%9Fensperren"/>
          <p:cNvPicPr/>
          <p:nvPr/>
        </p:nvPicPr>
        <p:blipFill>
          <a:blip r:embed="rId1"/>
          <a:stretch/>
        </p:blipFill>
        <p:spPr>
          <a:xfrm>
            <a:off x="179280" y="3500280"/>
            <a:ext cx="3816360" cy="2779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226_9kb36cmw2og80w8w4880wcswg_a4c4bbbo8s0s8gkgs4ksg8ckc_th"/>
          <p:cNvPicPr/>
          <p:nvPr/>
        </p:nvPicPr>
        <p:blipFill>
          <a:blip r:embed="rId2"/>
          <a:stretch/>
        </p:blipFill>
        <p:spPr>
          <a:xfrm>
            <a:off x="3924360" y="76500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BERLIN45"/>
          <p:cNvPicPr/>
          <p:nvPr/>
        </p:nvPicPr>
        <p:blipFill>
          <a:blip r:embed="rId3"/>
          <a:stretch/>
        </p:blipFill>
        <p:spPr>
          <a:xfrm>
            <a:off x="6705720" y="115920"/>
            <a:ext cx="2251080" cy="3384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4167495"/>
          <p:cNvPicPr/>
          <p:nvPr/>
        </p:nvPicPr>
        <p:blipFill>
          <a:blip r:embed="rId4"/>
          <a:stretch/>
        </p:blipFill>
        <p:spPr>
          <a:xfrm>
            <a:off x="4284720" y="3716280"/>
            <a:ext cx="4645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0002trp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64d9f7acf7ad75daa1091f67599_prev"/>
          <p:cNvPicPr/>
          <p:nvPr/>
        </p:nvPicPr>
        <p:blipFill>
          <a:blip r:embed="rId1"/>
          <a:stretch/>
        </p:blipFill>
        <p:spPr>
          <a:xfrm>
            <a:off x="285840" y="276120"/>
            <a:ext cx="85010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" descr="C:\Users\Ирина\Desktop\тыл\158589_image_large.jpg"/>
          <p:cNvPicPr/>
          <p:nvPr/>
        </p:nvPicPr>
        <p:blipFill>
          <a:blip r:embed="rId1"/>
          <a:stretch/>
        </p:blipFill>
        <p:spPr>
          <a:xfrm>
            <a:off x="4000680" y="214200"/>
            <a:ext cx="4786200" cy="638172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3" descr=""/>
          <p:cNvPicPr/>
          <p:nvPr/>
        </p:nvPicPr>
        <p:blipFill>
          <a:blip r:embed="rId2"/>
          <a:stretch/>
        </p:blipFill>
        <p:spPr>
          <a:xfrm>
            <a:off x="115920" y="1189080"/>
            <a:ext cx="361476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4903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Demi Cond"/>
              </a:rPr>
              <a:t>Окончание Великой Отечественной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836640"/>
          <a:ext cx="8785440" cy="5832360"/>
        </p:xfrm>
        <a:graphic>
          <a:graphicData uri="http://schemas.openxmlformats.org/drawingml/2006/table">
            <a:tbl>
              <a:tblPr/>
              <a:tblGrid>
                <a:gridCol w="1152720"/>
                <a:gridCol w="76327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ытия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54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a50021"/>
                          </a:solidFill>
                          <a:latin typeface="Franklin Gothic Demi Cond"/>
                        </a:rPr>
                        <a:t>1945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50021"/>
                          </a:solidFill>
                          <a:latin typeface="Franklin Gothic Demi Cond"/>
                        </a:rPr>
                        <a:t>12.01 – 3.0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50021"/>
                          </a:solidFill>
                          <a:latin typeface="Franklin Gothic Demi Cond"/>
                        </a:rPr>
                        <a:t>13.01 – 25.0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a50021"/>
                          </a:solidFill>
                          <a:uFillTx/>
                          <a:latin typeface="Franklin Gothic Demi"/>
                        </a:rPr>
                        <a:t>Висло - Одерская операция</a:t>
                      </a: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Franklin Gothic Demi"/>
                        </a:rPr>
                        <a:t>                              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 8 дней раньше, т.к. помогли союзникам в Арденнах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Franklin Gothic Demi"/>
                        </a:rPr>
                        <a:t>Освобождение Польши, вступление на территорию Германии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Demi"/>
                        </a:rPr>
                        <a:t>17 января освободили Варшаву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Demi"/>
                        </a:rPr>
                        <a:t>19 января – в Германии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a50021"/>
                          </a:solidFill>
                          <a:uFillTx/>
                          <a:latin typeface="Franklin Gothic Demi"/>
                        </a:rPr>
                        <a:t>Операция в Восточной Прусси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Demi"/>
                        </a:rPr>
                        <a:t>6-9 апреля – штурм Кёнигсберг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" name="Picture 18" descr="iCARYPS7Y"/>
          <p:cNvPicPr/>
          <p:nvPr/>
        </p:nvPicPr>
        <p:blipFill>
          <a:blip r:embed="rId1"/>
          <a:stretch/>
        </p:blipFill>
        <p:spPr>
          <a:xfrm>
            <a:off x="7226280" y="4221000"/>
            <a:ext cx="1668600" cy="23353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9"/>
          <p:cNvSpPr/>
          <p:nvPr/>
        </p:nvSpPr>
        <p:spPr>
          <a:xfrm>
            <a:off x="324000" y="5157720"/>
            <a:ext cx="6551640" cy="1355760"/>
          </a:xfrm>
          <a:prstGeom prst="borderCallout1">
            <a:avLst>
              <a:gd name="adj1" fmla="val 18750"/>
              <a:gd name="adj2" fmla="val -8333"/>
              <a:gd name="adj3" fmla="val -5620"/>
              <a:gd name="adj4" fmla="val 1039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Затягивать военные действия нельзя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язнь сепаратного ми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язнь вступления союзников в Берли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4427640" y="2708280"/>
            <a:ext cx="3313080" cy="1368360"/>
          </a:xfrm>
          <a:prstGeom prst="wedgeRectCallout">
            <a:avLst>
              <a:gd name="adj1" fmla="val -65143"/>
              <a:gd name="adj2" fmla="val -1821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30.01 – «Атака века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</a:rPr>
              <a:t>ПЛ-13 (Маринеско) атаковала транспорт «Вильгельм Густлов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1" descr="200px-Marinesko"/>
          <p:cNvPicPr/>
          <p:nvPr/>
        </p:nvPicPr>
        <p:blipFill>
          <a:blip r:embed="rId2"/>
          <a:stretch/>
        </p:blipFill>
        <p:spPr>
          <a:xfrm>
            <a:off x="7524720" y="2421000"/>
            <a:ext cx="1230480" cy="1684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266PX-~1"/>
          <p:cNvPicPr/>
          <p:nvPr/>
        </p:nvPicPr>
        <p:blipFill>
          <a:blip r:embed="rId3"/>
          <a:stretch/>
        </p:blipFill>
        <p:spPr>
          <a:xfrm>
            <a:off x="1042920" y="3068640"/>
            <a:ext cx="1482840" cy="99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uss_california_sinking_pearl_harbor_erp3lo4rzq8kokwkcggsw8w0s_a4c4bbbo8s0s8gkgs4ksg8ckc_th"/>
          <p:cNvPicPr/>
          <p:nvPr/>
        </p:nvPicPr>
        <p:blipFill>
          <a:blip r:embed="rId4"/>
          <a:stretch/>
        </p:blipFill>
        <p:spPr>
          <a:xfrm>
            <a:off x="2771640" y="3068640"/>
            <a:ext cx="97488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scout_031_4q8v280gex6o8oso04wcok808_ejcuplo1l0oo0sk8c40s8osc4_th"/>
          <p:cNvPicPr/>
          <p:nvPr/>
        </p:nvPicPr>
        <p:blipFill>
          <a:blip r:embed="rId1"/>
          <a:stretch/>
        </p:blipFill>
        <p:spPr>
          <a:xfrm>
            <a:off x="250920" y="189000"/>
            <a:ext cx="4383000" cy="5904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"/>
          <p:cNvSpPr/>
          <p:nvPr/>
        </p:nvSpPr>
        <p:spPr>
          <a:xfrm>
            <a:off x="4788000" y="3284640"/>
            <a:ext cx="4176720" cy="3241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Franklin Gothic Demi"/>
              </a:rPr>
              <a:t>Расшатать систему оборо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Franklin Gothic Demi"/>
              </a:rPr>
              <a:t>Берли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станция водоснабж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аэропор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электростан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газовый зав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Berlin_offensive"/>
          <p:cNvPicPr/>
          <p:nvPr/>
        </p:nvPicPr>
        <p:blipFill>
          <a:blip r:embed="rId2"/>
          <a:stretch/>
        </p:blipFill>
        <p:spPr>
          <a:xfrm>
            <a:off x="4859280" y="260280"/>
            <a:ext cx="403236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3284640"/>
            <a:ext cx="38512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от 15 до 60 лет мужское 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GermanPOW19452"/>
          <p:cNvPicPr/>
          <p:nvPr/>
        </p:nvPicPr>
        <p:blipFill>
          <a:blip r:embed="rId1"/>
          <a:stretch/>
        </p:blipFill>
        <p:spPr>
          <a:xfrm>
            <a:off x="3851280" y="1413000"/>
            <a:ext cx="3817800" cy="266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Bundesarchiv_Bild_146-1995-081-13A%2C_Berlin%2C_MG-Stellung%2C_Hellmuth_Reymann"/>
          <p:cNvPicPr/>
          <p:nvPr/>
        </p:nvPicPr>
        <p:blipFill>
          <a:blip r:embed="rId2"/>
          <a:srcRect l="0" t="0" r="0" b="8523"/>
          <a:stretch/>
        </p:blipFill>
        <p:spPr>
          <a:xfrm>
            <a:off x="3492360" y="4221000"/>
            <a:ext cx="3090960" cy="1920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battle-berlin-garrison_5"/>
          <p:cNvPicPr/>
          <p:nvPr/>
        </p:nvPicPr>
        <p:blipFill>
          <a:blip r:embed="rId3"/>
          <a:stretch/>
        </p:blipFill>
        <p:spPr>
          <a:xfrm>
            <a:off x="250920" y="1197000"/>
            <a:ext cx="3024000" cy="2138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7163441-f_ww2_ger_faust-novoe"/>
          <p:cNvPicPr/>
          <p:nvPr/>
        </p:nvPicPr>
        <p:blipFill>
          <a:blip r:embed="rId4"/>
          <a:srcRect l="15042" t="0" r="0" b="12195"/>
          <a:stretch/>
        </p:blipFill>
        <p:spPr>
          <a:xfrm>
            <a:off x="179280" y="4149720"/>
            <a:ext cx="3233880" cy="2506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fort-turret-7"/>
          <p:cNvPicPr/>
          <p:nvPr/>
        </p:nvPicPr>
        <p:blipFill>
          <a:blip r:embed="rId5"/>
          <a:srcRect l="19796" t="0" r="0" b="0"/>
          <a:stretch/>
        </p:blipFill>
        <p:spPr>
          <a:xfrm>
            <a:off x="6659640" y="4653000"/>
            <a:ext cx="2328840" cy="18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20090720_panter_dot_4794zko8m6asc4o8c40s4kwwo_ejcuplo1l0oo0sk8c40s8osc4_th"/>
          <p:cNvPicPr/>
          <p:nvPr/>
        </p:nvPicPr>
        <p:blipFill>
          <a:blip r:embed="rId6"/>
          <a:stretch/>
        </p:blipFill>
        <p:spPr>
          <a:xfrm>
            <a:off x="250920" y="1197000"/>
            <a:ext cx="8137440" cy="54514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4"/>
          <p:cNvSpPr/>
          <p:nvPr/>
        </p:nvSpPr>
        <p:spPr>
          <a:xfrm>
            <a:off x="250920" y="189000"/>
            <a:ext cx="7489800" cy="1224000"/>
          </a:xfrm>
          <a:custGeom>
            <a:avLst/>
            <a:gdLst>
              <a:gd name="textAreaLeft" fmla="*/ 0 w 7489800"/>
              <a:gd name="textAreaRight" fmla="*/ 7490160 w 7489800"/>
              <a:gd name="textAreaTop" fmla="*/ 158400 h 1224000"/>
              <a:gd name="textAreaBottom" fmla="*/ 10656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Demi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Franklin Gothic Demi"/>
              </a:rPr>
              <a:t>«Берлин останется немецким!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800px-Flag_of_Germany_1933"/>
          <p:cNvPicPr/>
          <p:nvPr/>
        </p:nvPicPr>
        <p:blipFill>
          <a:blip r:embed="rId7"/>
          <a:stretch/>
        </p:blipFill>
        <p:spPr>
          <a:xfrm rot="20086800">
            <a:off x="324000" y="260280"/>
            <a:ext cx="132552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berlin1"/>
          <p:cNvPicPr/>
          <p:nvPr/>
        </p:nvPicPr>
        <p:blipFill>
          <a:blip r:embed="rId1"/>
          <a:srcRect l="0" t="0" r="12597" b="0"/>
          <a:stretch/>
        </p:blipFill>
        <p:spPr>
          <a:xfrm>
            <a:off x="17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5"/>
          <p:cNvSpPr/>
          <p:nvPr/>
        </p:nvSpPr>
        <p:spPr>
          <a:xfrm rot="10800000">
            <a:off x="3564000" y="2997000"/>
            <a:ext cx="3743280" cy="1152360"/>
          </a:xfrm>
          <a:custGeom>
            <a:avLst/>
            <a:gdLst>
              <a:gd name="textAreaLeft" fmla="*/ 0 w 3743280"/>
              <a:gd name="textAreaRight" fmla="*/ 3743640 w 3743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Franklin Gothic Demi"/>
              </a:rPr>
              <a:t>1-й Белорусский фро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Franklin Gothic Demi"/>
              </a:rPr>
              <a:t>Жу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 rot="10800000">
            <a:off x="3564000" y="980640"/>
            <a:ext cx="3960720" cy="1008000"/>
          </a:xfrm>
          <a:custGeom>
            <a:avLst/>
            <a:gdLst>
              <a:gd name="textAreaLeft" fmla="*/ 0 w 3960720"/>
              <a:gd name="textAreaRight" fmla="*/ 3960720 w 3960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Franklin Gothic Demi"/>
              </a:rPr>
              <a:t>2-й Белорусский фро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Franklin Gothic Demi"/>
              </a:rPr>
              <a:t>Рокоссовс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 rot="10800000">
            <a:off x="3419640" y="5084640"/>
            <a:ext cx="4032000" cy="1152720"/>
          </a:xfrm>
          <a:custGeom>
            <a:avLst/>
            <a:gdLst>
              <a:gd name="textAreaLeft" fmla="*/ 0 w 4032000"/>
              <a:gd name="textAreaRight" fmla="*/ 4032360 w 403200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Franklin Gothic Demi"/>
              </a:rPr>
              <a:t>1-й Украинский фро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Franklin Gothic Demi"/>
              </a:rPr>
              <a:t>Коне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Konev_ivan1"/>
          <p:cNvPicPr/>
          <p:nvPr/>
        </p:nvPicPr>
        <p:blipFill>
          <a:blip r:embed="rId2"/>
          <a:stretch/>
        </p:blipFill>
        <p:spPr>
          <a:xfrm>
            <a:off x="7524720" y="4653000"/>
            <a:ext cx="1408320" cy="1920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imagesCAW84SAJ"/>
          <p:cNvPicPr/>
          <p:nvPr/>
        </p:nvPicPr>
        <p:blipFill>
          <a:blip r:embed="rId3"/>
          <a:stretch/>
        </p:blipFill>
        <p:spPr>
          <a:xfrm>
            <a:off x="7451640" y="2276640"/>
            <a:ext cx="1411200" cy="1990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48400297_Rokossovskiy_"/>
          <p:cNvPicPr/>
          <p:nvPr/>
        </p:nvPicPr>
        <p:blipFill>
          <a:blip r:embed="rId4"/>
          <a:stretch/>
        </p:blipFill>
        <p:spPr>
          <a:xfrm>
            <a:off x="7596360" y="189000"/>
            <a:ext cx="140652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Franklin Gothic Demi"/>
              </a:rPr>
              <a:t>Берлинская опер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Franklin Gothic Demi"/>
              </a:rPr>
              <a:t>16 апреля  - 2 мая 19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76720" y="2707920"/>
            <a:ext cx="40672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16.04 – начало (3 часа свет прожекторо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Взятие Зееловских выс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20.04 – артобстр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23.04 – 1-й Б и 1-й У встретились; Берлин окруж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25.04 – бои в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aptureOfBerlinMedal"/>
          <p:cNvPicPr/>
          <p:nvPr/>
        </p:nvPicPr>
        <p:blipFill>
          <a:blip r:embed="rId1"/>
          <a:stretch/>
        </p:blipFill>
        <p:spPr>
          <a:xfrm>
            <a:off x="7524720" y="189000"/>
            <a:ext cx="1295280" cy="243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171"/>
          <p:cNvPicPr/>
          <p:nvPr/>
        </p:nvPicPr>
        <p:blipFill>
          <a:blip r:embed="rId2"/>
          <a:stretch/>
        </p:blipFill>
        <p:spPr>
          <a:xfrm>
            <a:off x="0" y="1484280"/>
            <a:ext cx="504036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Franklin Gothic Demi"/>
              </a:rPr>
              <a:t>Берлинская операц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Franklin Gothic Demi"/>
              </a:rPr>
              <a:t>16 апреля  - 2 мая 19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2920" y="3573000"/>
            <a:ext cx="43563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Franklin Gothic Demi"/>
              </a:rPr>
              <a:t>25.04 – встреча на Эль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союзников (СССР и 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30.04 – смерть Гит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1.05- флаг на рейхстагом  (Егоров, Кантария, Бере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2.05 – Берлин п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aptureOfBerlinMedal"/>
          <p:cNvPicPr/>
          <p:nvPr/>
        </p:nvPicPr>
        <p:blipFill>
          <a:blip r:embed="rId1"/>
          <a:stretch/>
        </p:blipFill>
        <p:spPr>
          <a:xfrm>
            <a:off x="7524720" y="189000"/>
            <a:ext cx="1295280" cy="2436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1945_egorov"/>
          <p:cNvPicPr/>
          <p:nvPr/>
        </p:nvPicPr>
        <p:blipFill>
          <a:blip r:embed="rId2"/>
          <a:stretch/>
        </p:blipFill>
        <p:spPr>
          <a:xfrm>
            <a:off x="179280" y="3789360"/>
            <a:ext cx="4249800" cy="2849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1241810881_b-13_1"/>
          <p:cNvPicPr/>
          <p:nvPr/>
        </p:nvPicPr>
        <p:blipFill>
          <a:blip r:embed="rId3"/>
          <a:stretch/>
        </p:blipFill>
        <p:spPr>
          <a:xfrm>
            <a:off x="108000" y="115920"/>
            <a:ext cx="1879560" cy="2303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250px-Soviet_Znamya_Pobedy_svg"/>
          <p:cNvPicPr/>
          <p:nvPr/>
        </p:nvPicPr>
        <p:blipFill>
          <a:blip r:embed="rId4"/>
          <a:stretch/>
        </p:blipFill>
        <p:spPr>
          <a:xfrm>
            <a:off x="2843280" y="1413000"/>
            <a:ext cx="3389400" cy="1695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3492360" y="3141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мя Побед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istory_channel-1165621669_i_9568_full"/>
          <p:cNvPicPr/>
          <p:nvPr/>
        </p:nvPicPr>
        <p:blipFill>
          <a:blip r:embed="rId1"/>
          <a:stretch/>
        </p:blipFill>
        <p:spPr>
          <a:xfrm>
            <a:off x="684360" y="260280"/>
            <a:ext cx="784836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771640" y="3357360"/>
            <a:ext cx="360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Franklin Gothic Demi"/>
              </a:rPr>
              <a:t>г. Карлсхорст </a:t>
            </a: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школьная стол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Demi"/>
              </a:rPr>
              <a:t>Маршал Ж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Demi"/>
              </a:rPr>
              <a:t>Фельдмаршал Кей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Demi"/>
              </a:rPr>
              <a:t>Безоговорочная капитуляция Германии 8 /9 мая 1945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iCAH6YB2I"/>
          <p:cNvPicPr/>
          <p:nvPr/>
        </p:nvPicPr>
        <p:blipFill>
          <a:blip r:embed="rId1"/>
          <a:stretch/>
        </p:blipFill>
        <p:spPr>
          <a:xfrm>
            <a:off x="3276720" y="1700280"/>
            <a:ext cx="2017440" cy="140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CAKJ0WZJ"/>
          <p:cNvPicPr/>
          <p:nvPr/>
        </p:nvPicPr>
        <p:blipFill>
          <a:blip r:embed="rId2"/>
          <a:stretch/>
        </p:blipFill>
        <p:spPr>
          <a:xfrm>
            <a:off x="468360" y="1773360"/>
            <a:ext cx="1700280" cy="244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200px-Bundesarchiv_Bild_183-H30220,_Wilhelm_Keitel"/>
          <p:cNvPicPr/>
          <p:nvPr/>
        </p:nvPicPr>
        <p:blipFill>
          <a:blip r:embed="rId3"/>
          <a:stretch/>
        </p:blipFill>
        <p:spPr>
          <a:xfrm>
            <a:off x="6732720" y="1700280"/>
            <a:ext cx="1582560" cy="2319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photo01"/>
          <p:cNvPicPr/>
          <p:nvPr/>
        </p:nvPicPr>
        <p:blipFill>
          <a:blip r:embed="rId4"/>
          <a:stretch/>
        </p:blipFill>
        <p:spPr>
          <a:xfrm>
            <a:off x="250920" y="1436760"/>
            <a:ext cx="8640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21:00:44Z</dcterms:created>
  <dc:creator>User</dc:creator>
  <dc:description/>
  <dc:language>en-US</dc:language>
  <cp:lastModifiedBy>1</cp:lastModifiedBy>
  <dcterms:modified xsi:type="dcterms:W3CDTF">2015-10-06T21:21:49Z</dcterms:modified>
  <cp:revision>16</cp:revision>
  <dc:subject/>
  <dc:title>Слайд 1</dc:title>
</cp:coreProperties>
</file>