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4.png" ContentType="image/png"/>
  <Override PartName="/ppt/media/image21.jpeg" ContentType="image/jpeg"/>
  <Override PartName="/ppt/media/image20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22.jpeg" ContentType="image/jpeg"/>
  <Override PartName="/ppt/media/image9.png" ContentType="image/png"/>
  <Override PartName="/ppt/media/image6.jpeg" ContentType="image/jpeg"/>
  <Override PartName="/ppt/media/image33.jpeg" ContentType="image/jpeg"/>
  <Override PartName="/ppt/media/image27.jpeg" ContentType="image/jpeg"/>
  <Override PartName="/ppt/media/image28.jpeg" ContentType="image/jpeg"/>
  <Override PartName="/ppt/media/image34.jpeg" ContentType="image/jpeg"/>
  <Override PartName="/ppt/media/image19.jpeg" ContentType="image/jpeg"/>
  <Override PartName="/ppt/media/image11.png" ContentType="image/png"/>
  <Override PartName="/ppt/media/image30.jpeg" ContentType="image/jpeg"/>
  <Override PartName="/ppt/media/image31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0.png" ContentType="image/png"/>
  <Override PartName="/ppt/media/image10.jpeg" ContentType="image/jpeg"/>
  <Override PartName="/ppt/media/image29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416A-CF19-44DA-B7C1-1E78E4F24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6FD3-A7A7-45DE-A7DA-7A5C8064E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F849-16FF-41A9-BF49-F2D11CE38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27C6-4DF5-49C5-AA84-5275896FD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6FCF-7E2B-4E9C-83E1-438AD5053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E8FE-08C2-4F10-99FD-0E856C4D8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C076-4B71-441D-9B35-FF4AF1A30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8DA3-629F-4A48-BCAF-D2AE67A26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A97F-4DB1-4951-9A0B-E6DABE669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D3B8-0334-49A7-90FB-8C35101B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87AF-1F53-4924-A06F-AF37CD8C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B404-DAB6-43B1-86AF-E7DECBF3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147AF-F834-4317-82B1-5791DBAD47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50920" y="6165720"/>
            <a:ext cx="41767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зентация учителя ГОУ СОШ № 69 Федоровой С.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3348000" y="476280"/>
            <a:ext cx="6012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Bookman Old Style"/>
              </a:rPr>
              <a:t>Великая </a:t>
            </a:r>
            <a:br>
              <a:rPr sz="3200"/>
            </a:br>
            <a:r>
              <a:rPr b="1" lang="ru-RU" sz="3200" spc="-1" strike="noStrike">
                <a:solidFill>
                  <a:srgbClr val="333300"/>
                </a:solidFill>
                <a:latin typeface="Bookman Old Style"/>
              </a:rPr>
              <a:t>Отечественная война</a:t>
            </a:r>
            <a:br>
              <a:rPr sz="3200"/>
            </a:br>
            <a:r>
              <a:rPr b="1" lang="ru-RU" sz="3200" spc="-1" strike="noStrike">
                <a:solidFill>
                  <a:srgbClr val="333300"/>
                </a:solidFill>
                <a:latin typeface="Bookman Old Style"/>
              </a:rPr>
              <a:t>22 июня 1941 – </a:t>
            </a:r>
            <a:br>
              <a:rPr sz="3200"/>
            </a:br>
            <a:r>
              <a:rPr b="1" lang="ru-RU" sz="3200" spc="-1" strike="noStrike">
                <a:solidFill>
                  <a:srgbClr val="333300"/>
                </a:solidFill>
                <a:latin typeface="Bookman Old Style"/>
              </a:rPr>
              <a:t>9 мая 194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Bundesarchiv_Bild_183-E0406-0022-018%2C_Berlin%2C_Siegesfeier_der_Roten_Armee"/>
          <p:cNvPicPr/>
          <p:nvPr/>
        </p:nvPicPr>
        <p:blipFill>
          <a:blip r:embed="rId1"/>
          <a:stretch/>
        </p:blipFill>
        <p:spPr>
          <a:xfrm>
            <a:off x="179280" y="189000"/>
            <a:ext cx="5243760" cy="3728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1" descr="20100430_berlin_ukaz_dbc0s7uwnbk84ggwkokskw8c8_ejcuplo1l0oo0sk8c40s8osc4_th"/>
          <p:cNvPicPr/>
          <p:nvPr/>
        </p:nvPicPr>
        <p:blipFill>
          <a:blip r:embed="rId2"/>
          <a:stretch/>
        </p:blipFill>
        <p:spPr>
          <a:xfrm>
            <a:off x="5580000" y="549360"/>
            <a:ext cx="3162240" cy="2260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2" descr="b002_006"/>
          <p:cNvPicPr/>
          <p:nvPr/>
        </p:nvPicPr>
        <p:blipFill>
          <a:blip r:embed="rId3"/>
          <a:stretch/>
        </p:blipFill>
        <p:spPr>
          <a:xfrm>
            <a:off x="2357280" y="3429000"/>
            <a:ext cx="4911840" cy="32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6121440" cy="27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довольственная помощь немц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 13.05 – ради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 14.05 – мет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 15.05 – газ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120 кинотеатров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580 шк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Bundesarchiv_Bild_183-J31387%2C_Berlin%2C_Bau_von_Stra%C3%9Fensperren"/>
          <p:cNvPicPr/>
          <p:nvPr/>
        </p:nvPicPr>
        <p:blipFill>
          <a:blip r:embed="rId1"/>
          <a:stretch/>
        </p:blipFill>
        <p:spPr>
          <a:xfrm>
            <a:off x="179280" y="3500280"/>
            <a:ext cx="3816360" cy="2779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2226_9kb36cmw2og80w8w4880wcswg_a4c4bbbo8s0s8gkgs4ksg8ckc_th"/>
          <p:cNvPicPr/>
          <p:nvPr/>
        </p:nvPicPr>
        <p:blipFill>
          <a:blip r:embed="rId2"/>
          <a:stretch/>
        </p:blipFill>
        <p:spPr>
          <a:xfrm>
            <a:off x="3924360" y="765000"/>
            <a:ext cx="2374920" cy="2374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BERLIN45"/>
          <p:cNvPicPr/>
          <p:nvPr/>
        </p:nvPicPr>
        <p:blipFill>
          <a:blip r:embed="rId3"/>
          <a:stretch/>
        </p:blipFill>
        <p:spPr>
          <a:xfrm>
            <a:off x="6705720" y="115920"/>
            <a:ext cx="2251080" cy="3384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4167495"/>
          <p:cNvPicPr/>
          <p:nvPr/>
        </p:nvPicPr>
        <p:blipFill>
          <a:blip r:embed="rId4"/>
          <a:stretch/>
        </p:blipFill>
        <p:spPr>
          <a:xfrm>
            <a:off x="4284720" y="3716280"/>
            <a:ext cx="464508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0002trp0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64d9f7acf7ad75daa1091f67599_prev"/>
          <p:cNvPicPr/>
          <p:nvPr/>
        </p:nvPicPr>
        <p:blipFill>
          <a:blip r:embed="rId1"/>
          <a:stretch/>
        </p:blipFill>
        <p:spPr>
          <a:xfrm>
            <a:off x="285840" y="276120"/>
            <a:ext cx="850104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0" descr="C:\Users\Ирина\Desktop\тыл\158589_image_large.jpg"/>
          <p:cNvPicPr/>
          <p:nvPr/>
        </p:nvPicPr>
        <p:blipFill>
          <a:blip r:embed="rId1"/>
          <a:stretch/>
        </p:blipFill>
        <p:spPr>
          <a:xfrm>
            <a:off x="4000680" y="214200"/>
            <a:ext cx="4786200" cy="6381720"/>
          </a:xfrm>
          <a:prstGeom prst="rect">
            <a:avLst/>
          </a:prstGeom>
          <a:ln w="0">
            <a:noFill/>
          </a:ln>
        </p:spPr>
      </p:pic>
      <p:pic>
        <p:nvPicPr>
          <p:cNvPr id="99" name="Прямоугольник 3" descr=""/>
          <p:cNvPicPr/>
          <p:nvPr/>
        </p:nvPicPr>
        <p:blipFill>
          <a:blip r:embed="rId2"/>
          <a:stretch/>
        </p:blipFill>
        <p:spPr>
          <a:xfrm>
            <a:off x="115920" y="1189080"/>
            <a:ext cx="3614760" cy="31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490320"/>
          </a:xfrm>
          <a:prstGeom prst="rect">
            <a:avLst/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Franklin Gothic Demi Cond"/>
              </a:rPr>
              <a:t>Окончание Великой Отечественной вой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79280" y="836640"/>
          <a:ext cx="8785440" cy="5832360"/>
        </p:xfrm>
        <a:graphic>
          <a:graphicData uri="http://schemas.openxmlformats.org/drawingml/2006/table">
            <a:tbl>
              <a:tblPr/>
              <a:tblGrid>
                <a:gridCol w="1152720"/>
                <a:gridCol w="763272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ы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бытия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</a:tr>
              <a:tr h="543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a50021"/>
                          </a:solidFill>
                          <a:latin typeface="Franklin Gothic Demi Cond"/>
                        </a:rPr>
                        <a:t>1945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a50021"/>
                          </a:solidFill>
                          <a:latin typeface="Franklin Gothic Demi Cond"/>
                        </a:rPr>
                        <a:t>12.01 – 3.0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a50021"/>
                          </a:solidFill>
                          <a:latin typeface="Franklin Gothic Demi Cond"/>
                        </a:rPr>
                        <a:t>13.01 – 25.0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a50021"/>
                          </a:solidFill>
                          <a:uFillTx/>
                          <a:latin typeface="Franklin Gothic Demi"/>
                        </a:rPr>
                        <a:t>Висло - Одерская операция</a:t>
                      </a:r>
                      <a:r>
                        <a:rPr b="1" lang="ru-RU" sz="2800" spc="-1" strike="noStrike">
                          <a:solidFill>
                            <a:srgbClr val="a50021"/>
                          </a:solidFill>
                          <a:latin typeface="Franklin Gothic Demi"/>
                        </a:rPr>
                        <a:t>                              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на 8 дней раньше, т.к. помогли союзникам в Арденнах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a50021"/>
                          </a:solidFill>
                          <a:latin typeface="Franklin Gothic Demi"/>
                        </a:rPr>
                        <a:t>Освобождение Польши, вступление на территорию Германии 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Franklin Gothic Demi"/>
                        </a:rPr>
                        <a:t>17 января освободили Варшаву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Franklin Gothic Demi"/>
                        </a:rPr>
                        <a:t>19 января – в Германии   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a50021"/>
                          </a:solidFill>
                          <a:uFillTx/>
                          <a:latin typeface="Franklin Gothic Demi"/>
                        </a:rPr>
                        <a:t>Операция в Восточной Пруссии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Franklin Gothic Demi"/>
                        </a:rPr>
                        <a:t>6-9 апреля – штурм Кёнигсберга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5" name="Picture 18" descr="iCARYPS7Y"/>
          <p:cNvPicPr/>
          <p:nvPr/>
        </p:nvPicPr>
        <p:blipFill>
          <a:blip r:embed="rId1"/>
          <a:stretch/>
        </p:blipFill>
        <p:spPr>
          <a:xfrm>
            <a:off x="7226280" y="4221000"/>
            <a:ext cx="1668600" cy="233532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19"/>
          <p:cNvSpPr/>
          <p:nvPr/>
        </p:nvSpPr>
        <p:spPr>
          <a:xfrm>
            <a:off x="324000" y="5157720"/>
            <a:ext cx="6551640" cy="1355760"/>
          </a:xfrm>
          <a:prstGeom prst="borderCallout1">
            <a:avLst>
              <a:gd name="adj1" fmla="val 18750"/>
              <a:gd name="adj2" fmla="val -8333"/>
              <a:gd name="adj3" fmla="val -5620"/>
              <a:gd name="adj4" fmla="val 10392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Demi"/>
              </a:rPr>
              <a:t>Затягивать военные действия нельзя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оязнь сепаратного мир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оязнь вступления союзников в Берлин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4427640" y="2708280"/>
            <a:ext cx="3313080" cy="1368360"/>
          </a:xfrm>
          <a:prstGeom prst="wedgeRectCallout">
            <a:avLst>
              <a:gd name="adj1" fmla="val -65143"/>
              <a:gd name="adj2" fmla="val -1821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Demi"/>
              </a:rPr>
              <a:t>30.01 – «Атака века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Demi"/>
              </a:rPr>
              <a:t>ПЛ-13 (Маринеско) атаковала транспорт «Вильгельм Густлов»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1" descr="200px-Marinesko"/>
          <p:cNvPicPr/>
          <p:nvPr/>
        </p:nvPicPr>
        <p:blipFill>
          <a:blip r:embed="rId2"/>
          <a:stretch/>
        </p:blipFill>
        <p:spPr>
          <a:xfrm>
            <a:off x="7524720" y="2421000"/>
            <a:ext cx="1230480" cy="1684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2" descr="266PX-~1"/>
          <p:cNvPicPr/>
          <p:nvPr/>
        </p:nvPicPr>
        <p:blipFill>
          <a:blip r:embed="rId3"/>
          <a:stretch/>
        </p:blipFill>
        <p:spPr>
          <a:xfrm>
            <a:off x="1042920" y="3068640"/>
            <a:ext cx="1482840" cy="998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3" descr="uss_california_sinking_pearl_harbor_erp3lo4rzq8kokwkcggsw8w0s_a4c4bbbo8s0s8gkgs4ksg8ckc_th"/>
          <p:cNvPicPr/>
          <p:nvPr/>
        </p:nvPicPr>
        <p:blipFill>
          <a:blip r:embed="rId4"/>
          <a:stretch/>
        </p:blipFill>
        <p:spPr>
          <a:xfrm>
            <a:off x="2771640" y="3068640"/>
            <a:ext cx="97488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9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scout_031_4q8v280gex6o8oso04wcok808_ejcuplo1l0oo0sk8c40s8osc4_th"/>
          <p:cNvPicPr/>
          <p:nvPr/>
        </p:nvPicPr>
        <p:blipFill>
          <a:blip r:embed="rId1"/>
          <a:stretch/>
        </p:blipFill>
        <p:spPr>
          <a:xfrm>
            <a:off x="250920" y="189000"/>
            <a:ext cx="4383000" cy="590400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5"/>
          <p:cNvSpPr/>
          <p:nvPr/>
        </p:nvSpPr>
        <p:spPr>
          <a:xfrm>
            <a:off x="4788000" y="3284640"/>
            <a:ext cx="4176720" cy="32414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Franklin Gothic Demi"/>
              </a:rPr>
              <a:t>Расшатать систему оборон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Franklin Gothic Demi"/>
              </a:rPr>
              <a:t>Берлин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Dem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Franklin Gothic Demi"/>
              </a:rPr>
              <a:t>станция водоснабжен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Dem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Franklin Gothic Demi"/>
              </a:rPr>
              <a:t>аэропор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Dem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Franklin Gothic Demi"/>
              </a:rPr>
              <a:t>электростанц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Dem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Franklin Gothic Demi"/>
              </a:rPr>
              <a:t>газовый завод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Berlin_offensive"/>
          <p:cNvPicPr/>
          <p:nvPr/>
        </p:nvPicPr>
        <p:blipFill>
          <a:blip r:embed="rId2"/>
          <a:stretch/>
        </p:blipFill>
        <p:spPr>
          <a:xfrm>
            <a:off x="4859280" y="260280"/>
            <a:ext cx="4032360" cy="26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3284640"/>
            <a:ext cx="385128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Demi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Franklin Gothic Demi"/>
              </a:rPr>
              <a:t>от 15 до 60 лет мужское нас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GermanPOW19452"/>
          <p:cNvPicPr/>
          <p:nvPr/>
        </p:nvPicPr>
        <p:blipFill>
          <a:blip r:embed="rId1"/>
          <a:stretch/>
        </p:blipFill>
        <p:spPr>
          <a:xfrm>
            <a:off x="3851280" y="1413000"/>
            <a:ext cx="3817800" cy="2668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Bundesarchiv_Bild_146-1995-081-13A%2C_Berlin%2C_MG-Stellung%2C_Hellmuth_Reymann"/>
          <p:cNvPicPr/>
          <p:nvPr/>
        </p:nvPicPr>
        <p:blipFill>
          <a:blip r:embed="rId2"/>
          <a:srcRect l="0" t="0" r="0" b="8523"/>
          <a:stretch/>
        </p:blipFill>
        <p:spPr>
          <a:xfrm>
            <a:off x="3492360" y="4221000"/>
            <a:ext cx="3090960" cy="19209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battle-berlin-garrison_5"/>
          <p:cNvPicPr/>
          <p:nvPr/>
        </p:nvPicPr>
        <p:blipFill>
          <a:blip r:embed="rId3"/>
          <a:stretch/>
        </p:blipFill>
        <p:spPr>
          <a:xfrm>
            <a:off x="250920" y="1197000"/>
            <a:ext cx="3024000" cy="2138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7163441-f_ww2_ger_faust-novoe"/>
          <p:cNvPicPr/>
          <p:nvPr/>
        </p:nvPicPr>
        <p:blipFill>
          <a:blip r:embed="rId4"/>
          <a:srcRect l="15042" t="0" r="0" b="12195"/>
          <a:stretch/>
        </p:blipFill>
        <p:spPr>
          <a:xfrm>
            <a:off x="179280" y="4149720"/>
            <a:ext cx="3233880" cy="2506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fort-turret-7"/>
          <p:cNvPicPr/>
          <p:nvPr/>
        </p:nvPicPr>
        <p:blipFill>
          <a:blip r:embed="rId5"/>
          <a:srcRect l="19796" t="0" r="0" b="0"/>
          <a:stretch/>
        </p:blipFill>
        <p:spPr>
          <a:xfrm>
            <a:off x="6659640" y="4653000"/>
            <a:ext cx="2328840" cy="1814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20090720_panter_dot_4794zko8m6asc4o8c40s4kwwo_ejcuplo1l0oo0sk8c40s8osc4_th"/>
          <p:cNvPicPr/>
          <p:nvPr/>
        </p:nvPicPr>
        <p:blipFill>
          <a:blip r:embed="rId6"/>
          <a:stretch/>
        </p:blipFill>
        <p:spPr>
          <a:xfrm>
            <a:off x="250920" y="1197000"/>
            <a:ext cx="8137440" cy="545148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4"/>
          <p:cNvSpPr/>
          <p:nvPr/>
        </p:nvSpPr>
        <p:spPr>
          <a:xfrm>
            <a:off x="250920" y="189000"/>
            <a:ext cx="7489800" cy="1224000"/>
          </a:xfrm>
          <a:custGeom>
            <a:avLst/>
            <a:gdLst>
              <a:gd name="textAreaLeft" fmla="*/ 0 w 7489800"/>
              <a:gd name="textAreaRight" fmla="*/ 7490160 w 7489800"/>
              <a:gd name="textAreaTop" fmla="*/ 158400 h 1224000"/>
              <a:gd name="textAreaBottom" fmla="*/ 106560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Demi"/>
              </a:rPr>
              <a:t>              </a:t>
            </a:r>
            <a:r>
              <a:rPr b="1" lang="ru-RU" sz="3200" spc="-1" strike="noStrike">
                <a:solidFill>
                  <a:srgbClr val="000000"/>
                </a:solidFill>
                <a:latin typeface="Franklin Gothic Demi"/>
              </a:rPr>
              <a:t>«Берлин останется немецким!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800px-Flag_of_Germany_1933"/>
          <p:cNvPicPr/>
          <p:nvPr/>
        </p:nvPicPr>
        <p:blipFill>
          <a:blip r:embed="rId7"/>
          <a:stretch/>
        </p:blipFill>
        <p:spPr>
          <a:xfrm rot="20086800">
            <a:off x="324000" y="260280"/>
            <a:ext cx="1325520" cy="7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berlin1"/>
          <p:cNvPicPr/>
          <p:nvPr/>
        </p:nvPicPr>
        <p:blipFill>
          <a:blip r:embed="rId1"/>
          <a:srcRect l="0" t="0" r="12597" b="0"/>
          <a:stretch/>
        </p:blipFill>
        <p:spPr>
          <a:xfrm>
            <a:off x="179280" y="0"/>
            <a:ext cx="428472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5"/>
          <p:cNvSpPr/>
          <p:nvPr/>
        </p:nvSpPr>
        <p:spPr>
          <a:xfrm rot="10800000">
            <a:off x="3564000" y="2997000"/>
            <a:ext cx="3743280" cy="1152360"/>
          </a:xfrm>
          <a:custGeom>
            <a:avLst/>
            <a:gdLst>
              <a:gd name="textAreaLeft" fmla="*/ 0 w 3743280"/>
              <a:gd name="textAreaRight" fmla="*/ 3743640 w 3743280"/>
              <a:gd name="textAreaTop" fmla="*/ 0 h 1152360"/>
              <a:gd name="textAreaBottom" fmla="*/ 115236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Franklin Gothic Demi"/>
              </a:rPr>
              <a:t>1-й Белорусский фрон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Franklin Gothic Demi"/>
              </a:rPr>
              <a:t>Жук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6"/>
          <p:cNvSpPr/>
          <p:nvPr/>
        </p:nvSpPr>
        <p:spPr>
          <a:xfrm rot="10800000">
            <a:off x="3564000" y="980640"/>
            <a:ext cx="3960720" cy="1008000"/>
          </a:xfrm>
          <a:custGeom>
            <a:avLst/>
            <a:gdLst>
              <a:gd name="textAreaLeft" fmla="*/ 0 w 3960720"/>
              <a:gd name="textAreaRight" fmla="*/ 3960720 w 396072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Franklin Gothic Demi"/>
              </a:rPr>
              <a:t>2-й Белорусский фрон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Franklin Gothic Demi"/>
              </a:rPr>
              <a:t>Рокоссовски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7"/>
          <p:cNvSpPr/>
          <p:nvPr/>
        </p:nvSpPr>
        <p:spPr>
          <a:xfrm rot="10800000">
            <a:off x="3419640" y="5084640"/>
            <a:ext cx="4032000" cy="1152720"/>
          </a:xfrm>
          <a:custGeom>
            <a:avLst/>
            <a:gdLst>
              <a:gd name="textAreaLeft" fmla="*/ 0 w 4032000"/>
              <a:gd name="textAreaRight" fmla="*/ 4032360 w 4032000"/>
              <a:gd name="textAreaTop" fmla="*/ 0 h 1152720"/>
              <a:gd name="textAreaBottom" fmla="*/ 115308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Franklin Gothic Demi"/>
              </a:rPr>
              <a:t>1-й Украинский фрон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Franklin Gothic Demi"/>
              </a:rPr>
              <a:t>Коне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0" descr="Konev_ivan1"/>
          <p:cNvPicPr/>
          <p:nvPr/>
        </p:nvPicPr>
        <p:blipFill>
          <a:blip r:embed="rId2"/>
          <a:stretch/>
        </p:blipFill>
        <p:spPr>
          <a:xfrm>
            <a:off x="7524720" y="4653000"/>
            <a:ext cx="1408320" cy="1920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imagesCAW84SAJ"/>
          <p:cNvPicPr/>
          <p:nvPr/>
        </p:nvPicPr>
        <p:blipFill>
          <a:blip r:embed="rId3"/>
          <a:stretch/>
        </p:blipFill>
        <p:spPr>
          <a:xfrm>
            <a:off x="7451640" y="2276640"/>
            <a:ext cx="1411200" cy="1990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2" descr="48400297_Rokossovskiy_"/>
          <p:cNvPicPr/>
          <p:nvPr/>
        </p:nvPicPr>
        <p:blipFill>
          <a:blip r:embed="rId4"/>
          <a:stretch/>
        </p:blipFill>
        <p:spPr>
          <a:xfrm>
            <a:off x="7596360" y="189000"/>
            <a:ext cx="1406520" cy="18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Franklin Gothic Demi"/>
              </a:rPr>
              <a:t>Берлинская операци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Franklin Gothic Demi"/>
              </a:rPr>
              <a:t>16 апреля  - 2 мая 194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76720" y="2707920"/>
            <a:ext cx="406728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Demi"/>
              </a:rPr>
              <a:t>16.04 – начало (3 часа свет прожекторов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Demi"/>
              </a:rPr>
              <a:t>Взятие Зееловских выс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Demi"/>
              </a:rPr>
              <a:t>20.04 – артобстр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Demi"/>
              </a:rPr>
              <a:t>23.04 – 1-й Б и 1-й У встретились; Берлин окружё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Demi"/>
              </a:rPr>
              <a:t>25.04 – бои в гор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CaptureOfBerlinMedal"/>
          <p:cNvPicPr/>
          <p:nvPr/>
        </p:nvPicPr>
        <p:blipFill>
          <a:blip r:embed="rId1"/>
          <a:stretch/>
        </p:blipFill>
        <p:spPr>
          <a:xfrm>
            <a:off x="7524720" y="189000"/>
            <a:ext cx="1295280" cy="2436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171"/>
          <p:cNvPicPr/>
          <p:nvPr/>
        </p:nvPicPr>
        <p:blipFill>
          <a:blip r:embed="rId2"/>
          <a:stretch/>
        </p:blipFill>
        <p:spPr>
          <a:xfrm>
            <a:off x="0" y="1484280"/>
            <a:ext cx="5040360" cy="49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Franklin Gothic Demi"/>
              </a:rPr>
              <a:t>Берлинская операция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Franklin Gothic Demi"/>
              </a:rPr>
              <a:t>16 апреля  - 2 мая 194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42920" y="3573000"/>
            <a:ext cx="435636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Franklin Gothic Demi"/>
              </a:rPr>
              <a:t>25.04 – встреча на Эльб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Dem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Franklin Gothic Demi"/>
              </a:rPr>
              <a:t>союзников (СССР и СШ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Demi"/>
              </a:rPr>
              <a:t>30.04 – смерть Гитл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Demi"/>
              </a:rPr>
              <a:t>1.05- флаг на рейхстагом  (Егоров, Кантария, Берес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Demi"/>
              </a:rPr>
              <a:t>2.05 – Берлин п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CaptureOfBerlinMedal"/>
          <p:cNvPicPr/>
          <p:nvPr/>
        </p:nvPicPr>
        <p:blipFill>
          <a:blip r:embed="rId1"/>
          <a:stretch/>
        </p:blipFill>
        <p:spPr>
          <a:xfrm>
            <a:off x="7524720" y="189000"/>
            <a:ext cx="1295280" cy="24368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1945_egorov"/>
          <p:cNvPicPr/>
          <p:nvPr/>
        </p:nvPicPr>
        <p:blipFill>
          <a:blip r:embed="rId2"/>
          <a:stretch/>
        </p:blipFill>
        <p:spPr>
          <a:xfrm>
            <a:off x="179280" y="3789360"/>
            <a:ext cx="4249800" cy="2849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1241810881_b-13_1"/>
          <p:cNvPicPr/>
          <p:nvPr/>
        </p:nvPicPr>
        <p:blipFill>
          <a:blip r:embed="rId3"/>
          <a:stretch/>
        </p:blipFill>
        <p:spPr>
          <a:xfrm>
            <a:off x="108000" y="115920"/>
            <a:ext cx="1879560" cy="2303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250px-Soviet_Znamya_Pobedy_svg"/>
          <p:cNvPicPr/>
          <p:nvPr/>
        </p:nvPicPr>
        <p:blipFill>
          <a:blip r:embed="rId4"/>
          <a:stretch/>
        </p:blipFill>
        <p:spPr>
          <a:xfrm>
            <a:off x="2843280" y="1413000"/>
            <a:ext cx="3389400" cy="1695240"/>
          </a:xfrm>
          <a:prstGeom prst="rect">
            <a:avLst/>
          </a:prstGeom>
          <a:ln w="0">
            <a:noFill/>
          </a:ln>
        </p:spPr>
      </p:pic>
      <p:sp>
        <p:nvSpPr>
          <p:cNvPr id="80" name="Text Box 9"/>
          <p:cNvSpPr/>
          <p:nvPr/>
        </p:nvSpPr>
        <p:spPr>
          <a:xfrm>
            <a:off x="3492360" y="314172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намя Побед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history_channel-1165621669_i_9568_full"/>
          <p:cNvPicPr/>
          <p:nvPr/>
        </p:nvPicPr>
        <p:blipFill>
          <a:blip r:embed="rId1"/>
          <a:stretch/>
        </p:blipFill>
        <p:spPr>
          <a:xfrm>
            <a:off x="684360" y="260280"/>
            <a:ext cx="7848360" cy="62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2771640" y="3357360"/>
            <a:ext cx="360072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Franklin Gothic Demi"/>
              </a:rPr>
              <a:t>г. Карлсхорст </a:t>
            </a:r>
            <a:r>
              <a:rPr b="1" lang="ru-RU" sz="2400" spc="-1" strike="noStrike">
                <a:solidFill>
                  <a:srgbClr val="000000"/>
                </a:solidFill>
                <a:latin typeface="Franklin Gothic Demi"/>
              </a:rPr>
              <a:t>школьная столо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Demi"/>
              </a:rPr>
              <a:t>Маршал Жу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Demi"/>
              </a:rPr>
              <a:t>Фельдмаршал Кей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Franklin Gothic Demi"/>
              </a:rPr>
              <a:t>Безоговорочная капитуляция Германии 8 /9 мая 1945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iCAH6YB2I"/>
          <p:cNvPicPr/>
          <p:nvPr/>
        </p:nvPicPr>
        <p:blipFill>
          <a:blip r:embed="rId1"/>
          <a:stretch/>
        </p:blipFill>
        <p:spPr>
          <a:xfrm>
            <a:off x="3276720" y="1700280"/>
            <a:ext cx="2017440" cy="1404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iCAKJ0WZJ"/>
          <p:cNvPicPr/>
          <p:nvPr/>
        </p:nvPicPr>
        <p:blipFill>
          <a:blip r:embed="rId2"/>
          <a:stretch/>
        </p:blipFill>
        <p:spPr>
          <a:xfrm>
            <a:off x="468360" y="1773360"/>
            <a:ext cx="1700280" cy="2449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200px-Bundesarchiv_Bild_183-H30220,_Wilhelm_Keitel"/>
          <p:cNvPicPr/>
          <p:nvPr/>
        </p:nvPicPr>
        <p:blipFill>
          <a:blip r:embed="rId3"/>
          <a:stretch/>
        </p:blipFill>
        <p:spPr>
          <a:xfrm>
            <a:off x="6732720" y="1700280"/>
            <a:ext cx="1582560" cy="2319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photo01"/>
          <p:cNvPicPr/>
          <p:nvPr/>
        </p:nvPicPr>
        <p:blipFill>
          <a:blip r:embed="rId4"/>
          <a:stretch/>
        </p:blipFill>
        <p:spPr>
          <a:xfrm>
            <a:off x="250920" y="1436760"/>
            <a:ext cx="864072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21:00:44Z</dcterms:created>
  <dc:creator>User</dc:creator>
  <dc:description/>
  <dc:language>en-US</dc:language>
  <cp:lastModifiedBy>1</cp:lastModifiedBy>
  <dcterms:modified xsi:type="dcterms:W3CDTF">2015-10-06T21:21:49Z</dcterms:modified>
  <cp:revision>16</cp:revision>
  <dc:subject/>
  <dc:title>Слайд 1</dc:title>
</cp:coreProperties>
</file>