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C78E-6ACB-4343-B91B-433D85555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D1C1-41F1-4BDA-BE5C-42F9E0C8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6DF6-E766-4D13-99CD-59CAB3332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5E75-1213-4F01-BE60-4E97358E3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78AA-CB5E-4D87-BF20-BC3A7A85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77A3-F769-4535-9DDA-E0EB232F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C842-3A64-431F-8CC5-B2F1C39D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1205-62F9-4A94-BCF3-F524C1FF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64FA-4354-4A10-9195-8250DD17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2C26-13C9-4419-A0E4-3E9EA013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677F-DE21-4FC0-BD99-2B16EDF1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EA5B-530C-45A1-A7C7-422015BA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49B5-6A78-4059-8DCA-BA434A704C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2060"/>
                </a:solidFill>
                <a:latin typeface="Calibri"/>
                <a:ea typeface="AngsanaUPC"/>
              </a:rPr>
              <a:t>Экологическая безопасность детских игрушек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000320" y="4143240"/>
            <a:ext cx="4686120" cy="19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боту выполнила:                           ученица  11 класса   «МОУ Беловская СОШ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одгалая Полина Александро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уководитель:  учитель  биолог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Чернышева Ольга Алексее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85824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57200" y="428760"/>
            <a:ext cx="86868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зультаты анкетирования показали, что не все родители серьезно относятся к выбору игрушек для своих детей, потому что не представляют всей опасности, которую могут нести в себе детские игрушки. Больше половины (26 человек) опрошенных родителей не обращают внимания на наличие сертификата качества покупаемой игрушки. Третья часть родителей не обращают внимания на наличие упаковки и не читают надпись на ярлыках и этикетках игрушек. В случае покупки игрушки не должного качества большинство родителей (31 человек) не обращаются в органы Роспотребнадзор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939320" cy="81583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91440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Исследования безопасности детских игрушек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14200" y="1213920"/>
            <a:ext cx="94298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ходе работы мы решили провести исследова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условиях школы качества образцов детских игрушек по различным параметра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Users\Ольга\Desktop\DSC00777.JPG"/>
          <p:cNvPicPr/>
          <p:nvPr/>
        </p:nvPicPr>
        <p:blipFill>
          <a:blip r:embed="rId2"/>
          <a:stretch/>
        </p:blipFill>
        <p:spPr>
          <a:xfrm>
            <a:off x="1714680" y="3143160"/>
            <a:ext cx="69292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85824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428760"/>
            <a:ext cx="971568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ная, что согласно норме масса погремушек не должна превышать 100 г, мы произвели взвешивание. Из всех 17 протестированных погремушек отклонения в весе от нормы не выявлено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Users\Ольга\Desktop\DSC00789.JPG"/>
          <p:cNvPicPr/>
          <p:nvPr/>
        </p:nvPicPr>
        <p:blipFill>
          <a:blip r:embed="rId2"/>
          <a:stretch/>
        </p:blipFill>
        <p:spPr>
          <a:xfrm>
            <a:off x="214200" y="1928880"/>
            <a:ext cx="4286520" cy="2411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Users\Ольга\Desktop\DSC00790.JPG"/>
          <p:cNvPicPr/>
          <p:nvPr/>
        </p:nvPicPr>
        <p:blipFill>
          <a:blip r:embed="rId3"/>
          <a:stretch/>
        </p:blipFill>
        <p:spPr>
          <a:xfrm>
            <a:off x="5072040" y="3643200"/>
            <a:ext cx="450072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85824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921528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 следующем этапе мы решили проверить игрушки на прочность. Каждую     погремушку 5 раз подряд бросали  на  бетонный пол  с высоты 850 мм. Из 17 протестированных погремушек 2 испытание на прочность не выдержали и разбились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Третьим этапом исследования явилось исследование химического состава тестируемых игруше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85824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56840" y="428760"/>
            <a:ext cx="8472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Вывод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ходе проведенного тестирования, можно сделать вывод, о том, что все исследованные игрушки соответствуют технологическим параметрам, за исключением прочности.  Но учитывая, что мы не имеем возможности  исследовать все игрушки, поступающие в продажу, родители должны ответственно относиться к выбору игрушек, для своих дет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85824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-58680" y="0"/>
            <a:ext cx="9937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85824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213840" y="0"/>
            <a:ext cx="9215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ажно обращать внимание на перечисленные выше признак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приятный запах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личие заусенцев или острых необработанных краев, а также иных дефектов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ставание краски при касании потными руками и т.п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ягкую игрушку проверяют на прочность швов и фурнитуры (глаза, нос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оме того, необходимо проследить, чтобы наклейка на упаковке соответствовала нормативным требования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3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85824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213840" y="428760"/>
            <a:ext cx="92156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Результатом нашей работы явилась разработка советов родителям. Не стоит забывать об известной всем истине: «Предупрежден- значит вооружен»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85824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0" y="0"/>
            <a:ext cx="94298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веты родителя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язательно требуйте у продавца сертификат качества. Ответ “все документы у хозяина” должен как минимум насторожить вас, а как максимум заставить покинуть торговую точк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верьте игрушку, что называется, на себ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) если она в упаковке, откройте ее и засуньте в нее нос, глубоко вдохните. Резкий запах - признак того, что при производстве игрушки использовались ядовитые материалы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) не покупайте игрушки без упаковки. Скорее всего, хитрые продавцы просто решили проветрить товар, чтобы поскорее избавиться от неприятных запахов химического свойств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) смочите палец слюной и потрите окрашенные части игрушки: если при соприкосновении со слюной красочное нанесение “поползло”, значит, вы держите в руках жалкое подобие качественной игрушк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) потрясите товар, нажмите на все устройства, какие имеются в игрушке. Если ваши уши не вынесут звука, то, скорее всего, и ребенку он придется не по душ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Не гонитесь за дешевизной. Копеечная цена - признак того, что игрушка сделана подпольно и без соблюдения санитарных нор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Обходите стороной рынки и сомнительные места торговли. Покупайте игрушки только в специализированных магазинах, которые следят за своей репутацие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 Если вы приобрели игрушку, но только дома поняли, что она не внушает вам доверия и может навредить (или уже успела нанести вред) вашему ребенку, обращайтесь в территориальные органы Роспотребнадзора, адреса и телефоны которых есть практически в каждой торговой точк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85824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428400"/>
            <a:ext cx="925848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Библиографический список.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Ресурсы удаленного доступ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Бартошевич -Жагель Я. Яркие краски скрытой угрозы.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Журнал Игропром, №5октябрь2006г.-Режимдоступа: http://www.igroprom.ru/journal/list.php?SECTION_ID=176&amp;ELEMENT_ID=546113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2. Развивающие игры и игрушки.- Режим доступа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      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http://www.kubiki.ru/index.php?ukey=news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3. Российская газета.- Режим доступа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      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http://www.rg.ru/2009/04/21/tehreglament-dok.html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4. Игрушка с ядовитой начинкой. - Режим доступа: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http://lib.rus.ec/b/105910/rea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5.Семенова Е. Вещи, которые нас убивают. – Режим доступа: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http://www.mirnov.ru/arhiv/mn776/mn/08-1.php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429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облема: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етские игрушки – вред или польз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ипотеза исследования: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если  родители не будут обращать должного внимания на качество  и безопасность детских игрушек, то может возникнуть опасность для здоровья ребен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8582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0" y="213840"/>
            <a:ext cx="985824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ль работы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сследование экологической безопасности детских игрушек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дачи исследова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ыявить потенциальные риски для ребенка, создаваемые игрушкам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ссмотреть требования безопасности, предъявляемые к качеству детских игрушек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делать общий анализ на наличие (или отсутствие) потенциальной опасности рассмотренных образцов игрушек в условиях школы и при содействии Управления федеральной службы по надзору в сфере защиты прав потребителей и благополучия человека в Белгородской област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ивлечь внимание общественности к данной проблем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8582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14200" y="0"/>
            <a:ext cx="94298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 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ГОСТ 25779-90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– значок Госстандарта (РСТ), а под ним 2 цифры и 2 буквы, свидетельствующие о том, что игрушка была протестирована в специальных лабораториях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– 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трана, организация-изготовитель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– 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зрастные ограничения (например, от 3 лет)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– 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едупредительные надписи и инструкция по уходу за игрушкой.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85824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214200" y="103320"/>
            <a:ext cx="9215640" cy="66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85824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0144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85824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213840" y="428400"/>
            <a:ext cx="957276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Мы ознакомились с техническим регламентом о безопасности продукции, предназначенной для детей и подростков. Рассмотрели требования ГОСТа 25779-90 и Сан Пина  2.4.7.007-93, которые предъявляют определенные требования к качеству детских игрушек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85824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213840" y="0"/>
            <a:ext cx="9215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Анкет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купаете ли вы игрушки по первому требованию ребенка? (да, нет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нтересуетесь ли вы у продавца информацией о наличии сертификата качества и безопасности на приобретаемую игрушку? (да, нет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итаете ли вы информацию на ярлыке игрушки при ее покупке? (да, нет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ращаете ли вы внимание на наличие упаковки при покупке игрушки? (да, нет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читываете ли вы возрастные ограничения при покупке игрушки? (да, нет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ля вас имеет значение торговая марка игрушки? (да, нет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Является ли цена игрушки основным фактором при определении ее выбора? (да, нет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асто ли покупаете игрушки на рынках? (да, нет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 предпочитаете покупать игрушки в специализированных магазинах? (да, нет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Если вы приобрели игрушку, но только дома поняли, что она не внушает вам доверия и может навредить (или уже успела нанести вред) вашему ребенку, обращайтесь ли вы территориальные органы Роспотребнадзора? (да, нет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85824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213840" y="0"/>
            <a:ext cx="9215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Object 2"/>
          <p:cNvGraphicFramePr/>
          <p:nvPr/>
        </p:nvGraphicFramePr>
        <p:xfrm>
          <a:off x="0" y="214200"/>
          <a:ext cx="9786960" cy="585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14200"/>
                    <a:ext cx="9786960" cy="58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2T13:20:20Z</dcterms:created>
  <dc:creator>Ольга</dc:creator>
  <dc:description/>
  <dc:language>en-US</dc:language>
  <cp:lastModifiedBy>Пользователь</cp:lastModifiedBy>
  <dcterms:modified xsi:type="dcterms:W3CDTF">2013-12-19T10:08:03Z</dcterms:modified>
  <cp:revision>51</cp:revision>
  <dc:subject/>
  <dc:title>Экологическая безопасность детских игрушек</dc:title>
</cp:coreProperties>
</file>