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8999538" cy="10799763"/>
  <p:notesSz cx="9947275" cy="6811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946800" cy="681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947160" cy="68119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7F8F9-568D-436D-8ADD-AE48105E7E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0896066D-F537-499E-800B-B958E3B8F258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FEA15C3E-BE5A-4A2B-A929-90DF7AACF9B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910725AE-5720-4B3C-A867-6AA0DF5E435C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6BEDEEBC-7D87-4EA2-8519-09AF0F96E8D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E48D860F-2510-4583-9DDF-ED034E7E9576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908520" y="517680"/>
            <a:ext cx="2127240" cy="2554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93600" y="3234960"/>
            <a:ext cx="7956720" cy="30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95A30D24-3702-4497-A925-816F2392F374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908520" y="517680"/>
            <a:ext cx="2127240" cy="2554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93600" y="3234960"/>
            <a:ext cx="7956720" cy="30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3EA6E833-413F-4463-A7E0-72872E36E752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908520" y="517680"/>
            <a:ext cx="2127240" cy="2554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93600" y="3234960"/>
            <a:ext cx="7956720" cy="30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64F7A81F-0766-4A94-8624-5FCAC99F244D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B49BA962-4932-4F3D-9291-3E3321D0D53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24915386-0BCE-4E9C-A5D1-15B7713B3C0D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0554FB6C-FC2B-474F-9857-4620A6C5975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91AA1E62-8A08-4843-A99C-0B5D34369E1C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4DB0CA56-8D78-4124-A693-1FB3C6895FE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F9F51711-A024-4974-B09C-222F71796225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5E32AC9C-845B-4868-865A-DC3D3767134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80F860C7-6569-45C0-9A81-B82F6CCC6C1E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10814040" y="-11796840"/>
            <a:ext cx="9831240" cy="11796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DB92B4B7-A552-49C0-A097-06E8D55BE81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DC5154C6-3C84-476B-975D-5C297B50897E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B477036C-0998-452B-8511-69953A9A5B1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499D1728-865C-4042-8140-C8D60AAF86AC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D98B6B44-35C0-4C74-B7C8-1AC8E7ECBBF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24F45625-21DE-404D-9B9F-1A279647F5A6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2BEE9490-C2EF-47E7-BE85-31ABECAC5B6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5E074D1F-9E3A-47F2-AA5E-27640180845A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2FC7A73F-F3E7-4A56-BCE1-270F7189875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20C03444-3380-438D-9587-F0FBD5C9E116}" type="slidenum">
              <a:rPr b="0" lang="ru-RU" sz="14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-10814040" y="-11798280"/>
            <a:ext cx="9831240" cy="11799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5753C8CB-BA26-44BE-8D3A-15B6526AFE4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7784-4EEB-4627-841E-5161A75E5E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80964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9280" y="6239880"/>
            <a:ext cx="80964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BEE7-8B01-4DE9-8967-7DB75632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9280" y="623988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8280" y="623988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D13B-C6E4-4C16-90B2-9F679DAC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6720" y="251892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24160" y="251892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9280" y="623988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6720" y="623988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24160" y="623988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AB5D-7F6E-4183-87E9-097FD03B5B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793F8-FD3F-4C63-9106-293B52EC88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49280" y="2518920"/>
            <a:ext cx="8096400" cy="71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9235E-E3A0-4E19-8357-80D79796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80964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FE1AD-817C-4021-976B-C8636EC9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D0FF3-6DC4-440C-957B-3436047A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72451-1C67-4C4A-A8DF-00C10FC9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49280" y="431640"/>
            <a:ext cx="8096400" cy="83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679F0-E79D-4E48-A9F7-5382C0AF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49280" y="623988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347D7-790E-4627-82D1-DCE5B664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9280" y="2518920"/>
            <a:ext cx="8096400" cy="71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0FD9-A263-4A8C-906C-9271FAA1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98280" y="623988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B56C1-586D-4891-A3E6-062512EE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9280" y="6239880"/>
            <a:ext cx="80964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BAD59-9765-4C37-9C25-DAAF560E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80964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9280" y="6239880"/>
            <a:ext cx="80964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3D7D3-F78E-49C1-AC08-DAF9BDBE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9280" y="623988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98280" y="623988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98BA7-92E1-4694-8B31-5842F4B2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6720" y="251892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24160" y="251892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9280" y="623988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6720" y="623988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24160" y="6239880"/>
            <a:ext cx="260676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A2F20-23D3-458B-9C12-DCD98593CA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80964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6B104-7161-4AC8-B556-98F48F02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E174-6007-4FE1-B49F-099BC33D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355B-60FA-44DC-8C58-BB643852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9280" y="431640"/>
            <a:ext cx="8096400" cy="83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A757-8206-4E48-BF2F-F47035A5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9280" y="623988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2C09-FC51-45D7-977F-5A47EC1A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8280" y="623988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49A2-7348-4EA1-86B9-B798E598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9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8280" y="2518920"/>
            <a:ext cx="39510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9280" y="6239880"/>
            <a:ext cx="8096400" cy="33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3967-8FF2-45D0-969E-CBD122A3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720" y="81000"/>
            <a:ext cx="8094960" cy="24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3600" cy="117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6139F0FC-1163-4623-8F29-7BF7B666F2DB}" type="datetime">
              <a:rPr b="0" lang="ru-RU" sz="1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3600" cy="117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2F935CB3-C894-4189-9092-22079196D68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48920" y="2527200"/>
            <a:ext cx="7916760" cy="62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9280" y="431640"/>
            <a:ext cx="8096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49280" y="2518920"/>
            <a:ext cx="8096400" cy="71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-11798280" y="-11798280"/>
            <a:ext cx="11796840" cy="117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B875061E-E2BD-437E-A13D-B1E784D64F8E}" type="datetime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-11798280" y="-11798280"/>
            <a:ext cx="11796840" cy="117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1BFEFA5D-EBD6-4B33-9355-42E7BE342B62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pb.hh.ru/" TargetMode="External"/><Relationship Id="rId2" Type="http://schemas.openxmlformats.org/officeDocument/2006/relationships/hyperlink" Target="http://spb.job.ru/" TargetMode="External"/><Relationship Id="rId3" Type="http://schemas.openxmlformats.org/officeDocument/2006/relationships/hyperlink" Target="http://rabota.yandex.ru/" TargetMode="External"/><Relationship Id="rId4" Type="http://schemas.openxmlformats.org/officeDocument/2006/relationships/hyperlink" Target="http://spb.rabota.ru/" TargetMode="External"/><Relationship Id="rId5" Type="http://schemas.openxmlformats.org/officeDocument/2006/relationships/hyperlink" Target="http://spb.vacansia.ru/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737320" y="6530760"/>
            <a:ext cx="323640" cy="543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37320" y="6530760"/>
            <a:ext cx="323640" cy="543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16000" y="9575640"/>
            <a:ext cx="7421400" cy="6354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анкт-Петербур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0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28720" y="3645000"/>
            <a:ext cx="7559640" cy="9399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УЧЕБНЫЙ ЭЛ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084320" y="793080"/>
            <a:ext cx="7415280" cy="2395440"/>
            <a:chOff x="1084320" y="793080"/>
            <a:chExt cx="7415280" cy="23954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7688160" y="1092240"/>
              <a:ext cx="7668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1084320" y="1880280"/>
              <a:ext cx="7280280" cy="57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Использование дистанционных образовательных технологий </a:t>
              </a:r>
              <a:br>
                <a:rPr sz="1600"/>
              </a:b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ри обучении различных категорий учащих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1220760" y="2412360"/>
              <a:ext cx="2978280" cy="57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Категория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Учащиеся инвалиды по слух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5187960" y="2368080"/>
              <a:ext cx="3311640" cy="82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Профессия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Мастер по обработке цифров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2130480" y="793080"/>
              <a:ext cx="5457600" cy="92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Пб ГБПОУ Невский колледж им. А.Г. Неболсин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600" spc="-1" strike="noStrike">
                  <a:solidFill>
                    <a:srgbClr val="365f91"/>
                  </a:solidFill>
                  <a:latin typeface="Arial"/>
                </a:rPr>
                <a:t>Экспериментальная площад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13000" y="1780200"/>
              <a:ext cx="4913280" cy="0"/>
            </a:xfrm>
            <a:prstGeom prst="line">
              <a:avLst/>
            </a:prstGeom>
            <a:ln w="5724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401840" y="1239840"/>
              <a:ext cx="460440" cy="417600"/>
              <a:chOff x="1401840" y="1239840"/>
              <a:chExt cx="460440" cy="417600"/>
            </a:xfrm>
          </p:grpSpPr>
          <p:pic>
            <p:nvPicPr>
              <p:cNvPr id="101" name="" descr=""/>
              <p:cNvPicPr/>
              <p:nvPr/>
            </p:nvPicPr>
            <p:blipFill>
              <a:blip r:embed="rId2"/>
              <a:srcRect l="0" t="0" r="9118" b="8842"/>
              <a:stretch/>
            </p:blipFill>
            <p:spPr>
              <a:xfrm>
                <a:off x="1401840" y="1239840"/>
                <a:ext cx="460440" cy="41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" name=""/>
          <p:cNvSpPr txBox="1"/>
          <p:nvPr/>
        </p:nvSpPr>
        <p:spPr>
          <a:xfrm>
            <a:off x="1474920" y="4680000"/>
            <a:ext cx="65516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УЭ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Основы оплаты труда в профессии « Мастер по обработке цифровой информац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66920" y="6048360"/>
            <a:ext cx="4692600" cy="330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55640" y="287280"/>
            <a:ext cx="7461360" cy="543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арифн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1640" y="1079640"/>
            <a:ext cx="7475400" cy="7268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арифная система-это правила с помощью которых устанавливают оплату труда рабоч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42920" y="2303640"/>
            <a:ext cx="7548480" cy="31662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авило 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се работы тарифицируются по определенному разряду с помощью ЕТ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авило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траслевое соглашение между работниками и работодателями этой отрасли устанавливает оплату 1 разряда для данной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плата одного часа - тарифная ставка устанавливается умножением оплаты 1 разряда на тарифный коэффициен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71640" y="6264360"/>
            <a:ext cx="7404120" cy="1641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авило 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Чтобы получить оплату труда в день тарифную ставку умножают на 8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Чтобы получить зарплату за месяц оплату труда в день умножают на среднее число рабочих дней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16000" y="8064360"/>
            <a:ext cx="7548480" cy="1580040"/>
          </a:xfrm>
          <a:prstGeom prst="rect">
            <a:avLst/>
          </a:prstGeom>
          <a:solidFill>
            <a:srgbClr val="fafac8"/>
          </a:solidFill>
          <a:ln w="19080">
            <a:solidFill>
              <a:srgbClr val="bfbfbf"/>
            </a:solidFill>
            <a:miter/>
          </a:ln>
        </p:spPr>
        <p:txBody>
          <a:bodyPr lIns="117000" rIns="117000" tIns="180000" bIns="18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имер : тарифную ставку 180 руб. умножаем на 8 и на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18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* 8*20=28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плата труда в нашем примере составит 28800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1640" y="5472000"/>
            <a:ext cx="7343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0840" bIns="450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имер : оплата 1 разряда 150 руб.коэффициент 3 разряда 1,.2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1 час будет стоить 18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68360" y="7199280"/>
            <a:ext cx="18108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084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11280" y="358920"/>
            <a:ext cx="8101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932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Виды заработной пл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98560" y="2158920"/>
            <a:ext cx="8101080" cy="71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временная оплата труд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зарплату начисляют умножая тарифную ставку на фактически отработанное время.(применяется в профессии МЦ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дельная оплата труд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зарплату начисляют оплачивая каждую единицу продукции по сдельным расцен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рименяется в промышленности и считается устаревш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ккордная оплата труд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зарплата за выполнение всего задания в целом.(применяется при дистанционной рабо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431640"/>
            <a:ext cx="89996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4932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Надбавки и доплаты к заработной пла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2519280"/>
            <a:ext cx="7364520" cy="6040440"/>
          </a:xfrm>
          <a:prstGeom prst="rect">
            <a:avLst/>
          </a:prstGeom>
          <a:noFill/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07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Организация может доплачивать работнику за совмещение профессий(например мастер по обработке цифровой информации и секретарь); за работу в выходные и праздничные дни; за работу в вечер, за сверхурочные работы( в профессии МЦО их не может бы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07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Для заинтересованности в труде платят стимулирующие выпл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07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надбавки за профессиональное мастерство; за работу меньшей, чем положено численностью; за высокую квалификацию; пре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07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Размер доплат, надбавок, премий организация устанавливает самостоятельно, трудовой кодекс их не регулир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6200" y="-360"/>
            <a:ext cx="8101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4932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орядок начисления и выплаты зарпла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1871640"/>
            <a:ext cx="8172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076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Зарплата начисляется один раз в начале месяца за прошедший месяц. Ваш непосредственный начальник подает в бухгалтерию Табель учета  рабочего времени Т№12 или Т№13, где в соответствии с тарифной ставкой вам начисляют зарплату, вычитая из неё на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076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аботник получает на руки расчетный листок, где расписаны рабочие часы, начисление зарплаты и взимаемые на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076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 начале месяца выплачивается зарплата, в конце месяца аванс(40-50% от зарпла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076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Зарплата за время отпуска выплачивается не позднее, чем за день до начала отпу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076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2560" y="5832360"/>
            <a:ext cx="770436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26920" y="0"/>
            <a:ext cx="7344000" cy="218988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актическая рабо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«Расчет заработной пла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Рассчитайте зарплату в предложенных услов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4000" y="1295280"/>
          <a:ext cx="8353080" cy="9072720"/>
        </p:xfrm>
        <a:graphic>
          <a:graphicData uri="http://schemas.openxmlformats.org/drawingml/2006/table">
            <a:tbl>
              <a:tblPr/>
              <a:tblGrid>
                <a:gridCol w="717480"/>
                <a:gridCol w="3543840"/>
                <a:gridCol w="4091760"/>
              </a:tblGrid>
              <a:tr h="1017720">
                <a:tc>
                  <a:txBody>
                    <a:bodyPr tIns="176760" anchor="ctr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17676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Наименование 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17676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Алгоритм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выпол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3459240">
                <a:tc>
                  <a:txBody>
                    <a:bodyPr tIns="1674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tIns="14256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. На предприятии установлена повременная система оплаты труда. Сотруднику  И.И. Иванову установлена почасовая оплата. Ставка в час -93,75р. П. П. Петрову зарплата рассчитывается по дневной ставке – 750 руб. Полное количество смен в месяце – 22. Продолжительность рабочего дня – 8 часов. Найти заработную плату И.И. Иванова, П. П. Петро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арифную став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умножаем на 8 часов - продолжительность рабочего дня, затем умножаем на 22 - количество рабочих смен,  находим зарплату за месяц. В случае с Петровым дневная оплата труда уже посчита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  <a:tr h="2500200">
                <a:tc>
                  <a:txBody>
                    <a:bodyPr tIns="1674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tIns="16452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Рассчитайте зарплату Петрова и Иванова после выплаты налогов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Для расчета подоходного налог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умму зарплаты умножаем на 13 и делим на 10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% в фонд социального страхова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сумму зарплаты умножаем на 1 и делим на 100.  Полученные суммы вычитаем из заработной плат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</a:tr>
              <a:tr h="2095560">
                <a:tc>
                  <a:txBody>
                    <a:bodyPr tIns="1674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tIns="1666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Повышенный уровень слож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Рассчитайте зарплату Иванова и Петрова., если им выплатили 15% премии и Петров отработал одну смену в праздничный ден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Расчет зарплаты с доплатам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ходим 15% от зарплаты каждого найденные суммы прибавляем к зарплате. Петров за одну смену получил двойную оплату, прибавляем её к заработной пла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12720" y="619200"/>
            <a:ext cx="6721560" cy="543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онтрольны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19000" y="5562720"/>
            <a:ext cx="7461360" cy="437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Файл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Закрыть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Сохранить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En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474920" y="1512720"/>
          <a:ext cx="6858000" cy="7894440"/>
        </p:xfrm>
        <a:graphic>
          <a:graphicData uri="http://schemas.openxmlformats.org/drawingml/2006/table">
            <a:tbl>
              <a:tblPr/>
              <a:tblGrid>
                <a:gridCol w="744480"/>
                <a:gridCol w="3935160"/>
                <a:gridCol w="2178360"/>
              </a:tblGrid>
              <a:tr h="690480"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п\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73656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то определяет размер зарплаты работника вашей специальност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47240" bIns="568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  <a:tr h="73656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Что называется тарифной став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47240" bIns="568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</a:tr>
              <a:tr h="97740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акие налоги вы будете платить в качестве работника организац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47240" bIns="568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  <a:tr h="97740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акой документ выдается работнику перед выдачей заработной плат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47240" bIns="568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</a:tr>
              <a:tr h="97740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 основании какого документа производится тарификация рабо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47240" bIns="568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  <a:tr h="121824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то определяет размер премии, выплачиваемой работнику? Может ли работник  требовать увеличения размера прем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47240" bIns="568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</a:tr>
              <a:tr h="169992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опрос  повышенной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Почему работник не заинтересован в выплате «серой» (не официальной, скрытой от налогов) заработной плат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47240" bIns="568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71480" y="619200"/>
            <a:ext cx="7462800" cy="543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19000" y="5562720"/>
            <a:ext cx="7461360" cy="437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Файл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Закрыть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Сохранить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En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26920" y="1366920"/>
          <a:ext cx="7251840" cy="8029440"/>
        </p:xfrm>
        <a:graphic>
          <a:graphicData uri="http://schemas.openxmlformats.org/drawingml/2006/table">
            <a:tbl>
              <a:tblPr/>
              <a:tblGrid>
                <a:gridCol w="752760"/>
                <a:gridCol w="3190680"/>
                <a:gridCol w="3308400"/>
              </a:tblGrid>
              <a:tr h="836640"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п\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198432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то определяет размер зарплаты работника вашей специальност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олько руководство организации, где трудится работни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  <a:tr h="322416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Что называется тарифной став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 русском языке под понятием тарифная ставка понимается оплата труда за час рабочего времени, соответствующая определенному разряд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</a:tr>
              <a:tr h="198432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акие налоги вы будете платить в качестве работника организац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Подоходный налог, который составляет 13% от начисленной зарплаты и налог в фонд социального страхования 1% от начисленной зарпла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55640" y="287280"/>
            <a:ext cx="7462800" cy="543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верь себя (продол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19000" y="5562720"/>
            <a:ext cx="7461360" cy="437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Файл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Закрыть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Сохранить 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Microsoft YaHei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 En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71640" y="1150920"/>
          <a:ext cx="7291440" cy="9200880"/>
        </p:xfrm>
        <a:graphic>
          <a:graphicData uri="http://schemas.openxmlformats.org/drawingml/2006/table">
            <a:tbl>
              <a:tblPr/>
              <a:tblGrid>
                <a:gridCol w="757080"/>
                <a:gridCol w="3438720"/>
                <a:gridCol w="3095640"/>
              </a:tblGrid>
              <a:tr h="747720"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п\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9880" rIns="119880" tIns="84600" bIns="5688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icrosoft YaHei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135144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акой документ выдается работнику перед выдачей заработной плат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Расчетный лист, в котором отражены все выплаты и налоги за месяц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  <a:tr h="201168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 основании какого документа производится тарификация рабо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ЕТКС- Единый Тарифно- квалификационный справочник работ и професси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f3"/>
                    </a:solidFill>
                  </a:tcPr>
                </a:tc>
              </a:tr>
              <a:tr h="227988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то определяет размер премии, выплачиваемой работнику? Может ли работник  требовать увеличения размера прем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Премия не является обязательной выплатой, и её размер зависит от оценки вашего труда работодателем, поэтому претензии по размеру премии предъявлять не сто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  <a:tr h="2810160">
                <a:tc>
                  <a:txBody>
                    <a:bodyPr lIns="119880" rIns="119880" tIns="197640" bIns="5688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опрос  повышенной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Почему работник не заинтересован в выплате «серой» (не официальной, скрытой от налогов) заработной плат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9880" rIns="119880" tIns="197640" bIns="5688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 этом случае работник экономит деньги на выплате налогов, но не получает отпускных выплат, оплату  временной нетрудоспособности( болезни), не поступают средства в счет будущей пенс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9880" marR="119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097840" cy="24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Задание для самостоятельной рабо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087640"/>
            <a:ext cx="7920000" cy="4248000"/>
          </a:xfrm>
          <a:prstGeom prst="rect">
            <a:avLst/>
          </a:prstGeom>
          <a:noFill/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 помощью Интернет –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 сайты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pb.hh.r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pb.Job.r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abota.yandex.r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spb.rabota.r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spb.vacansia.r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установите средний уровень оплаты труда в профессии. От чего зависит разница в уровне оплаты труда в профессии мастер по обработке цифров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Результаты вашего поиска оформите в виде мини-презентации или информационного листа и представьте преподавателю в электронном или письменном ви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1690560" y="6551640"/>
            <a:ext cx="5904000" cy="39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71640" y="3708360"/>
            <a:ext cx="7462800" cy="11844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Завершение урока</a:t>
            </a: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пасибо за внимание 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16000" y="1150920"/>
            <a:ext cx="5291280" cy="144468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своив материал Вы  . 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95280" y="2519280"/>
            <a:ext cx="741204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81160" indent="-279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Будете знать из  чего складывается  ваша будущая зар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79720">
              <a:lnSpc>
                <a:spcPct val="100000"/>
              </a:lnSpc>
              <a:tabLst>
                <a:tab algn="l" pos="0"/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79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можете  рассчитать вашу зарплату в предложен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79720">
              <a:lnSpc>
                <a:spcPct val="100000"/>
              </a:lnSpc>
              <a:tabLst>
                <a:tab algn="l" pos="0"/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79720">
              <a:lnSpc>
                <a:spcPct val="100000"/>
              </a:lnSpc>
              <a:tabLst>
                <a:tab algn="l" pos="0"/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6920" y="4535640"/>
            <a:ext cx="4451400" cy="54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617840" y="917640"/>
            <a:ext cx="5976720" cy="543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одержание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620720" y="1908000"/>
            <a:ext cx="5977080" cy="65437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marL="654120" indent="-649440">
              <a:lnSpc>
                <a:spcPct val="100000"/>
              </a:lnSpc>
              <a:spcAft>
                <a:spcPts val="1463"/>
              </a:spcAft>
              <a:tabLst>
                <a:tab algn="l" pos="0"/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авовое регулирование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логи, взимаемые с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арификация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арифная система оплаты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дбавки и до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иды зар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актическое задание: расчет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онтроль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4120" indent="-649440">
              <a:lnSpc>
                <a:spcPct val="100000"/>
              </a:lnSpc>
              <a:spcAft>
                <a:spcPts val="1463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541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637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верь себ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332000" y="847800"/>
            <a:ext cx="7173720" cy="8778960"/>
          </a:xfrm>
          <a:prstGeom prst="rect">
            <a:avLst/>
          </a:prstGeom>
          <a:noFill/>
          <a:ln w="9360">
            <a:solidFill>
              <a:srgbClr val="ffc000"/>
            </a:solidFill>
            <a:round/>
          </a:ln>
        </p:spPr>
        <p:txBody>
          <a:bodyPr lIns="111600" rIns="111600" tIns="55800" bIns="55800" anchor="t">
            <a:noAutofit/>
          </a:bodyPr>
          <a:p>
            <a:pPr marL="285840" indent="-279360" algn="ctr">
              <a:lnSpc>
                <a:spcPct val="100000"/>
              </a:lnSpc>
              <a:spcAft>
                <a:spcPts val="737"/>
              </a:spcAft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авовое регулирование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79360">
              <a:lnSpc>
                <a:spcPct val="100000"/>
              </a:lnSpc>
              <a:spcAft>
                <a:spcPts val="737"/>
              </a:spcAft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79360">
              <a:lnSpc>
                <a:spcPct val="10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Microsoft YaHei"/>
              </a:rPr>
              <a:t>Заработная плат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это вознаграждение в денежной форме, которое организация обязана выплачивать работнику по заранее установленным форм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79360">
              <a:lnSpc>
                <a:spcPct val="10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рганизация сама устанавливает размер оплаты труда(за исключением государственных служащи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79360">
              <a:lnSpc>
                <a:spcPct val="10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Заработная плата не может быть ниж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Microsoft YaHei"/>
              </a:rPr>
              <a:t>МР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(минимальный размер оплаты тру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79360">
              <a:lnSpc>
                <a:spcPct val="10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МРОТ устанавливается парламентом ежегодно. В этом году он составляет 5965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79360">
              <a:lnSpc>
                <a:spcPct val="10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Государство устанавливает налоги, которые вычитают из заработной платы рабо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116000" y="287280"/>
            <a:ext cx="7461360" cy="9702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логи, выплачиваемые  с заработной п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8720" y="1476360"/>
            <a:ext cx="7548480" cy="28299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доходный нало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оставляет 13% от зарплаты,налог  платится всеми , кто получает зарплату. Не выплачивается подоходный налог с государственных выплат: пенсий, стипенд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сли сравнивать с другими странами, то сумма налогов с заработной платы в РФ одна из самых низ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 rot="60000">
            <a:off x="1090440" y="4754160"/>
            <a:ext cx="7548840" cy="4705560"/>
          </a:xfrm>
          <a:prstGeom prst="rect">
            <a:avLst/>
          </a:prstGeom>
          <a:solidFill>
            <a:srgbClr val="fafac8"/>
          </a:solidFill>
          <a:ln w="19080">
            <a:solidFill>
              <a:srgbClr val="bfbfbf"/>
            </a:solidFill>
            <a:miter/>
          </a:ln>
        </p:spPr>
        <p:txBody>
          <a:bodyPr lIns="117000" rIns="117000" tIns="180000" bIns="180000" anchor="t">
            <a:noAutofit/>
          </a:bodyPr>
          <a:p>
            <a:pPr marL="343080" indent="-339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и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сли зарплата работника составляет 25000руб. в месяц, то налоги составят: 3250 руб. подоходный налог и 250 руб. налог в фонд социального страхования. Следовательно работник получит на руки 21750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.  Кроме работника налог с заработной платы платит работодатель. Он называется Единый социальный налог и составляет почти 35%.Таким образом работник обходится владельцу предприятия очень дор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шем примере такой налог составит 7750 руб. Значит работник обойдется работодателю в 32750 рублей, сравните с 21750 рублей, которые получит работник на р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09560" y="4751280"/>
            <a:ext cx="7951680" cy="4277160"/>
          </a:xfrm>
          <a:prstGeom prst="rect">
            <a:avLst/>
          </a:prstGeom>
          <a:solidFill>
            <a:srgbClr val="fafac8"/>
          </a:solidFill>
          <a:ln w="19080">
            <a:solidFill>
              <a:srgbClr val="bfbfbf"/>
            </a:solidFill>
            <a:miter/>
          </a:ln>
        </p:spPr>
        <p:txBody>
          <a:bodyPr lIns="117000" rIns="117000" tIns="180000" bIns="180000" anchor="t">
            <a:noAutofit/>
          </a:bodyPr>
          <a:p>
            <a:pPr marL="343080" indent="-339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Зарплата работника составляет 25000руб. в меся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Чтобы посчитать сумму налога 25000*0,13(13%), налог составит: 3250 ру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сле уплаты подоходного налога зарплата состав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5000-3250=21750 ру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ледовательно работник получит на руки 21750ру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9280" y="431280"/>
            <a:ext cx="80992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логи, выплачиваемые  с заработной пл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6360" y="2303280"/>
            <a:ext cx="8099280" cy="7126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920880" y="4210200"/>
            <a:ext cx="7548480" cy="3972600"/>
          </a:xfrm>
          <a:prstGeom prst="rect">
            <a:avLst/>
          </a:prstGeom>
          <a:solidFill>
            <a:srgbClr val="fafac8"/>
          </a:solidFill>
          <a:ln w="19080">
            <a:solidFill>
              <a:srgbClr val="bfbfbf"/>
            </a:solidFill>
            <a:miter/>
          </a:ln>
        </p:spPr>
        <p:txBody>
          <a:bodyPr lIns="117000" rIns="117000" tIns="180000" bIns="180000" anchor="t">
            <a:noAutofit/>
          </a:bodyPr>
          <a:p>
            <a:pPr marL="343080" indent="-339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Зарплата работника составляет 25000руб. в меся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Чтобы посчитать сумму налога в фонд социального страхования 25000*0,1(1%), налог составит: 25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сле уплаты подоходного налога зарплата составила:21750 руб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сле уплаты налога в фонд социального страхования:21750-250=215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6360" y="2711520"/>
            <a:ext cx="886932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лог в фонд социального страх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 Составляет 1% от  заработной платы. Из этого фонда платят пособие во время болезни, пенс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9280" y="431280"/>
            <a:ext cx="80992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логи, выплачиваемые  с заработной пл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9280" y="2518920"/>
            <a:ext cx="8099280" cy="7126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900000" y="4753080"/>
            <a:ext cx="7548840" cy="2571120"/>
          </a:xfrm>
          <a:prstGeom prst="rect">
            <a:avLst/>
          </a:prstGeom>
          <a:solidFill>
            <a:srgbClr val="fafac8"/>
          </a:solidFill>
          <a:ln w="19080">
            <a:solidFill>
              <a:srgbClr val="bfbfbf"/>
            </a:solidFill>
            <a:miter/>
          </a:ln>
        </p:spPr>
        <p:txBody>
          <a:bodyPr lIns="117000" rIns="117000" tIns="180000" bIns="180000" anchor="t">
            <a:noAutofit/>
          </a:bodyPr>
          <a:p>
            <a:pPr marL="343080" indent="-339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и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шем примере такой налог составит 7750 руб. Значит работник обойдется работодателю в 32750 рублей, сравните с 21750 рублей, которые получит работник на р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25960"/>
            <a:ext cx="90885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роме работника налог с заработной платы платит работодатель. Он называется Единый социальный налог и составляет почти 35%.Таким образом работник обходится владельцу предприятия очень дор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287280"/>
            <a:ext cx="741672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рификация рабо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1280" y="4967280"/>
            <a:ext cx="7611840" cy="4392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50920" y="1800360"/>
            <a:ext cx="842472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се работы, которые выполняют работники отнесены к определенной профессии и определенному разряду. Чем выше разряд, тем выше оплата труда. ЕТКС- Единый Тарифно-квалификационный справочник работ и профессий- это документ, который содержит описание всех работ и профессий а также перечисляет все умения и навыки, которыми специалист должен облад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26920" y="287280"/>
            <a:ext cx="7677360" cy="5436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320" bIns="58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Тарификация раб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895320"/>
            <a:ext cx="7488000" cy="947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c000"/>
            </a:solidFill>
            <a:round/>
          </a:ln>
        </p:spPr>
        <p:txBody>
          <a:bodyPr lIns="117000" rIns="117000" tIns="58320" bIns="58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астер по обработке цифровой информации должен уме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дготавливать к работе и настраивать аппаратное обеспечение, периферийные устройства, операционную систему персонального компьютера и мультимедийное оборудовани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ыполнять ввод цифровой и аналоговой информации в персональный компьютер с различных нос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онвертировать файлы с цифровой информацией в различные форма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брабатывать аудио - и визуальный контент средствами звуковых, графических и видео-редакто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оздавать и воспроизводить видеоролики, презентации, слайд-шоу, медиафайлы и другую итоговую продукцию из исходных аудио -, визуальных и мультимедийных компонентов средствами персонального компьютера и мультимедийного оборуд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Формировать медиатеки для структурированного хранения и каталогизации цифровой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Управлять размещением цифровой информации на дисках персонального компьютера, а также дисковых хранилищах локальной и глобальной компьютерной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иражировать мультимедиа контент на различных съемных носителях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убликовать мультимедиа контент в сети Интер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