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8999538" cy="10799763"/>
  <p:notesSz cx="9947275" cy="6811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946800" cy="681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947160" cy="68119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827B6-EAF8-44A6-B626-A90631E133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1675ACE3-9DB3-480F-9F81-1BA53573E70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C394F401-0CA6-4F1C-9B0B-C418527B97F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EF5FAD0B-C0F3-4EAB-A16E-EB391BFED49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1897AA27-7590-482C-9366-36CCE20939C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9A332D7A-9A5C-4C60-968C-A44AD54249A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908520" y="517680"/>
            <a:ext cx="2127240" cy="2554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93600" y="3234960"/>
            <a:ext cx="795672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3C560FCB-6712-48E9-A45C-F0E3AFB652BB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908520" y="517680"/>
            <a:ext cx="2127240" cy="2554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93600" y="3234960"/>
            <a:ext cx="795672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233E7EF5-7B07-4593-A7D0-63B168C5D63B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908520" y="517680"/>
            <a:ext cx="2127240" cy="2554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3600" y="3234960"/>
            <a:ext cx="795672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12297430-6002-4A08-9C01-E085FA2C2F5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708E5A9E-D0B9-4BF1-8291-2230F39C8B3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36315AD7-011F-400A-B384-387E8026906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95655613-9449-4DDB-8556-6B01EA5202D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7216D215-81EA-4DA8-925A-A4A7C3B62C9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1BE1195A-15CB-4547-9C84-DE61B057DFD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048B3A59-C5E5-4BDC-9537-6EFA6A0218BD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28FA989B-0430-48B8-9B63-69EC000A608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0AAD14F7-83EE-454E-BE3E-C460203A144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10814040" y="-11796840"/>
            <a:ext cx="9831240" cy="11796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FA1D2E25-BEAB-4D3F-AEF7-6A9A66D3CE1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34010BEB-0428-4B6E-96FF-0282D9B969E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8362ABF9-E545-47E0-8271-846904D490D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E306A5C2-22EC-48DB-9BE0-4716D3CFECA7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5C860A4A-B6D3-4A11-B9E3-1C8559DF528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DEF46DEB-CB13-4984-9304-4C62DF43D3FD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C9443BA1-965C-4D1C-9717-97ED5014C89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9EE9262E-E5FD-4DE8-A606-210DF9B5127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9B1E10F8-40B9-4791-974C-B8C4D00488D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C2CF7AA3-7FC8-4389-A32E-05DD3CAFBA7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7D910CBF-6926-4C47-8983-5A018FAA63E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2A11-DC76-4A2F-865F-A9ADA855CB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9280" y="623988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F750-2C02-4434-9B2B-EBDB7BF6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8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C8D5-C650-4B97-BF1A-3EE81C5C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672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416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928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672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416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EF284-C491-4060-8436-9CEB3791BE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5165B-D04C-43CA-98D1-50BF4154F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49280" y="2518920"/>
            <a:ext cx="8096400" cy="71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FDF65-7AC4-4F99-84D2-C46B4A83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80964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80CB9-B153-4B64-A160-0FB18243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97A98-7B1C-4AE9-B1F9-FA338D85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8DCA7-D2AD-4E1C-BB76-BE7A088D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49280" y="431640"/>
            <a:ext cx="8096400" cy="83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15B71-0947-478F-9C4E-7E010ECA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92135-AA43-4605-B23C-C0FEDED2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9280" y="2518920"/>
            <a:ext cx="8096400" cy="71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C035-EA44-41D9-8C6E-8983159A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8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7A4BC-48AC-47F0-9E39-E1C32E52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345C1-F373-44A9-8D23-3A7BD5A1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9280" y="623988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6DD08-3FDF-40C6-91B5-E39369FE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8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9AC87-BE5F-4587-B654-0A672F43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2416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928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2416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A2435-F6C2-4E96-9169-9653D80413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80964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AE77-DCC9-4275-A579-BD389C90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76E6-EE09-4FF2-9CD0-F7FBBDDE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F499-0877-4500-80AF-28264983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9280" y="431640"/>
            <a:ext cx="8096400" cy="83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7216B-4E15-45DF-9F94-5AE5DDA4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05B8-FA08-4E68-970A-B5CF1E87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8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7505-7788-4A24-B9A9-E8232A3F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37F3-77F4-48F8-A0D5-EE6991C9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720" y="81000"/>
            <a:ext cx="8094960" cy="24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07958D52-F1C7-4B04-BD41-F67EE087A507}" type="datetime">
              <a:rPr b="0" lang="ru-RU" sz="18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BD844745-5ED9-4849-AD26-6B4401F9567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48920" y="2527200"/>
            <a:ext cx="7916760" cy="62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49280" y="2518920"/>
            <a:ext cx="80964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6840" cy="117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C80DEBC4-F158-4413-8B56-849EAF7BBF0B}" type="datetime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6840" cy="117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68AF89FA-93BA-4871-B4B7-540CBA0212E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pb.hh.ru/" TargetMode="External"/><Relationship Id="rId2" Type="http://schemas.openxmlformats.org/officeDocument/2006/relationships/hyperlink" Target="http://spb.job.ru/" TargetMode="External"/><Relationship Id="rId3" Type="http://schemas.openxmlformats.org/officeDocument/2006/relationships/hyperlink" Target="http://rabota.yandex.ru/" TargetMode="External"/><Relationship Id="rId4" Type="http://schemas.openxmlformats.org/officeDocument/2006/relationships/hyperlink" Target="http://spb.rabota.ru/" TargetMode="External"/><Relationship Id="rId5" Type="http://schemas.openxmlformats.org/officeDocument/2006/relationships/hyperlink" Target="http://spb.vacansia.ru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737320" y="6530760"/>
            <a:ext cx="32364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37320" y="6530760"/>
            <a:ext cx="32364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16000" y="9575640"/>
            <a:ext cx="7421400" cy="6354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анкт-Петербур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0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28720" y="3645000"/>
            <a:ext cx="7559640" cy="9399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ЧЕБНЫЙ Э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084320" y="793080"/>
            <a:ext cx="7415280" cy="2395440"/>
            <a:chOff x="1084320" y="793080"/>
            <a:chExt cx="7415280" cy="23954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7688160" y="1092240"/>
              <a:ext cx="7668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1084320" y="1880280"/>
              <a:ext cx="7280280" cy="57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ользование дистанционных образовательных технологий 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ри обучении различных категорий учащих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220760" y="2412360"/>
              <a:ext cx="2978280" cy="57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Категория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Учащиеся инвалиды по слух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187960" y="2368080"/>
              <a:ext cx="3311640" cy="82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Профессия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Мастер по обработке цифров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130480" y="793080"/>
              <a:ext cx="5457600" cy="92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Пб ГБПОУ Невский колледж им. А.Г. Неболс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600" spc="-1" strike="noStrike">
                  <a:solidFill>
                    <a:srgbClr val="365f91"/>
                  </a:solidFill>
                  <a:latin typeface="Arial"/>
                </a:rPr>
                <a:t>Экспериментальная площад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13000" y="1780200"/>
              <a:ext cx="4913280" cy="0"/>
            </a:xfrm>
            <a:prstGeom prst="line">
              <a:avLst/>
            </a:prstGeom>
            <a:ln w="5724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401840" y="1239840"/>
              <a:ext cx="460440" cy="417600"/>
              <a:chOff x="1401840" y="1239840"/>
              <a:chExt cx="460440" cy="417600"/>
            </a:xfrm>
          </p:grpSpPr>
          <p:pic>
            <p:nvPicPr>
              <p:cNvPr id="101" name="" descr=""/>
              <p:cNvPicPr/>
              <p:nvPr/>
            </p:nvPicPr>
            <p:blipFill>
              <a:blip r:embed="rId2"/>
              <a:srcRect l="0" t="0" r="9118" b="8842"/>
              <a:stretch/>
            </p:blipFill>
            <p:spPr>
              <a:xfrm>
                <a:off x="1401840" y="1239840"/>
                <a:ext cx="460440" cy="41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" name=""/>
          <p:cNvSpPr txBox="1"/>
          <p:nvPr/>
        </p:nvSpPr>
        <p:spPr>
          <a:xfrm>
            <a:off x="1474920" y="4680000"/>
            <a:ext cx="65516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Э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Основы оплаты труда в профессии « Мастер по обработке цифровой информац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66920" y="6048360"/>
            <a:ext cx="4692600" cy="330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55640" y="287280"/>
            <a:ext cx="746136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риф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1640" y="1079640"/>
            <a:ext cx="7475400" cy="7268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рифная система-это правила с помощью которых устанавливают оплату труда рабоч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2920" y="2303640"/>
            <a:ext cx="7548480" cy="31662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вило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се работы тарифицируются по определенному разряду с помощью ЕТ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вило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траслевое соглашение между работниками и работодателями этой отрасли устанавливает оплату 1 разряда для данно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плата одного часа - тарифная ставка устанавливается умножением оплаты 1 разряда на тарифный коэффицие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71640" y="6264360"/>
            <a:ext cx="7404120" cy="1641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вило 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бы получить оплату труда в день тарифную ставку умножают на 8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бы получить зарплату за месяц оплату труда в день умножают на среднее число рабочих дней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16000" y="8064360"/>
            <a:ext cx="7548480" cy="1580040"/>
          </a:xfrm>
          <a:prstGeom prst="rect">
            <a:avLst/>
          </a:prstGeom>
          <a:solidFill>
            <a:srgbClr val="fafac8"/>
          </a:solidFill>
          <a:ln w="19080">
            <a:solidFill>
              <a:srgbClr val="bfbfbf"/>
            </a:solidFill>
            <a:miter/>
          </a:ln>
        </p:spPr>
        <p:txBody>
          <a:bodyPr lIns="117000" rIns="117000" tIns="180000" bIns="18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 : тарифную ставку 180 руб. умножаем на 8 и на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8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* 8*20=28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плата труда в нашем примере составит 28800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1640" y="5472000"/>
            <a:ext cx="7343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0840" bIns="450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 : оплата 1 разряда 150 руб.коэффициент 3 разряда 1,.2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 час будет стоить 18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68360" y="7199280"/>
            <a:ext cx="18108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084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358920"/>
            <a:ext cx="8101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932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Виды заработной пл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98560" y="2158920"/>
            <a:ext cx="8101080" cy="71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временная оплата труд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арплату начисляют умножая тарифную ставку на фактически отработанное время.(применяется в профессии МЦ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дельная оплата труд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зарплату начисляют оплачивая каждую единицу продукции по сдельным расце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рименяется в промышленности и считается устаревш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ккордная оплата труд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арплата за выполнение всего задания в целом.(применяется при дистанционной рабо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431640"/>
            <a:ext cx="89996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4932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Надбавки и доплаты к заработной пла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2519280"/>
            <a:ext cx="7364520" cy="6040440"/>
          </a:xfrm>
          <a:prstGeom prst="rect">
            <a:avLst/>
          </a:prstGeom>
          <a:noFill/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07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Организация может доплачивать работнику за совмещение профессий(например мастер по обработке цифровой информации и секретарь); за работу в выходные и праздничные дни; за работу в вечер, за сверхурочные работы( в профессии МЦО их не может бы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ля заинтересованности в труде платят стимулирующие выпл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надбавки за профессиональное мастерство; за работу меньшей, чем положено численностью; за высокую квалификацию; пр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Размер доплат, надбавок, премий организация устанавливает самостоятельно, трудовой кодекс их не регулир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6200" y="-360"/>
            <a:ext cx="8101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4932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рядок начисления и выплаты зарпла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871640"/>
            <a:ext cx="8172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рплата начисляется один раз в начале месяца за прошедший месяц. Ваш непосредственный начальник подает в бухгалтерию Табель учета  рабочего времени Т№12 или Т№13, где в соответствии с тарифной ставкой вам начисляют зарплату, вычитая из неё на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ботник получает на руки расчетный листок, где расписаны рабочие часы, начисление зарплаты и взимаемые на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начале месяца выплачивается зарплата, в конце месяца аванс(40-50% от зарпла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рплата за время отпуска выплачивается не позднее, чем за день до начала отпу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2560" y="5832360"/>
            <a:ext cx="770436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26920" y="0"/>
            <a:ext cx="7344000" cy="218988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ктическая рабо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«Расчет заработной пла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ассчитайте зарплату в предложенных услов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4000" y="1295280"/>
          <a:ext cx="8353080" cy="9072720"/>
        </p:xfrm>
        <a:graphic>
          <a:graphicData uri="http://schemas.openxmlformats.org/drawingml/2006/table">
            <a:tbl>
              <a:tblPr/>
              <a:tblGrid>
                <a:gridCol w="717480"/>
                <a:gridCol w="3543840"/>
                <a:gridCol w="4091760"/>
              </a:tblGrid>
              <a:tr h="1017720">
                <a:tc>
                  <a:txBody>
                    <a:bodyPr tIns="176760" anchor="ctr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17676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Наименование 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17676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Алгоритм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выпол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3459240">
                <a:tc>
                  <a:txBody>
                    <a:bodyPr tIns="1674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tIns="14256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. На предприятии установлена повременная система оплаты труда. Сотруднику  И.И. Иванову установлена почасовая оплата. Ставка в час -93,75р. П. П. Петрову зарплата рассчитывается по дневной ставке – 750 руб. Полное количество смен в месяце – 22. Продолжительность рабочего дня – 8 часов. Найти заработную плату И.И. Иванова, П. П. Петр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арифную став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умножаем на 8 часов - продолжительность рабочего дня, затем умножаем на 22 - количество рабочих смен,  находим зарплату за месяц. В случае с Петровым дневная оплата труда уже посчит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2500200">
                <a:tc>
                  <a:txBody>
                    <a:bodyPr tIns="1674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tIns="16452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ссчитайте зарплату Петрова и Иванова после выплаты налогов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Для расчета подоходного налог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умму зарплаты умножаем на 13 и делим на 10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% в фонд социального страхова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сумму зарплаты умножаем на 1 и делим на 100.  Полученные суммы вычитаем из заработной плат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2095560">
                <a:tc>
                  <a:txBody>
                    <a:bodyPr tIns="1674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tIns="1666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овышенный уровень слож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ссчитайте зарплату Иванова и Петрова., если им выплатили 15% премии и Петров отработал одну смену в праздничный ден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счет зарплаты с доплатам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ходим 15% от зарплаты каждого найденные суммы прибавляем к зарплате. Петров за одну смену получил двойную оплату, прибавляем её к заработной пла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12720" y="619200"/>
            <a:ext cx="672156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нтроль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19000" y="5562720"/>
            <a:ext cx="7461360" cy="437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Файл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Закры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Сохрани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En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474920" y="1512720"/>
          <a:ext cx="6858000" cy="7894440"/>
        </p:xfrm>
        <a:graphic>
          <a:graphicData uri="http://schemas.openxmlformats.org/drawingml/2006/table">
            <a:tbl>
              <a:tblPr/>
              <a:tblGrid>
                <a:gridCol w="744480"/>
                <a:gridCol w="3935160"/>
                <a:gridCol w="2178360"/>
              </a:tblGrid>
              <a:tr h="690480"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п\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73656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то определяет размер зарплаты работника вашей специальност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73656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Что называется тарифной став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97740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акие налоги вы будете платить в качестве работника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97740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акой документ выдается работнику перед выдачей заработной плат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97740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 основании какого документа производится тарификация рабо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121824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то определяет размер премии, выплачиваемой работнику? Может ли работник  требовать увеличения размера прем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169992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опрос  повышенной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очему работник не заинтересован в выплате «серой» (не официальной, скрытой от налогов) заработной плат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71480" y="619200"/>
            <a:ext cx="746280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19000" y="5562720"/>
            <a:ext cx="7461360" cy="437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Файл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Закры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Сохрани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En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26920" y="1366920"/>
          <a:ext cx="7251840" cy="8029440"/>
        </p:xfrm>
        <a:graphic>
          <a:graphicData uri="http://schemas.openxmlformats.org/drawingml/2006/table">
            <a:tbl>
              <a:tblPr/>
              <a:tblGrid>
                <a:gridCol w="752760"/>
                <a:gridCol w="3190680"/>
                <a:gridCol w="3308400"/>
              </a:tblGrid>
              <a:tr h="836640"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п\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98432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то определяет размер зарплаты работника вашей специальност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олько руководство организации, где трудится работни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322416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Что называется тарифной став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 русском языке под понятием тарифная ставка понимается оплата труда за час рабочего времени, соответствующая определенному разряд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198432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акие налоги вы будете платить в качестве работника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одоходный налог, который составляет 13% от начисленной зарплаты и налог в фонд социального страхования 1% от начисленной зарпла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55640" y="287280"/>
            <a:ext cx="746280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верь себя (продол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19000" y="5562720"/>
            <a:ext cx="7461360" cy="437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Файл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Закры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Сохрани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En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71640" y="1150920"/>
          <a:ext cx="7291440" cy="9200880"/>
        </p:xfrm>
        <a:graphic>
          <a:graphicData uri="http://schemas.openxmlformats.org/drawingml/2006/table">
            <a:tbl>
              <a:tblPr/>
              <a:tblGrid>
                <a:gridCol w="757080"/>
                <a:gridCol w="3438720"/>
                <a:gridCol w="3095640"/>
              </a:tblGrid>
              <a:tr h="747720"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п\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35144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акой документ выдается работнику перед выдачей заработной плат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счетный лист, в котором отражены все выплаты и налоги за меся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201168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 основании какого документа производится тарификация рабо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ТКС- Единый Тарифно- квалификационный справочник работ и професс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227988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то определяет размер премии, выплачиваемой работнику? Может ли работник  требовать увеличения размера прем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ремия не является обязательной выплатой, и её размер зависит от оценки вашего труда работодателем, поэтому претензии по размеру премии предъявлять не сто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281016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опрос  повышенной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очему работник не заинтересован в выплате «серой» (не официальной, скрытой от налогов) заработной плат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 этом случае работник экономит деньги на выплате налогов, но не получает отпускных выплат, оплату  временной нетрудоспособности( болезни), не поступают средства в счет будущей пенс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97840" cy="24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Задание для самостоятельной раб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087640"/>
            <a:ext cx="7920000" cy="4248000"/>
          </a:xfrm>
          <a:prstGeom prst="rect">
            <a:avLst/>
          </a:prstGeom>
          <a:noFill/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 помощью Интернет –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 сайты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pb.hh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pb.Job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bota.yandex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spb.rabota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pb.vacansia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установите средний уровень оплаты труда в профессии. От чего зависит разница в уровне оплаты труда в профессии мастер по обработке цифров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Результаты вашего поиска оформите в виде мини-презентации или информационного листа и представьте преподавателю в электронном или письменн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690560" y="6551640"/>
            <a:ext cx="5904000" cy="39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71640" y="3708360"/>
            <a:ext cx="7462800" cy="11844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Завершение урока</a:t>
            </a: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пасибо за внимание 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16000" y="1150920"/>
            <a:ext cx="5291280" cy="144468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своив материал Вы  . 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95280" y="2519280"/>
            <a:ext cx="7412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81160" indent="-279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Будете знать из  чего складывается  ваша будущая зар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79720">
              <a:lnSpc>
                <a:spcPct val="100000"/>
              </a:lnSpc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79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можете  рассчитать вашу зарплату в предложен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79720">
              <a:lnSpc>
                <a:spcPct val="100000"/>
              </a:lnSpc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79720">
              <a:lnSpc>
                <a:spcPct val="100000"/>
              </a:lnSpc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6920" y="4535640"/>
            <a:ext cx="4451400" cy="54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617840" y="917640"/>
            <a:ext cx="597672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одержание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620720" y="1908000"/>
            <a:ext cx="5977080" cy="65437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marL="654120" indent="-649440">
              <a:lnSpc>
                <a:spcPct val="100000"/>
              </a:lnSpc>
              <a:spcAft>
                <a:spcPts val="1463"/>
              </a:spcAft>
              <a:tabLst>
                <a:tab algn="l" pos="0"/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вовое регулирование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логи, взимаемые с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рификация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рифная система оплаты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дбавки и до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иды зар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ктическое задание: расчет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нтроль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верь себ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32000" y="847800"/>
            <a:ext cx="7173720" cy="8778960"/>
          </a:xfrm>
          <a:prstGeom prst="rect">
            <a:avLst/>
          </a:prstGeom>
          <a:noFill/>
          <a:ln w="9360">
            <a:solidFill>
              <a:srgbClr val="ffc000"/>
            </a:solidFill>
            <a:round/>
          </a:ln>
        </p:spPr>
        <p:txBody>
          <a:bodyPr lIns="111600" rIns="111600" tIns="55800" bIns="55800" anchor="t">
            <a:noAutofit/>
          </a:bodyPr>
          <a:p>
            <a:pPr marL="285840" indent="-279360" algn="ctr">
              <a:lnSpc>
                <a:spcPct val="100000"/>
              </a:lnSpc>
              <a:spcAft>
                <a:spcPts val="737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вовое регулирование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Заработная пла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это вознаграждение в денежной форме, которое организация обязана выплачивать работнику по заранее установленным фор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рганизация сама устанавливает размер оплаты труда(за исключением государственных служащи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Заработная плата не может быть ниж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МР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(минимальный размер оплаты тру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МРОТ устанавливается парламентом ежегодно. В этом году он составляет 5965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Государство устанавливает налоги, которые вычитают из заработной платы рабо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16000" y="287280"/>
            <a:ext cx="7461360" cy="9702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логи, выплачиваемые  с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8720" y="1476360"/>
            <a:ext cx="7548480" cy="28299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доходный на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оставляет 13% от зарплаты,налог  платится всеми , кто получает зарплату. Не выплачивается подоходный налог с государственных выплат: пенсий, стипен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сли сравнивать с другими странами, то сумма налогов с заработной платы в РФ одна из самых низ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60000">
            <a:off x="1090440" y="4754160"/>
            <a:ext cx="7548840" cy="4705560"/>
          </a:xfrm>
          <a:prstGeom prst="rect">
            <a:avLst/>
          </a:prstGeom>
          <a:solidFill>
            <a:srgbClr val="fafac8"/>
          </a:solidFill>
          <a:ln w="19080">
            <a:solidFill>
              <a:srgbClr val="bfbfbf"/>
            </a:solidFill>
            <a:miter/>
          </a:ln>
        </p:spPr>
        <p:txBody>
          <a:bodyPr lIns="117000" rIns="117000" tIns="180000" bIns="180000" anchor="t">
            <a:noAutofit/>
          </a:bodyPr>
          <a:p>
            <a:pPr marL="343080" indent="-339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сли зарплата работника составляет 25000руб. в месяц, то налоги составят: 3250 руб. подоходный налог и 250 руб. налог в фонд социального страхования. Следовательно работник получит на руки 21750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.  Кроме работника налог с заработной платы платит работодатель. Он называется Единый социальный налог и составляет почти 35%.Таким образом работник обходится владельцу предприятия очень дор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шем примере такой налог составит 7750 руб. Значит работник обойдется работодателю в 32750 рублей, сравните с 21750 рублей, которые получит работник на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09560" y="4751280"/>
            <a:ext cx="7951680" cy="4277160"/>
          </a:xfrm>
          <a:prstGeom prst="rect">
            <a:avLst/>
          </a:prstGeom>
          <a:solidFill>
            <a:srgbClr val="fafac8"/>
          </a:solidFill>
          <a:ln w="19080">
            <a:solidFill>
              <a:srgbClr val="bfbfbf"/>
            </a:solidFill>
            <a:miter/>
          </a:ln>
        </p:spPr>
        <p:txBody>
          <a:bodyPr lIns="117000" rIns="117000" tIns="180000" bIns="180000" anchor="t">
            <a:noAutofit/>
          </a:bodyPr>
          <a:p>
            <a:pPr marL="343080" indent="-339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Зарплата работника составляет 25000руб. в меся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бы посчитать сумму налога 25000*0,13(13%), налог составит: 3250 ру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сле уплаты подоходного налога зарплата состав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5000-3250=21750 ру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ледовательно работник получит на руки 21750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9280" y="431280"/>
            <a:ext cx="80992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логи, выплачиваемые  с заработной пл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6360" y="2303280"/>
            <a:ext cx="8099280" cy="712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920880" y="4210200"/>
            <a:ext cx="7548480" cy="3972600"/>
          </a:xfrm>
          <a:prstGeom prst="rect">
            <a:avLst/>
          </a:prstGeom>
          <a:solidFill>
            <a:srgbClr val="fafac8"/>
          </a:solidFill>
          <a:ln w="19080">
            <a:solidFill>
              <a:srgbClr val="bfbfbf"/>
            </a:solidFill>
            <a:miter/>
          </a:ln>
        </p:spPr>
        <p:txBody>
          <a:bodyPr lIns="117000" rIns="117000" tIns="180000" bIns="180000" anchor="t">
            <a:noAutofit/>
          </a:bodyPr>
          <a:p>
            <a:pPr marL="343080" indent="-339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Зарплата работника составляет 25000руб. в меся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бы посчитать сумму налога в фонд социального страхования 25000*0,1(1%), налог составит: 25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сле уплаты подоходного налога зарплата составила:21750 руб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сле уплаты налога в фонд социального страхования:21750-250=215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6360" y="2711520"/>
            <a:ext cx="88693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лог в фонд социального страх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 Составляет 1% от  заработной платы. Из этого фонда платят пособие во время болезни, пенс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9280" y="431280"/>
            <a:ext cx="80992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логи, выплачиваемые  с заработной пл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9280" y="2518920"/>
            <a:ext cx="8099280" cy="7126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00000" y="4753080"/>
            <a:ext cx="7548840" cy="2571120"/>
          </a:xfrm>
          <a:prstGeom prst="rect">
            <a:avLst/>
          </a:prstGeom>
          <a:solidFill>
            <a:srgbClr val="fafac8"/>
          </a:solidFill>
          <a:ln w="19080">
            <a:solidFill>
              <a:srgbClr val="bfbfbf"/>
            </a:solidFill>
            <a:miter/>
          </a:ln>
        </p:spPr>
        <p:txBody>
          <a:bodyPr lIns="117000" rIns="117000" tIns="180000" bIns="180000" anchor="t">
            <a:noAutofit/>
          </a:bodyPr>
          <a:p>
            <a:pPr marL="343080" indent="-339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шем примере такой налог составит 7750 руб. Значит работник обойдется работодателю в 32750 рублей, сравните с 21750 рублей, которые получит работник на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25960"/>
            <a:ext cx="90885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роме работника налог с заработной платы платит работодатель. Он называется Единый социальный налог и составляет почти 35%.Таким образом работник обходится владельцу предприятия очень до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87280"/>
            <a:ext cx="74167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рификация рабо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4967280"/>
            <a:ext cx="7611840" cy="439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50920" y="1800360"/>
            <a:ext cx="84247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се работы, которые выполняют работники отнесены к определенной профессии и определенному разряду. Чем выше разряд, тем выше оплата труда. ЕТКС- Единый Тарифно-квалификационный справочник работ и профессий- это документ, который содержит описание всех работ и профессий а также перечисляет все умения и навыки, которыми специалист должен облад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26920" y="287280"/>
            <a:ext cx="767736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Тарификация раб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895320"/>
            <a:ext cx="7488000" cy="947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c000"/>
            </a:solidFill>
            <a:round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астер по обработке цифровой информации должен уме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дготавливать к работе и настраивать аппаратное обеспечение, периферийные устройства, операционную систему персонального компьютера и мультимедийное оборудовани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ыполнять ввод цифровой и аналоговой информации в персональный компьютер с различных нос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нвертировать файлы с цифровой информацией в различные форма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брабатывать аудио - и визуальный контент средствами звуковых, графических и видео-редакто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оздавать и воспроизводить видеоролики, презентации, слайд-шоу, медиафайлы и другую итоговую продукцию из исходных аудио -, визуальных и мультимедийных компонентов средствами персонального компьютера и мультимедийного оборуд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ормировать медиатеки для структурированного хранения и каталогизации цифровой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правлять размещением цифровой информации на дисках персонального компьютера, а также дисковых хранилищах локальной и глобальной компьютерной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иражировать мультимедиа контент на различных съемных носителях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убликовать мультимедиа контент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