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92930-82DF-4E70-859F-9836DF8193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04240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083120"/>
            <a:ext cx="804240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3A15F-01AC-4506-9324-9174FA627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0831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8120" y="40831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BD8C-6A18-48DF-9185-C7FAE6E3F0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58948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76640" y="1604520"/>
            <a:ext cx="258948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895720" y="1604520"/>
            <a:ext cx="258948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083120"/>
            <a:ext cx="258948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76640" y="4083120"/>
            <a:ext cx="258948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895720" y="4083120"/>
            <a:ext cx="258948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00C6-F657-4751-A7AF-0DFCB3919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D6D43-D595-4A35-B09E-863F138372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04240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8EC20-5953-44FB-8D6B-BF60B47547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04240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63EA2-089D-49E2-BB31-AF6727154A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9449D-5860-4018-A02F-8BD794517A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961F4-9D4C-4026-A8F1-28718C9D73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757224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E7832-5F18-4A80-9792-2EA93AB580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831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98D4A-CE68-4BD9-BDF1-B6D5D3D44D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04240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FD11D-CD72-4EE7-A240-DBE82AA18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8120" y="40831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F7B41-E463-43CA-B495-68DC521EC8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83120"/>
            <a:ext cx="804240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62AE2-5BA6-482D-A474-F760ED919A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04240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83120"/>
            <a:ext cx="804240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9A30F-E5FD-4DFA-9B52-59F461B964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831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8120" y="40831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870A1-4616-4863-A187-023C5055C7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58948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76640" y="1604520"/>
            <a:ext cx="258948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895720" y="1604520"/>
            <a:ext cx="258948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83120"/>
            <a:ext cx="258948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76640" y="4083120"/>
            <a:ext cx="258948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895720" y="4083120"/>
            <a:ext cx="258948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950C9-F940-4229-B642-D2C7726E72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04240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9B3F-7460-4D7E-8548-F82839B89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79AE0-5EE4-4D05-B2FB-30B396005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3B5EC-0A68-4A6B-8017-C905423FB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757224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7BA76-CC28-4281-B4FD-E15B12CB0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831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7698-5B45-4015-A129-84CE10171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8120" y="40831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D7851-A002-478D-8BED-4763EC71C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083120"/>
            <a:ext cx="8042400" cy="226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145C1-CA7E-4790-809C-975629208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39320" cy="6853320"/>
            <a:chOff x="0" y="0"/>
            <a:chExt cx="9139320" cy="6853320"/>
          </a:xfrm>
        </p:grpSpPr>
        <p:sp>
          <p:nvSpPr>
            <p:cNvPr id="1" name="Freeform 2"/>
            <p:cNvSpPr/>
            <p:nvPr/>
          </p:nvSpPr>
          <p:spPr>
            <a:xfrm>
              <a:off x="0" y="4876920"/>
              <a:ext cx="9139320" cy="1976400"/>
            </a:xfrm>
            <a:custGeom>
              <a:avLst/>
              <a:gdLst>
                <a:gd name="textAreaLeft" fmla="*/ 0 w 9139320"/>
                <a:gd name="textAreaRight" fmla="*/ 9139320 w 9139320"/>
                <a:gd name="textAreaTop" fmla="*/ 0 h 1976400"/>
                <a:gd name="textAreaBottom" fmla="*/ 1976760 h 197640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0"/>
              <a:ext cx="9139320" cy="4871880"/>
            </a:xfrm>
            <a:custGeom>
              <a:avLst/>
              <a:gdLst>
                <a:gd name="textAreaLeft" fmla="*/ 0 w 9139320"/>
                <a:gd name="textAreaRight" fmla="*/ 9139320 w 9139320"/>
                <a:gd name="textAreaTop" fmla="*/ 0 h 4871880"/>
                <a:gd name="textAreaBottom" fmla="*/ 4872240 h 48718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17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4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5"/>
          <p:cNvGrpSpPr/>
          <p:nvPr/>
        </p:nvGrpSpPr>
        <p:grpSpPr>
          <a:xfrm>
            <a:off x="0" y="6019920"/>
            <a:ext cx="7843680" cy="852480"/>
            <a:chOff x="0" y="6019920"/>
            <a:chExt cx="7843680" cy="852480"/>
          </a:xfrm>
        </p:grpSpPr>
        <p:sp>
          <p:nvSpPr>
            <p:cNvPr id="5" name="Freeform 6"/>
            <p:cNvSpPr/>
            <p:nvPr/>
          </p:nvSpPr>
          <p:spPr>
            <a:xfrm>
              <a:off x="2362320" y="6019920"/>
              <a:ext cx="5138640" cy="846000"/>
            </a:xfrm>
            <a:custGeom>
              <a:avLst/>
              <a:gdLst>
                <a:gd name="textAreaLeft" fmla="*/ 0 w 5138640"/>
                <a:gd name="textAreaRight" fmla="*/ 5138640 w 513864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463416"/>
                </a:gs>
                <a:gs pos="100000">
                  <a:srgbClr val="83776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7"/>
            <p:cNvGrpSpPr/>
            <p:nvPr/>
          </p:nvGrpSpPr>
          <p:grpSpPr>
            <a:xfrm>
              <a:off x="3946680" y="6019920"/>
              <a:ext cx="3897000" cy="852480"/>
              <a:chOff x="3946680" y="6019920"/>
              <a:chExt cx="3897000" cy="85248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6267600" y="6031080"/>
                <a:ext cx="1576080" cy="841320"/>
              </a:xfrm>
              <a:custGeom>
                <a:avLst/>
                <a:gdLst>
                  <a:gd name="textAreaLeft" fmla="*/ 0 w 1576080"/>
                  <a:gd name="textAreaRight" fmla="*/ 1576440 w 1576080"/>
                  <a:gd name="textAreaTop" fmla="*/ 0 h 841320"/>
                  <a:gd name="textAreaBottom" fmla="*/ 841680 h 84132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4249800" y="6019920"/>
                <a:ext cx="290520" cy="622080"/>
              </a:xfrm>
              <a:custGeom>
                <a:avLst/>
                <a:gdLst>
                  <a:gd name="textAreaLeft" fmla="*/ 0 w 290520"/>
                  <a:gd name="textAreaRight" fmla="*/ 290880 w 290520"/>
                  <a:gd name="textAreaTop" fmla="*/ 0 h 622080"/>
                  <a:gd name="textAreaBottom" fmla="*/ 622440 h 62208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4809960" y="6180120"/>
                <a:ext cx="595440" cy="425520"/>
              </a:xfrm>
              <a:custGeom>
                <a:avLst/>
                <a:gdLst>
                  <a:gd name="textAreaLeft" fmla="*/ 0 w 595440"/>
                  <a:gd name="textAreaRight" fmla="*/ 595800 w 595440"/>
                  <a:gd name="textAreaTop" fmla="*/ 0 h 425520"/>
                  <a:gd name="textAreaBottom" fmla="*/ 425880 h 42552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5759280" y="6137280"/>
                <a:ext cx="241560" cy="11268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3946680" y="6126120"/>
                <a:ext cx="61920" cy="123840"/>
              </a:xfrm>
              <a:custGeom>
                <a:avLst/>
                <a:gdLst>
                  <a:gd name="textAreaLeft" fmla="*/ 0 w 61920"/>
                  <a:gd name="textAreaRight" fmla="*/ 61920 w 61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3"/>
            <p:cNvSpPr/>
            <p:nvPr/>
          </p:nvSpPr>
          <p:spPr>
            <a:xfrm>
              <a:off x="0" y="6019920"/>
              <a:ext cx="6307200" cy="844560"/>
            </a:xfrm>
            <a:custGeom>
              <a:avLst/>
              <a:gdLst>
                <a:gd name="textAreaLeft" fmla="*/ 0 w 6307200"/>
                <a:gd name="textAreaRight" fmla="*/ 6307560 w 630720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463416"/>
                </a:gs>
                <a:gs pos="100000">
                  <a:srgbClr val="7264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4"/>
          <p:cNvGrpSpPr/>
          <p:nvPr/>
        </p:nvGrpSpPr>
        <p:grpSpPr>
          <a:xfrm>
            <a:off x="627120" y="6021360"/>
            <a:ext cx="5680080" cy="844560"/>
            <a:chOff x="627120" y="6021360"/>
            <a:chExt cx="5680080" cy="844560"/>
          </a:xfrm>
        </p:grpSpPr>
        <p:sp>
          <p:nvSpPr>
            <p:cNvPr id="14" name="Freeform 15"/>
            <p:cNvSpPr/>
            <p:nvPr/>
          </p:nvSpPr>
          <p:spPr>
            <a:xfrm>
              <a:off x="1898640" y="6021360"/>
              <a:ext cx="574560" cy="45720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3084480" y="6078600"/>
              <a:ext cx="3222720" cy="787320"/>
            </a:xfrm>
            <a:custGeom>
              <a:avLst/>
              <a:gdLst>
                <a:gd name="textAreaLeft" fmla="*/ 0 w 3222720"/>
                <a:gd name="textAreaRight" fmla="*/ 3223080 w 322272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905200" y="6068880"/>
              <a:ext cx="108000" cy="921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1357200" y="6099120"/>
              <a:ext cx="250920" cy="255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1120680" y="6118200"/>
              <a:ext cx="88920" cy="921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>
              <a:off x="627120" y="6049800"/>
              <a:ext cx="384120" cy="32400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Text Box 23"/>
          <p:cNvSpPr/>
          <p:nvPr/>
        </p:nvSpPr>
        <p:spPr>
          <a:xfrm>
            <a:off x="457200" y="6248520"/>
            <a:ext cx="2130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Text Box 24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2F1F1B7-431C-498F-8523-F51564DE7F9A}" type="slidenum">
              <a:rPr b="0" lang="ru-RU" sz="18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5722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04240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480" indent="-339480">
              <a:lnSpc>
                <a:spcPct val="95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2" marL="339480" indent="-339480">
              <a:lnSpc>
                <a:spcPct val="95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3" marL="339480" indent="-339480">
              <a:lnSpc>
                <a:spcPct val="95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4" marL="339480" indent="-339480">
              <a:lnSpc>
                <a:spcPct val="95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5" marL="339480" indent="-339480">
              <a:lnSpc>
                <a:spcPct val="95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6" marL="339480" indent="-339480">
              <a:lnSpc>
                <a:spcPct val="95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5720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12732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2"/>
          </p:nvPr>
        </p:nvSpPr>
        <p:spPr>
          <a:xfrm>
            <a:off x="655596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ABD597-07DF-40BA-9232-653A41280C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1640" y="215640"/>
            <a:ext cx="8226720" cy="3749400"/>
          </a:xfrm>
          <a:prstGeom prst="rect">
            <a:avLst/>
          </a:prstGeom>
          <a:noFill/>
          <a:ln w="9360">
            <a:solidFill>
              <a:srgbClr val="00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e3e3ff"/>
                </a:solidFill>
                <a:uFillTx/>
                <a:latin typeface="Arial"/>
              </a:rPr>
              <a:t>«Формирование гражданственности и патриотизма у младших школьников»</a:t>
            </a: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6360" y="4581000"/>
            <a:ext cx="8153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Aft>
                <a:spcPts val="14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ffcc"/>
                </a:solidFill>
                <a:latin typeface="Arial Black"/>
              </a:rPr>
              <a:t>Автор  проект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66ffcc"/>
                </a:solidFill>
                <a:latin typeface="Arial Black"/>
              </a:rPr>
              <a:t>Ежкина Марина Евгеньевна</a:t>
            </a:r>
            <a:r>
              <a:rPr b="1" lang="en-US" sz="1200" spc="-1" strike="noStrike">
                <a:solidFill>
                  <a:srgbClr val="66ffcc"/>
                </a:solidFill>
                <a:latin typeface="Arial Black"/>
              </a:rPr>
              <a:t> - </a:t>
            </a:r>
            <a:r>
              <a:rPr b="1" lang="ru-RU" sz="1200" spc="-1" strike="noStrike">
                <a:solidFill>
                  <a:srgbClr val="66ffcc"/>
                </a:solidFill>
                <a:latin typeface="Arial Black"/>
              </a:rPr>
              <a:t>учитель начальных класс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66ffcc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4859280" y="3489480"/>
            <a:ext cx="40147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БУ сш № 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457200" y="82440"/>
            <a:ext cx="8226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ритерии - показате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45720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чувства любви к своему родному  краю, своей малой роди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стие в экскурсиях, конкурсах, выставках – 100 челов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ная деятельность – все начальные клас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ещение музеев – 120 челов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457200" y="8244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Легенды родного кра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ctr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3366"/>
                </a:solidFill>
                <a:latin typeface="Arial Black"/>
              </a:rPr>
              <a:t>Легенды Жигуле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1763640" y="228600"/>
            <a:ext cx="48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ffff"/>
                </a:solidFill>
                <a:latin typeface="Times New Roman"/>
              </a:rPr>
              <a:t>Введ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25092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8760" indent="-324000">
              <a:lnSpc>
                <a:spcPct val="95000"/>
              </a:lnSpc>
              <a:spcAft>
                <a:spcPts val="155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333333"/>
                </a:solidFill>
                <a:latin typeface="Times New Roman"/>
              </a:rPr>
              <a:t>Жигулёвские горы -это одно из самых прекраснейших мест в России. Они хранят в себе множество тайн и загадок. Земля полнится былями и легендами о возникновении Жигулёвских гор и о происходящих там событиях. А в легендах живут богатыри русские, девицы красные, хозяйка горы, лешие, кикиморы…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1332000" y="228600"/>
            <a:ext cx="6480000" cy="1143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500" spc="-1" strike="noStrike">
                <a:solidFill>
                  <a:srgbClr val="00ffff"/>
                </a:solidFill>
                <a:latin typeface="Times New Roman"/>
              </a:rPr>
              <a:t>Легенда Лысой горы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0" y="1413000"/>
            <a:ext cx="50767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8760" indent="-324000">
              <a:lnSpc>
                <a:spcPct val="80000"/>
              </a:lnSpc>
              <a:spcBef>
                <a:spcPts val="349"/>
              </a:spcBef>
              <a:spcAft>
                <a:spcPts val="155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Всякую всячину рассказывают старые люди про Лысую гору, а чаще всего – вот что..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349"/>
              </a:spcBef>
              <a:spcAft>
                <a:spcPts val="155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Когда-то давным-давно, – может, до панщины, а может, еще и до казачества, – встречались парень с девушкой. Однажды ночью сели они в лодку и поплыли по Днепру кататься. Доплыли они до Лысой горы и замерли от ужаса: на вершине творилось нечто страшное! Там будто кто-то плясал, выл, стонал и смеялся, как сумасшедший!.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349"/>
              </a:spcBef>
              <a:spcAft>
                <a:spcPts val="155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Молодые хотели было повернуть назад, но внезапно ни с того ни с сего разволновался Днепр, забурлила вода, закачалась лодка и перевернулась. А парня и его подругу какая-то невидимая сила подхватила с воды и понесла вверх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349"/>
              </a:spcBef>
              <a:spcAft>
                <a:spcPts val="155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Очутились влюбленные на горе и окаменели от удивления. Тут пировали ведьмы: плясали, пели, выли, смеялись, таскали друг дружку по песку за волосы. А одна (красивая-красивая!) сидела молча в стороне и была очень грустная. А как увидела она парня, то тотчас ее глаза так и засветились радостью. Парубок же совсем оторопел, потому что узнал в ней свою злую мачеху. Только была она намного моложе, чем на самом дел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414036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1116000" y="228600"/>
            <a:ext cx="6624720" cy="1143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500" spc="-1" strike="noStrike">
                <a:solidFill>
                  <a:srgbClr val="00ffff"/>
                </a:solidFill>
                <a:latin typeface="Times New Roman"/>
              </a:rPr>
              <a:t>Легенда Лысой горы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0" y="1413000"/>
            <a:ext cx="54356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8760" indent="-324000">
              <a:lnSpc>
                <a:spcPct val="80000"/>
              </a:lnSpc>
              <a:spcBef>
                <a:spcPts val="349"/>
              </a:spcBef>
              <a:spcAft>
                <a:spcPts val="155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Вскочила ведьма, подбежала к пасынку и потянула его танцевать. А он вырвался и вернулся к милой. Разгневалась тогда мачеха, схватила его подругу и бросила в Днепр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349"/>
              </a:spcBef>
              <a:spcAft>
                <a:spcPts val="155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Несчастный не знал сначала, что ему делать. А потом выхватил из кармана нож и зарезал ведьму. Упала она, как подкошенная, а черная ее кровь так и брызнула да и залила всю гору. Увидели это подруги убитой, накинулись на хлопца и полетели с ним неведомо куда..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349"/>
              </a:spcBef>
              <a:spcAft>
                <a:spcPts val="155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С того времени на горе не растет ничего, и называют ее Лысою. Но каждый раз в полночь выходит против нее из Днепра девушка и зовет своего милого. Зовет, пока не дозовется. Приходит он к ней из степи и долго-долго ласкает, целует и прижимает. А как запоют третьи петухи – куда и денутся влюбленные... Не победила смерть их любовь!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349"/>
              </a:spcBef>
              <a:spcAft>
                <a:spcPts val="155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Еще и теперь, говорят, в полночь возле Лысой горы, на берегу, можно услышать голос несчастной утопленной и увидеть ее в объятьях своего милого. Только не всем это удается, а только тем, кто имеет большую и преданную любовь в своем сердц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3851280" cy="2328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5292720" y="3860640"/>
            <a:ext cx="3851280" cy="2322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1908000" y="228600"/>
            <a:ext cx="5400720" cy="1143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500" spc="-1" strike="noStrike">
                <a:solidFill>
                  <a:srgbClr val="00ffff"/>
                </a:solidFill>
                <a:latin typeface="Times New Roman"/>
              </a:rPr>
              <a:t>Сокол и Жигуль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851280" cy="29829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0" y="1484280"/>
            <a:ext cx="536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8760" indent="-324000">
              <a:lnSpc>
                <a:spcPct val="80000"/>
              </a:lnSpc>
              <a:spcBef>
                <a:spcPts val="400"/>
              </a:spcBef>
              <a:spcAft>
                <a:spcPts val="155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Жили два брата: Сокол и Жигуль. Никогда не разлучались.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У Сокола была сторожевая собака. Она охраняла покой братьев. Сокол строго-настрого приказал, чтобы собака зорко караул несла, отгоняла прочь зверей и птиц и лихих людей. Но еще строже наказывал Сокол, чтобы верная его собака не подпускала близко Волгу.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, Волга жадна, своевольна! Хочется ей вырваться на простор и прямым, самым коротким путем бежать к морю. Она хитра, чего доброго, может разъединить братьев.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Давно уже между ними шла борьба. Волга заигрывала с братьями и все ближе, ближе подбиралась к ним. Часто посылала на разведку своих слуг - волны.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Сторожевая собака выбегала вперед и звонко лаяла  - будила Сокола и его брата Жигуля.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Братья просыпались и гнали от себя волны. Возвращались они обратно. И Волга снова задумывалась, как ей подобраться к неразлучным братья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835280" y="228600"/>
            <a:ext cx="5113080" cy="1143000"/>
          </a:xfrm>
          <a:prstGeom prst="rect">
            <a:avLst/>
          </a:prstGeom>
          <a:noFill/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500" spc="-1" strike="noStrike">
                <a:solidFill>
                  <a:srgbClr val="00ffff"/>
                </a:solidFill>
                <a:latin typeface="Times New Roman"/>
              </a:rPr>
              <a:t>Сокол и Жигуль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0" y="1413000"/>
            <a:ext cx="521964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8760" indent="-324000">
              <a:lnSpc>
                <a:spcPct val="80000"/>
              </a:lnSpc>
              <a:spcBef>
                <a:spcPts val="349"/>
              </a:spcBef>
              <a:spcAft>
                <a:spcPts val="155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Узнала она, что Сокол любит красавиц. Для него было великой радостью, когда они поднимались на его крутые плечи и могучую грудь. Красавицы срывали желтые цветы, которые в их руках тут же превращались в алые. Сокол был горд тем, что обладал волшебством давать цветам, росшим на его плечах, любые краски и запахи. И если собака начинала вдруг лаять на красавиц, он бил ее, чтоб не лаяла на кого не следует.</a:t>
            </a:r>
            <a:br>
              <a:rPr sz="1400"/>
            </a:b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Узнала все это Волга. Нарядилась красавицей, какой ни Сокол, ни Жигуль отродясь не видели. И подошла к братьям. Оба они несказанно обрадовались. А собака не лает - боится, чтоб Сокол ее снова не стал бить. </a:t>
            </a:r>
            <a:br>
              <a:rPr sz="1400"/>
            </a:b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Видит Волга, что братья зачарованы ее красотой. Осмелела, вздохнула всей грудью, напряглась да и ударила со всего размаху, так ударила, что за-трещали братья и раздались в разные стороны.</a:t>
            </a:r>
            <a:br>
              <a:rPr sz="1400"/>
            </a:b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Собака только и успела тявкнуть - тип-тяв! Пали эти звуки на вершину Сокола, да там и замерли. А собака полетела от сильной встряски в воды Волги, которая уже неслась, хохоча и резвясь, между двумя братьями…</a:t>
            </a:r>
            <a:br>
              <a:rPr sz="1400"/>
            </a:b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Так и стоят теперь горы Сокол и Жигуль, разделенные могучей и своенравной Волго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867280" y="1413000"/>
            <a:ext cx="2292480" cy="237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5364000" y="3860640"/>
            <a:ext cx="3384720" cy="22258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57200" y="272880"/>
            <a:ext cx="757404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Риск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457200" y="1604880"/>
            <a:ext cx="8043840" cy="4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960" bIns="0" anchor="t">
            <a:noAutofit/>
          </a:bodyPr>
          <a:p>
            <a:pPr marL="341280" indent="-341280">
              <a:lnSpc>
                <a:spcPct val="95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Эпидемия грипп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5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Отсутствие лицензии у водителей автобусов на перевоз детей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5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Неправильный состав проектной группы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5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Недостаток необходимых ресурсов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457200" y="272880"/>
            <a:ext cx="7577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9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Формируемые компетентности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250920" y="1604880"/>
            <a:ext cx="84978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960" bIns="0" anchor="t">
            <a:noAutofit/>
          </a:bodyPr>
          <a:p>
            <a:pPr marL="343080" indent="-341640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500" spc="-1" strike="noStrike">
                <a:solidFill>
                  <a:srgbClr val="ffffff"/>
                </a:solidFill>
                <a:latin typeface="Times New Roman"/>
              </a:rPr>
              <a:t>информационная компете</a:t>
            </a:r>
            <a:r>
              <a:rPr b="1" i="1" lang="ru-RU" sz="3500" spc="-1" strike="noStrike">
                <a:solidFill>
                  <a:srgbClr val="ffffff"/>
                </a:solidFill>
                <a:latin typeface="Arial"/>
              </a:rPr>
              <a:t>нтность</a:t>
            </a: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: владеть навыками работы с различными источниками информации: справочниками, энциклопедиями, Интернет;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500" spc="-1" strike="noStrike">
                <a:solidFill>
                  <a:srgbClr val="ffffff"/>
                </a:solidFill>
                <a:latin typeface="Times New Roman"/>
              </a:rPr>
              <a:t>коммуникативная компетен</a:t>
            </a:r>
            <a:r>
              <a:rPr b="1" i="1" lang="ru-RU" sz="3500" spc="-1" strike="noStrike">
                <a:solidFill>
                  <a:srgbClr val="ffffff"/>
                </a:solidFill>
                <a:latin typeface="Arial"/>
              </a:rPr>
              <a:t>тность</a:t>
            </a:r>
            <a:r>
              <a:rPr b="1" i="1" lang="ru-RU" sz="35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 работа в группах и публичное выступление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4579920" y="1604880"/>
            <a:ext cx="392580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4579920" y="3681360"/>
            <a:ext cx="392580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457200" y="272880"/>
            <a:ext cx="7577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9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Формируемые компетентности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57200" y="1604880"/>
            <a:ext cx="829152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960" bIns="0" anchor="t">
            <a:noAutofit/>
          </a:bodyPr>
          <a:p>
            <a:pPr marL="343080" indent="-341640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500" spc="-1" strike="noStrike">
                <a:solidFill>
                  <a:srgbClr val="ffffff"/>
                </a:solidFill>
                <a:latin typeface="Times New Roman"/>
              </a:rPr>
              <a:t>Учебно-познавательные компетен</a:t>
            </a:r>
            <a:r>
              <a:rPr b="1" i="1" lang="ru-RU" sz="3500" spc="-1" strike="noStrike">
                <a:solidFill>
                  <a:srgbClr val="ffffff"/>
                </a:solidFill>
                <a:latin typeface="Arial"/>
              </a:rPr>
              <a:t>тность</a:t>
            </a:r>
            <a:r>
              <a:rPr b="1" i="1" lang="ru-RU" sz="3500" spc="-1" strike="noStrike">
                <a:solidFill>
                  <a:srgbClr val="ffffff"/>
                </a:solidFill>
                <a:latin typeface="Times New Roman"/>
              </a:rPr>
              <a:t>:  </a:t>
            </a: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  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ставить цель и организовывать её достижение,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организовывать планирование, анализ, рефлексию, самооценку своей учебно-познавательной деятельности;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579920" y="1604880"/>
            <a:ext cx="392580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4579920" y="3681360"/>
            <a:ext cx="392580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57200" y="8244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ОБЛЕ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следние годы, на фоне глубоких кризисных явлений в стране, стала всё более заметной утрата нашим обществом традиционно российского патриотического созн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457200" y="272880"/>
            <a:ext cx="7577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9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Формируемые компетентности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457200" y="1604880"/>
            <a:ext cx="829152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960" bIns="0" anchor="t">
            <a:noAutofit/>
          </a:bodyPr>
          <a:p>
            <a:pPr marL="343080" indent="-341640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500" spc="-1" strike="noStrike">
                <a:solidFill>
                  <a:srgbClr val="ffffff"/>
                </a:solidFill>
                <a:latin typeface="Times New Roman"/>
              </a:rPr>
              <a:t>Ценностно-смысловые компетен</a:t>
            </a:r>
            <a:r>
              <a:rPr b="1" i="1" lang="ru-RU" sz="3500" spc="-1" strike="noStrike">
                <a:solidFill>
                  <a:srgbClr val="ffffff"/>
                </a:solidFill>
                <a:latin typeface="Arial"/>
              </a:rPr>
              <a:t>тность</a:t>
            </a: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:     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владеть способами самоопределения в ситуациях выбора на основе собственных позиций; уметь принимать решения, брать на себя ответственность за их последствия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4579920" y="1604880"/>
            <a:ext cx="392580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4579920" y="3681360"/>
            <a:ext cx="392580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457200" y="272880"/>
            <a:ext cx="7577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9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Формируемые компетентности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457200" y="1604880"/>
            <a:ext cx="829152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960" bIns="0" anchor="t">
            <a:noAutofit/>
          </a:bodyPr>
          <a:p>
            <a:pPr marL="343080" indent="-341640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500" spc="-1" strike="noStrike">
                <a:solidFill>
                  <a:srgbClr val="ffffff"/>
                </a:solidFill>
                <a:latin typeface="Times New Roman"/>
              </a:rPr>
              <a:t>Природоведческие и здоровьесберегающие компетен</a:t>
            </a:r>
            <a:r>
              <a:rPr b="1" i="1" lang="ru-RU" sz="3500" spc="-1" strike="noStrike">
                <a:solidFill>
                  <a:srgbClr val="ffffff"/>
                </a:solidFill>
                <a:latin typeface="Arial"/>
              </a:rPr>
              <a:t>тность</a:t>
            </a:r>
            <a:r>
              <a:rPr b="1" i="1" lang="ru-RU" sz="35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    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иметь опыт ориентации и экологической деятельности в природной среде (в лесу, в поле, на водоемах и др.)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4579920" y="1604880"/>
            <a:ext cx="392580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579920" y="3681360"/>
            <a:ext cx="392580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457200" y="272880"/>
            <a:ext cx="7577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9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Формируемые компетентности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457200" y="1604880"/>
            <a:ext cx="829152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960" bIns="0" anchor="t">
            <a:noAutofit/>
          </a:bodyPr>
          <a:p>
            <a:pPr marL="343080" indent="-341640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500" spc="-1" strike="noStrike">
                <a:solidFill>
                  <a:srgbClr val="ffffff"/>
                </a:solidFill>
                <a:latin typeface="Times New Roman"/>
              </a:rPr>
              <a:t>Социокультурные компетен</a:t>
            </a:r>
            <a:r>
              <a:rPr b="1" i="1" lang="ru-RU" sz="3500" spc="-1" strike="noStrike">
                <a:solidFill>
                  <a:srgbClr val="ffffff"/>
                </a:solidFill>
                <a:latin typeface="Arial"/>
              </a:rPr>
              <a:t>тности</a:t>
            </a:r>
            <a:r>
              <a:rPr b="1" i="1" lang="ru-RU" sz="35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владеть знаниями и опытом выполнения типичных социальной роли: гражданин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определять свое место и роль в окружающем мире, коллективе, государстве; 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5000"/>
              </a:lnSpc>
              <a:spcAft>
                <a:spcPts val="1551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579920" y="1604880"/>
            <a:ext cx="392580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579920" y="3681360"/>
            <a:ext cx="392580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740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579920" y="3681360"/>
            <a:ext cx="392580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280" y="2111040"/>
            <a:ext cx="728028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55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Спасибо за внимание!!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457200" y="8244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исс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457200" y="1600200"/>
            <a:ext cx="82296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нести до учащихся, что «Патриотизм – это когда вы считаете, что это страна, лучше всех оттого, что вы здесь родились»  Бернард Шо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457200" y="8244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ние гражданственности и патриотизма, ценностного отношения к обществу, государств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539640" y="26028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дачи и мероприятия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382680" y="1271520"/>
            <a:ext cx="82296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ЗАДАЧА 1. Определить специфику работы по гражданскому и патриотическому воспитанию с младшими школьниками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Проведение классных часов, участие в акциях, проведение встреч с ветеранами, беседы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-349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дачи и мероприятия: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324000" y="682560"/>
            <a:ext cx="8569080" cy="51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А 2 Разработать и внедрить во внеклассную  и внеурочную работу различные формы гражданского и патриотического воспитания через участие в конференциях, митингах памяти, конкурсах, фестиваля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лассные часы: «Спешите делать  добрые дела», «Гражданская символика Российской Федерации», « Времён связующая нить», День Матери, День пожилого человека. Благоустройство памятников, экскурсии по памятным мес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дачи и мероприятия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78920" y="1599840"/>
            <a:ext cx="871380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ча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ить сформированность нравственных качеств личности, чувство любви к своему кра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частие в конкурсах , экскурсиях, викторинах, занятие в кружке «Тропинка к своему я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457200" y="82440"/>
            <a:ext cx="8226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жидаемый результа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45720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формировано гражданское самосознание, патриотические чувства учащихся на героическом наследии прошлого России, развито чувство гордости за родной кра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82440"/>
            <a:ext cx="8226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ритерии-показате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5720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2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9072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6804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Формирование духовно-нравственных качеств лич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2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9072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6804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2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9072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6804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Участие  в муниципальных, региональных акциях, мероприятиях -120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2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9072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6804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2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9072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6804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Вызвало интерес - 80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05:48:26Z</dcterms:created>
  <dc:creator>Sonik</dc:creator>
  <dc:description/>
  <dc:language>en-US</dc:language>
  <cp:lastModifiedBy>asus pc</cp:lastModifiedBy>
  <dcterms:modified xsi:type="dcterms:W3CDTF">2015-10-09T18:13:36Z</dcterms:modified>
  <cp:revision>42</cp:revision>
  <dc:subject/>
  <dc:title>Легенды Жигулей </dc:title>
</cp:coreProperties>
</file>