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805-2B6B-42E1-996E-ED4B75FF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7A2-9B9F-4B80-84ED-D4738989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E8B-CBCA-4943-8570-8AB584F5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70C-19F9-4A5A-B07A-7AC72218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C4BE-522D-4914-883A-29A2971D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89BF-D77E-4D49-B5D6-D6F14FCD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543B-05C0-4845-BEF9-9C1F2F28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8778-FC3E-4941-8A20-2E6864AE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184E-6568-42A1-B191-E76269C3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CB6C-A7D5-4213-94F8-17632CC2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4D50-6D4B-461E-A942-B044EF88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9CA-D29C-44F5-8AA8-083FE428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C2B3-6E99-46F8-A43F-C13E952B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B2CE-7D44-48C5-AAD5-CA3C8948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762C-A287-44DC-8C62-87BC3824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45A8-FFF2-4D72-A9DE-169E2F8F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85B2-4A31-4F19-81E8-FCD7ACD1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FF1-079C-4DE4-8702-B73CA199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E048-85FB-49B4-A2ED-88C878E2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7C1-A753-424B-8648-F62F76CE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5DC-876D-48E0-8E13-DB4E7512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78E-9D57-43FA-A8BF-EFEFD5E9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608-7184-4D91-8318-F73B0066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692-5965-4A65-BBF7-3DDD2F32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53CD-A64B-49F5-A957-EC52907AB53A}" type="datetime3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58A0-D27A-4932-8382-17D0B973EF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442B-0D06-4FBD-B719-4639B733E6D3}" type="datetime3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30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B00C-56E3-497B-94B2-2280E64C13C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Verdana"/>
              </a:rPr>
              <a:t>Голосеменные растения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4BA7-A5CC-486E-9CA4-582FC007906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Picture 2" descr="C:\Users\12\Pictures\mota_ru_1040809-1024x768.jpg"/>
          <p:cNvPicPr/>
          <p:nvPr/>
        </p:nvPicPr>
        <p:blipFill>
          <a:blip r:embed="rId1"/>
          <a:stretch/>
        </p:blipFill>
        <p:spPr>
          <a:xfrm>
            <a:off x="0" y="2708280"/>
            <a:ext cx="4572000" cy="4149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D:\Олечка\Презентации\Ботаника\иллюстрации голосеменные\engelmannii01.jpg"/>
          <p:cNvPicPr/>
          <p:nvPr/>
        </p:nvPicPr>
        <p:blipFill>
          <a:blip r:embed="rId2"/>
          <a:stretch/>
        </p:blipFill>
        <p:spPr>
          <a:xfrm>
            <a:off x="4572000" y="2708280"/>
            <a:ext cx="4572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856A-0FD2-498E-93C2-F3CB1964CC0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Arial"/>
              </a:rPr>
              <a:t>Хвойные леса хранят влагу, выделяют много кислорода и фитонциды. Являются местом обитания для многих животных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2" descr="C:\Users\12\Pictures\mota_ru_1040809-1024x768.jpg"/>
          <p:cNvPicPr/>
          <p:nvPr/>
        </p:nvPicPr>
        <p:blipFill>
          <a:blip r:embed="rId1"/>
          <a:stretch/>
        </p:blipFill>
        <p:spPr>
          <a:xfrm>
            <a:off x="0" y="1844640"/>
            <a:ext cx="6033960" cy="5004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D:\Олечка\копытные и хищные\e1436c22853c.jpg"/>
          <p:cNvPicPr/>
          <p:nvPr/>
        </p:nvPicPr>
        <p:blipFill>
          <a:blip r:embed="rId2"/>
          <a:stretch/>
        </p:blipFill>
        <p:spPr>
          <a:xfrm>
            <a:off x="5232240" y="1628640"/>
            <a:ext cx="3911760" cy="3948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D:\Олечка\Природа России\x_d2d3b544.jpg"/>
          <p:cNvPicPr/>
          <p:nvPr/>
        </p:nvPicPr>
        <p:blipFill>
          <a:blip r:embed="rId3"/>
          <a:stretch/>
        </p:blipFill>
        <p:spPr>
          <a:xfrm>
            <a:off x="5364000" y="4365720"/>
            <a:ext cx="38149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2" descr="Картинка 7 из 248"/>
          <p:cNvPicPr/>
          <p:nvPr/>
        </p:nvPicPr>
        <p:blipFill>
          <a:blip r:embed="rId1"/>
          <a:stretch/>
        </p:blipFill>
        <p:spPr>
          <a:xfrm>
            <a:off x="142920" y="115920"/>
            <a:ext cx="8893080" cy="66736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D585-6021-4E71-9A67-39975F3144BE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0" y="1484280"/>
            <a:ext cx="9144000" cy="1556280"/>
          </a:xfrm>
          <a:prstGeom prst="rect">
            <a:avLst/>
          </a:prstGeom>
          <a:solidFill>
            <a:srgbClr val="eaeaea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исать из учебника значение голосеменных растений по пунктам. П 16 стр84. Р.Т.№53,56 И ТЕСТ с29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бщие свед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725C-1FCC-4F0A-904A-16C1791E209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126828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олосеменные вечнозеленые, листопадные деревья, кустарники или лиан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меют: корень, стебель, листь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Есть семена с помощью которой размножаются и распространяютс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емена находятся открыто на поверхности чешуек шишек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Хвоя – игольчатые листья или чешуйчаты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Хвоя – имеет восковую кожицу ( испаряет мало воды, это приспособление к неблагоприятным условиям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аблица «Строение голосеменных»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80E7-E2B9-466B-AAB9-3D086A16EB0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557360"/>
          <a:ext cx="9144000" cy="5452920"/>
        </p:xfrm>
        <a:graphic>
          <a:graphicData uri="http://schemas.openxmlformats.org/drawingml/2006/table">
            <a:tbl>
              <a:tblPr/>
              <a:tblGrid>
                <a:gridCol w="1306440"/>
                <a:gridCol w="1306440"/>
                <a:gridCol w="1306800"/>
                <a:gridCol w="1304640"/>
                <a:gridCol w="1306800"/>
                <a:gridCol w="1306440"/>
                <a:gridCol w="1306440"/>
              </a:tblGrid>
              <a:tr h="1765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воя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ишки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Длинна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Расположение на ветке, рисунок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Размер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Форма чешуй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Плотность , рисунок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17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Сосна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 – 9см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Зелено - желта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о 2 хвоинк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Мелкие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ленчатые крылышк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Собраны плотно 2 вида шишек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affff"/>
                    </a:solidFill>
                  </a:tcPr>
                </a:tc>
              </a:tr>
            </a:tbl>
          </a:graphicData>
        </a:graphic>
      </p:graphicFrame>
      <p:sp>
        <p:nvSpPr>
          <p:cNvPr id="125" name="TextBox 4"/>
          <p:cNvSpPr/>
          <p:nvPr/>
        </p:nvSpPr>
        <p:spPr>
          <a:xfrm rot="16200000">
            <a:off x="-839880" y="272448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звание растени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589200" y="4437000"/>
            <a:ext cx="1644840" cy="253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D:\Олечка\Презентации\Ботаника\иллюстрации голосеменные\Строение женской и мужской шишек сосны.jpg"/>
          <p:cNvPicPr/>
          <p:nvPr/>
        </p:nvPicPr>
        <p:blipFill>
          <a:blip r:embed="rId2"/>
          <a:stretch/>
        </p:blipFill>
        <p:spPr>
          <a:xfrm>
            <a:off x="5210280" y="2205000"/>
            <a:ext cx="3933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Ель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64328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Длинна хвои от 3 до 5 см, зелено- синего цвета. Хвоинки на ветке располагаются по одиноч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6000" y="981000"/>
            <a:ext cx="388764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Шишки вытянутые. Чешуе остроконечные, плотно сомкнуты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Мужские шишки – желто – бурые, женские фиолетово - красны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C8E3-A3B4-44E9-ACF5-48CDD675C5F7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3193920"/>
            <a:ext cx="3635280" cy="3664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Олечка\Презентации\Ботаника\иллюстрации голосеменные\image013.png"/>
          <p:cNvPicPr/>
          <p:nvPr/>
        </p:nvPicPr>
        <p:blipFill>
          <a:blip r:embed="rId2"/>
          <a:stretch/>
        </p:blipFill>
        <p:spPr>
          <a:xfrm>
            <a:off x="4280040" y="3068640"/>
            <a:ext cx="46846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Лиственниц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4173480" cy="21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Хвоя 1,5-9см, светло-зеленая. Хвоинки располагаются в пучке по12-16 иг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8000" y="1196640"/>
            <a:ext cx="3959280" cy="26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Шишки короткие, маленькие. Чешуе короткие с тупым концом, плотно сомкнуты. Муж и жен.желто-красные шиш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4754-192C-434B-9F6F-0D9A1BF96D0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3141720"/>
            <a:ext cx="3681360" cy="33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Картинка 25 из 34"/>
          <p:cNvPicPr/>
          <p:nvPr/>
        </p:nvPicPr>
        <p:blipFill>
          <a:blip r:embed="rId2"/>
          <a:stretch/>
        </p:blipFill>
        <p:spPr>
          <a:xfrm>
            <a:off x="5219640" y="3573360"/>
            <a:ext cx="372744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ожжевельн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4219560" cy="21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Длинна хвои 1-2см, светло зеленая. Располагается на ветке по одной хвоин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3280" y="1197000"/>
            <a:ext cx="4500720" cy="23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Шишки короткие, женские мясисто- сочные, срастаясь образуют шишко – ягоду. Не плотно сомкнутые чешу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076360" y="5300280"/>
            <a:ext cx="237492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3C64-F00E-4747-8525-5B0DD2459BB3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2637000"/>
            <a:ext cx="4413240" cy="4221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D:\Олечка\Презентации\Ботаника\иллюстрации голосеменные\juniperus_communis.jpg"/>
          <p:cNvPicPr/>
          <p:nvPr/>
        </p:nvPicPr>
        <p:blipFill>
          <a:blip r:embed="rId2"/>
          <a:stretch/>
        </p:blipFill>
        <p:spPr>
          <a:xfrm>
            <a:off x="4686480" y="2997360"/>
            <a:ext cx="4457520" cy="386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3"/>
          <a:stretch/>
        </p:blipFill>
        <p:spPr>
          <a:xfrm>
            <a:off x="5435640" y="1341360"/>
            <a:ext cx="3155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4CC4-FC90-43E5-B739-2B65087DDA1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Значение Голосеменных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Объект 2"/>
          <p:cNvSpPr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ревесина используется как ценный строительный материал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2" descr="C:\Users\12\Pictures\brus_25.jpg"/>
          <p:cNvPicPr/>
          <p:nvPr/>
        </p:nvPicPr>
        <p:blipFill>
          <a:blip r:embed="rId1"/>
          <a:stretch/>
        </p:blipFill>
        <p:spPr>
          <a:xfrm>
            <a:off x="0" y="2492280"/>
            <a:ext cx="5148360" cy="4365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12\Pictures\design-interior-35.jpg"/>
          <p:cNvPicPr/>
          <p:nvPr/>
        </p:nvPicPr>
        <p:blipFill>
          <a:blip r:embed="rId2"/>
          <a:stretch/>
        </p:blipFill>
        <p:spPr>
          <a:xfrm>
            <a:off x="4799160" y="2641680"/>
            <a:ext cx="43448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7D36-E012-474B-AA0D-1C562DF57367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з древесины изготавливают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Объект 2"/>
          <p:cNvSpPr/>
          <p:nvPr/>
        </p:nvSpPr>
        <p:spPr>
          <a:xfrm>
            <a:off x="457200" y="134136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умагу, искусственный шелк, пластмассы, спирт, различные другие вещества и предмет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2" descr="C:\Users\12\Pictures\fanernyykryaq.jpg"/>
          <p:cNvPicPr/>
          <p:nvPr/>
        </p:nvPicPr>
        <p:blipFill>
          <a:blip r:embed="rId1"/>
          <a:stretch/>
        </p:blipFill>
        <p:spPr>
          <a:xfrm>
            <a:off x="0" y="2924280"/>
            <a:ext cx="4643280" cy="3933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Users\12\Pictures\0021-045-Pokryshki.png"/>
          <p:cNvPicPr/>
          <p:nvPr/>
        </p:nvPicPr>
        <p:blipFill>
          <a:blip r:embed="rId2"/>
          <a:stretch/>
        </p:blipFill>
        <p:spPr>
          <a:xfrm>
            <a:off x="6200640" y="2852640"/>
            <a:ext cx="2943360" cy="2210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C:\Users\12\Pictures\3542593-wood-pellets-green-energy-and-branches-of-red-deal.jpg"/>
          <p:cNvPicPr/>
          <p:nvPr/>
        </p:nvPicPr>
        <p:blipFill>
          <a:blip r:embed="rId3"/>
          <a:stretch/>
        </p:blipFill>
        <p:spPr>
          <a:xfrm>
            <a:off x="3132000" y="4078440"/>
            <a:ext cx="3540240" cy="2779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Users\12\Pictures\img520.jpg"/>
          <p:cNvPicPr/>
          <p:nvPr/>
        </p:nvPicPr>
        <p:blipFill>
          <a:blip r:embed="rId4"/>
          <a:stretch/>
        </p:blipFill>
        <p:spPr>
          <a:xfrm>
            <a:off x="6821640" y="4202280"/>
            <a:ext cx="230472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D666-13F0-4CAC-A388-7704E7CF1769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cc"/>
                </a:solidFill>
                <a:latin typeface="Arial"/>
              </a:rPr>
              <a:t>Хвойные широко используют для озеленения в декоративных целях.</a:t>
            </a: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Picture 2" descr="C:\Users\12\Pictures\38_(2).jpg"/>
          <p:cNvPicPr/>
          <p:nvPr/>
        </p:nvPicPr>
        <p:blipFill>
          <a:blip r:embed="rId1"/>
          <a:stretch/>
        </p:blipFill>
        <p:spPr>
          <a:xfrm>
            <a:off x="0" y="1413000"/>
            <a:ext cx="4427640" cy="5425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12\Pictures\10494_8.jpg"/>
          <p:cNvPicPr/>
          <p:nvPr/>
        </p:nvPicPr>
        <p:blipFill>
          <a:blip r:embed="rId2"/>
          <a:stretch/>
        </p:blipFill>
        <p:spPr>
          <a:xfrm>
            <a:off x="4716360" y="1341360"/>
            <a:ext cx="442764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08:41:04Z</dcterms:created>
  <dc:creator>DOMPK</dc:creator>
  <dc:description/>
  <dc:language>en-US</dc:language>
  <cp:lastModifiedBy>DOMPK</cp:lastModifiedBy>
  <dcterms:modified xsi:type="dcterms:W3CDTF">2012-11-12T10:10:58Z</dcterms:modified>
  <cp:revision>1</cp:revision>
  <dc:subject/>
  <dc:title>Голосеменные растения</dc:title>
</cp:coreProperties>
</file>