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B9A-A0E8-4102-9C6F-B82E64E6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003-CEE0-4E72-BF32-F7AF2312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3A3-D4E2-4271-ABDB-AA27FBE0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8A4-3933-43FC-BC2C-709F2A13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5F04-CFC0-451E-B1F1-64683C7B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F1B0-B86D-4E7F-A1BA-CB64070D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4453-FF50-42E8-9682-B90566DC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E605-6A98-4B6B-A088-2E757264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FB21-F254-4C37-BECE-BC3F7791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984C-4453-42A9-9F8A-A08DF8E5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679C-0075-4ECC-982C-DF5B888F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5B4-7282-4685-B581-79E21FF0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4A71-EE33-48B8-80CF-42E38628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9DBE-1FA4-41EC-9800-8FE4A442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084C-7D6F-452C-9140-A06ADF73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573E-7B11-49B7-84EF-CEC71FE5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EAE3-7F51-4136-AB8B-9FBE3461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76E-3FCD-4BFF-B989-D886B8BA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BC5-64F2-445B-B9E0-6E1BF4D7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F00-1AC5-42CB-AD40-50EAEC0E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574-B2BF-4B0F-8C4C-108D7869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A93-7B82-41FD-87CE-E48ADF70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9C3-BA03-4D24-AA6C-A23A3847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32F-D596-4C68-9276-098ACF5F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C6E4-C42A-44C0-BC5F-BA39601351D0}" type="datetime3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FC41-1820-4007-9207-D80395E232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7169-6F5E-4620-87C9-0D804988A3BB}" type="datetime3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31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3DC0-819F-40B6-B87C-32E6B4819BC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Verdana"/>
              </a:rPr>
              <a:t>Голосеменные растен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E1A0-9F70-4894-B600-9DE698D852B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Picture 2" descr="C:\Users\12\Pictures\mota_ru_1040809-1024x768.jpg"/>
          <p:cNvPicPr/>
          <p:nvPr/>
        </p:nvPicPr>
        <p:blipFill>
          <a:blip r:embed="rId1"/>
          <a:stretch/>
        </p:blipFill>
        <p:spPr>
          <a:xfrm>
            <a:off x="0" y="2708280"/>
            <a:ext cx="4572000" cy="4149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:\Олечка\Презентации\Ботаника\иллюстрации голосеменные\engelmannii01.jpg"/>
          <p:cNvPicPr/>
          <p:nvPr/>
        </p:nvPicPr>
        <p:blipFill>
          <a:blip r:embed="rId2"/>
          <a:stretch/>
        </p:blipFill>
        <p:spPr>
          <a:xfrm>
            <a:off x="4572000" y="2708280"/>
            <a:ext cx="4572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0361-8730-4954-802D-48D882A07BB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Хвойные леса хранят влагу, выделяют много кислорода и фитонциды. Являются местом обитания для многих животных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2" descr="C:\Users\12\Pictures\mota_ru_1040809-1024x768.jpg"/>
          <p:cNvPicPr/>
          <p:nvPr/>
        </p:nvPicPr>
        <p:blipFill>
          <a:blip r:embed="rId1"/>
          <a:stretch/>
        </p:blipFill>
        <p:spPr>
          <a:xfrm>
            <a:off x="0" y="1844640"/>
            <a:ext cx="6033960" cy="5004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D:\Олечка\копытные и хищные\e1436c22853c.jpg"/>
          <p:cNvPicPr/>
          <p:nvPr/>
        </p:nvPicPr>
        <p:blipFill>
          <a:blip r:embed="rId2"/>
          <a:stretch/>
        </p:blipFill>
        <p:spPr>
          <a:xfrm>
            <a:off x="5232240" y="1628640"/>
            <a:ext cx="3911760" cy="394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Олечка\Природа России\x_d2d3b544.jpg"/>
          <p:cNvPicPr/>
          <p:nvPr/>
        </p:nvPicPr>
        <p:blipFill>
          <a:blip r:embed="rId3"/>
          <a:stretch/>
        </p:blipFill>
        <p:spPr>
          <a:xfrm>
            <a:off x="5364000" y="4365720"/>
            <a:ext cx="3814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2" descr="Картинка 7 из 248"/>
          <p:cNvPicPr/>
          <p:nvPr/>
        </p:nvPicPr>
        <p:blipFill>
          <a:blip r:embed="rId1"/>
          <a:stretch/>
        </p:blipFill>
        <p:spPr>
          <a:xfrm>
            <a:off x="142920" y="115920"/>
            <a:ext cx="8893080" cy="66736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199D-04EA-420C-856A-AAF031E90F7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0" y="1484280"/>
            <a:ext cx="9144000" cy="1556280"/>
          </a:xfrm>
          <a:prstGeom prst="rect">
            <a:avLst/>
          </a:prstGeom>
          <a:solidFill>
            <a:srgbClr val="eaeaea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исать из учебника значение голосеменных растений по пунктам. П 16 стр84. Р.Т.№53,56 И ТЕСТ с29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щие свед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D987-2200-4A2E-89E8-8E7AC59B3BB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126828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олосеменные вечнозеленые, листопадные деревья, кустарники или лиан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меют: корень, стебель, листь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сть семена с помощью которой размножаются и распространяютс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емена находятся открыто на поверхности чешуек шишек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воя – игольчатые листья или чешуйчаты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воя – имеет восковую кожицу ( испаряет мало воды, это приспособление к неблагоприятным условиям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аблица «Строение голосеменных»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81FF-FA49-4122-B821-4DB8030E1E8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557360"/>
          <a:ext cx="9144000" cy="5452920"/>
        </p:xfrm>
        <a:graphic>
          <a:graphicData uri="http://schemas.openxmlformats.org/drawingml/2006/table">
            <a:tbl>
              <a:tblPr/>
              <a:tblGrid>
                <a:gridCol w="1306440"/>
                <a:gridCol w="1306440"/>
                <a:gridCol w="1306800"/>
                <a:gridCol w="1304640"/>
                <a:gridCol w="1306800"/>
                <a:gridCol w="1306440"/>
                <a:gridCol w="1306440"/>
              </a:tblGrid>
              <a:tr h="176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воя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ишки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Длинна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Расположение на ветке, рисунок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Размер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орма чешу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Плотность , рисунок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17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осна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– 9с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Зелено - желта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о 2 хвоинк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Мелкие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ленчатые крылышк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обраны плотно 2 вида шишек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</a:tr>
            </a:tbl>
          </a:graphicData>
        </a:graphic>
      </p:graphicFrame>
      <p:sp>
        <p:nvSpPr>
          <p:cNvPr id="125" name="TextBox 4"/>
          <p:cNvSpPr/>
          <p:nvPr/>
        </p:nvSpPr>
        <p:spPr>
          <a:xfrm rot="16200000">
            <a:off x="-839880" y="272448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звание растени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589200" y="4437000"/>
            <a:ext cx="1644840" cy="253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D:\Олечка\Презентации\Ботаника\иллюстрации голосеменные\Строение женской и мужской шишек сосны.jpg"/>
          <p:cNvPicPr/>
          <p:nvPr/>
        </p:nvPicPr>
        <p:blipFill>
          <a:blip r:embed="rId2"/>
          <a:stretch/>
        </p:blipFill>
        <p:spPr>
          <a:xfrm>
            <a:off x="5210280" y="2205000"/>
            <a:ext cx="3933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Ель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64328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линна хвои от 3 до 5 см, зелено- синего цвета. Хвоинки на ветке располагаются по одиноч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6000" y="981000"/>
            <a:ext cx="388764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Шишки вытянутые. Чешуе остроконечные, плотно сомкнуты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Мужские шишки – желто – бурые, женские фиолетово - красны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3E4B-E8A7-4B12-8213-7637918AB74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3193920"/>
            <a:ext cx="3635280" cy="3664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Олечка\Презентации\Ботаника\иллюстрации голосеменные\image013.png"/>
          <p:cNvPicPr/>
          <p:nvPr/>
        </p:nvPicPr>
        <p:blipFill>
          <a:blip r:embed="rId2"/>
          <a:stretch/>
        </p:blipFill>
        <p:spPr>
          <a:xfrm>
            <a:off x="4280040" y="3068640"/>
            <a:ext cx="46846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иственниц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4173480" cy="21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Хвоя 1,5-9см, светло-зеленая. Хвоинки располагаются в пучке по12-16 иг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8000" y="1196640"/>
            <a:ext cx="395928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Шишки короткие, маленькие. Чешуе короткие с тупым концом, плотно сомкнуты. Муж и жен.желто-красные шиш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CE78-4C11-4CD1-9D72-104190A36E2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3141720"/>
            <a:ext cx="3681360" cy="33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Картинка 25 из 34"/>
          <p:cNvPicPr/>
          <p:nvPr/>
        </p:nvPicPr>
        <p:blipFill>
          <a:blip r:embed="rId2"/>
          <a:stretch/>
        </p:blipFill>
        <p:spPr>
          <a:xfrm>
            <a:off x="5219640" y="3573360"/>
            <a:ext cx="372744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ожжевель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4219560" cy="21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линна хвои 1-2см, светло зеленая. Располагается на ветке по одной хвоин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3280" y="1197000"/>
            <a:ext cx="450072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Шишки короткие, женские мясисто- сочные, срастаясь образуют шишко – ягоду. Не плотно сомкнутые чешу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076360" y="5300280"/>
            <a:ext cx="237492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4D3F-6BDF-483F-92F4-AF59FC76540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2637000"/>
            <a:ext cx="4413240" cy="4221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D:\Олечка\Презентации\Ботаника\иллюстрации голосеменные\juniperus_communis.jpg"/>
          <p:cNvPicPr/>
          <p:nvPr/>
        </p:nvPicPr>
        <p:blipFill>
          <a:blip r:embed="rId2"/>
          <a:stretch/>
        </p:blipFill>
        <p:spPr>
          <a:xfrm>
            <a:off x="4686480" y="2997360"/>
            <a:ext cx="4457520" cy="386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3155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5B89-D41C-48A9-835C-FED533993FF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Значение Голосеменных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Объект 2"/>
          <p:cNvSpPr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ревесина используется как ценный строительный материа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2" descr="C:\Users\12\Pictures\brus_25.jpg"/>
          <p:cNvPicPr/>
          <p:nvPr/>
        </p:nvPicPr>
        <p:blipFill>
          <a:blip r:embed="rId1"/>
          <a:stretch/>
        </p:blipFill>
        <p:spPr>
          <a:xfrm>
            <a:off x="0" y="2492280"/>
            <a:ext cx="5148360" cy="4365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12\Pictures\design-interior-35.jpg"/>
          <p:cNvPicPr/>
          <p:nvPr/>
        </p:nvPicPr>
        <p:blipFill>
          <a:blip r:embed="rId2"/>
          <a:stretch/>
        </p:blipFill>
        <p:spPr>
          <a:xfrm>
            <a:off x="4799160" y="2641680"/>
            <a:ext cx="43448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CA0D-0CC4-4297-B63E-0FD0271175A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з древесины изготавливают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Объект 2"/>
          <p:cNvSpPr/>
          <p:nvPr/>
        </p:nvSpPr>
        <p:spPr>
          <a:xfrm>
            <a:off x="457200" y="134136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умагу, искусственный шелк, пластмассы, спирт, различные другие вещества и предмет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2" descr="C:\Users\12\Pictures\fanernyykryaq.jpg"/>
          <p:cNvPicPr/>
          <p:nvPr/>
        </p:nvPicPr>
        <p:blipFill>
          <a:blip r:embed="rId1"/>
          <a:stretch/>
        </p:blipFill>
        <p:spPr>
          <a:xfrm>
            <a:off x="0" y="2924280"/>
            <a:ext cx="4643280" cy="3933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12\Pictures\0021-045-Pokryshki.png"/>
          <p:cNvPicPr/>
          <p:nvPr/>
        </p:nvPicPr>
        <p:blipFill>
          <a:blip r:embed="rId2"/>
          <a:stretch/>
        </p:blipFill>
        <p:spPr>
          <a:xfrm>
            <a:off x="6200640" y="2852640"/>
            <a:ext cx="2943360" cy="2210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Users\12\Pictures\3542593-wood-pellets-green-energy-and-branches-of-red-deal.jpg"/>
          <p:cNvPicPr/>
          <p:nvPr/>
        </p:nvPicPr>
        <p:blipFill>
          <a:blip r:embed="rId3"/>
          <a:stretch/>
        </p:blipFill>
        <p:spPr>
          <a:xfrm>
            <a:off x="3132000" y="4078440"/>
            <a:ext cx="3540240" cy="277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Users\12\Pictures\img520.jpg"/>
          <p:cNvPicPr/>
          <p:nvPr/>
        </p:nvPicPr>
        <p:blipFill>
          <a:blip r:embed="rId4"/>
          <a:stretch/>
        </p:blipFill>
        <p:spPr>
          <a:xfrm>
            <a:off x="6821640" y="4202280"/>
            <a:ext cx="23047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F87B-3AD9-4671-88C3-35AD58D22A8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cc"/>
                </a:solidFill>
                <a:latin typeface="Arial"/>
              </a:rPr>
              <a:t>Хвойные широко используют для озеленения в декоративных целях.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2" descr="C:\Users\12\Pictures\38_(2).jpg"/>
          <p:cNvPicPr/>
          <p:nvPr/>
        </p:nvPicPr>
        <p:blipFill>
          <a:blip r:embed="rId1"/>
          <a:stretch/>
        </p:blipFill>
        <p:spPr>
          <a:xfrm>
            <a:off x="0" y="1413000"/>
            <a:ext cx="4427640" cy="5425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12\Pictures\10494_8.jpg"/>
          <p:cNvPicPr/>
          <p:nvPr/>
        </p:nvPicPr>
        <p:blipFill>
          <a:blip r:embed="rId2"/>
          <a:stretch/>
        </p:blipFill>
        <p:spPr>
          <a:xfrm>
            <a:off x="4716360" y="1341360"/>
            <a:ext cx="442764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08:41:04Z</dcterms:created>
  <dc:creator>DOMPK</dc:creator>
  <dc:description/>
  <dc:language>en-US</dc:language>
  <cp:lastModifiedBy>DOMPK</cp:lastModifiedBy>
  <dcterms:modified xsi:type="dcterms:W3CDTF">2012-11-12T10:10:58Z</dcterms:modified>
  <cp:revision>1</cp:revision>
  <dc:subject/>
  <dc:title>Голосеменные растения</dc:title>
</cp:coreProperties>
</file>