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AA7-B8AE-4760-9872-BDEF66B0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0B9-68D7-4339-AD89-E4EA0A5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9E7-95BA-4847-824B-C1DB3F66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F37-A1F9-424C-AF18-587C9937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A753-957C-4E00-9542-A3826806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87E0-CBDE-476C-AF14-7C6049C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06D-6266-4233-AC60-6A0BD31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4FEE-C6CC-4C5D-A78E-E6D2F6B4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6013-3AAB-4238-9D50-1686BB7C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F063-5816-414B-9A43-CFAE72E9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8FA5-D1DA-44F3-9034-BFA55F7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7F4-CFA2-4E73-ABBC-FAECA2DC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74D3-42F0-4F1F-8B0A-210F2E2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C5D4-8AEA-4E23-B1BE-31399EC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C1F4-A98E-4C1A-847D-150D379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CBF1-953E-4C33-995B-B6F8F1A7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CB74-E1CD-4311-99F7-DB784C26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508-3F1D-479A-907B-CDB99BA6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C43-130D-45F2-ACFA-3168465F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071-46EB-43EB-B304-DC61D7F0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8D7-1AC1-4418-932B-9E7A67C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2DF-8871-47C6-86B2-D911D7A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894-D915-456F-894C-A3DAC942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258-41F7-4498-B7D4-BDA13C9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6CA1-D6B8-4F69-8916-3599B4AD58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51A6-5EB3-4679-A202-5BE4F1BFB9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Моя бабушка - моя гордость"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6 «Б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ева Веро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, украденное войн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6200" y="1499760"/>
            <a:ext cx="4143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бабушка часто вспоминает тяжелые годы во время войны, как они работали на разных работах. Не в счет были ни голод, ни холод, ни жара. Еще вспоминает, что все время хотелось очень сильно кушать и спать. Помнит, как собирали в поле колоски, а ее мама лепешки пекла,  из травы суп вар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480240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з воспоминаний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29120" y="1600200"/>
            <a:ext cx="3757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ы были детьми, и нам очень хотелось побегать на улице, поскакать на веревочке ( скакалок не было).Но вечерами  вместе со взрослыми мы дети вязали солдатам на фронт рукавички, носки, а сами штопали-перештопали свои старенькие варежки, чтобы зимой не замерзнуть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Babushka"/>
          <p:cNvPicPr/>
          <p:nvPr/>
        </p:nvPicPr>
        <p:blipFill>
          <a:blip r:embed="rId2"/>
          <a:stretch/>
        </p:blipFill>
        <p:spPr>
          <a:xfrm>
            <a:off x="285840" y="2571840"/>
            <a:ext cx="485784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грады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50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60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65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к 70-летию Великой Поб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аль за материнство  Первой степ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ноголетний и самоотверженный труд моя бабушка Магикамал награждена медалью «За доблестный тру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ными грамотами и прем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абушкина медаль за доблестный труд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7" descr="Медаль &quot;За доблестный труд в Великой Отечественной войне 1941-45 гг&quot;."/>
          <p:cNvPicPr/>
          <p:nvPr/>
        </p:nvPicPr>
        <p:blipFill>
          <a:blip r:embed="rId2"/>
          <a:stretch/>
        </p:blipFill>
        <p:spPr>
          <a:xfrm>
            <a:off x="285840" y="1839960"/>
            <a:ext cx="4786200" cy="5018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28800" y="1213920"/>
            <a:ext cx="371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войны моя бабушка Магикамал много работала в колхозе. Хотя работать было трудно, но она никогда не жалова лась и часто говорит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Лишь-бы не было войны. Главное чтоб все были живы и здоровы…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родила и воспитала шесть детей и у нее  13 внуков и 11 правну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я бабушка - моя гордос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летом я приезжаю к бабушке в село Аминево Челябинской области, мы часто с прабабушкой разговариваем о её тяжелой жизни,   о тревожной молодости и я удивляюсь,   как она выдержала и вынесла на своих хрупких плечах все тяготы  военных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F:\фото НП 1.jpg"/>
          <p:cNvPicPr/>
          <p:nvPr/>
        </p:nvPicPr>
        <p:blipFill>
          <a:blip r:embed="rId2"/>
          <a:stretch/>
        </p:blipFill>
        <p:spPr>
          <a:xfrm>
            <a:off x="558720" y="1209600"/>
            <a:ext cx="3727440" cy="5434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ost-13365-121027575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слевоенные годы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214280"/>
            <a:ext cx="4000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ю прабабушку  часто приглашают на различные мероприятия, посвященные дням Победы, старшего поколения и т.д. По словам прабабушки: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Вера в Победу, Бога  и песня спасли нас в те трудные годы, внученька. Мы были хоть голодные, холодные, но  счастливые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2880" y="1143000"/>
            <a:ext cx="454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году моей прабабушке исполнится 84 года. Она до сих пор любит что-то делать дома: готовить, убирать или шить, потому что она привыкла всегда работать. Но мы ее не оставляем без внимания, заботимся и бережём 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post-13365-121027575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радиции нашей семьи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й семье складываются свои традиции, которые передаются из поколения в поколение. В нашей семье  это - любовь, понимание, уважение  старшим и  забота о близких нам людях. Еще мы любим в знаменательные даты   собираться у бабушки за круглым столом всей большой семьей, где поем песни, слушаем пение наших бабушек. Мы внуки, просим бабушку,  чтобы она достала свои  награды,  и в очередной раз показала  нам свою гордость. Для нас это - реликвия и память о тех тяжелых дн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я бабушка - моя гордос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760" y="1285920"/>
            <a:ext cx="3929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я счастлива, что родилась в мирное время, а так же горжусь своей прабабуш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 вырасту,  я буду рассказывать своим детям о войне, которая коснулась нашей семьи, чтобы связь поколений не прерыва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F:\Фото НП.jpg"/>
          <p:cNvPicPr/>
          <p:nvPr/>
        </p:nvPicPr>
        <p:blipFill>
          <a:blip r:embed="rId2"/>
          <a:stretch/>
        </p:blipFill>
        <p:spPr>
          <a:xfrm>
            <a:off x="104760" y="2500200"/>
            <a:ext cx="49291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post-13365-121027575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и планы на будуще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чно , моя работа только в самом начале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еня есть мечта – собрать много разной информации о жизни моих родных и близких в ту далекую годину, о родных – участниках Великой Отечественной войны. Уже мало осталось ее свидетелей как моя бабушка. А потом  - написать мемуары, чтобы мои будущие дети знали и помнили о цене Великой Побе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главное, что я поняла при написании работы, что все уходит в историю: страдания людей, разруха, голод. Наше поколение имеет возможность прикоснуться к войне в воспоминаниях живых свидетелей того времени. Сегодня рядом с ветеранами,  тружениками тыла – мы их внуки и правнуки. И связь поколений никогда не прервется.Подвиг  труженников тыла в годы войны всегда будет достоин восхищения и гордости у молодого поко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ликая Отечественная война – одно из самых ужасных испытаний, выпавших на долю нашего народа. Ее тяжести и кровопролитие оставили огромный отпечаток в сознании людей и имели тяжелые последствия для жизни целог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оления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то не подозревал, что и приятные хлопоты, и задорные игры, и многие жизни перечеркнет одно страшное слово – война. У целого поколения, рожденного с 1928 по 1945 год, украли детство. "Дети Великой Отечественной войны"– так называют таких людей. И дело здесь не только в дате рождения. Их воспитала вой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АКТУАЛЬНОСТЬ Т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пасиб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чу сказать спасибо всем, кто посмотрел мою презентацию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моим учителям, кто помогал мне в подготовке презентации, особенно моему руководителю Юркиной Надежде Петров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моим одноклассникам и ученикам 6б класса за помощь в  подготовк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моим родителям, а особенно бабушке за помощь и за поддерж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ные воспоминания Серажитдиновой Магикамал Самигулл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предложила учащимся нашего класса присоединиться к нашей работе , собирать информацию о своих родных, и вас всех , ребята , приглашаю изучать родословную своих семей .Тогда мы не вырастем «Иванами не помнящами своего род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и и война – два совершенно несовместимых понятия. Война ломает и калечит судьбы детей. Но дети жили и работали рядом со взрослыми, своим посильным трудом старались приблизить победу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работа посвящена  детям моего возраста, а именно моей бабушке, которая в войну была ребен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АКТУАЛЬНОСТЬ Т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ЦЕЛЬ  ИССЛЕДОВ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57200"/>
            <a:ext cx="8186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у учащихся, моих сверстников, знания о Великой Отечественной войне 1941-1945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нести моим сверстникам  правду о той жестокой войне и тяжелом труде, которые  легли на наших прадедушек и прабабуш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любви и уважения к своему народу, к истории своей страны, бережное отношение к ветера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, о жизни простого народа в годы  Великой Отечественной войны, а также выяснить, какой вклад внесли  труженики тыла, приближая Великую Побе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ью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уя с прабабушкой Магикамал, я отметила нежелание вспоминать о тех страшных годах. Объясняет она это тем, что вспоминать это тяжело и больно. Она как бы заново переживает то время. Ведь она потеряла  в годы войны своих самых родных и близких людей, вся её жизнь изменилась, переверну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я бабушка - моя гордос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8720" y="1357200"/>
            <a:ext cx="4257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у рассказать о моей прабабушке </a:t>
            </a:r>
            <a:r>
              <a:rPr b="0" lang="ru-RU" sz="28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Серажитдиновой  Магикамал Самигулловне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ая   является труженицей тыла, об этом свидетельствуют ее  награды, грамоты, которые она заработала  тяжелым трудом в годы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57120" y="1482840"/>
            <a:ext cx="4000680" cy="516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 и ю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ю прабабушку зовут, </a:t>
            </a:r>
            <a:r>
              <a:rPr b="0" lang="ru-RU" sz="28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Серажитдинова Магикамал Самигулловна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ан тыла и труда. Она родилась в 1931 году 6 мая в с. Аминево Челябинской обл. Главой семьи был Самигулла Макмуллович,а маму звали Фатима Ахметвалиевна.  Прабабушке было всего 10 лет, когда началась Великая Отечественная война.Семья у неё состояла из 11 человек : двое родителей и девять детей, к сожалению двое умерло  в годы войны, так как было очень голодно и не хватало лекарств. Детей осталось семеро.Во время войны по всей стране начались трудные годы Не хватало всем одежды, тепла и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, украденное войн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ачалась Великая Отечественная война моя прабабушка успела закончить 3 класса в Аминьевской школе. Маленькой была ещё Магикамал , но четко, на всю жизнь запомнила она-то страшное время. Она  очень рано начала работать в колхозе, наравне со взрослыми выполняла всю работу которую дают. С 1941 она работала на разных работах : на лесопилке,  на поле , но по мимо этого она ещё помогала маме по хозяйству и воспитывать маленьких сестер и брать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post-13365-121027575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ство, украденное войн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приходилось выполнять все домашние дела, т.к. ее мама до позднего вечера была на работе.в колхозе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ногда хотелось очень поплакать, вспоминает бабушка. Но война отучила нас детей плак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4537080" cy="3500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Picture 4" descr="PZJLBPCA2LZ91NCA6PZ1OTCA2CYZ77CAH3RMWWCA2CD1BHCAZ9Z4P4CA47B3XVCATT7CT2CA7UCY2RCAXDAJIYCARC26UMCAOXBF4OCAJQGSEUCAPS63CBCA13UP8QCAVSL5CTCAGGTF9DCA6FZ9JICAI3YMCF"/>
          <p:cNvPicPr/>
          <p:nvPr/>
        </p:nvPicPr>
        <p:blipFill>
          <a:blip r:embed="rId3"/>
          <a:stretch/>
        </p:blipFill>
        <p:spPr>
          <a:xfrm>
            <a:off x="642960" y="1428840"/>
            <a:ext cx="32083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6:15Z</dcterms:created>
  <dc:creator>Чуланова Т.Ю.</dc:creator>
  <dc:description/>
  <dc:language>en-US</dc:language>
  <cp:lastModifiedBy>Пользователь Windows</cp:lastModifiedBy>
  <dcterms:modified xsi:type="dcterms:W3CDTF">2015-04-27T08:34:15Z</dcterms:modified>
  <cp:revision>36</cp:revision>
  <dc:subject/>
  <dc:title>Слайд 1</dc:title>
</cp:coreProperties>
</file>