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9A2-3DAD-44EA-99AC-833F9F4D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3B0-E03F-4CFF-BB79-2E25DEA0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FBE-D8B1-4802-B8C7-43AFE2A5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520-65D9-469A-A35C-23537AB0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ACD-3002-4691-BB65-C49AA39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14E-2596-42D6-8AA0-0B70FD85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22B-79F4-410C-A37D-A6674D6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C9A-7BD0-461F-B28F-86C3866A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E59-CCBD-490D-A411-5584B01D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056-3459-4F43-8994-5A46973F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6A4-A492-413C-AF34-11F5EF7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1E0-57BE-4435-B46E-675B2E4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ff00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4B6-ED66-49A8-B7EA-C835670F7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바탕"/>
                <a:ea typeface="바탕"/>
              </a:rPr>
              <a:t>Куликовская   битв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바탕"/>
                <a:ea typeface="바탕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219640" y="1413000"/>
            <a:ext cx="3673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 у толпы, притихшей на глазах, встал Дмитрий перед игуменом на колени. И получил его благословение: «Иди! Да не коснётся сердца страх! Ты вернёшься скоро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сергий"/>
          <p:cNvPicPr/>
          <p:nvPr/>
        </p:nvPicPr>
        <p:blipFill>
          <a:blip r:embed="rId1"/>
          <a:stretch/>
        </p:blipFill>
        <p:spPr>
          <a:xfrm>
            <a:off x="250920" y="260280"/>
            <a:ext cx="4794120" cy="63374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508464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Затем Сергий дал в помощь Дмитрию двух иконов: Андрея Ослабю и Александра Пересвета. Это были бывшие бояре, недавно ставшие монахами. Их хорошо знали и уважали в Моск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бл"/>
          <p:cNvPicPr/>
          <p:nvPr/>
        </p:nvPicPr>
        <p:blipFill>
          <a:blip r:embed="rId1"/>
          <a:stretch/>
        </p:blipFill>
        <p:spPr>
          <a:xfrm>
            <a:off x="2340000" y="260280"/>
            <a:ext cx="6400800" cy="4591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 военном совете по предложению князя Дмитрия было решено перейти Дон и принять бой на Куликовом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переправа через дон"/>
          <p:cNvPicPr/>
          <p:nvPr/>
        </p:nvPicPr>
        <p:blipFill>
          <a:blip r:embed="rId1"/>
          <a:stretch/>
        </p:blipFill>
        <p:spPr>
          <a:xfrm>
            <a:off x="254160" y="1916280"/>
            <a:ext cx="8397720" cy="4673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ыбор места показывал намерение русских воинов сражаться до последнего, потому что в ходе боя переправляться назад было не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поолее"/>
          <p:cNvPicPr/>
          <p:nvPr/>
        </p:nvPicPr>
        <p:blipFill>
          <a:blip r:embed="rId1"/>
          <a:stretch/>
        </p:blipFill>
        <p:spPr>
          <a:xfrm>
            <a:off x="395280" y="2135160"/>
            <a:ext cx="8353440" cy="4267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усские воины: кавалерия, княжеские друж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княжеск дружина донского"/>
          <p:cNvPicPr/>
          <p:nvPr/>
        </p:nvPicPr>
        <p:blipFill>
          <a:blip r:embed="rId1"/>
          <a:stretch/>
        </p:blipFill>
        <p:spPr>
          <a:xfrm>
            <a:off x="4941720" y="1341360"/>
            <a:ext cx="3970440" cy="5256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68" name="Picture 7" descr="русс"/>
          <p:cNvPicPr/>
          <p:nvPr/>
        </p:nvPicPr>
        <p:blipFill>
          <a:blip r:embed="rId2"/>
          <a:stretch/>
        </p:blipFill>
        <p:spPr>
          <a:xfrm>
            <a:off x="395280" y="1844640"/>
            <a:ext cx="4105440" cy="3960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3178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рдынские во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войско орды"/>
          <p:cNvPicPr/>
          <p:nvPr/>
        </p:nvPicPr>
        <p:blipFill>
          <a:blip r:embed="rId1"/>
          <a:stretch/>
        </p:blipFill>
        <p:spPr>
          <a:xfrm>
            <a:off x="4211640" y="260280"/>
            <a:ext cx="4687920" cy="6265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Утро 8 сентября было тума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утро на пол"/>
          <p:cNvPicPr/>
          <p:nvPr/>
        </p:nvPicPr>
        <p:blipFill>
          <a:blip r:embed="rId1"/>
          <a:stretch/>
        </p:blipFill>
        <p:spPr>
          <a:xfrm>
            <a:off x="324000" y="1268280"/>
            <a:ext cx="8572320" cy="52768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105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ка туман не рассеялся, войска стояли готовые к бою, поддерживая связь (перекликаясь звуками тру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еред битв"/>
          <p:cNvPicPr/>
          <p:nvPr/>
        </p:nvPicPr>
        <p:blipFill>
          <a:blip r:embed="rId1"/>
          <a:stretch/>
        </p:blipFill>
        <p:spPr>
          <a:xfrm>
            <a:off x="4572000" y="404640"/>
            <a:ext cx="4210200" cy="5904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Рассеялся туман. Русские люди увидели вдали расшитый золотом шатёр Мамая, а перед ним неисчислимые полчища ордын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тат мон"/>
          <p:cNvPicPr/>
          <p:nvPr/>
        </p:nvPicPr>
        <p:blipFill>
          <a:blip r:embed="rId1"/>
          <a:stretch/>
        </p:blipFill>
        <p:spPr>
          <a:xfrm>
            <a:off x="539640" y="2133720"/>
            <a:ext cx="8280360" cy="4464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обычаям тех времён битва началась единоборством. Из ордынских рядов выехал богатырского вида конник Челубей и стал вызывать себе противника из русской р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бит"/>
          <p:cNvPicPr/>
          <p:nvPr/>
        </p:nvPicPr>
        <p:blipFill>
          <a:blip r:embed="rId1"/>
          <a:stretch/>
        </p:blipFill>
        <p:spPr>
          <a:xfrm>
            <a:off x="539640" y="2205000"/>
            <a:ext cx="8193240" cy="4392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00" y="1413000"/>
            <a:ext cx="397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 Москву начали смотреть как на объединителя русской земли. И тогда стал звучать вопрос: «Доколе же русским людям быть должниками Золотой Орды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донской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56894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8920" y="5084640"/>
            <a:ext cx="8713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 вот разомкнулись передовые полки русичей, и навстречу ордынцу выехал икон Сергия Радонежского – Пересв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пересвет"/>
          <p:cNvPicPr/>
          <p:nvPr/>
        </p:nvPicPr>
        <p:blipFill>
          <a:blip r:embed="rId1"/>
          <a:stretch/>
        </p:blipFill>
        <p:spPr>
          <a:xfrm>
            <a:off x="2700360" y="333360"/>
            <a:ext cx="6148440" cy="4741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ед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пересвета с челубеем бой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51196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2829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а поединщика пали мёртвыми, однако победа осталась за Пересветом, которого конь смог довести до русских войск, в то время, как Челубей оказался выбитым из сед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александр пересвет"/>
          <p:cNvPicPr/>
          <p:nvPr/>
        </p:nvPicPr>
        <p:blipFill>
          <a:blip r:embed="rId1"/>
          <a:stretch/>
        </p:blipFill>
        <p:spPr>
          <a:xfrm>
            <a:off x="4257720" y="260280"/>
            <a:ext cx="4643280" cy="446400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2530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плл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И страшно было видеть, как две великие силы сходились на кровопролитие, на неминуемую смерть: татарское войско, темнеющее во мраке и русская рать в светлых доспехах, как великая река лилась. И солнце светило, сияло над н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о после нескольких часов жестокой сечи ордынцам удалось потеснить русских ра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ули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раг уже собирался праздновать победу, когда неожиданно в их тыл ударил засадный полк, заранее скрытый Дмитрием в небольшой рощ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боброк с запасным полком"/>
          <p:cNvPicPr/>
          <p:nvPr/>
        </p:nvPicPr>
        <p:blipFill>
          <a:blip r:embed="rId1"/>
          <a:stretch/>
        </p:blipFill>
        <p:spPr>
          <a:xfrm>
            <a:off x="324000" y="2492280"/>
            <a:ext cx="8456400" cy="396108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дновременно перешли в наступление и другие русские полки. Врагов охватило смятение. Мамай бросился бежать, а за ним  - всё ордынское войс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ккк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453564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5084280"/>
            <a:ext cx="8640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трашное зрелище представляло собой Куликово поле. Повсюду грудами лежали тела погибших, стонали ранены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кул 1"/>
          <p:cNvPicPr/>
          <p:nvPr/>
        </p:nvPicPr>
        <p:blipFill>
          <a:blip r:embed="rId1"/>
          <a:stretch/>
        </p:blipFill>
        <p:spPr>
          <a:xfrm>
            <a:off x="395280" y="260280"/>
            <a:ext cx="8421840" cy="475308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558972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нязя Дмитрия нашли лежащим без сознания. Видно его оглушили ударом палицы или ме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после битвы"/>
          <p:cNvPicPr/>
          <p:nvPr/>
        </p:nvPicPr>
        <p:blipFill>
          <a:blip r:embed="rId1"/>
          <a:stretch/>
        </p:blipFill>
        <p:spPr>
          <a:xfrm>
            <a:off x="1979640" y="333360"/>
            <a:ext cx="6837480" cy="52531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473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вечать на него пришлось внуку Ивана Калиты московскому князю Дмитрию Иванови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з-за ранней смерти отца князь Дмитрий вступил на престол уже в 9-ти летнем возрасте и уже в 10 лет возглавлял Московскую рать. Командовали, конечно, опытные воеводы, но присутствие князя поднимало дух вои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донс"/>
          <p:cNvPicPr/>
          <p:nvPr/>
        </p:nvPicPr>
        <p:blipFill>
          <a:blip r:embed="rId1"/>
          <a:stretch/>
        </p:blipFill>
        <p:spPr>
          <a:xfrm>
            <a:off x="5867280" y="260280"/>
            <a:ext cx="2793960" cy="3638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ного русских людей пало в тот день на Куликовом поле. Погибли многие князья и бояре и тысячи ратников, собравшихся со всей русско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ку бит"/>
          <p:cNvPicPr/>
          <p:nvPr/>
        </p:nvPicPr>
        <p:blipFill>
          <a:blip r:embed="rId1"/>
          <a:stretch/>
        </p:blipFill>
        <p:spPr>
          <a:xfrm>
            <a:off x="250920" y="189000"/>
            <a:ext cx="8638920" cy="44323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доннн"/>
          <p:cNvPicPr/>
          <p:nvPr/>
        </p:nvPicPr>
        <p:blipFill>
          <a:blip r:embed="rId1"/>
          <a:stretch/>
        </p:blipFill>
        <p:spPr>
          <a:xfrm>
            <a:off x="254160" y="260280"/>
            <a:ext cx="8626320" cy="4321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о Куликовская битва имела громадное значение для всего русского народа. Впервые она показала, что с Ордой можно и нужно боро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005360"/>
            <a:ext cx="3384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честь великой победы народ прозвал князя Дмитрия – </a:t>
            </a: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Донским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за победу московского князя назвали донским"/>
          <p:cNvPicPr/>
          <p:nvPr/>
        </p:nvPicPr>
        <p:blipFill>
          <a:blip r:embed="rId1"/>
          <a:stretch/>
        </p:blipFill>
        <p:spPr>
          <a:xfrm>
            <a:off x="3708360" y="260280"/>
            <a:ext cx="5175360" cy="6193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Эта победа была началом возрождения новой Руси. Сюда на поле Куликово пришли разрозненные полки русских княжеств, а ушла единая Русь. Русь, развеявшая легенду о непобедимости татарских вой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рус ар"/>
          <p:cNvPicPr/>
          <p:nvPr/>
        </p:nvPicPr>
        <p:blipFill>
          <a:blip r:embed="rId1"/>
          <a:stretch/>
        </p:blipFill>
        <p:spPr>
          <a:xfrm>
            <a:off x="324000" y="404640"/>
            <a:ext cx="8472240" cy="42865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память в честь победы кул битва"/>
          <p:cNvPicPr/>
          <p:nvPr/>
        </p:nvPicPr>
        <p:blipFill>
          <a:blip r:embed="rId1"/>
          <a:stretch/>
        </p:blipFill>
        <p:spPr>
          <a:xfrm>
            <a:off x="5219640" y="260280"/>
            <a:ext cx="3625920" cy="62643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107" name="Picture 5" descr="память"/>
          <p:cNvPicPr/>
          <p:nvPr/>
        </p:nvPicPr>
        <p:blipFill>
          <a:blip r:embed="rId2"/>
          <a:stretch/>
        </p:blipFill>
        <p:spPr>
          <a:xfrm>
            <a:off x="250920" y="333360"/>
            <a:ext cx="4619520" cy="38876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178920" y="4436640"/>
            <a:ext cx="4969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амятник в чест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а поле Кулик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Юность Дмитрия Ивановича прошла в боях и походах. Поэтому военноначальником он был опытным, а вот с грамотой дело было плох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дмитт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824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22900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ношения Дмитрия с Ордой всё время обострялись, и, наконец, Дмитрий отказался платить дань Золотой Ор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дмитр"/>
          <p:cNvPicPr/>
          <p:nvPr/>
        </p:nvPicPr>
        <p:blipFill>
          <a:blip r:embed="rId1"/>
          <a:stretch/>
        </p:blipFill>
        <p:spPr>
          <a:xfrm>
            <a:off x="324000" y="260280"/>
            <a:ext cx="6903720" cy="46814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1380 году огромное ордынское войско во главе с Мамаем двинулось на Р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D:\мама\к кулик битве\идёт на русь.jpg"/>
          <p:cNvPicPr/>
          <p:nvPr/>
        </p:nvPicPr>
        <p:blipFill>
          <a:blip r:embed="rId1"/>
          <a:stretch/>
        </p:blipFill>
        <p:spPr>
          <a:xfrm>
            <a:off x="250920" y="189000"/>
            <a:ext cx="8636040" cy="53276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4724280"/>
            <a:ext cx="8893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бор русских войск был назна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Коломне на 15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з Москвы в Коломну  выступили русские войска, они шли по трём дорог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моск войск"/>
          <p:cNvPicPr/>
          <p:nvPr/>
        </p:nvPicPr>
        <p:blipFill>
          <a:blip r:embed="rId1"/>
          <a:stretch/>
        </p:blipFill>
        <p:spPr>
          <a:xfrm>
            <a:off x="2793960" y="260280"/>
            <a:ext cx="6080040" cy="4392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4321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0-60 тыс. во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д знамёнами Дмитрия, из них 20 тыс. из Московского княж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амай собрал армию в 90 тыс. во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уусс"/>
          <p:cNvPicPr/>
          <p:nvPr/>
        </p:nvPicPr>
        <p:blipFill>
          <a:blip r:embed="rId1"/>
          <a:stretch/>
        </p:blipFill>
        <p:spPr>
          <a:xfrm>
            <a:off x="4643280" y="260280"/>
            <a:ext cx="4135680" cy="6147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941360"/>
            <a:ext cx="8362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огда военные силы были готовы, князь Дмитрий по древнему обычаю поехал за благословением на бой к Сергию Радонежскому, игумену Свято-Троицкого монастыря, что под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троицк"/>
          <p:cNvPicPr/>
          <p:nvPr/>
        </p:nvPicPr>
        <p:blipFill>
          <a:blip r:embed="rId1"/>
          <a:stretch/>
        </p:blipFill>
        <p:spPr>
          <a:xfrm>
            <a:off x="1116000" y="260280"/>
            <a:ext cx="7777080" cy="4537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20:26:56Z</dcterms:created>
  <dc:creator>Админ</dc:creator>
  <dc:description/>
  <dc:language>en-US</dc:language>
  <cp:lastModifiedBy>Home</cp:lastModifiedBy>
  <dcterms:modified xsi:type="dcterms:W3CDTF">2015-09-22T20:13:04Z</dcterms:modified>
  <cp:revision>32</cp:revision>
  <dc:subject/>
  <dc:title>Слайд 1</dc:title>
</cp:coreProperties>
</file>