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46E35-7624-435E-BBF8-44D51511BB6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С.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61C3F-F1CF-44F0-9D45-F1E0F778CEE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005EB-71A9-4FF5-8C07-36B8A15845F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CA8E5-D51A-4AF7-8D50-A2E7F83C395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И.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69CF2-3B41-46D9-8C3C-2E2048E9963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И.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A54C2-FE2F-468D-8C51-A89D9EE67CC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43AAB-D522-428A-9E24-4FB7D48EB99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И.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0CA19-BBFF-45D1-BD5A-8B41A237355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И.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AA922-7FC9-49D5-AA3D-5A35FC740DC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И.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51C16-C8A6-4EDC-9AB1-31001A9DBC8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И.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6283B-F396-4283-9C53-3B6845D5A73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И.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81F46-3F0F-4C86-A255-6EA4B977BEB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И.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EEA41-9274-49CC-801D-43D5F688DDA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4259E-0F6F-48D9-BD6C-3C8B82364AA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F6F7B-EDFA-4565-8D96-DC9FCFD9751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58E78-7BA6-4E8B-962D-DBDBEA5FA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04C0B-BA71-4A7E-A61E-5827B66F0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7360B-F595-4FA1-A612-521D8AA61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03EAA-7B4E-4611-99A7-EB48A5E58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960DC-FC5F-4155-AD16-4463FAE4C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62A5F-C917-4979-A1FA-23A458965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99358-2215-4B22-A314-9C2E4DCCC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F5A7C-CD66-4EE4-AB97-5717C3D2B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003E3-4B62-47F0-84FE-4905B9D32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2DB1E-93D8-4ADF-B9C6-0770DA6A2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2DCF6-6DEA-4556-ADF4-C777B45B7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72B90-5B31-4E8F-B4DF-5628E72A5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CDAEF-AFE7-4507-92FD-4D1B812EA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47C09-E923-4089-8C6A-4D7D80D40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1904E-9D8F-44B4-90F0-9D42ABD3F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3AAC8-235B-425E-91D6-F485DF25B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0A6CE-87B7-4A4C-8346-54348CD0A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132DBA-B0B2-4332-B097-6B1A1D082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9D1B70-1A6A-4163-B876-271A0EC83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E0EF6A-EEB1-4FA0-9315-412349F42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E0DE3D-7EE4-4766-9BA6-DF6BFBAC9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BCF52A-9590-454F-BD95-69780D843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E896D-5712-413F-8272-C35297012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77C7EE-DC16-4A9E-9E28-A23237C60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EB643C-B1E6-48F8-A9D5-966648A72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4D5B07-5DB5-4696-8C5D-4B6AC6C73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2A2B95-9B3F-4434-8AF1-1128B92C1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0C5883-B56E-4F0C-954F-BAE22E84C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2FA477-5ED8-49CB-9ACF-F0A8C6659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7ED6C2-91C2-45B1-91E9-1AE96968A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954997-0016-48D4-A478-71AAF943C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743D92-1A5A-4D70-85B2-7C3779FE3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83D69F-E706-4BBD-8608-7EA8E7A2C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E9AAC-0F5D-462B-B380-9163C5670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BB437C-F33C-42C9-9703-E2C1D847F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368FBE-BF02-4750-8A70-384BE1E2C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C7F3ED-6E14-4CD9-8E69-056B3CF40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6DE04B-4C32-4E09-90AE-2FD5797B1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2BC73F-5164-4064-9BEB-6D8C4ED7C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6DED90-4DF7-46D4-A475-807D23837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7BE57B-118E-44D7-AF7C-6CB462B36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C52CEA-B66D-443E-A5CA-E82AB0874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6C4C1D-4CD4-45B4-969C-597D60145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6FAAF-DE86-4F87-8450-E77B5460A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C7E2F-48E8-4802-A1B5-8424601D5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8E66F-9393-4554-B15D-0C8DA1B8F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30284-E882-4C44-A53E-0B74C8E06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452BE-F1F8-44F5-B95D-0CE59264A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95A02-28FD-4B9F-9D9E-8EEE4CFDF9C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Рисунок 6" descr="post-279854-1298288370.png"/>
          <p:cNvPicPr/>
          <p:nvPr/>
        </p:nvPicPr>
        <p:blipFill>
          <a:blip r:embed="rId3"/>
          <a:stretch/>
        </p:blipFill>
        <p:spPr>
          <a:xfrm>
            <a:off x="7500960" y="-428760"/>
            <a:ext cx="1643040" cy="1643040"/>
          </a:xfrm>
          <a:prstGeom prst="rect">
            <a:avLst/>
          </a:prstGeom>
          <a:ln w="0">
            <a:noFill/>
          </a:ln>
        </p:spPr>
      </p:pic>
      <p:pic>
        <p:nvPicPr>
          <p:cNvPr id="6" name="Рисунок 7" descr="post-279854-1298288370.png"/>
          <p:cNvPicPr/>
          <p:nvPr/>
        </p:nvPicPr>
        <p:blipFill>
          <a:blip r:embed="rId4"/>
          <a:stretch/>
        </p:blipFill>
        <p:spPr>
          <a:xfrm>
            <a:off x="0" y="214200"/>
            <a:ext cx="2357280" cy="2071800"/>
          </a:xfrm>
          <a:prstGeom prst="rect">
            <a:avLst/>
          </a:prstGeom>
          <a:ln w="0">
            <a:noFill/>
          </a:ln>
        </p:spPr>
      </p:pic>
      <p:pic>
        <p:nvPicPr>
          <p:cNvPr id="7" name="Рисунок 8" descr="97e6b01896c7.png"/>
          <p:cNvPicPr/>
          <p:nvPr/>
        </p:nvPicPr>
        <p:blipFill>
          <a:blip r:embed="rId5"/>
          <a:stretch/>
        </p:blipFill>
        <p:spPr>
          <a:xfrm rot="20340000">
            <a:off x="-628200" y="-348840"/>
            <a:ext cx="3330360" cy="2681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EA2CD-C559-4C06-8730-F45A474F4E2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Рисунок 6" descr="post-279854-1298288370.png"/>
          <p:cNvPicPr/>
          <p:nvPr/>
        </p:nvPicPr>
        <p:blipFill>
          <a:blip r:embed="rId3"/>
          <a:stretch/>
        </p:blipFill>
        <p:spPr>
          <a:xfrm>
            <a:off x="7500960" y="-428760"/>
            <a:ext cx="1643040" cy="164304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7" descr="post-279854-1298288370.png"/>
          <p:cNvPicPr/>
          <p:nvPr/>
        </p:nvPicPr>
        <p:blipFill>
          <a:blip r:embed="rId4"/>
          <a:stretch/>
        </p:blipFill>
        <p:spPr>
          <a:xfrm>
            <a:off x="0" y="214200"/>
            <a:ext cx="2357280" cy="207180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8" descr="97e6b01896c7.png"/>
          <p:cNvPicPr/>
          <p:nvPr/>
        </p:nvPicPr>
        <p:blipFill>
          <a:blip r:embed="rId5"/>
          <a:stretch/>
        </p:blipFill>
        <p:spPr>
          <a:xfrm rot="20340000">
            <a:off x="-628200" y="-348840"/>
            <a:ext cx="3330360" cy="2681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86069-6117-47BB-9B94-3D266E027557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dt" idx="10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BB6B9-7FC8-4A72-8150-F02897375203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3132000" y="1413000"/>
            <a:ext cx="505152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 Black"/>
              </a:rPr>
              <a:t>Самостоятельное обучени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ext Box 9"/>
          <p:cNvSpPr/>
          <p:nvPr/>
        </p:nvSpPr>
        <p:spPr>
          <a:xfrm>
            <a:off x="2506680" y="152280"/>
            <a:ext cx="41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Предметное содержа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Text Box 9"/>
          <p:cNvSpPr/>
          <p:nvPr/>
        </p:nvSpPr>
        <p:spPr>
          <a:xfrm>
            <a:off x="449280" y="2209680"/>
            <a:ext cx="306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Учебный процес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 Box 9"/>
          <p:cNvSpPr/>
          <p:nvPr/>
        </p:nvSpPr>
        <p:spPr>
          <a:xfrm>
            <a:off x="8145360" y="2286000"/>
            <a:ext cx="3049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Внеурочн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Text Box 9"/>
          <p:cNvSpPr/>
          <p:nvPr/>
        </p:nvSpPr>
        <p:spPr>
          <a:xfrm>
            <a:off x="2743200" y="624852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Проекты и жизненные задач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Text Box 9"/>
          <p:cNvSpPr/>
          <p:nvPr/>
        </p:nvSpPr>
        <p:spPr>
          <a:xfrm>
            <a:off x="8602560" y="2286000"/>
            <a:ext cx="3049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деятельнос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AutoShape 10"/>
          <p:cNvSpPr/>
          <p:nvPr/>
        </p:nvSpPr>
        <p:spPr>
          <a:xfrm>
            <a:off x="830160" y="3048120"/>
            <a:ext cx="2057400" cy="609480"/>
          </a:xfrm>
          <a:prstGeom prst="rightArrow">
            <a:avLst>
              <a:gd name="adj1" fmla="val 50000"/>
              <a:gd name="adj2" fmla="val 84392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AutoShape 11"/>
          <p:cNvSpPr/>
          <p:nvPr/>
        </p:nvSpPr>
        <p:spPr>
          <a:xfrm flipH="1">
            <a:off x="5942880" y="3048120"/>
            <a:ext cx="2057400" cy="609480"/>
          </a:xfrm>
          <a:prstGeom prst="rightArrow">
            <a:avLst>
              <a:gd name="adj1" fmla="val 50000"/>
              <a:gd name="adj2" fmla="val 84392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AutoShape 12"/>
          <p:cNvSpPr/>
          <p:nvPr/>
        </p:nvSpPr>
        <p:spPr>
          <a:xfrm>
            <a:off x="4114800" y="4419720"/>
            <a:ext cx="533520" cy="1218960"/>
          </a:xfrm>
          <a:prstGeom prst="upArrow">
            <a:avLst>
              <a:gd name="adj1" fmla="val 50000"/>
              <a:gd name="adj2" fmla="val 57119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AutoShape 13"/>
          <p:cNvSpPr/>
          <p:nvPr/>
        </p:nvSpPr>
        <p:spPr>
          <a:xfrm flipV="1">
            <a:off x="4106880" y="609480"/>
            <a:ext cx="533520" cy="1905120"/>
          </a:xfrm>
          <a:prstGeom prst="upArrow">
            <a:avLst>
              <a:gd name="adj1" fmla="val 50000"/>
              <a:gd name="adj2" fmla="val 89271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Rectangle 2"/>
          <p:cNvSpPr/>
          <p:nvPr/>
        </p:nvSpPr>
        <p:spPr>
          <a:xfrm>
            <a:off x="2819520" y="2819520"/>
            <a:ext cx="327636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Регулятивные </a:t>
            </a:r>
            <a:br>
              <a:rPr sz="2800"/>
            </a:b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универсальные учебные действ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Text Box 9"/>
          <p:cNvSpPr/>
          <p:nvPr/>
        </p:nvSpPr>
        <p:spPr>
          <a:xfrm>
            <a:off x="838080" y="205740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Технология оценива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Text Box 9"/>
          <p:cNvSpPr/>
          <p:nvPr/>
        </p:nvSpPr>
        <p:spPr>
          <a:xfrm>
            <a:off x="914400" y="373392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Проблемно-диалогическая технолог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Text Box 9"/>
          <p:cNvSpPr/>
          <p:nvPr/>
        </p:nvSpPr>
        <p:spPr>
          <a:xfrm>
            <a:off x="1638360" y="615960"/>
            <a:ext cx="2019240" cy="916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Математика, Информатика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Русский язы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Text Box 9"/>
          <p:cNvSpPr/>
          <p:nvPr/>
        </p:nvSpPr>
        <p:spPr>
          <a:xfrm>
            <a:off x="5105520" y="6094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Технолог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Text Box 9"/>
          <p:cNvSpPr/>
          <p:nvPr/>
        </p:nvSpPr>
        <p:spPr>
          <a:xfrm>
            <a:off x="1638360" y="1562040"/>
            <a:ext cx="2019240" cy="520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  <a:ea typeface="Arial"/>
              </a:rPr>
              <a:t>Порядок действий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  <a:ea typeface="Arial"/>
              </a:rPr>
              <a:t>Алгоритмы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Text Box 9"/>
          <p:cNvSpPr/>
          <p:nvPr/>
        </p:nvSpPr>
        <p:spPr>
          <a:xfrm>
            <a:off x="5257800" y="990720"/>
            <a:ext cx="20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  <a:ea typeface="Arial"/>
              </a:rPr>
              <a:t>Порядок операций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Text Box 9"/>
          <p:cNvSpPr/>
          <p:nvPr/>
        </p:nvSpPr>
        <p:spPr>
          <a:xfrm>
            <a:off x="5638680" y="4038480"/>
            <a:ext cx="2514600" cy="1191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Самостоятельное выполнение действий в группе и  индивидуальн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Text Box 9"/>
          <p:cNvSpPr/>
          <p:nvPr/>
        </p:nvSpPr>
        <p:spPr>
          <a:xfrm>
            <a:off x="2209680" y="5638680"/>
            <a:ext cx="5410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Реализация оригинальных замыслов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от идеи через планы и эскизы к результат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Text Box 9"/>
          <p:cNvSpPr/>
          <p:nvPr/>
        </p:nvSpPr>
        <p:spPr>
          <a:xfrm>
            <a:off x="5181480" y="129528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Окружающий ми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Text Box 9"/>
          <p:cNvSpPr/>
          <p:nvPr/>
        </p:nvSpPr>
        <p:spPr>
          <a:xfrm>
            <a:off x="5257800" y="1676520"/>
            <a:ext cx="1752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  <a:ea typeface="Arial"/>
              </a:rPr>
              <a:t>Проведение экспериментов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Text Box 9"/>
          <p:cNvSpPr/>
          <p:nvPr/>
        </p:nvSpPr>
        <p:spPr>
          <a:xfrm>
            <a:off x="990720" y="266688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  <a:ea typeface="Arial"/>
              </a:rPr>
              <a:t>Оценивание результат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Text Box 9"/>
          <p:cNvSpPr/>
          <p:nvPr/>
        </p:nvSpPr>
        <p:spPr>
          <a:xfrm>
            <a:off x="990720" y="4724280"/>
            <a:ext cx="2743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  <a:ea typeface="Arial"/>
              </a:rPr>
              <a:t>Постановка учебной задач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  <a:ea typeface="Arial"/>
              </a:rPr>
              <a:t>Составление плана учебных действий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Прямоугольник 1"/>
          <p:cNvSpPr/>
          <p:nvPr/>
        </p:nvSpPr>
        <p:spPr>
          <a:xfrm>
            <a:off x="1998720" y="1052640"/>
            <a:ext cx="566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Фрагмент урока (целеполагание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539640" y="2637000"/>
          <a:ext cx="8064720" cy="3671640"/>
        </p:xfrm>
        <a:graphic>
          <a:graphicData uri="http://schemas.openxmlformats.org/drawingml/2006/table">
            <a:tbl>
              <a:tblPr/>
              <a:tblGrid>
                <a:gridCol w="2098800"/>
                <a:gridCol w="1941480"/>
                <a:gridCol w="2082960"/>
                <a:gridCol w="1941480"/>
              </a:tblGrid>
              <a:tr h="3671640">
                <a:tc>
                  <a:txBody>
                    <a:bodyPr lIns="59760" rIns="59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2.Целеполагание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Определить тему урока, поставить цель, учебные задачи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-А в математике встречается термин «задача»?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-На странице «Содержание» найдите тему  с этим термином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-Отметьте закладкой эту страницу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-Назовите тему сегодняшнего урока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-О каких задачах мы сегодня говорить на уроке?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- Как вы думаете, что мы должны выяснить о задаче?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-Это будут наши учебные задачи на урок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- Я видел в учебнике слово задача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- «Задача. Условие и требование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- О математических задачах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- Что такое задач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- Как отличать задачи математические и учебные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-Узнать что такое «условие» и «требование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-научиться самим, составлять задач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знавательные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информационные: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иск и извлечение информации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егулятивные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принятие  цели и постановка задач урока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егулятивные (планирование действий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Заголовок 1"/>
          <p:cNvSpPr/>
          <p:nvPr/>
        </p:nvSpPr>
        <p:spPr>
          <a:xfrm>
            <a:off x="115092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Фрагмент урока (планирование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1476360" y="2133720"/>
          <a:ext cx="6719760" cy="3354120"/>
        </p:xfrm>
        <a:graphic>
          <a:graphicData uri="http://schemas.openxmlformats.org/drawingml/2006/table">
            <a:tbl>
              <a:tblPr/>
              <a:tblGrid>
                <a:gridCol w="2187720"/>
                <a:gridCol w="2185920"/>
                <a:gridCol w="2346120"/>
              </a:tblGrid>
              <a:tr h="3354120">
                <a:tc>
                  <a:txBody>
                    <a:bodyPr lIns="59760" rIns="59760" tIns="0" bIns="0" anchor="t">
                      <a:noAutofit/>
                    </a:bodyPr>
                    <a:p>
                      <a:pPr marL="228600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3Планирование  деятельност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-Давайте составим план нашей работы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(на доске символами обозначены пункты плана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ffcc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  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-Что такое задача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-Основные части задачи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 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2. Работа в группе  по учебнику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-Научится находить в задаче УСЛОВИЕ и ТРЕБОВАНИЕ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-научиться составлять задач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3.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	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Самостоятельная работ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в тетрад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5.  Оценка учебных умений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26560" y="620280"/>
            <a:ext cx="7859880" cy="22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0000"/>
                </a:solidFill>
                <a:uFillTx/>
                <a:latin typeface="Arial Black"/>
              </a:rPr>
              <a:t>Коррекция</a:t>
            </a:r>
            <a:br>
              <a:rPr sz="4400"/>
            </a:br>
            <a:r>
              <a:rPr b="0" lang="en-US" sz="2400" spc="-1" strike="noStrike">
                <a:solidFill>
                  <a:srgbClr val="b7e7ff"/>
                </a:solidFill>
                <a:latin typeface="Arial"/>
              </a:rPr>
              <a:t>(в случае расхождения с эталоном)</a:t>
            </a:r>
            <a:br>
              <a:rPr sz="2400"/>
            </a:br>
            <a:br>
              <a:rPr sz="2400"/>
            </a:br>
            <a:r>
              <a:rPr b="0" lang="en-US" sz="3600" spc="-1" strike="noStrike">
                <a:solidFill>
                  <a:srgbClr val="b7e7ff"/>
                </a:solidFill>
                <a:latin typeface="Arial Black"/>
              </a:rPr>
              <a:t>внесение необходимых дополнений  и корректив в :</a:t>
            </a: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985320" y="3393720"/>
            <a:ext cx="7324920" cy="211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</a:rPr>
              <a:t>план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</a:rPr>
              <a:t>способ действия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83800" y="333360"/>
            <a:ext cx="77151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e46c0a"/>
                </a:solidFill>
                <a:uFillTx/>
                <a:latin typeface="Arial Black"/>
              </a:rPr>
              <a:t>Регулятивные универсальные учебные действия </a:t>
            </a:r>
            <a:br>
              <a:rPr sz="3200"/>
            </a:br>
            <a:r>
              <a:rPr b="1" lang="en-US" sz="3200" spc="-1" strike="noStrike">
                <a:solidFill>
                  <a:srgbClr val="b7e7ff"/>
                </a:solidFill>
                <a:latin typeface="Arial"/>
              </a:rPr>
              <a:t>отражают</a:t>
            </a:r>
            <a:endParaRPr b="0" lang="en-US" sz="32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10920" y="1846440"/>
            <a:ext cx="7986600" cy="394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пособность обучающегося строить учебно-познавательную деятельность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учитывая все е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ё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компоненты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 algn="ctr">
              <a:spcBef>
                <a:spcPts val="675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ЦЕЛЬ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 algn="ctr">
              <a:spcBef>
                <a:spcPts val="675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МОТИВ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 algn="ctr">
              <a:spcBef>
                <a:spcPts val="675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ПРОГНОЗ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 algn="ctr">
              <a:spcBef>
                <a:spcPts val="675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СРЕДСТВА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 algn="ctr">
              <a:spcBef>
                <a:spcPts val="675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КОНТРОЛЬ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ОЦЕНКА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3040" y="228600"/>
            <a:ext cx="79786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7e7ff"/>
                </a:solidFill>
                <a:latin typeface="Arial Black"/>
              </a:rPr>
              <a:t>ИСТОЧНИКИ:</a:t>
            </a:r>
            <a:endParaRPr b="0" lang="en-US" sz="2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22" name="Text Box 10"/>
          <p:cNvSpPr/>
          <p:nvPr/>
        </p:nvSpPr>
        <p:spPr>
          <a:xfrm>
            <a:off x="971640" y="1484280"/>
            <a:ext cx="7129440" cy="24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Литератур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. Как проектировать универсальные учебные действия в начально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школе. От действия к мысли: пособие для учителя/ Под ред. А.Г. Асмолов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-е изд. – М.: Просвещение, 2010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0000"/>
                </a:solidFill>
                <a:uFillTx/>
                <a:latin typeface="Arial Black"/>
              </a:rPr>
              <a:t>Целеполагание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983960"/>
            <a:ext cx="7986600" cy="35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постановка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 Black"/>
              </a:rPr>
              <a:t>учебной </a:t>
            </a: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задачи: соотнесение того, что уже известно и усвоено, и того, что ещё неизвестн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0000"/>
                </a:solidFill>
                <a:uFillTx/>
                <a:latin typeface="Arial Black"/>
              </a:rPr>
              <a:t>Принятие цели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983960"/>
            <a:ext cx="7986600" cy="35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Black"/>
              </a:rPr>
              <a:t>Зачем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Black"/>
              </a:rPr>
              <a:t>Где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Black"/>
              </a:rPr>
              <a:t>Для чего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0000"/>
                </a:solidFill>
                <a:uFillTx/>
                <a:latin typeface="Arial Black"/>
              </a:rPr>
              <a:t>Приёмы принятия цели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755640" y="1483920"/>
            <a:ext cx="769608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личный жизненный опыт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Создание проблемной ситуации в процессе целеполагания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Моделирование цели урока, введение понятия учебная задач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Использование игрового материал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95280" y="76500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0000"/>
                </a:solidFill>
                <a:uFillTx/>
                <a:latin typeface="Arial Black"/>
              </a:rPr>
              <a:t>Самоконтроль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761760" y="1676160"/>
            <a:ext cx="80802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Контроль за правильностью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и полнотой выполнения операций, входящих в состав действи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95280" y="76500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0000"/>
                </a:solidFill>
                <a:uFillTx/>
                <a:latin typeface="Arial Black"/>
              </a:rPr>
              <a:t>Самооценка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761760" y="1676160"/>
            <a:ext cx="80802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сличение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с заданным эталоном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а)способа действия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       </a:t>
            </a: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б) результата действия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95280" y="76500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0000"/>
                </a:solidFill>
                <a:uFillTx/>
                <a:latin typeface="Arial Black"/>
              </a:rPr>
              <a:t>Критерии самооценки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761760" y="1676160"/>
            <a:ext cx="80802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Black"/>
              </a:rPr>
              <a:t>«+» - знаю;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Black"/>
              </a:rPr>
              <a:t>«-» - не знаю;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Black"/>
              </a:rPr>
              <a:t>«?» - сомневаюсь;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786800" cy="12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Выпускник научится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ринимать и сохранять учебную задачу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учитывать выделенные учителем ориентиры действия в новом учебном материале в сотрудничестве с учителем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ланировать свои действия в соответствии с поставленной задачей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существлять пошаговый контроль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адекватно воспринимать оценку учител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2" descr=""/>
          <p:cNvPicPr/>
          <p:nvPr/>
        </p:nvPicPr>
        <p:blipFill>
          <a:blip r:embed="rId2"/>
          <a:stretch/>
        </p:blipFill>
        <p:spPr>
          <a:xfrm>
            <a:off x="684360" y="549360"/>
            <a:ext cx="7835760" cy="5877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02T23:19:04Z</dcterms:created>
  <dc:creator>natasha23</dc:creator>
  <dc:description/>
  <dc:language>en-US</dc:language>
  <cp:lastModifiedBy>Пятерочка</cp:lastModifiedBy>
  <dcterms:modified xsi:type="dcterms:W3CDTF">2015-10-09T05:48:27Z</dcterms:modified>
  <cp:revision>60</cp:revision>
  <dc:subject/>
  <dc:title>Слайд 1</dc:title>
</cp:coreProperties>
</file>