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76B2-D1F1-4755-B127-DC7B532CF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3D9D-6884-4AE7-BC62-A0306684AC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A49A-0DA0-43FC-98D9-B0E6FDA617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CFE3-1ED8-4F03-A702-BA2AED4536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3F9B-5430-484B-8077-9C95C30356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93D-AB1C-42A5-BA64-0630E3D774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199-7206-49F6-8CC4-95CC88ABAE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FDA-E41D-4874-AA5A-6842840A23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727A-668E-46E6-B537-E5FFB63413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28D8-02EE-4364-8DDC-978A259DF9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85D3-74D5-4273-AE26-45970FA4DB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44C6-7A37-4E9C-9479-62B5B5610D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9E3A-9ABF-4249-A5CC-4B280638C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C99-EE53-44CE-9CD1-23D5F623D7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EFA1-3722-4418-88CB-A40524DCC3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039-8408-4546-A357-3D2506CA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B00-2F70-4D9D-A7DC-4B44A5A0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CE8-FFAE-482E-8B64-5643BDBA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53D-38D8-4025-96B9-1B77549F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2DCC-08A2-48C4-8EB5-68252D0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F7D1-E858-41E6-94D7-28A18DC9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2F9E-595D-4B2A-A1D1-95498A2A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B259-A39A-4BCC-8DE3-122E4C57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5FBD-5EE9-4D09-8DA6-FC12022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0449-EA1D-4333-B207-CDD12C4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E6DE-F82F-4ACF-A31C-02FC1B9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09E-A39D-4125-93A6-F290D73B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0A36-C1D9-4CCB-8C6B-CD58E9D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0D94-ACF3-46CB-8283-DEBD031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20A4-AE58-4A07-9448-D19A667B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98C2-3BD8-48A6-9380-48773052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BC9-338B-4398-BCE9-B4558237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B268-49E0-49E5-99CD-C0A9C287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CE54-6FA4-4DF4-88BB-0D96051E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AE71-D863-44DE-9AC6-07E9848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3342-2767-433F-9841-D25D51F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4BE4-AF57-4E9D-828F-24D92DD0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0FA-1C72-45F6-B245-9DEA2DFE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947B-6D64-43A4-B075-8B7CE334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4436-B6CF-497C-A42D-A92E43B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2A01-FC7A-4936-BA4D-1D0F13F4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46D6-3F77-4221-83C5-940BC97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5636-EFCB-4159-A525-24E78D10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5C45-DA2D-4159-8EDD-C9C12A2D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D851-CA7E-459E-A399-0329B59D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5566-D247-471D-8F5E-09D698C4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17EF-CBB4-46FE-BBD1-ADF6E63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0ECE-8536-4E99-B097-12E4A0F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35B-7479-42DA-9AFB-4E618C0B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6B8C-6D8F-4AC7-98A1-97A9DF7C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312B-C571-48C8-B415-8515E8CE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5879-59CE-4A5D-BED6-F2A5CA3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A122-9D7C-4493-81C4-7A741F2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3A7F-318F-4547-A16B-79626F53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3244-09E8-4311-8143-686333E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1216-B24C-429D-9238-36CA497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CC92-CE34-4EB3-AFA7-BC4F7094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4158-01E5-49F3-9D1B-3098CAB0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2A0-1B86-43DB-827F-62F5EAA6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452-8886-4C95-9E69-88FD394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651-BF39-4978-9BAB-E77707E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C59-B609-406B-8E85-F628A98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8ED-2C90-4FE5-8C1B-374C361E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BA9C-217F-4ED0-A66B-BA7D7D813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8B72-4AB3-409F-A0C7-699A7FFA2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A825-FDBE-4DB4-83E0-2AF1908E2B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D090-AA48-461B-9D00-BFE9515B19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132000" y="141300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Самостоятельное обу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9"/>
          <p:cNvSpPr/>
          <p:nvPr/>
        </p:nvSpPr>
        <p:spPr>
          <a:xfrm>
            <a:off x="2506680" y="152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е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49280" y="2209680"/>
            <a:ext cx="30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8145360" y="2286000"/>
            <a:ext cx="30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неуро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432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ы и жизненные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8602560" y="228600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83016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 flipH="1">
            <a:off x="594288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41148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 flipV="1">
            <a:off x="4106880" y="609480"/>
            <a:ext cx="533520" cy="1905120"/>
          </a:xfrm>
          <a:prstGeom prst="upArrow">
            <a:avLst>
              <a:gd name="adj1" fmla="val 50000"/>
              <a:gd name="adj2" fmla="val 8927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819520" y="2819520"/>
            <a:ext cx="3276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Регулятивные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838080" y="2057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я оцени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14400" y="3733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роблемно-диалогическая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638360" y="615960"/>
            <a:ext cx="20192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Математика, Информат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Рус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510552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638360" y="1562040"/>
            <a:ext cx="20192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действ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Алгорит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257800" y="990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опе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638680" y="403848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Самостоятельное выполнение действий в группе и  индивиду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09680" y="56386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оригинальных замысл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от идеи через планы и эскизы к результ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181480" y="1295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Окружающий м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257800" y="1676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роведение экспери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990720" y="2666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Оценивание результ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990720" y="4724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Постановка учебной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Составление плана учебных действ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1998720" y="1052640"/>
            <a:ext cx="56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гмент урока (целеполага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640" y="2637000"/>
          <a:ext cx="8064720" cy="3671640"/>
        </p:xfrm>
        <a:graphic>
          <a:graphicData uri="http://schemas.openxmlformats.org/drawingml/2006/table">
            <a:tbl>
              <a:tblPr/>
              <a:tblGrid>
                <a:gridCol w="2098800"/>
                <a:gridCol w="1941480"/>
                <a:gridCol w="2082960"/>
                <a:gridCol w="1941480"/>
              </a:tblGrid>
              <a:tr h="367164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Целеполаг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ределить тему урока, поставить цель, учебные задач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А в математике встречается термин «задача»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 странице «Содержание» найдите тему  с этим термин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тметьте закладкой эту страниц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зовите тему сегодняшнего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 каких задачах мы сегодня говорить на урок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Как вы думаете, что мы должны выяснить о задач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Это будут наши учебные задачи на ур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Я видел в учебнике слово задач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«Задача. Условие и требован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О математических задач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Что такое задач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 Как отличать задачи математические и учебны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Узнать что такое «условие» и «требован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учиться самим, составлять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информационны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и извлечение информаци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инятие  цели и постановка задач урок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 (планирование действ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рагмент урока (планировани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76360" y="2133720"/>
          <a:ext cx="6719760" cy="3354120"/>
        </p:xfrm>
        <a:graphic>
          <a:graphicData uri="http://schemas.openxmlformats.org/drawingml/2006/table">
            <a:tbl>
              <a:tblPr/>
              <a:tblGrid>
                <a:gridCol w="2187720"/>
                <a:gridCol w="2185920"/>
                <a:gridCol w="2346120"/>
              </a:tblGrid>
              <a:tr h="3354120">
                <a:tc>
                  <a:txBody>
                    <a:bodyPr lIns="59760" rIns="59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Планирование 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Давайте составим план нашей работ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на доске символами обозначены пункты пла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ffcc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Что такое задач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сновные части задач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 Работа в группе  по учебни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учится находить в задаче УСЛОВИЕ и ТРЕБ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научиться составлять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амостояте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 тетрад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  Оценка учебных ум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Коррекция</a:t>
            </a:r>
            <a:br>
              <a:rPr sz="4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(в случае расхождения с эталоном)</a:t>
            </a:r>
            <a:br>
              <a:rPr sz="2400"/>
            </a:br>
            <a:br>
              <a:rPr sz="2400"/>
            </a:br>
            <a:r>
              <a:rPr b="0" lang="en-US" sz="3600" spc="-1" strike="noStrike">
                <a:solidFill>
                  <a:srgbClr val="b7e7ff"/>
                </a:solidFill>
                <a:latin typeface="Arial Black"/>
              </a:rPr>
              <a:t>внесение необходимых дополнений  и корректив в 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85320" y="3393720"/>
            <a:ext cx="732492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план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способ действ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83800" y="33336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ниверсальные учебные действия </a:t>
            </a:r>
            <a:br>
              <a:rPr sz="3200"/>
            </a:b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отражают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1846440"/>
            <a:ext cx="7986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ность обучающегося строить учебно-познавательную деятель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ывая все 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компон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МОТИ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ГНОЗ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ОЦЕНКА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3040" y="228600"/>
            <a:ext cx="7978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 Black"/>
              </a:rPr>
              <a:t>ИСТОЧНИКИ: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971640" y="1484280"/>
            <a:ext cx="7129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 проектировать универсальные учебные действия в нач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е. От действия к мысли: пособие для учителя/ Под ред. А.Г. Асмол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-е изд. – М.: Просвещение, 20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Целеполаг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983960"/>
            <a:ext cx="7986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остановка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учебной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задачи: соотнесение того, что уже известно и усвоено, и того, что ещё неизвест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Принятие це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983960"/>
            <a:ext cx="7986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Заче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д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Для чег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Приёмы принятия це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личный жизненный опы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здание проблемной ситуации в процессе целеполаг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делирование цели урока, введение понятия учебная задач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пользование игрового материа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Самоконтр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Контроль за правиль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и полнотой выполнения операций, входящих в состав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Самооце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лич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 заданным эталон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)способа дей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б) результата действ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Критерии самооцен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+» - знаю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-» - не знаю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?» - сомневаюсь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ускник научи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имать и сохранять учебную задач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ровать свои действия в соответствии с поставленной задач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уществлять пошаговый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екватно воспринимать оценку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835760" cy="587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Пятерочка</cp:lastModifiedBy>
  <dcterms:modified xsi:type="dcterms:W3CDTF">2015-10-09T05:48:27Z</dcterms:modified>
  <cp:revision>60</cp:revision>
  <dc:subject/>
  <dc:title>Слайд 1</dc:title>
</cp:coreProperties>
</file>