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7C5-2839-4350-BC3A-6B563FBD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05A-02BE-4A99-8119-B03FBDEB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E71-C608-41AD-84BD-8F84BA32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5FF-BB0A-4E12-A22A-0DE873A6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111B-3A9D-4421-88A8-18BE91D9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6FA8-71B1-4C87-9335-EB8B0EC4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E89A-DF2B-4063-B3CA-70333E69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0851-291B-4B52-BF30-0B79F1F3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4C24-A62B-473C-B7F5-E912413D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77E5-561D-4EF2-85A1-1D0791D5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3C5D-D811-4EEE-9156-53FA1C29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AA0-5A50-4761-AF7D-F1759AEB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0407-9DBA-4035-B19F-C9155CB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7A47-EF12-48C0-8F88-828DD277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6702-85D6-4F6C-962B-A357FD4E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78A1-E7BD-449F-83FD-5D75DE5D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BD21-D380-4CD0-9B60-B9EBDE2D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503-6080-4048-9138-CE65D08B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D81-FD30-4933-8F19-CB35F69C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82B-008B-49CD-A6E1-723CF581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2DA-4892-4866-A568-9F757660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1AF-D3C7-4B23-87A7-F967C4C2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2E6-CBA5-4680-80CB-BF6948FE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5F8-98AC-4526-86AA-54E6F17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5DB4-D76C-42F4-B77A-AF585418D20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2A8E-0624-46AD-AA41-398C202ECED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 вокруг нас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3 клас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читель начальных классо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лисеева Светлана Алексеев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БОУ СОШ им.В.С.Юдина с.Новый Буя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219320"/>
            <a:ext cx="7315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ое кольцо Росси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8600" y="685800"/>
            <a:ext cx="4495680" cy="5516640"/>
            <a:chOff x="228600" y="685800"/>
            <a:chExt cx="4495680" cy="551664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449568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 txBox="1"/>
            <p:nvPr/>
          </p:nvSpPr>
          <p:spPr>
            <a:xfrm>
              <a:off x="228600" y="685800"/>
              <a:ext cx="4495680" cy="551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Шатровая церковь Зосимы и Савватия над Больничными палатами (1635-1638 гг.) и ротонда Смоленской церкви (18 в.), позади которой, в центре кадра, видна Каличья башн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орицкий Успенский монастыр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480" y="1600200"/>
            <a:ext cx="3581640" cy="4530600"/>
            <a:chOff x="609480" y="1600200"/>
            <a:chExt cx="3581640" cy="45306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09480" y="1600200"/>
              <a:ext cx="358164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 txBox="1"/>
            <p:nvPr/>
          </p:nvSpPr>
          <p:spPr>
            <a:xfrm>
              <a:off x="609480" y="1600200"/>
              <a:ext cx="358164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1600200"/>
            <a:ext cx="3429000" cy="4530600"/>
            <a:chOff x="4876920" y="1600200"/>
            <a:chExt cx="3429000" cy="453060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876920" y="1600200"/>
              <a:ext cx="342900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 txBox="1"/>
            <p:nvPr/>
          </p:nvSpPr>
          <p:spPr>
            <a:xfrm>
              <a:off x="4876920" y="1600200"/>
              <a:ext cx="342900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2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7200" y="685800"/>
            <a:ext cx="4038480" cy="5440320"/>
            <a:chOff x="457200" y="685800"/>
            <a:chExt cx="4038480" cy="54403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7200" y="685800"/>
              <a:ext cx="4038480" cy="54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 txBox="1"/>
            <p:nvPr/>
          </p:nvSpPr>
          <p:spPr>
            <a:xfrm>
              <a:off x="457200" y="685800"/>
              <a:ext cx="4038480" cy="544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нсамбль Троицко-Данилова монастыря. Слева — Троицкий собор (1530-32), рядом — шатровая колокольня (1689), справа — церковь Всех Святых (1687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амятники гражданской архитектур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амятники гражданской архитектуры: особняк Темериных (вторая половина 18 в.), Гостиный двор, Усадьба «Ботик» с каменным обелиском в честь Петра I (здесь хранится его маленький корабль — бот «Фортуна»). В 1920 е гг. в Переславле-Залесском бывал М. М. Пришвин. Близ города усадьба Ф. И. Шаляпина, дача художника К. А. Коровина. Как отзвук древних языческих времен вблизи города находится Александрова гора, верхушка которой именуется в народе Ярилина Плешь, а у подножия ее лежит легендарный Синь-Камень, место поклонения язычников — племени меря и первых славян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сторико-художественный музей (основан в 1918, находится в Училищном корпусе Горицкого монастыря) объединяет: Краеведческий музей, картинную галерею имени Д. Н. Кардовского, усадьбу «Ботик» и Горки-Переславск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Первое упоминание в «Повести временных лет». В 988 в Ростове княжил Ярослав Мудрый. При князе Константине Всеволодовиче (1186-1219) город пережил особый расцвет политической и культурной жизни. Один из центров Ростово-Суздальской земли. С 1207 столица Ростовского княжества. С 12 по 17 в. — Ростов Великий. Неоднократно подвергался разорительным набегам татаро-монгол. Один из центров летописания. Особый интерес представляет летописный свод княгини Марии, вдовы князя Василька, написанный ею как некролог русским князьям, казненным татарами. Основала монастырь Спаса на Песках в 13 в. (Княгинин), где будучи монахиней и составила этот свод. В 15 в. Ростов вошел в состав Московского княжества, а в 16 в. Иван IV взял этот город в «опричнину». С 1589-1788 Ростов — резиденция Ростовских митрополитов. В конце 17 в. при митрополите Ионе Сысоевиче была возведена резиденция Ростовских митрополитов, которую с 19 в. стали именовать Ростовским Кремлем. С 1796 Ростов уездный город Ярославской губернии. С 18 в. — крупный торгово-ярмарочный центр. Во второй половине 18 века в Ростове возникает художественный промысел финифти, по своей технике относящийся к эмали живописной, то есть к миниатюрной живописи по эмали. В 1870 железная дорога связала Ростов с Москво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057400" y="228600"/>
            <a:ext cx="5410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ст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амятники архитекту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пасо-Яковлевский монастырь. 17-19 в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Церковь Одигитрии. 1698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09480" y="2743200"/>
            <a:ext cx="3048120" cy="3809880"/>
            <a:chOff x="609480" y="2743200"/>
            <a:chExt cx="3048120" cy="38098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09480" y="2743200"/>
              <a:ext cx="30481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 txBox="1"/>
            <p:nvPr/>
          </p:nvSpPr>
          <p:spPr>
            <a:xfrm>
              <a:off x="609480" y="2743200"/>
              <a:ext cx="3048120" cy="38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800600" y="2743200"/>
            <a:ext cx="3352680" cy="3733920"/>
            <a:chOff x="4800600" y="2743200"/>
            <a:chExt cx="3352680" cy="373392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4800600" y="2743200"/>
              <a:ext cx="335268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 txBox="1"/>
            <p:nvPr/>
          </p:nvSpPr>
          <p:spPr>
            <a:xfrm>
              <a:off x="4800600" y="2743200"/>
              <a:ext cx="3352680" cy="373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борная площадь с величественным Успенским собором (ок. 1589) и звонницей (1680-е гг.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505320" cy="4495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Ярославо-Ростовский историко-архитектурный и художественный музей-заповедник. Размещается в Ростовском Кремл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Основан в 1010 князем Ярославом Мудрым на месте селения Медвежий Угол при слиянии речки Которосли с рекой Волгой. Имел задачей охрану пути от Волги к Ростову. Впервые упоминается в летописи под 1071 годом. С 1218 — столица Ярославского княжества. В 1463 Ярославль присоединен к Московскому княжеству. В 1612, с апреля по июнь, в Ярославле находилось ополчение Козьмы Минина и Дмитрия Пожарского. В 18 в. Ярославль — крупный торговый и ремесленный центр, ведется каменное строительство, складываются самобытные школы каменного зодчества, настенных росписей, процветают ремесла. Ярославль — важный центр мануфактурной промышленности. С 1796 — губернский центр. В 1805 промышленником П. Г. Демидовым (см. Демидовы) было основано училище Высших наук, преобразованное в 1833 в лицей. В 1870-98 Ярославль был связан сетью железных дорог с Москвой, Вологдой, Костромой, Петербургом. В 1900 в городе пущен первый трамва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152280"/>
            <a:ext cx="6553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рославл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амятники архитектур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Церковь Ильи Пророка была заложена в 1647 году именитыми купцами «гостинной сотни» Скрипиными и построена за три года.  В интерьере фрески 1680-1681 годов, резная надпрестольная сень 1654 год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веденский собор (1681-1688) с колокольней Толгского монастыря (1683-1685, 1826). Вид с юго-запад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733920" cy="3581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пасский монастыр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1600200"/>
            <a:ext cx="4038480" cy="4530600"/>
            <a:chOff x="457200" y="1600200"/>
            <a:chExt cx="4038480" cy="45306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45720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ЗОЛОТОЕ КОЛЬЦО РОССИИ», (в древности Залесье), туристический маршрут, включающий сеть древнерусских городов: Сергиев Посад, Переславль-Залесский, Ростов Великий, Ярославль, Кострома, Плес, Владимир, Боголюбово, Суздаль, Юрьев-Польской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глич. Название Залесье прежде всего географическое, оно подразумевало все то, что находилось «за лесом» по отношению к Киевской Рус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уристический маршрут (действует с начала 1970), проложенный по историческим городам, проходит по территории пяти областей — Московской, Ярославской, Костромской, Ивановской, Владимирск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ровницкая слобо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600200"/>
            <a:ext cx="4038480" cy="4525920"/>
            <a:chOff x="304920" y="1600200"/>
            <a:chExt cx="4038480" cy="452592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3049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 txBox="1"/>
            <p:nvPr/>
          </p:nvSpPr>
          <p:spPr>
            <a:xfrm>
              <a:off x="3049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800600" y="1600200"/>
            <a:ext cx="4038480" cy="4495680"/>
            <a:chOff x="4800600" y="1600200"/>
            <a:chExt cx="4038480" cy="449568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80060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 txBox="1"/>
            <p:nvPr/>
          </p:nvSpPr>
          <p:spPr>
            <a:xfrm>
              <a:off x="480060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По местной Супоневской летописи был основан в 937, в Ипатьевской летописи упоминается под 1148. Один из древнейших городов России. К началу 13 в. Углич — крупный город Владимиро-Суздальского княжества. С 1207 входил в состав Ростовского, а с 1218 стал столицей Угличского удельного княжества. Жители Углича в Куликовской битве участвовали на стороне Москвы в дружине Владимира Андреевича Храброго В 1608-1611 город был разрушен и сожжен польскими интервентами. С 1796 — уездный город Ярославской губернии. С  развитием железных дорог оказался в стороне от оживленных торговых путе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828800" y="22860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гли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рхитектурные памятн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нсамбль кремля. Церковь св. Димитрия (1683-92, на переднем плане) и Спасо-Преображенский собор (1485, перестроен в 1713) с колокольн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пасо-Преображенский собор с колокольне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3047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505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2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Ансамбль зданий Воскресенского монастыря: Воскресенский собор, звонница, трапезная с церковь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лексеевский монастыр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глич — родина изобретателя, конструктора волжских пароходов В. И. Калашникова, в деревне Новоселово недалеко от Углича родился народный поэт И. З. Суриков. Здесь бывали художники В. Н. и В. В. Мешковы, Н. К. Рерих, К. Ф. Юон, М. В. Нестеров, писатели А. В. Сухово-Кобылин, С. Т. Аксаков, М. Е. Салтыков-Щедрин, поэт Ф. Жуковский, драматург А. Н. Островский, историк М. П. Погодин. В конце 19 в. в Угличе открылись музей древностей, Публичная библиотека, историко-художественный музей с картинной галереей (1892), появилось Театральное общество, душой которого кружка был Михаил Чех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Основание города приписывается князю Юрию Долгорукому (1152). Улицы города расположены в виде веера(по легенде императрица Екатерина 2 приказала перестроить город, когда ее спросили, какой она хочет  видеть Кострому, императрица развернула веер. Город и сделали таким необычным.) В 1613 во время польско-литовской интервенции на Костромской земле совершил свой подвиг уроженец этих мест — Иван Сусанин. В 16-17 вв. один из крупных городов, там были развиты ремесла: кожевенное, кузнечное, серебряное, разные виды текстильного ремесла, кирпичное дело, развивалась архитектура и живопись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05120" y="380880"/>
            <a:ext cx="5105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стро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хитектурные и исторические памятник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Церковь Воскресения на Дебре. 1651. Костром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патьевский монастыр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429000" cy="3504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504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алаты бояр Романовых. Архитектор Ф. Ф. Рихтер. 1863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914400"/>
            <a:ext cx="403848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ожарная каланча. Архитектор П. И. Фурсов.1823-1827. Кострома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581280" cy="4038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3657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Основан Василием I как пограничный форпост Московского княжества в 1410. Стоит на Ростово-Плесской моренной гряде (название произошло от речного плеса, т.е. широкая часть реки между двумя изгибами).Это город художников, их привлекает необыкновенная красота города и его окрестностей. Особенно любил Плес рус.художник Исаак Ильич Левитан. Сейчас в городе открыт музей И.И.Левитана.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981080" y="38088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е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рхитектурные памятн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оскресенская церковь, построенная в 1817 году, с видом на Волгу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лес. Церковь Варвары Великомученицы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352680" cy="3581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История города тесно связана с историей Троице-Сергиева монастыря (Троице-Сергиевой лавры), основанного преподобным Сергием Радонежским в 14 в. Здесь игумен Сергий в 1380 благословил на Куликовскую битву московского князя Дмитрия Донского. Среди участников Куликовской битвы были и двое легендарных богатырей-монахов Троицкой обители Александр Пересвет(боярин Бронский) и Родион (Андриан) Ослябя. На протяжении столетий монастырь являлся крупнейшим религиозным и культурным центром русского государства. В нем работали иконописцы Андрей Рублев и Даниил Черны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71600" y="228600"/>
            <a:ext cx="6477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гиев Поса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2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Мемориальный дом-музей И. И. Левитана. Интерьер комнаты С. П. Кувшинниковой, друга и ученицы художни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Церковь Воскресения расположена на небольшом холме в центре город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504960" cy="4114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, во Владимиро-Суздальский историко-художественный и архитектурный музей-заповедник.  В 12 в. при Юрии Долгоруком — столица Ростово-Суздальского княжества. Здесь 33церкви,5 монастырей, 17 часовен. В городе есть Знаменитый Музей зодчества, где собраны старинные постройки из дерева- церкви, избы, мельница и д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уздаль — родина Д. И. Виноградова, изобретателя отечественного фарфора, государственного деятеля М. М. Сперанского, поэта А. К. Гастева, поэта А. Лебедев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828800" y="380880"/>
            <a:ext cx="5105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здал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рхитектурные памятн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уздальский кремль с южной сторо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Торгово-ремесленный посад Суздаля — это и центральная торговая площадь, и живописные парные («зимняя» и «летняя») церкви, и жилые дома посадских люде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05320" cy="3886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7335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6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изоположенский собор построенный в 16 веке, имел первоначально строгий и сдержанный облик, но в 1688 году был окружен с юга и      запада галере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Гостиный двор. Парадные ворота. 1811 год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962520" cy="4038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7339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ходит в Золотое кольцо России. Владимир основан в 1108 Владимиром Мономахом  на высоком берегу реки Клязьмы.  В 12 в. во Владимире и Суздале складывается своя художественная школа живописи и зодчества. Ведется летописание. В 1238 Владимир был захвачен и разорен татаро-монголами.  Владимир — политический, религиозный и культурный центр Северо-Восточной Руси. В 1252 Александр Невский становится Великим князем Владимирским.  В 1858-62 через Владимир прошла железная дорог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ладимир — родина адмирала М. П. Лазарева, физика А. Г. Столетова, героя Шипки — его брата Н. Г. Столетова, композитора С. И. Танеева, писателя Н. Н. Златовратског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371600" y="3808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адими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рхитектурные памятн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спенский собор во Владимире, построенный (из белого тесаного камня) по заказу князя Андрея Боголюбского в 1158-60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Купола Успенского соб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3429000" cy="3581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6576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2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ладимир. Церковь Спаса. 18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ладимир. Никитская церковь. 1762-1765 год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4724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РОИЦЕ-СЕРГИЕВА ЛАВРА, крупнейший русский монастырь; православный, мужской, в Сергиевом посаде Московской области. Основан преподобным Сергием Радонежским в середине 14 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380880"/>
            <a:ext cx="4572000" cy="6019920"/>
            <a:chOff x="228600" y="380880"/>
            <a:chExt cx="4572000" cy="601992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228600" y="380880"/>
              <a:ext cx="457200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228600" y="380880"/>
              <a:ext cx="4572000" cy="601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457200"/>
            <a:ext cx="4495680" cy="5943600"/>
            <a:chOff x="457200" y="457200"/>
            <a:chExt cx="4495680" cy="59436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44956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 txBox="1"/>
            <p:nvPr/>
          </p:nvSpPr>
          <p:spPr>
            <a:xfrm>
              <a:off x="457200" y="457200"/>
              <a:ext cx="4495680" cy="594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53352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роице-Сергиева лавра. Церковь Сошествия Святого Духа построена псковскими мастерами в 1476 году и представляет собой древний тип храма, совмещающего церковь и звонницу. Большая луковичная глава относится к 18 век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609480"/>
            <a:ext cx="4495680" cy="5592960"/>
            <a:chOff x="457200" y="609480"/>
            <a:chExt cx="4495680" cy="559296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4495680" cy="559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609480"/>
              <a:ext cx="4495680" cy="559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роице-Сергиева лавра. 88-метровая колокольня (1740-1770) получила славу «красивейшей на Руси». Ее сооружение связано с именами зодчих И. Ф. Мичурина (определил место здания и возвел его на высоту трех ярусов) и Д. В. Ухтомског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ходит в «Золотое кольцо» России. Город основан как крепость на южных границах Северо-Восточной Руси князем Юрием Долгоруким по возвращении из похода на город Чернигов. Имел оборонительные сооружения с высоким валом (до 10 метров), двойные деревянные стены (не сохранились) с 12 башнями, три из которых были проездными. Укрепления прикрывала река Трубеж, а также большой ров, называвшийся рекой Гроблей. Переславль был центром Переславского Ополья — плодородного земледельческого района. В Переславле в мае 1220 родился Александр Невский, жизнь которого тесно связана с историей этого города. До начала 15 в. неоднократно подвергался опустошительным набегам татаро-монго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680" y="22860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славль Залесски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8600" y="533520"/>
            <a:ext cx="4267080" cy="5790960"/>
            <a:chOff x="228600" y="533520"/>
            <a:chExt cx="4267080" cy="57909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28600" y="533520"/>
              <a:ext cx="426708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228600" y="533520"/>
              <a:ext cx="4267080" cy="579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узей-усадьба Ботик у села Веськово, где стоял Деловой двор Петра 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" y="762120"/>
            <a:ext cx="4495680" cy="5516280"/>
            <a:chOff x="457200" y="762120"/>
            <a:chExt cx="4495680" cy="55162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57200" y="762120"/>
              <a:ext cx="4495680" cy="55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457200" y="762120"/>
              <a:ext cx="4495680" cy="551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ереславль-Залесский. Церковь Петра митрополита. Вид со стороны колокольн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09T17:04:4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