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image7.jpeg" ContentType="image/jpeg"/>
  <Override PartName="/ppt/media/image15.gif" ContentType="image/gif"/>
  <Override PartName="/ppt/media/image3.jpeg" ContentType="image/jpeg"/>
  <Override PartName="/ppt/media/ricochet.wav" ContentType="audio/x-wav"/>
  <Override PartName="/ppt/media/image2.png" ContentType="image/png"/>
  <Override PartName="/ppt/media/image4.jpeg" ContentType="image/jpeg"/>
  <Override PartName="/ppt/media/image1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66E-624C-4D05-83CE-8C3EAC83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164-47BC-439F-9EE7-81508F27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A46-A31A-4D21-8E1E-F2C98F4C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9CE-D396-41ED-BC1E-CF9F71E7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C1BE-0A63-4B1F-9CAB-45777A5E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6DC7-F410-4EC3-A86C-2516BF86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E633-544D-4243-9414-4259A289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C964-3345-497E-8AC7-C4A4C2A8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C6F9-9CDC-4704-9151-1609859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FD7F-5549-417D-A386-F5D93D1E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1983-9B73-4B24-BB06-AED82A24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702-8F5D-433A-B56B-DB8FAC26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8758-5251-41BD-9628-D258E527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0657-3D29-47FE-8B56-AA308C36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91DC-9FE5-4A1A-98D4-48B41AB0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A11F-A443-49DB-8052-FB6D4CCC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9286-84B8-4DD8-9CA5-1A79EABB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59C-3DE8-4507-AD34-3C3DB505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3FE-7400-4BEC-ACC4-1A06F056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DE0-F9E0-454A-9613-05D7BCF6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A0A-D587-4DD7-B787-5B3E7F7D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008-78FC-468E-84E7-CBFD8205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6DC-56FF-4BF6-AF19-8FCE5294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252-2497-4C30-8DA0-1C94C717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5DA4-DAA1-4AC8-8E94-821EF051B1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05E3-0FE6-4078-99DC-7D9DAEC08A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earth.jpg.html" TargetMode="External"/><Relationship Id="rId2" Type="http://schemas.openxmlformats.org/officeDocument/2006/relationships/hyperlink" Target="http://astro.physfac.bspu.secna.ru/SolarSys/earth.jpg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mars.jpg.html" TargetMode="External"/><Relationship Id="rId2" Type="http://schemas.openxmlformats.org/officeDocument/2006/relationships/hyperlink" Target="http://astro.physfac.bspu.secna.ru/SolarSys/mars.jpg.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jupiter.jpg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saturn.jpg.html" TargetMode="External"/><Relationship Id="rId2" Type="http://schemas.openxmlformats.org/officeDocument/2006/relationships/hyperlink" Target="http://astro.physfac.bspu.secna.ru/SolarSys/saturn.jpg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uranus.jpg.html" TargetMode="External"/><Relationship Id="rId2" Type="http://schemas.openxmlformats.org/officeDocument/2006/relationships/hyperlink" Target="http://astro.physfac.bspu.secna.ru/SolarSys/uranus.jpg.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neptun.jpg.html" TargetMode="External"/><Relationship Id="rId2" Type="http://schemas.openxmlformats.org/officeDocument/2006/relationships/hyperlink" Target="http://astro.physfac.bspu.secna.ru/SolarSys/neptun.jpg.html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neptun.jpg.html" TargetMode="External"/><Relationship Id="rId2" Type="http://schemas.openxmlformats.org/officeDocument/2006/relationships/hyperlink" Target="http://astro.physfac.bspu.secna.ru/SolarSys/pluto.jpg.html" TargetMode="External"/><Relationship Id="rId3" Type="http://schemas.openxmlformats.org/officeDocument/2006/relationships/hyperlink" Target="http://astro.physfac.bspu.secna.ru/SolarSys/pluto.jpg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mercury.jpg.html" TargetMode="External"/><Relationship Id="rId2" Type="http://schemas.openxmlformats.org/officeDocument/2006/relationships/hyperlink" Target="http://astro.physfac.bspu.secna.ru/SolarSys/mercury.jpg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МИР  ВОКРУГ  НАС   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4 КЛАС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51348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ГБОУ СОШ им.В.С.Юдина с.Новый Буян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читель начальных классов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Елисеева Светлана Алексеев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1425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925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425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Венера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Венеру называют голубой звездой.По размерам она лишь немного меньше Земли.Год равен 7,5 месяцам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764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cc"/>
                </a:solidFill>
                <a:latin typeface="Verdana"/>
                <a:ea typeface="Times New Roman"/>
              </a:rPr>
              <a:t>            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f-venus" descr="Венера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ЗЕМЛЯ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Земля-ее называют живой,т.к. только на ней есть жизнь.На планете есть воздух и вода.За 365 дней она обегает свою орбиту.Один  спутник-Луна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>
            <a:hlinkClick r:id="rId1"/>
          </p:cNvPr>
          <p:cNvSpPr/>
          <p:nvPr/>
        </p:nvSpPr>
        <p:spPr>
          <a:xfrm>
            <a:off x="54100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f-earth" descr="Земл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51460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Мар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Марс-красноватая планета,т.к. грунт богат железом.Год на Марсе равен 1г.и 11 месяцам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f-mars" descr="Мар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228600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Юпитер-самая крупная планета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Имеет 16 спутников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вою орбиту обегает за 12 лет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f-jupiter" descr="Юпите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476440"/>
            <a:ext cx="35053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Сатурн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атурн-удивительная планета,имеет кольца,которые состоят из каменной пыли и глыб,движущихся  вокруг планеты.Год равен 29,5 лет.Имеет 17 спутников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f-saturn" descr="Сатур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2666880"/>
            <a:ext cx="3504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Уран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Уран имеет 15 спутников и обегает орбиту за 84 года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f-uranus" descr="Ура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2133720"/>
            <a:ext cx="3962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Нептун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Нептун – большой голубой гигант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Он имеет  8 спутников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f-neptun" descr="Непту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Плутон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Плутон-самая маленькая и удаленная от Солнца планета. Ее называют замороженной планетой. Орбиту обегает за 250 лет.Имеет  1 спутник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>
            <a:hlinkClick r:id="rId2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f-pluto" descr="Плутон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КРОССВОРД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209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2096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2096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1682640"/>
          <a:ext cx="3657600" cy="5175360"/>
        </p:xfrm>
        <a:graphic>
          <a:graphicData uri="http://schemas.openxmlformats.org/drawingml/2006/table">
            <a:tbl>
              <a:tblPr/>
              <a:tblGrid>
                <a:gridCol w="365040"/>
                <a:gridCol w="365040"/>
                <a:gridCol w="368640"/>
                <a:gridCol w="365040"/>
                <a:gridCol w="365040"/>
                <a:gridCol w="304920"/>
                <a:gridCol w="425160"/>
                <a:gridCol w="368640"/>
                <a:gridCol w="365040"/>
                <a:gridCol w="365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952880" y="1828800"/>
            <a:ext cx="419112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1.Огромный пылающий шар в космическом прост-в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2.Прибор для наблюдения небесных тел,светил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3.Самая крупная планета солнечной системы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4.Планета,которая имеет кольц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5.Ближайшая к нам звезд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6.Небесное тело,вращающееся вокруг Солнц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7.Путь движения небесного тел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8.Ближайшая к Солнцу планета Солнечной системы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9.Изобретатель первого телескоп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10.Планета, на которой есть жизнь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4800600"/>
            <a:ext cx="380880" cy="5335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5334120"/>
            <a:ext cx="38088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5334120"/>
            <a:ext cx="38124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5334120"/>
            <a:ext cx="38088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Проверь себя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 Звезд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 Телескоп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3. Юпитер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4. Сатурн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 Солнц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 Планет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 Орбит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 Меркури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9. Галиле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0. Земля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невесомость" descr=""/>
          <p:cNvPicPr/>
          <p:nvPr/>
        </p:nvPicPr>
        <p:blipFill>
          <a:blip r:embed="rId1"/>
          <a:stretch/>
        </p:blipFill>
        <p:spPr>
          <a:xfrm>
            <a:off x="4711680" y="2057400"/>
            <a:ext cx="368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Тема урока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Планеты солнечной системы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900"/>
                            </p:stCondLst>
                            <p:childTnLst>
                              <p:par>
                                <p:cTn id="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тр. 9 – 15, ТПО стр. 4 – 6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2920" y="4869000"/>
            <a:ext cx="7345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работу на уроке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Задачи урока:  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знакомиться с планетами солнечной системы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рививать интерес к астрономии, как к науке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оспитывать бережное отношение к планете Земл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КОСМИЧЕСКИЕ ТЕЛА: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429000"/>
            <a:ext cx="1828800" cy="990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Звезд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819520"/>
            <a:ext cx="1752840" cy="9144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Планет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4800">
            <a:off x="6324480" y="3580920"/>
            <a:ext cx="1905120" cy="9144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Космическа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пыл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5029200"/>
            <a:ext cx="1752480" cy="838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Метеорит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5105520"/>
            <a:ext cx="1752840" cy="838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стероид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37920" y="1905120"/>
            <a:ext cx="685800" cy="13716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24280" y="1905120"/>
            <a:ext cx="76320" cy="8380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124080" y="1905120"/>
            <a:ext cx="457200" cy="2971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905120"/>
            <a:ext cx="533520" cy="1523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9051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Галилео    Галилей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Итальянский ученый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Изобрел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телескоп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 1610г.) ,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который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увеличивал в 30 раз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Для астрономии началась новая жизн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Телескопы быстро совершенствовалис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7672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i" descr=""/>
          <p:cNvPicPr/>
          <p:nvPr/>
        </p:nvPicPr>
        <p:blipFill>
          <a:blip r:embed="rId1"/>
          <a:stretch/>
        </p:blipFill>
        <p:spPr>
          <a:xfrm>
            <a:off x="4751280" y="1981080"/>
            <a:ext cx="344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Телескопы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телескоп1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174456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telescop1820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1463760" cy="2046240"/>
          </a:xfrm>
          <a:prstGeom prst="rect">
            <a:avLst/>
          </a:prstGeom>
          <a:ln w="0">
            <a:noFill/>
          </a:ln>
        </p:spPr>
      </p:pic>
      <p:pic>
        <p:nvPicPr>
          <p:cNvPr id="116" name="Большой%20телескоп%20Азимутальный" descr=""/>
          <p:cNvPicPr/>
          <p:nvPr/>
        </p:nvPicPr>
        <p:blipFill>
          <a:blip r:embed="rId3"/>
          <a:stretch/>
        </p:blipFill>
        <p:spPr>
          <a:xfrm>
            <a:off x="5257800" y="3292560"/>
            <a:ext cx="38862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Изучение нового материала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олнце – это ближайшая к нам звезда, горящий шар, состоящий из раскаленных газов. Вокруг солнца вращаются 9 планет. Солнце с вращающимися вокруг него планетами образует солнечную систем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Солнечная система"/>
          <p:cNvPicPr/>
          <p:nvPr/>
        </p:nvPicPr>
        <p:blipFill>
          <a:blip r:embed="rId1"/>
          <a:stretch/>
        </p:blipFill>
        <p:spPr>
          <a:xfrm>
            <a:off x="4356000" y="1916280"/>
            <a:ext cx="4032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66"/>
                </a:solidFill>
                <a:latin typeface="Times New Roman"/>
              </a:rPr>
              <a:t>Физминутка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ланеты у Солнца танцуют как дети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еркурий заводит их хоровод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Чуть дальше Венера в пространстве плывет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Встречаем мы Землю рядом с Луно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 огненный Марс, что кружит за Земле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За ними – Юпитер, из всех великан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 дальше Сатурн в кольцах видится нам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оследние три едва различимы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рачны и холодны, но их отличим мы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Уран и Нептун, и кроха Плутон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Меркурий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Ближайшая к Солнцу планета,ее называют планетой дня и ночи,пустыней жары и мерзлоты.Год на Меркурие короче наших трех месяцев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f-mercury" descr="Меркури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2209680"/>
            <a:ext cx="3048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12:09:37Z</dcterms:created>
  <dc:creator>Student</dc:creator>
  <dc:description/>
  <dc:language>en-US</dc:language>
  <cp:lastModifiedBy>User</cp:lastModifiedBy>
  <dcterms:modified xsi:type="dcterms:W3CDTF">2015-10-09T17:12:12Z</dcterms:modified>
  <cp:revision>11</cp:revision>
  <dc:subject/>
  <dc:title>ПРИРОДОВЕДЕНИЕ 4 КЛ.</dc:title>
</cp:coreProperties>
</file>