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12.jpeg" ContentType="image/jpeg"/>
  <Override PartName="/ppt/media/camera.wav" ContentType="audio/x-wav"/>
  <Override PartName="/ppt/media/image7.jpeg" ContentType="image/jpeg"/>
  <Override PartName="/ppt/media/image15.gif" ContentType="image/gif"/>
  <Override PartName="/ppt/media/image3.jpeg" ContentType="image/jpeg"/>
  <Override PartName="/ppt/media/ricochet.wav" ContentType="audio/x-wav"/>
  <Override PartName="/ppt/media/image2.png" ContentType="image/png"/>
  <Override PartName="/ppt/media/image4.jpeg" ContentType="image/jpeg"/>
  <Override PartName="/ppt/media/image1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EE96-635D-4B43-8F1D-6B50618F7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93EB-4D6A-4159-8A5F-F4A5C220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027D-E438-40DD-B1DA-3AD83B408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5275-A045-4026-84DB-5C6AA97FF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4C37-FCD4-44D6-AA41-96379B4F3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1FA0-386F-4C55-8CD3-039B6DF1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8B35-3DE6-4E6B-A568-FC09B507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4B37-9CD5-400E-9ABB-1072670C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F2B8-59AE-44D2-8660-135CA121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21FB-8340-469E-94D4-04AC31A1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0C12-F216-4D21-9642-E8B235FD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3393-BAE1-448F-9C5E-FB2325F2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1EB6-49D8-4805-B08E-FCD61A71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66AA-D220-463C-BACF-A5DE88FC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8DDB-0FC4-45CD-A004-89DBB0CB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10D8-E61E-482C-8580-7C46FBB12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30CC-CA9F-4738-A877-2778B970A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060A-1A95-4402-8EA0-499FF63A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7B6C-CC98-408E-BD6F-034697B5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888F-623A-4368-A593-8585C4B1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FB3C-09A3-4A77-9D37-9DBBBFF7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C9C5-00C4-4AC8-A15C-76658B55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FBF2-291F-4DB0-A452-242A4459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0D3F-3A87-4B64-96F6-BA5179D0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14EE-6FA3-4543-974F-4FFD8D3F8F2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E218-BBD3-4EF5-9FF2-A66F011BD5D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stro.physfac.bspu.secna.ru/SolarSys/earth.jpg.html" TargetMode="External"/><Relationship Id="rId2" Type="http://schemas.openxmlformats.org/officeDocument/2006/relationships/hyperlink" Target="http://astro.physfac.bspu.secna.ru/SolarSys/earth.jpg.html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astro.physfac.bspu.secna.ru/SolarSys/mars.jpg.html" TargetMode="External"/><Relationship Id="rId2" Type="http://schemas.openxmlformats.org/officeDocument/2006/relationships/hyperlink" Target="http://astro.physfac.bspu.secna.ru/SolarSys/mars.jpg.html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astro.physfac.bspu.secna.ru/SolarSys/jupiter.jpg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stro.physfac.bspu.secna.ru/SolarSys/saturn.jpg.html" TargetMode="External"/><Relationship Id="rId2" Type="http://schemas.openxmlformats.org/officeDocument/2006/relationships/hyperlink" Target="http://astro.physfac.bspu.secna.ru/SolarSys/saturn.jpg.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astro.physfac.bspu.secna.ru/SolarSys/uranus.jpg.html" TargetMode="External"/><Relationship Id="rId2" Type="http://schemas.openxmlformats.org/officeDocument/2006/relationships/hyperlink" Target="http://astro.physfac.bspu.secna.ru/SolarSys/uranus.jpg.html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astro.physfac.bspu.secna.ru/SolarSys/neptun.jpg.html" TargetMode="External"/><Relationship Id="rId2" Type="http://schemas.openxmlformats.org/officeDocument/2006/relationships/hyperlink" Target="http://astro.physfac.bspu.secna.ru/SolarSys/neptun.jpg.html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astro.physfac.bspu.secna.ru/SolarSys/neptun.jpg.html" TargetMode="External"/><Relationship Id="rId2" Type="http://schemas.openxmlformats.org/officeDocument/2006/relationships/hyperlink" Target="http://astro.physfac.bspu.secna.ru/SolarSys/pluto.jpg.html" TargetMode="External"/><Relationship Id="rId3" Type="http://schemas.openxmlformats.org/officeDocument/2006/relationships/hyperlink" Target="http://astro.physfac.bspu.secna.ru/SolarSys/pluto.jpg.html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stro.physfac.bspu.secna.ru/SolarSys/mercury.jpg.html" TargetMode="External"/><Relationship Id="rId2" Type="http://schemas.openxmlformats.org/officeDocument/2006/relationships/hyperlink" Target="http://astro.physfac.bspu.secna.ru/SolarSys/mercury.jpg.html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МИР  ВОКРУГ  НАС    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4 КЛАСС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240" y="3733920"/>
            <a:ext cx="6513480" cy="25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ГБОУ СОШ им.В.С.Юдина с.Новый Буян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учитель начальных классов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Елисеева Светлана Алексеевн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10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1425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2925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4425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Венера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Венеру называют голубой звездой.По размерам она лишь немного меньше Земли.Год равен 7,5 месяцам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764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cc"/>
                </a:solidFill>
                <a:latin typeface="Verdana"/>
                <a:ea typeface="Times New Roman"/>
              </a:rPr>
              <a:t>               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f-venus" descr="Венера"/>
          <p:cNvPicPr/>
          <p:nvPr/>
        </p:nvPicPr>
        <p:blipFill>
          <a:blip r:embed="rId1"/>
          <a:stretch/>
        </p:blipFill>
        <p:spPr>
          <a:xfrm>
            <a:off x="4648320" y="22096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ЗЕМЛЯ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Земля-ее называют живой,т.к. только на ней есть жизнь.На планете есть воздух и вода.За 365 дней она обегает свою орбиту.Один  спутник-Луна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>
            <a:hlinkClick r:id="rId1"/>
          </p:cNvPr>
          <p:cNvSpPr/>
          <p:nvPr/>
        </p:nvSpPr>
        <p:spPr>
          <a:xfrm>
            <a:off x="541008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3" name="f-earth" descr="Земля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76920" y="2514600"/>
            <a:ext cx="3657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Марс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Марс-красноватая планета,т.к. грунт богат железом.Год на Марсе равен 1г.и 11 месяцам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>
            <a:hlinkClick r:id="rId1"/>
          </p:cNvPr>
          <p:cNvSpPr/>
          <p:nvPr/>
        </p:nvSpPr>
        <p:spPr>
          <a:xfrm>
            <a:off x="3619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f-mars" descr="Марс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29200" y="2286000"/>
            <a:ext cx="3657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Юпитер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Юпитер-самая крупная планета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Имеет 16 спутников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Свою орбиту обегает за 12 лет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0" name="f-jupiter" descr="Юпитер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2476440"/>
            <a:ext cx="35053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Сатурн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Сатурн-удивительная планета,имеет кольца,которые состоят из каменной пыли и глыб,движущихся  вокруг планеты.Год равен 29,5 лет.Имеет 17 спутников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>
            <a:hlinkClick r:id="rId1"/>
          </p:cNvPr>
          <p:cNvSpPr/>
          <p:nvPr/>
        </p:nvSpPr>
        <p:spPr>
          <a:xfrm>
            <a:off x="3619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4" name="f-saturn" descr="Сатурн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2666880"/>
            <a:ext cx="35049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Уран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Уран имеет 15 спутников и обегает орбиту за 84 года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>
            <a:hlinkClick r:id="rId1"/>
          </p:cNvPr>
          <p:cNvSpPr/>
          <p:nvPr/>
        </p:nvSpPr>
        <p:spPr>
          <a:xfrm>
            <a:off x="3619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8" name="f-uranus" descr="Уран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2133720"/>
            <a:ext cx="39625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Нептун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Нептун – большой голубой гигант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Он имеет  8 спутников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>
            <a:hlinkClick r:id="rId1"/>
          </p:cNvPr>
          <p:cNvSpPr/>
          <p:nvPr/>
        </p:nvSpPr>
        <p:spPr>
          <a:xfrm>
            <a:off x="3619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2" name="f-neptun" descr="Нептун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22096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Плутон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Плутон-самая маленькая и удаленная от Солнца планета. Ее называют замороженной планетой. Орбиту обегает за 250 лет.Имеет  1 спутник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>
            <a:hlinkClick r:id="rId1"/>
          </p:cNvPr>
          <p:cNvSpPr/>
          <p:nvPr/>
        </p:nvSpPr>
        <p:spPr>
          <a:xfrm>
            <a:off x="3619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>
            <a:hlinkClick r:id="rId2"/>
          </p:cNvPr>
          <p:cNvSpPr/>
          <p:nvPr/>
        </p:nvSpPr>
        <p:spPr>
          <a:xfrm>
            <a:off x="3619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7" name="f-pluto" descr="Плутон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22096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КРОССВОРД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22096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2096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22096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1682640"/>
          <a:ext cx="3657600" cy="5175360"/>
        </p:xfrm>
        <a:graphic>
          <a:graphicData uri="http://schemas.openxmlformats.org/drawingml/2006/table">
            <a:tbl>
              <a:tblPr/>
              <a:tblGrid>
                <a:gridCol w="365040"/>
                <a:gridCol w="365040"/>
                <a:gridCol w="368640"/>
                <a:gridCol w="365040"/>
                <a:gridCol w="365040"/>
                <a:gridCol w="304920"/>
                <a:gridCol w="425160"/>
                <a:gridCol w="368640"/>
                <a:gridCol w="365040"/>
                <a:gridCol w="365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c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c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cc"/>
                      </a:solidFill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cc"/>
                      </a:solidFill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c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4952880" y="1828800"/>
            <a:ext cx="419112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1.Огромный пылающий шар в космическом прост-ве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2.Прибор для наблюдения небесных тел,светил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3.Самая крупная планета солнечной системы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4.Планета,которая имеет кольца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5.Ближайшая к нам звезда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6.Небесное тело,вращающееся вокруг Солнца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7.Путь движения небесного тела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8.Ближайшая к Солнцу планета Солнечной системы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9.Изобретатель первого телескопа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10.Планета, на которой есть жизнь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4800600"/>
            <a:ext cx="380880" cy="5335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19720" y="5334120"/>
            <a:ext cx="380880" cy="4572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38480" y="5334120"/>
            <a:ext cx="381240" cy="4572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57600" y="5334120"/>
            <a:ext cx="380880" cy="4572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Проверь себя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1. Звезда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2. Телескоп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3. Юпитер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4. Сатурн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5. Солнце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6. Планета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7. Орбита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8. Меркурий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9. Галилей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10. Земля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0" name="невесомость" descr=""/>
          <p:cNvPicPr/>
          <p:nvPr/>
        </p:nvPicPr>
        <p:blipFill>
          <a:blip r:embed="rId1"/>
          <a:stretch/>
        </p:blipFill>
        <p:spPr>
          <a:xfrm>
            <a:off x="4711680" y="2057400"/>
            <a:ext cx="3681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Тема урока: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Планеты солнечной системы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900"/>
                            </p:stCondLst>
                            <p:childTnLst>
                              <p:par>
                                <p:cTn id="32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Домашнее задани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Стр. 9 – 15, ТПО стр. 4 – 6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42920" y="4869000"/>
            <a:ext cx="734544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пасибо за работу на уроке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Задачи урока:   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познакомиться с планетами солнечной системы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прививать интерес к астрономии, как к науке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воспитывать бережное отношение к планете Земля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КОСМИЧЕСКИЕ ТЕЛА: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3429000"/>
            <a:ext cx="1828800" cy="99072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000000"/>
              </a:gs>
              <a:gs pos="100000">
                <a:srgbClr val="ff9933"/>
              </a:gs>
            </a:gsLst>
            <a:lin ang="5400000"/>
          </a:gra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Звезды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2819520"/>
            <a:ext cx="1752840" cy="9144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000000"/>
              </a:gs>
              <a:gs pos="100000">
                <a:srgbClr val="ff9933"/>
              </a:gs>
            </a:gsLst>
            <a:lin ang="5400000"/>
          </a:gra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Планеты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34800">
            <a:off x="6324480" y="3580920"/>
            <a:ext cx="1905120" cy="9144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000000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Космическа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пыл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62320" y="5029200"/>
            <a:ext cx="1752480" cy="8380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000000"/>
              </a:gs>
              <a:gs pos="100000">
                <a:srgbClr val="ff9933"/>
              </a:gs>
            </a:gsLst>
            <a:lin ang="5400000"/>
          </a:gra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Метеориты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10080" y="5105520"/>
            <a:ext cx="1752840" cy="8380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000000"/>
              </a:gs>
              <a:gs pos="100000">
                <a:srgbClr val="ff9933"/>
              </a:gs>
            </a:gsLst>
            <a:lin ang="5400000"/>
          </a:gra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Астероиды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437920" y="1905120"/>
            <a:ext cx="685800" cy="13716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724280" y="1905120"/>
            <a:ext cx="76320" cy="83808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124080" y="1905120"/>
            <a:ext cx="457200" cy="29718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1905120"/>
            <a:ext cx="533520" cy="152388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1905120"/>
            <a:ext cx="0" cy="29718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Галилео    Галилей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Итальянский ученый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Изобрел </a:t>
            </a: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телескоп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( 1610г.) ,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который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увеличивал в 30 раз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Для астрономии началась новая жизнь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Телескопы быстро совершенствовались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7672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2" name="i" descr=""/>
          <p:cNvPicPr/>
          <p:nvPr/>
        </p:nvPicPr>
        <p:blipFill>
          <a:blip r:embed="rId1"/>
          <a:stretch/>
        </p:blipFill>
        <p:spPr>
          <a:xfrm>
            <a:off x="4751280" y="1981080"/>
            <a:ext cx="344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66"/>
                </a:solidFill>
                <a:latin typeface="Times New Roman"/>
              </a:rPr>
              <a:t>Телескопы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4" name="телескоп1" descr=""/>
          <p:cNvPicPr/>
          <p:nvPr/>
        </p:nvPicPr>
        <p:blipFill>
          <a:blip r:embed="rId1"/>
          <a:stretch/>
        </p:blipFill>
        <p:spPr>
          <a:xfrm>
            <a:off x="2819520" y="3048120"/>
            <a:ext cx="1744560" cy="2361960"/>
          </a:xfrm>
          <a:prstGeom prst="rect">
            <a:avLst/>
          </a:prstGeom>
          <a:ln w="0">
            <a:noFill/>
          </a:ln>
        </p:spPr>
      </p:pic>
      <p:pic>
        <p:nvPicPr>
          <p:cNvPr id="115" name="telescop1820" descr=""/>
          <p:cNvPicPr/>
          <p:nvPr/>
        </p:nvPicPr>
        <p:blipFill>
          <a:blip r:embed="rId2"/>
          <a:stretch/>
        </p:blipFill>
        <p:spPr>
          <a:xfrm>
            <a:off x="380880" y="1981080"/>
            <a:ext cx="1463760" cy="2046240"/>
          </a:xfrm>
          <a:prstGeom prst="rect">
            <a:avLst/>
          </a:prstGeom>
          <a:ln w="0">
            <a:noFill/>
          </a:ln>
        </p:spPr>
      </p:pic>
      <p:pic>
        <p:nvPicPr>
          <p:cNvPr id="116" name="Большой%20телескоп%20Азимутальный" descr=""/>
          <p:cNvPicPr/>
          <p:nvPr/>
        </p:nvPicPr>
        <p:blipFill>
          <a:blip r:embed="rId3"/>
          <a:stretch/>
        </p:blipFill>
        <p:spPr>
          <a:xfrm>
            <a:off x="5257800" y="3292560"/>
            <a:ext cx="388620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Изучение нового материала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Солнце – это ближайшая к нам звезда, горящий шар, состоящий из раскаленных газов. Вокруг солнца вращаются 9 планет. Солнце с вращающимися вокруг него планетами образует солнечную систему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9" name="" descr="Солнечная система"/>
          <p:cNvPicPr/>
          <p:nvPr/>
        </p:nvPicPr>
        <p:blipFill>
          <a:blip r:embed="rId1"/>
          <a:stretch/>
        </p:blipFill>
        <p:spPr>
          <a:xfrm>
            <a:off x="4356000" y="1916280"/>
            <a:ext cx="403236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c66"/>
                </a:solidFill>
                <a:latin typeface="Times New Roman"/>
              </a:rPr>
              <a:t>Физминутка 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Планеты у Солнца танцуют как дети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Меркурий заводит их хоровод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Чуть дальше Венера в пространстве плывет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Встречаем мы Землю рядом с Луной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И огненный Марс, что кружит за Землей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За ними – Юпитер, из всех великан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И дальше Сатурн в кольцах видится нам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Последние три едва различимы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Мрачны и холодны, но их отличим мы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Уран и Нептун, и кроха Плутон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Меркурий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Ближайшая к Солнцу планета,ее называют планетой дня и ночи,пустыней жары и мерзлоты.Год на Меркурие короче наших трех месяцев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>
            <a:hlinkClick r:id="rId1"/>
          </p:cNvPr>
          <p:cNvSpPr/>
          <p:nvPr/>
        </p:nvSpPr>
        <p:spPr>
          <a:xfrm>
            <a:off x="3619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f-mercury" descr="Меркурий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38680" y="2209680"/>
            <a:ext cx="30481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2T12:09:37Z</dcterms:created>
  <dc:creator>Student</dc:creator>
  <dc:description/>
  <dc:language>en-US</dc:language>
  <cp:lastModifiedBy>User</cp:lastModifiedBy>
  <dcterms:modified xsi:type="dcterms:W3CDTF">2015-10-09T17:12:12Z</dcterms:modified>
  <cp:revision>11</cp:revision>
  <dc:subject/>
  <dc:title>ПРИРОДОВЕДЕНИЕ 4 КЛ.</dc:title>
</cp:coreProperties>
</file>