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1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8.wmf" ContentType="image/x-wmf"/>
  <Override PartName="/ppt/media/image17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E4D-19EB-4737-8B5B-7AAA6E2C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AAB3-07FE-4BA4-AB72-770ECD11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616-E3D8-4660-9EFC-34899FB1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371-CC25-4E79-9FDE-EF75F8C6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1CB0-D558-468C-857A-FFE8240F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C6A1-80F5-46CB-8A19-3A77DA45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D878-3A76-4922-8547-0D1B7D2A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8010-1FB9-4876-9664-2B756816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CC5D-5A85-48E4-AA35-B9E1AC5C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03D4-F4D9-48D6-98C1-2A4C9E4B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4E4D-4A91-4B5C-B475-3BA77332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0D5-53CC-4436-9D4C-EE0C1534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CCFA-C139-4F50-A459-ABB59F0F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6E38-564F-4CA0-AF9F-48D54457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690B-658D-4A40-AC68-B26982A8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D39B-DFF2-4B6C-BA9D-F5A7F773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53A3-64A7-492F-B906-FA35E997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09F1E-E332-486D-BCAC-6B9454C2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855A-9CBD-4B88-BEAA-242C90CD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A086C-3FA3-4680-9CD8-19FA43F1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7E112-308B-450A-86E5-156F46CB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1C206-881E-42C9-B7A6-A742B477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11C-DBCC-49BB-9B16-73DBF6B5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FC244-DAC3-4E9B-A52E-E391AB6C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4E8A-B2D8-49ED-83D2-37338CD4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8B33-D02E-40CD-81AE-86A38BE0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00F00-A4C2-480F-89A5-1B24AF04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0613-F136-4B09-8046-1225163C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FCF0D-DEDE-4014-B174-8FC15788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EC499-8CE1-4256-B18F-5A3E1B59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75BC3-B46F-454C-9196-6115E80F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7C0EE-8B38-495C-8981-6FC80797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0E819-4BA3-4E30-9AEB-290B7B0B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464-66AE-4DFC-8454-EA807941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F5CBA-04CD-4362-8B43-FA89FA33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A3633-9491-4D52-8417-5071BC15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F101C-5EB7-4AA0-9129-34360BC3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AB0D4-DF6F-43C4-AE22-C6C48CD6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6FD4A-9CA0-40A6-867F-C4171F4D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EAD11-F0FE-48CA-B3CD-3BEE37AF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5A547-C9C0-4407-95F5-F0BBA92D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0D242-B625-4F9F-830F-CBA6CC95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AE57E-D150-4CBE-BCE0-2309FACF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176-AC16-499B-9787-E220BD0B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8BEB-336D-497E-8CEF-FB27FF04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7BF-5214-49F5-93C2-A71183AA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97E-EA4D-40F8-906C-938E3C0C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378-CA52-4298-9BF9-9D088873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217F-D3A8-475A-9C67-B7E41EE86CD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83FC-431B-4D16-90DC-C663EB357CB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2A6A-9A4D-40AB-A82D-97A64F4AECA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2A90-595F-4A2E-8444-0B40ACDB5CC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4000" y="1197000"/>
            <a:ext cx="88200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182520">
              <a:lnSpc>
                <a:spcPct val="100000"/>
              </a:lnSpc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404040"/>
                </a:solidFill>
                <a:latin typeface="Georgia"/>
              </a:rPr>
              <a:t>Чарівні двері </a:t>
            </a:r>
            <a:r>
              <a:rPr b="1" lang="uk-UA" sz="5400" spc="-1" strike="noStrike">
                <a:solidFill>
                  <a:srgbClr val="7030a0"/>
                </a:solidFill>
                <a:latin typeface="Georgia"/>
              </a:rPr>
              <a:t>Королівства </a:t>
            </a:r>
            <a:r>
              <a:rPr b="1" lang="uk-UA" sz="5400" spc="-1" strike="noStrike">
                <a:solidFill>
                  <a:srgbClr val="ffff00"/>
                </a:solidFill>
                <a:latin typeface="Georgia"/>
              </a:rPr>
              <a:t>Порядку, Доброти, Дружби і Ввічливості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100000"/>
              </a:lnSpc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Picture 4" descr="MCj04375550000[1]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14240" y="35712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15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rebuchet MS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Все вежливые  слова хороши, когда человек  искренне, от  души желает человеку добра, здоровья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4" name="Рисунок 3" descr="cdolls66.gif"/>
          <p:cNvPicPr/>
          <p:nvPr/>
        </p:nvPicPr>
        <p:blipFill>
          <a:blip r:embed="rId1"/>
          <a:stretch/>
        </p:blipFill>
        <p:spPr>
          <a:xfrm>
            <a:off x="2124000" y="3970440"/>
            <a:ext cx="3726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8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79280" y="404280"/>
            <a:ext cx="89647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182520">
              <a:lnSpc>
                <a:spcPct val="90000"/>
              </a:lnSpc>
              <a:spcBef>
                <a:spcPts val="22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Georgia"/>
              </a:rPr>
              <a:t>Будем</a:t>
            </a:r>
            <a:endParaRPr b="0" lang="en-US" sz="8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22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Georgia"/>
              </a:rPr>
              <a:t>вежливы</a:t>
            </a:r>
            <a:endParaRPr b="0" lang="en-US" sz="8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22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Georgia"/>
              </a:rPr>
              <a:t>и добры всегда!</a:t>
            </a:r>
            <a:endParaRPr b="0" lang="en-US" sz="8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6" name="Picture 4" descr="MCj04375550000[1]"/>
          <p:cNvPicPr/>
          <p:nvPr/>
        </p:nvPicPr>
        <p:blipFill>
          <a:blip r:embed="rId2"/>
          <a:stretch/>
        </p:blipFill>
        <p:spPr>
          <a:xfrm>
            <a:off x="6189840" y="912960"/>
            <a:ext cx="2917800" cy="25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7120" y="1981080"/>
            <a:ext cx="8501040" cy="44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Georgia"/>
              </a:rPr>
              <a:t>«Ничего не стоит так дёшево и не ценится так</a:t>
            </a:r>
            <a:r>
              <a:rPr b="1" i="1" lang="ru-RU" sz="48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404040"/>
                </a:solidFill>
                <a:latin typeface="Georgia"/>
              </a:rPr>
              <a:t>дорого, как вежливость».                       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Georgia"/>
              </a:rPr>
              <a:t>                  </a:t>
            </a:r>
            <a:r>
              <a:rPr b="1" lang="ru-RU" sz="4800" spc="-1" strike="noStrike">
                <a:solidFill>
                  <a:srgbClr val="404040"/>
                </a:solidFill>
                <a:latin typeface="Georgia"/>
              </a:rPr>
              <a:t>Сервантес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4" descr="MCj04374950000[1]"/>
          <p:cNvPicPr/>
          <p:nvPr/>
        </p:nvPicPr>
        <p:blipFill>
          <a:blip r:embed="rId1"/>
          <a:stretch/>
        </p:blipFill>
        <p:spPr>
          <a:xfrm>
            <a:off x="324000" y="0"/>
            <a:ext cx="1944360" cy="220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MCj04375050000[1]"/>
          <p:cNvPicPr/>
          <p:nvPr/>
        </p:nvPicPr>
        <p:blipFill>
          <a:blip r:embed="rId2"/>
          <a:stretch/>
        </p:blipFill>
        <p:spPr>
          <a:xfrm>
            <a:off x="7164360" y="0"/>
            <a:ext cx="1682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12b2eb"/>
                </a:solidFill>
                <a:latin typeface="Georgia"/>
              </a:rPr>
              <a:t>Игра «Вежливые слова»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404040"/>
                </a:solidFill>
                <a:latin typeface="Georgia"/>
              </a:rPr>
              <a:t>Растает даже ледяная глыб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404040"/>
                </a:solidFill>
                <a:latin typeface="Georgia"/>
              </a:rPr>
              <a:t>От слова тёплого   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Georgia"/>
              </a:rPr>
              <a:t>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ПАСИБО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4" descr="b23"/>
          <p:cNvPicPr/>
          <p:nvPr/>
        </p:nvPicPr>
        <p:blipFill>
          <a:blip r:embed="rId1"/>
          <a:stretch/>
        </p:blipFill>
        <p:spPr>
          <a:xfrm>
            <a:off x="6335640" y="3714840"/>
            <a:ext cx="28083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24000" y="356760"/>
            <a:ext cx="8496000" cy="53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Georgia"/>
              </a:rPr>
              <a:t>  </a:t>
            </a:r>
            <a:r>
              <a:rPr b="1" lang="ru-RU" sz="3100" spc="-1" strike="noStrike">
                <a:solidFill>
                  <a:srgbClr val="404040"/>
                </a:solidFill>
                <a:latin typeface="Georgia"/>
              </a:rPr>
              <a:t>Зазеленеет старый пень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404040"/>
                </a:solidFill>
                <a:latin typeface="Georgia"/>
              </a:rPr>
              <a:t>  </a:t>
            </a:r>
            <a:r>
              <a:rPr b="1" lang="ru-RU" sz="3100" spc="-1" strike="noStrike">
                <a:solidFill>
                  <a:srgbClr val="404040"/>
                </a:solidFill>
                <a:latin typeface="Georgia"/>
              </a:rPr>
              <a:t>Когда услышит 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336600"/>
                </a:solidFill>
                <a:latin typeface="Georgia"/>
              </a:rPr>
              <a:t>                        </a:t>
            </a:r>
            <a:r>
              <a:rPr b="1" lang="ru-RU" sz="3100" spc="-1" strike="noStrike">
                <a:solidFill>
                  <a:srgbClr val="ff0000"/>
                </a:solidFill>
                <a:latin typeface="Georgia"/>
              </a:rPr>
              <a:t>ДОБРЫЙ ДЕНЬ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404040"/>
                </a:solidFill>
                <a:latin typeface="Georgia"/>
              </a:rPr>
              <a:t>  </a:t>
            </a:r>
            <a:r>
              <a:rPr b="1" lang="ru-RU" sz="3100" spc="-1" strike="noStrike">
                <a:solidFill>
                  <a:srgbClr val="404040"/>
                </a:solidFill>
                <a:latin typeface="Georgia"/>
              </a:rPr>
              <a:t>Мальчик вежливый и развитый 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404040"/>
                </a:solidFill>
                <a:latin typeface="Georgia"/>
              </a:rPr>
              <a:t>   </a:t>
            </a:r>
            <a:r>
              <a:rPr b="1" lang="ru-RU" sz="3100" spc="-1" strike="noStrike">
                <a:solidFill>
                  <a:srgbClr val="404040"/>
                </a:solidFill>
                <a:latin typeface="Georgia"/>
              </a:rPr>
              <a:t>Говорит, встречаясь 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Georgia"/>
              </a:rPr>
              <a:t>                                </a:t>
            </a:r>
            <a:r>
              <a:rPr b="1" lang="ru-RU" sz="3100" spc="-1" strike="noStrike">
                <a:solidFill>
                  <a:srgbClr val="ff0000"/>
                </a:solidFill>
                <a:latin typeface="Georgia"/>
              </a:rPr>
              <a:t>ЗДРАВСТВУЙТЕ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Trebuchet MS"/>
              </a:rPr>
              <a:t>                             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Picture 4" descr="b23"/>
          <p:cNvPicPr/>
          <p:nvPr/>
        </p:nvPicPr>
        <p:blipFill>
          <a:blip r:embed="rId1"/>
          <a:stretch/>
        </p:blipFill>
        <p:spPr>
          <a:xfrm>
            <a:off x="324000" y="4424400"/>
            <a:ext cx="28796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26560" y="343080"/>
            <a:ext cx="81378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00"/>
                </a:solidFill>
                <a:latin typeface="Trebuchet MS"/>
              </a:rPr>
              <a:t>  </a:t>
            </a:r>
            <a:r>
              <a:rPr b="1" lang="ru-RU" sz="2500" spc="-1" strike="noStrike">
                <a:solidFill>
                  <a:srgbClr val="404040"/>
                </a:solidFill>
                <a:latin typeface="Georgia"/>
              </a:rPr>
              <a:t>Когда нас бранят за шалости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04040"/>
                </a:solidFill>
                <a:latin typeface="Georgia"/>
              </a:rPr>
              <a:t>  </a:t>
            </a:r>
            <a:r>
              <a:rPr b="1" lang="ru-RU" sz="2500" spc="-1" strike="noStrike">
                <a:solidFill>
                  <a:srgbClr val="404040"/>
                </a:solidFill>
                <a:latin typeface="Georgia"/>
              </a:rPr>
              <a:t>Мы говорим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00"/>
                </a:solidFill>
                <a:latin typeface="Georgia"/>
              </a:rPr>
              <a:t>             </a:t>
            </a: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ПРОСТИ, ПОЖАЛУЙСТА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00"/>
                </a:solidFill>
                <a:latin typeface="Georgia"/>
              </a:rPr>
              <a:t>  </a:t>
            </a:r>
            <a:r>
              <a:rPr b="1" lang="ru-RU" sz="2500" spc="-1" strike="noStrike">
                <a:solidFill>
                  <a:srgbClr val="404040"/>
                </a:solidFill>
                <a:latin typeface="Georgia"/>
              </a:rPr>
              <a:t>И во Франции, и в Дании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04040"/>
                </a:solidFill>
                <a:latin typeface="Georgia"/>
              </a:rPr>
              <a:t>  </a:t>
            </a:r>
            <a:r>
              <a:rPr b="1" lang="ru-RU" sz="2500" spc="-1" strike="noStrike">
                <a:solidFill>
                  <a:srgbClr val="404040"/>
                </a:solidFill>
                <a:latin typeface="Georgia"/>
              </a:rPr>
              <a:t>На прощанье говорят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04040"/>
                </a:solidFill>
                <a:latin typeface="Georgia"/>
              </a:rPr>
              <a:t>                       </a:t>
            </a:r>
            <a:r>
              <a:rPr b="1" lang="en-US" sz="25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ДО СВИДАНИЯ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00"/>
                </a:solidFill>
                <a:latin typeface="Georgia"/>
              </a:rPr>
              <a:t>                                  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00"/>
                </a:solidFill>
                <a:latin typeface="Trebuchet MS"/>
              </a:rPr>
              <a:t>  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00"/>
                </a:solidFill>
                <a:latin typeface="Trebuchet MS"/>
              </a:rPr>
              <a:t> 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4" descr="b23"/>
          <p:cNvPicPr/>
          <p:nvPr/>
        </p:nvPicPr>
        <p:blipFill>
          <a:blip r:embed="rId1"/>
          <a:stretch/>
        </p:blipFill>
        <p:spPr>
          <a:xfrm>
            <a:off x="0" y="4437000"/>
            <a:ext cx="2808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c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Georgia"/>
              </a:rPr>
              <a:t>* Вежливость проявляется в отношении к людям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Georgia"/>
              </a:rPr>
              <a:t>Вежливый человек не причинит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Georgia"/>
              </a:rPr>
              <a:t>    </a:t>
            </a:r>
            <a:r>
              <a:rPr b="1" lang="ru-RU" sz="2600" spc="-1" strike="noStrike">
                <a:solidFill>
                  <a:srgbClr val="800000"/>
                </a:solidFill>
                <a:latin typeface="Georgia"/>
              </a:rPr>
              <a:t>другому   неприятностей и обид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Georgia"/>
              </a:rPr>
              <a:t>Не отвечай на грубость грубостью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Georgia"/>
              </a:rPr>
              <a:t>Приучи себя постоянно помнить об окружающих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Georgia"/>
              </a:rPr>
              <a:t>Вежливый человек всегда внимателен к людям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Georgia"/>
              </a:rPr>
              <a:t>Он старается не причинять им неприятностей, не оскорблять окружающих ни словом, ни делом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4" descr="MCj04343830000[1]"/>
          <p:cNvPicPr/>
          <p:nvPr/>
        </p:nvPicPr>
        <p:blipFill>
          <a:blip r:embed="rId1"/>
          <a:stretch/>
        </p:blipFill>
        <p:spPr>
          <a:xfrm>
            <a:off x="179280" y="4751280"/>
            <a:ext cx="2152800" cy="2106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MCj03980970000[1]"/>
          <p:cNvPicPr/>
          <p:nvPr/>
        </p:nvPicPr>
        <p:blipFill>
          <a:blip r:embed="rId2"/>
          <a:stretch/>
        </p:blipFill>
        <p:spPr>
          <a:xfrm>
            <a:off x="6478560" y="4670280"/>
            <a:ext cx="2665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Georgia"/>
              </a:rPr>
              <a:t>Словарь вежливых слов</a:t>
            </a: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0" name="Group 12"/>
          <p:cNvGrpSpPr/>
          <p:nvPr/>
        </p:nvGrpSpPr>
        <p:grpSpPr>
          <a:xfrm>
            <a:off x="469440" y="1391400"/>
            <a:ext cx="2515680" cy="1135800"/>
            <a:chOff x="469440" y="1391400"/>
            <a:chExt cx="2515680" cy="1135800"/>
          </a:xfrm>
        </p:grpSpPr>
        <p:sp>
          <p:nvSpPr>
            <p:cNvPr id="231" name="Text Box 4"/>
            <p:cNvSpPr/>
            <p:nvPr/>
          </p:nvSpPr>
          <p:spPr>
            <a:xfrm rot="742800">
              <a:off x="502920" y="1690200"/>
              <a:ext cx="2448000" cy="581400"/>
            </a:xfrm>
            <a:prstGeom prst="rect">
              <a:avLst/>
            </a:prstGeom>
            <a:solidFill>
              <a:srgbClr val="59a8d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Georgia"/>
                </a:rPr>
                <a:t>Спасибо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11"/>
            <p:cNvGrpSpPr/>
            <p:nvPr/>
          </p:nvGrpSpPr>
          <p:grpSpPr>
            <a:xfrm>
              <a:off x="1362240" y="1391400"/>
              <a:ext cx="541800" cy="356760"/>
              <a:chOff x="1362240" y="1391400"/>
              <a:chExt cx="541800" cy="356760"/>
            </a:xfrm>
          </p:grpSpPr>
          <p:sp>
            <p:nvSpPr>
              <p:cNvPr id="233" name="Oval 6"/>
              <p:cNvSpPr/>
              <p:nvPr/>
            </p:nvSpPr>
            <p:spPr>
              <a:xfrm rot="1989000">
                <a:off x="1570680" y="1418400"/>
                <a:ext cx="142920" cy="144360"/>
              </a:xfrm>
              <a:prstGeom prst="ellipse">
                <a:avLst/>
              </a:prstGeom>
              <a:solidFill>
                <a:srgbClr val="b4dc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7"/>
              <p:cNvSpPr/>
              <p:nvPr/>
            </p:nvSpPr>
            <p:spPr>
              <a:xfrm flipH="1">
                <a:off x="1362240" y="1491120"/>
                <a:ext cx="279000" cy="163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8"/>
              <p:cNvSpPr/>
              <p:nvPr/>
            </p:nvSpPr>
            <p:spPr>
              <a:xfrm>
                <a:off x="1641600" y="1491120"/>
                <a:ext cx="262440" cy="257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36" name="Picture 10" descr=""/>
          <p:cNvPicPr/>
          <p:nvPr/>
        </p:nvPicPr>
        <p:blipFill>
          <a:blip r:embed="rId2"/>
          <a:stretch/>
        </p:blipFill>
        <p:spPr>
          <a:xfrm>
            <a:off x="7524720" y="3789360"/>
            <a:ext cx="1081080" cy="28526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3"/>
          <p:cNvGrpSpPr/>
          <p:nvPr/>
        </p:nvGrpSpPr>
        <p:grpSpPr>
          <a:xfrm>
            <a:off x="1225800" y="4654800"/>
            <a:ext cx="2465280" cy="1427040"/>
            <a:chOff x="1225800" y="4654800"/>
            <a:chExt cx="2465280" cy="1427040"/>
          </a:xfrm>
        </p:grpSpPr>
        <p:sp>
          <p:nvSpPr>
            <p:cNvPr id="238" name="Text Box 14"/>
            <p:cNvSpPr/>
            <p:nvPr/>
          </p:nvSpPr>
          <p:spPr>
            <a:xfrm rot="56400">
              <a:off x="1234440" y="4992840"/>
              <a:ext cx="2448000" cy="1068840"/>
            </a:xfrm>
            <a:prstGeom prst="rect">
              <a:avLst/>
            </a:prstGeom>
            <a:solidFill>
              <a:srgbClr val="59a8d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Georgia"/>
                </a:rPr>
                <a:t>Добрый день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2039040" y="4654800"/>
              <a:ext cx="549720" cy="380160"/>
              <a:chOff x="2039040" y="4654800"/>
              <a:chExt cx="549720" cy="380160"/>
            </a:xfrm>
          </p:grpSpPr>
          <p:sp>
            <p:nvSpPr>
              <p:cNvPr id="240" name="Oval 16"/>
              <p:cNvSpPr/>
              <p:nvPr/>
            </p:nvSpPr>
            <p:spPr>
              <a:xfrm rot="1302600">
                <a:off x="2161440" y="4688280"/>
                <a:ext cx="226800" cy="235080"/>
              </a:xfrm>
              <a:prstGeom prst="ellipse">
                <a:avLst/>
              </a:prstGeom>
              <a:solidFill>
                <a:srgbClr val="b4dc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17"/>
              <p:cNvSpPr/>
              <p:nvPr/>
            </p:nvSpPr>
            <p:spPr>
              <a:xfrm flipH="1">
                <a:off x="2039040" y="4820040"/>
                <a:ext cx="240840" cy="214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18"/>
              <p:cNvSpPr/>
              <p:nvPr/>
            </p:nvSpPr>
            <p:spPr>
              <a:xfrm>
                <a:off x="2280240" y="4820040"/>
                <a:ext cx="308520" cy="199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Group 19"/>
          <p:cNvGrpSpPr/>
          <p:nvPr/>
        </p:nvGrpSpPr>
        <p:grpSpPr>
          <a:xfrm>
            <a:off x="590760" y="2001960"/>
            <a:ext cx="4984560" cy="2331360"/>
            <a:chOff x="590760" y="2001960"/>
            <a:chExt cx="4984560" cy="2331360"/>
          </a:xfrm>
        </p:grpSpPr>
        <p:sp>
          <p:nvSpPr>
            <p:cNvPr id="244" name="Text Box 20"/>
            <p:cNvSpPr/>
            <p:nvPr/>
          </p:nvSpPr>
          <p:spPr>
            <a:xfrm rot="20353800">
              <a:off x="521640" y="2891880"/>
              <a:ext cx="5122080" cy="550800"/>
            </a:xfrm>
            <a:prstGeom prst="rect">
              <a:avLst/>
            </a:prstGeom>
            <a:solidFill>
              <a:srgbClr val="59a8d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Georgia"/>
                </a:rPr>
                <a:t>Прости,</a:t>
              </a:r>
              <a:r>
                <a:rPr b="1" lang="ru-RU" sz="3000" spc="-1" strike="noStrike">
                  <a:solidFill>
                    <a:srgbClr val="6600cc"/>
                  </a:solidFill>
                  <a:latin typeface="Georgia"/>
                </a:rPr>
                <a:t> </a:t>
              </a:r>
              <a:r>
                <a:rPr b="1" lang="ru-RU" sz="3000" spc="-1" strike="noStrike">
                  <a:solidFill>
                    <a:srgbClr val="ff0000"/>
                  </a:solidFill>
                  <a:latin typeface="Georgia"/>
                </a:rPr>
                <a:t>пожалуйста!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Group 21"/>
            <p:cNvGrpSpPr/>
            <p:nvPr/>
          </p:nvGrpSpPr>
          <p:grpSpPr>
            <a:xfrm>
              <a:off x="2133360" y="2577960"/>
              <a:ext cx="1055160" cy="606600"/>
              <a:chOff x="2133360" y="2577960"/>
              <a:chExt cx="1055160" cy="606600"/>
            </a:xfrm>
          </p:grpSpPr>
          <p:sp>
            <p:nvSpPr>
              <p:cNvPr id="246" name="Oval 22"/>
              <p:cNvSpPr/>
              <p:nvPr/>
            </p:nvSpPr>
            <p:spPr>
              <a:xfrm>
                <a:off x="2286000" y="2577960"/>
                <a:ext cx="298800" cy="241920"/>
              </a:xfrm>
              <a:prstGeom prst="ellipse">
                <a:avLst/>
              </a:prstGeom>
              <a:solidFill>
                <a:srgbClr val="b4dc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23"/>
              <p:cNvSpPr/>
              <p:nvPr/>
            </p:nvSpPr>
            <p:spPr>
              <a:xfrm flipH="1">
                <a:off x="2133360" y="2699640"/>
                <a:ext cx="301680" cy="484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24"/>
              <p:cNvSpPr/>
              <p:nvPr/>
            </p:nvSpPr>
            <p:spPr>
              <a:xfrm>
                <a:off x="2435040" y="2699640"/>
                <a:ext cx="753480" cy="119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9" name="Group 25"/>
          <p:cNvGrpSpPr/>
          <p:nvPr/>
        </p:nvGrpSpPr>
        <p:grpSpPr>
          <a:xfrm>
            <a:off x="5885280" y="1459800"/>
            <a:ext cx="3218760" cy="1568520"/>
            <a:chOff x="5885280" y="1459800"/>
            <a:chExt cx="3218760" cy="1568520"/>
          </a:xfrm>
        </p:grpSpPr>
        <p:sp>
          <p:nvSpPr>
            <p:cNvPr id="250" name="Text Box 26"/>
            <p:cNvSpPr/>
            <p:nvPr/>
          </p:nvSpPr>
          <p:spPr>
            <a:xfrm rot="1064400">
              <a:off x="5892840" y="2002680"/>
              <a:ext cx="3203280" cy="550800"/>
            </a:xfrm>
            <a:prstGeom prst="rect">
              <a:avLst/>
            </a:prstGeom>
            <a:solidFill>
              <a:srgbClr val="59a8d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Georgia"/>
                </a:rPr>
                <a:t>Здравствуйте!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Group 27"/>
            <p:cNvGrpSpPr/>
            <p:nvPr/>
          </p:nvGrpSpPr>
          <p:grpSpPr>
            <a:xfrm>
              <a:off x="7026120" y="1459800"/>
              <a:ext cx="667800" cy="603720"/>
              <a:chOff x="7026120" y="1459800"/>
              <a:chExt cx="667800" cy="603720"/>
            </a:xfrm>
          </p:grpSpPr>
          <p:sp>
            <p:nvSpPr>
              <p:cNvPr id="252" name="Oval 28"/>
              <p:cNvSpPr/>
              <p:nvPr/>
            </p:nvSpPr>
            <p:spPr>
              <a:xfrm rot="2310600">
                <a:off x="7279200" y="1516320"/>
                <a:ext cx="259200" cy="219960"/>
              </a:xfrm>
              <a:prstGeom prst="ellipse">
                <a:avLst/>
              </a:prstGeom>
              <a:solidFill>
                <a:srgbClr val="b4dc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29"/>
              <p:cNvSpPr/>
              <p:nvPr/>
            </p:nvSpPr>
            <p:spPr>
              <a:xfrm flipH="1">
                <a:off x="7026120" y="1707480"/>
                <a:ext cx="348840" cy="135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30"/>
              <p:cNvSpPr/>
              <p:nvPr/>
            </p:nvSpPr>
            <p:spPr>
              <a:xfrm>
                <a:off x="7374960" y="1707480"/>
                <a:ext cx="318960" cy="356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" name="Group 44"/>
          <p:cNvGrpSpPr/>
          <p:nvPr/>
        </p:nvGrpSpPr>
        <p:grpSpPr>
          <a:xfrm>
            <a:off x="4347720" y="2923200"/>
            <a:ext cx="3461760" cy="1095120"/>
            <a:chOff x="4347720" y="2923200"/>
            <a:chExt cx="3461760" cy="1095120"/>
          </a:xfrm>
        </p:grpSpPr>
        <p:sp>
          <p:nvSpPr>
            <p:cNvPr id="256" name="Text Box 32"/>
            <p:cNvSpPr/>
            <p:nvPr/>
          </p:nvSpPr>
          <p:spPr>
            <a:xfrm rot="21398400">
              <a:off x="4361760" y="3336840"/>
              <a:ext cx="3433680" cy="581400"/>
            </a:xfrm>
            <a:prstGeom prst="rect">
              <a:avLst/>
            </a:prstGeom>
            <a:solidFill>
              <a:srgbClr val="59a8d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Georgia"/>
                </a:rPr>
                <a:t>До свидания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Group 33"/>
            <p:cNvGrpSpPr/>
            <p:nvPr/>
          </p:nvGrpSpPr>
          <p:grpSpPr>
            <a:xfrm>
              <a:off x="5666400" y="2923200"/>
              <a:ext cx="861120" cy="453960"/>
              <a:chOff x="5666400" y="2923200"/>
              <a:chExt cx="861120" cy="453960"/>
            </a:xfrm>
          </p:grpSpPr>
          <p:sp>
            <p:nvSpPr>
              <p:cNvPr id="258" name="Oval 34"/>
              <p:cNvSpPr/>
              <p:nvPr/>
            </p:nvSpPr>
            <p:spPr>
              <a:xfrm rot="1044600">
                <a:off x="5895000" y="2952360"/>
                <a:ext cx="228240" cy="204480"/>
              </a:xfrm>
              <a:prstGeom prst="ellipse">
                <a:avLst/>
              </a:prstGeom>
              <a:solidFill>
                <a:srgbClr val="b4dc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35"/>
              <p:cNvSpPr/>
              <p:nvPr/>
            </p:nvSpPr>
            <p:spPr>
              <a:xfrm flipH="1">
                <a:off x="5666400" y="3055680"/>
                <a:ext cx="342000" cy="321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36"/>
              <p:cNvSpPr/>
              <p:nvPr/>
            </p:nvSpPr>
            <p:spPr>
              <a:xfrm>
                <a:off x="6008400" y="3055680"/>
                <a:ext cx="51912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Group 37"/>
          <p:cNvGrpSpPr/>
          <p:nvPr/>
        </p:nvGrpSpPr>
        <p:grpSpPr>
          <a:xfrm>
            <a:off x="4497480" y="4662000"/>
            <a:ext cx="2921760" cy="1622520"/>
            <a:chOff x="4497480" y="4662000"/>
            <a:chExt cx="2921760" cy="1622520"/>
          </a:xfrm>
        </p:grpSpPr>
        <p:sp>
          <p:nvSpPr>
            <p:cNvPr id="262" name="Text Box 38"/>
            <p:cNvSpPr/>
            <p:nvPr/>
          </p:nvSpPr>
          <p:spPr>
            <a:xfrm rot="20353800">
              <a:off x="4517640" y="5151600"/>
              <a:ext cx="2881080" cy="642600"/>
            </a:xfrm>
            <a:prstGeom prst="rect">
              <a:avLst/>
            </a:prstGeom>
            <a:solidFill>
              <a:srgbClr val="59a8d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Georgia"/>
                </a:rPr>
                <a:t>Извинит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39"/>
            <p:cNvGrpSpPr/>
            <p:nvPr/>
          </p:nvGrpSpPr>
          <p:grpSpPr>
            <a:xfrm>
              <a:off x="5314680" y="4869000"/>
              <a:ext cx="718560" cy="503640"/>
              <a:chOff x="5314680" y="4869000"/>
              <a:chExt cx="718560" cy="503640"/>
            </a:xfrm>
          </p:grpSpPr>
          <p:sp>
            <p:nvSpPr>
              <p:cNvPr id="264" name="Oval 40"/>
              <p:cNvSpPr/>
              <p:nvPr/>
            </p:nvSpPr>
            <p:spPr>
              <a:xfrm>
                <a:off x="5531400" y="4869000"/>
                <a:ext cx="190440" cy="220680"/>
              </a:xfrm>
              <a:prstGeom prst="ellipse">
                <a:avLst/>
              </a:prstGeom>
              <a:solidFill>
                <a:srgbClr val="b4dc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41"/>
              <p:cNvSpPr/>
              <p:nvPr/>
            </p:nvSpPr>
            <p:spPr>
              <a:xfrm flipH="1">
                <a:off x="5314680" y="5012280"/>
                <a:ext cx="287280" cy="36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42"/>
              <p:cNvSpPr/>
              <p:nvPr/>
            </p:nvSpPr>
            <p:spPr>
              <a:xfrm>
                <a:off x="5601960" y="5013360"/>
                <a:ext cx="431280" cy="71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4437000"/>
            <a:ext cx="50418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Georgia"/>
              </a:rPr>
              <a:t>Запомни!</a:t>
            </a:r>
            <a:endParaRPr b="1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43000" y="73152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Georgia"/>
              </a:rPr>
              <a:t>Здравствуйт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Georgia"/>
              </a:rPr>
              <a:t>Добрый день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Georgia"/>
              </a:rPr>
              <a:t>Доброе утро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Georgia"/>
              </a:rPr>
              <a:t>Добрый вечер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Georgia"/>
              </a:rPr>
              <a:t>До свидан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Georgia"/>
              </a:rPr>
              <a:t>Извинит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Georgia"/>
              </a:rPr>
              <a:t>Спасибо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219640" y="2060280"/>
            <a:ext cx="323856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85c00"/>
                </a:solidFill>
                <a:latin typeface="Georgia"/>
              </a:rPr>
              <a:t>Благодарю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85c00"/>
                </a:solidFill>
                <a:latin typeface="Georgia"/>
              </a:rPr>
              <a:t>Будьте добры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85c00"/>
                </a:solidFill>
                <a:latin typeface="Georgia"/>
              </a:rPr>
              <a:t>Если  вас  не затруднит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85c00"/>
                </a:solidFill>
                <a:latin typeface="Georgia"/>
              </a:rPr>
              <a:t>Простит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85c00"/>
                </a:solidFill>
                <a:latin typeface="Georgia"/>
              </a:rPr>
              <a:t>Пожалуйст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85c00"/>
                </a:solidFill>
                <a:latin typeface="Georgia"/>
              </a:rPr>
              <a:t>Будьте любезны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0" name="Picture 6" descr="MCj04324170000[1]"/>
          <p:cNvPicPr/>
          <p:nvPr/>
        </p:nvPicPr>
        <p:blipFill>
          <a:blip r:embed="rId1"/>
          <a:stretch/>
        </p:blipFill>
        <p:spPr>
          <a:xfrm>
            <a:off x="3203640" y="5661000"/>
            <a:ext cx="16239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404640"/>
            <a:ext cx="8712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 algn="ctr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Georgia"/>
              </a:rPr>
              <a:t>Вставьте нужные по смыслу слова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ДЕВОЧКА ВСТРЕТИЛА УЧИТЕЛЬНИЦУ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И ПОЗДОРОВАЛАСЬ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ЗДРАВСТВУЙТЕ!</a:t>
            </a: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МИША УХОДИЛ ОТ ДРУГА И СКАЗАЛ ЕМУ: «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ПОКА</a:t>
            </a: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!»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А ЕГО РОДИТЕЛЯМ:  «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ДО СВИДАНИЯ!</a:t>
            </a: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В БУФЕТЕ ИГОРЬ НЕЧАЯННО ТОЛКНУЛ ТАНЮ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И ПРОИЗНЁС:  «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ИЗВИНИ, ПОЖАЛУЙСТА!</a:t>
            </a: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ПОСЛЕ ОБЕДА СЫН СКАЗАЛ МАМЕ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СПАСИБО, ОЧЕНЬ ВКУСНО!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2" name="Picture 4" descr="b23"/>
          <p:cNvPicPr/>
          <p:nvPr/>
        </p:nvPicPr>
        <p:blipFill>
          <a:blip r:embed="rId2"/>
          <a:stretch/>
        </p:blipFill>
        <p:spPr>
          <a:xfrm>
            <a:off x="6659640" y="5013360"/>
            <a:ext cx="2160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</cp:lastModifiedBy>
  <dcterms:modified xsi:type="dcterms:W3CDTF">2014-03-15T21:40:45Z</dcterms:modified>
  <cp:revision>62</cp:revision>
  <dc:subject/>
  <dc:title>PowerPoint Presentation</dc:title>
</cp:coreProperties>
</file>