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1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8.wmf" ContentType="image/x-wmf"/>
  <Override PartName="/ppt/media/image17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3FD-0909-43E2-AA32-119D4883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523-8B88-4F3F-B1E1-32015C6B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6A0-91CE-48D5-BD32-9A9A0D09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BF7-E391-4835-A019-CAA04347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296A-A825-425A-8B98-49C12EF4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3E75-FB19-4175-B7C7-CD62FFD7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EE08-54C2-4FF5-9B39-AAAA46AF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B18E-C8A9-4D73-B14D-DD2FEDB0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A5F1-3C9A-488A-A430-599AD431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66D5-8E9C-4EBA-AC41-B70598FB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EC91-31BD-40C3-A53A-607DB5B1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CB0-A4D4-4DFB-82EB-C306B813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9390-F210-4306-98D1-69B4056E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721B-1656-4BE9-927D-A84CCCE3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A338-902C-4620-BE00-5EAB1C55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7A75-F5BB-4835-BE5A-2549DC99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B7C7-C5F4-4A88-94C0-3A9A8556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CA614-CA64-415D-BB64-04C682F9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A1E98-CECA-4144-92C5-AA8D046B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BFD8A-D650-4588-A9E5-F75F1B7A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4D433-F637-4E93-8997-AFCFC8E2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46EF-A444-4A80-BC1D-EB8F9F36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F89-F916-42E5-9779-E1E4EC88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66EB2-9DB1-431D-99C8-2842DE06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4EB19-F804-45D6-B073-26F6672B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31BF9-1141-4587-8B2B-C93EE0C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9CF53-FD57-44D4-9CF5-9080377E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55E2-CA19-4C08-A5B0-E7D9AEB6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4FFD-CEB0-4137-87C4-BD22799B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DF434-F612-4D53-9B04-77424835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DE76E-24C2-448B-9CF4-0DA59D87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CEE6-A485-47B0-8D00-CDD6D938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88E63-4A42-4331-83E4-D66278A6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A33-96B5-45BA-8929-32C4E334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E5F0-94A3-409C-87D6-FB74935B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D7AEB-DDDD-4B82-997E-DC435319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35CD-E891-49FD-9789-8DD45058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3AB3-6A60-4EEA-817F-355C6487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07DA6-E93B-4B0E-B7BF-7097A8D4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F684F-79FA-4446-A097-E9421607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7B092-5FB3-4BE3-A16C-B77EF2A3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F4D43-4F2C-41B0-B00E-91BE1C28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755D-DF3A-48E4-8142-132C093E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B8E-84B8-4FC3-BFE5-104CFCD9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BBF-E45F-4A68-B040-E5A4794A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277-4AF2-425B-B593-16B2800B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A64-C3BA-4A69-9E80-6F28D9C9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F64-1C68-4771-BA43-6C0464AB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56F9-931B-4E55-BF60-BC5E4152B70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929F-8A36-42E1-A9A2-C034CCB1436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E616-ECC4-46CD-BDB4-551E9CD1328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D509-3615-42EE-9ACC-CE3136BA2A7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4000" y="1197000"/>
            <a:ext cx="88200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404040"/>
                </a:solidFill>
                <a:latin typeface="Georgia"/>
              </a:rPr>
              <a:t>Чарівні двері </a:t>
            </a:r>
            <a:r>
              <a:rPr b="1" lang="uk-UA" sz="5400" spc="-1" strike="noStrike">
                <a:solidFill>
                  <a:srgbClr val="7030a0"/>
                </a:solidFill>
                <a:latin typeface="Georgia"/>
              </a:rPr>
              <a:t>Королівства </a:t>
            </a:r>
            <a:r>
              <a:rPr b="1" lang="uk-UA" sz="5400" spc="-1" strike="noStrike">
                <a:solidFill>
                  <a:srgbClr val="ffff00"/>
                </a:solidFill>
                <a:latin typeface="Georgia"/>
              </a:rPr>
              <a:t>Порядку, Доброти, Дружби і Ввічливості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Picture 4" descr="MCj04375550000[1]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14240" y="35712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15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rebuchet MS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се вежливые  слова хороши, когда человек  искренне, от  души желает человеку добра, здоровь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Рисунок 3" descr="cdolls66.gif"/>
          <p:cNvPicPr/>
          <p:nvPr/>
        </p:nvPicPr>
        <p:blipFill>
          <a:blip r:embed="rId1"/>
          <a:stretch/>
        </p:blipFill>
        <p:spPr>
          <a:xfrm>
            <a:off x="2124000" y="3970440"/>
            <a:ext cx="3726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8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79280" y="404280"/>
            <a:ext cx="8964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>
              <a:lnSpc>
                <a:spcPct val="90000"/>
              </a:lnSpc>
              <a:spcBef>
                <a:spcPts val="22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Georgia"/>
              </a:rPr>
              <a:t>Будем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22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Georgia"/>
              </a:rPr>
              <a:t>вежливы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22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Georgia"/>
              </a:rPr>
              <a:t>и добры всегда!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6" name="Picture 4" descr="MCj04375550000[1]"/>
          <p:cNvPicPr/>
          <p:nvPr/>
        </p:nvPicPr>
        <p:blipFill>
          <a:blip r:embed="rId2"/>
          <a:stretch/>
        </p:blipFill>
        <p:spPr>
          <a:xfrm>
            <a:off x="6189840" y="912960"/>
            <a:ext cx="291780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7120" y="1981080"/>
            <a:ext cx="8501040" cy="44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Georgia"/>
              </a:rPr>
              <a:t>«Ничего не стоит так дёшево и не ценится так</a:t>
            </a:r>
            <a:r>
              <a:rPr b="1" i="1" lang="ru-RU" sz="48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404040"/>
                </a:solidFill>
                <a:latin typeface="Georgia"/>
              </a:rPr>
              <a:t>дорого, как вежливость».                       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Georgia"/>
              </a:rPr>
              <a:t>                  </a:t>
            </a:r>
            <a:r>
              <a:rPr b="1" lang="ru-RU" sz="4800" spc="-1" strike="noStrike">
                <a:solidFill>
                  <a:srgbClr val="404040"/>
                </a:solidFill>
                <a:latin typeface="Georgia"/>
              </a:rPr>
              <a:t>Сервантес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4" descr="MCj04374950000[1]"/>
          <p:cNvPicPr/>
          <p:nvPr/>
        </p:nvPicPr>
        <p:blipFill>
          <a:blip r:embed="rId1"/>
          <a:stretch/>
        </p:blipFill>
        <p:spPr>
          <a:xfrm>
            <a:off x="324000" y="0"/>
            <a:ext cx="1944360" cy="220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MCj04375050000[1]"/>
          <p:cNvPicPr/>
          <p:nvPr/>
        </p:nvPicPr>
        <p:blipFill>
          <a:blip r:embed="rId2"/>
          <a:stretch/>
        </p:blipFill>
        <p:spPr>
          <a:xfrm>
            <a:off x="7164360" y="0"/>
            <a:ext cx="1682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12b2eb"/>
                </a:solidFill>
                <a:latin typeface="Georgia"/>
              </a:rPr>
              <a:t>Игра «Вежливые слова»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404040"/>
                </a:solidFill>
                <a:latin typeface="Georgia"/>
              </a:rPr>
              <a:t>Растает даже ледяная глыб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404040"/>
                </a:solidFill>
                <a:latin typeface="Georgia"/>
              </a:rPr>
              <a:t>От слова тёплого  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Georgia"/>
              </a:rPr>
              <a:t>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ПАСИБО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4" descr="b23"/>
          <p:cNvPicPr/>
          <p:nvPr/>
        </p:nvPicPr>
        <p:blipFill>
          <a:blip r:embed="rId1"/>
          <a:stretch/>
        </p:blipFill>
        <p:spPr>
          <a:xfrm>
            <a:off x="6335640" y="3714840"/>
            <a:ext cx="2808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24000" y="356760"/>
            <a:ext cx="849600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Georgia"/>
              </a:rPr>
              <a:t>  </a:t>
            </a: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Зазеленеет старый пень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  </a:t>
            </a: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Когда услышит 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36600"/>
                </a:solidFill>
                <a:latin typeface="Georgia"/>
              </a:rPr>
              <a:t>                        </a:t>
            </a:r>
            <a:r>
              <a:rPr b="1" lang="ru-RU" sz="3100" spc="-1" strike="noStrike">
                <a:solidFill>
                  <a:srgbClr val="ff0000"/>
                </a:solidFill>
                <a:latin typeface="Georgia"/>
              </a:rPr>
              <a:t>ДОБРЫЙ ДЕНЬ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  </a:t>
            </a: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Мальчик вежливый и развитый 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   </a:t>
            </a:r>
            <a:r>
              <a:rPr b="1" lang="ru-RU" sz="3100" spc="-1" strike="noStrike">
                <a:solidFill>
                  <a:srgbClr val="404040"/>
                </a:solidFill>
                <a:latin typeface="Georgia"/>
              </a:rPr>
              <a:t>Говорит, встречаясь 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Georgia"/>
              </a:rPr>
              <a:t>                                </a:t>
            </a:r>
            <a:r>
              <a:rPr b="1" lang="ru-RU" sz="3100" spc="-1" strike="noStrike">
                <a:solidFill>
                  <a:srgbClr val="ff0000"/>
                </a:solidFill>
                <a:latin typeface="Georgia"/>
              </a:rPr>
              <a:t>ЗДРАВСТВУЙТЕ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rebuchet MS"/>
              </a:rPr>
              <a:t>                         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4" descr="b23"/>
          <p:cNvPicPr/>
          <p:nvPr/>
        </p:nvPicPr>
        <p:blipFill>
          <a:blip r:embed="rId1"/>
          <a:stretch/>
        </p:blipFill>
        <p:spPr>
          <a:xfrm>
            <a:off x="324000" y="4424400"/>
            <a:ext cx="28796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26560" y="343080"/>
            <a:ext cx="8137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00"/>
                </a:solidFill>
                <a:latin typeface="Trebuchet MS"/>
              </a:rPr>
              <a:t>  </a:t>
            </a: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Когда нас бранят за шалости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  </a:t>
            </a: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Мы говорим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00"/>
                </a:solidFill>
                <a:latin typeface="Georgia"/>
              </a:rPr>
              <a:t>            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ПРОСТИ, ПОЖАЛУЙСТА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00"/>
                </a:solidFill>
                <a:latin typeface="Georgia"/>
              </a:rPr>
              <a:t>  </a:t>
            </a: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И во Франции, и в Дании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  </a:t>
            </a: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На прощанье говорят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                       </a:t>
            </a:r>
            <a:r>
              <a:rPr b="1" lang="en-US" sz="25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ДО СВИДАНИЯ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00"/>
                </a:solidFill>
                <a:latin typeface="Georgia"/>
              </a:rPr>
              <a:t>                                  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00"/>
                </a:solidFill>
                <a:latin typeface="Trebuchet MS"/>
              </a:rPr>
              <a:t>  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00"/>
                </a:solidFill>
                <a:latin typeface="Trebuchet MS"/>
              </a:rPr>
              <a:t> 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4" descr="b23"/>
          <p:cNvPicPr/>
          <p:nvPr/>
        </p:nvPicPr>
        <p:blipFill>
          <a:blip r:embed="rId1"/>
          <a:stretch/>
        </p:blipFill>
        <p:spPr>
          <a:xfrm>
            <a:off x="0" y="4437000"/>
            <a:ext cx="280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c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* Вежливость проявляется в отношении к людям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Вежливый человек не причинит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    </a:t>
            </a: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другому   неприятностей и обид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Не отвечай на грубость грубостью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Приучи себя постоянно помнить об окружающих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Вежливый человек всегда внимателен к людям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Georgia"/>
              </a:rPr>
              <a:t>Он старается не причинять им неприятностей, не оскорблять окружающих ни словом, ни делом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4" descr="MCj04343830000[1]"/>
          <p:cNvPicPr/>
          <p:nvPr/>
        </p:nvPicPr>
        <p:blipFill>
          <a:blip r:embed="rId1"/>
          <a:stretch/>
        </p:blipFill>
        <p:spPr>
          <a:xfrm>
            <a:off x="179280" y="4751280"/>
            <a:ext cx="2152800" cy="2106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MCj03980970000[1]"/>
          <p:cNvPicPr/>
          <p:nvPr/>
        </p:nvPicPr>
        <p:blipFill>
          <a:blip r:embed="rId2"/>
          <a:stretch/>
        </p:blipFill>
        <p:spPr>
          <a:xfrm>
            <a:off x="6478560" y="4670280"/>
            <a:ext cx="2665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Georgia"/>
              </a:rPr>
              <a:t>Словарь вежливых слов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469440" y="1391400"/>
            <a:ext cx="2515680" cy="1135800"/>
            <a:chOff x="469440" y="1391400"/>
            <a:chExt cx="2515680" cy="1135800"/>
          </a:xfrm>
        </p:grpSpPr>
        <p:sp>
          <p:nvSpPr>
            <p:cNvPr id="231" name="Text Box 4"/>
            <p:cNvSpPr/>
            <p:nvPr/>
          </p:nvSpPr>
          <p:spPr>
            <a:xfrm rot="742800">
              <a:off x="502920" y="1690200"/>
              <a:ext cx="2448000" cy="581400"/>
            </a:xfrm>
            <a:prstGeom prst="rect">
              <a:avLst/>
            </a:prstGeom>
            <a:solidFill>
              <a:srgbClr val="59a8d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Georgia"/>
                </a:rPr>
                <a:t>Спасибо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11"/>
            <p:cNvGrpSpPr/>
            <p:nvPr/>
          </p:nvGrpSpPr>
          <p:grpSpPr>
            <a:xfrm>
              <a:off x="1362240" y="1391400"/>
              <a:ext cx="541800" cy="356760"/>
              <a:chOff x="1362240" y="1391400"/>
              <a:chExt cx="541800" cy="356760"/>
            </a:xfrm>
          </p:grpSpPr>
          <p:sp>
            <p:nvSpPr>
              <p:cNvPr id="233" name="Oval 6"/>
              <p:cNvSpPr/>
              <p:nvPr/>
            </p:nvSpPr>
            <p:spPr>
              <a:xfrm rot="1989000">
                <a:off x="1570680" y="1418400"/>
                <a:ext cx="142920" cy="144360"/>
              </a:xfrm>
              <a:prstGeom prst="ellipse">
                <a:avLst/>
              </a:prstGeom>
              <a:solidFill>
                <a:srgbClr val="b4dc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7"/>
              <p:cNvSpPr/>
              <p:nvPr/>
            </p:nvSpPr>
            <p:spPr>
              <a:xfrm flipH="1">
                <a:off x="1362240" y="1491120"/>
                <a:ext cx="279000" cy="163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8"/>
              <p:cNvSpPr/>
              <p:nvPr/>
            </p:nvSpPr>
            <p:spPr>
              <a:xfrm>
                <a:off x="1641600" y="1491120"/>
                <a:ext cx="262440" cy="257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6" name="Picture 10" descr=""/>
          <p:cNvPicPr/>
          <p:nvPr/>
        </p:nvPicPr>
        <p:blipFill>
          <a:blip r:embed="rId2"/>
          <a:stretch/>
        </p:blipFill>
        <p:spPr>
          <a:xfrm>
            <a:off x="7524720" y="3789360"/>
            <a:ext cx="1081080" cy="28526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3"/>
          <p:cNvGrpSpPr/>
          <p:nvPr/>
        </p:nvGrpSpPr>
        <p:grpSpPr>
          <a:xfrm>
            <a:off x="1225800" y="4654800"/>
            <a:ext cx="2465280" cy="1427040"/>
            <a:chOff x="1225800" y="4654800"/>
            <a:chExt cx="2465280" cy="1427040"/>
          </a:xfrm>
        </p:grpSpPr>
        <p:sp>
          <p:nvSpPr>
            <p:cNvPr id="238" name="Text Box 14"/>
            <p:cNvSpPr/>
            <p:nvPr/>
          </p:nvSpPr>
          <p:spPr>
            <a:xfrm rot="56400">
              <a:off x="1234440" y="4992840"/>
              <a:ext cx="2448000" cy="1068840"/>
            </a:xfrm>
            <a:prstGeom prst="rect">
              <a:avLst/>
            </a:prstGeom>
            <a:solidFill>
              <a:srgbClr val="59a8d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Georgia"/>
                </a:rPr>
                <a:t>Добрый день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2039040" y="4654800"/>
              <a:ext cx="549720" cy="380160"/>
              <a:chOff x="2039040" y="4654800"/>
              <a:chExt cx="549720" cy="380160"/>
            </a:xfrm>
          </p:grpSpPr>
          <p:sp>
            <p:nvSpPr>
              <p:cNvPr id="240" name="Oval 16"/>
              <p:cNvSpPr/>
              <p:nvPr/>
            </p:nvSpPr>
            <p:spPr>
              <a:xfrm rot="1302600">
                <a:off x="2161440" y="4688280"/>
                <a:ext cx="226800" cy="235080"/>
              </a:xfrm>
              <a:prstGeom prst="ellipse">
                <a:avLst/>
              </a:prstGeom>
              <a:solidFill>
                <a:srgbClr val="b4dc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17"/>
              <p:cNvSpPr/>
              <p:nvPr/>
            </p:nvSpPr>
            <p:spPr>
              <a:xfrm flipH="1">
                <a:off x="2039040" y="4820040"/>
                <a:ext cx="240840" cy="214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18"/>
              <p:cNvSpPr/>
              <p:nvPr/>
            </p:nvSpPr>
            <p:spPr>
              <a:xfrm>
                <a:off x="2280240" y="4820040"/>
                <a:ext cx="308520" cy="199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Group 19"/>
          <p:cNvGrpSpPr/>
          <p:nvPr/>
        </p:nvGrpSpPr>
        <p:grpSpPr>
          <a:xfrm>
            <a:off x="590760" y="2001960"/>
            <a:ext cx="4984560" cy="2331360"/>
            <a:chOff x="590760" y="2001960"/>
            <a:chExt cx="4984560" cy="2331360"/>
          </a:xfrm>
        </p:grpSpPr>
        <p:sp>
          <p:nvSpPr>
            <p:cNvPr id="244" name="Text Box 20"/>
            <p:cNvSpPr/>
            <p:nvPr/>
          </p:nvSpPr>
          <p:spPr>
            <a:xfrm rot="20353800">
              <a:off x="521640" y="2891880"/>
              <a:ext cx="5122080" cy="550800"/>
            </a:xfrm>
            <a:prstGeom prst="rect">
              <a:avLst/>
            </a:prstGeom>
            <a:solidFill>
              <a:srgbClr val="59a8d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Georgia"/>
                </a:rPr>
                <a:t>Прости,</a:t>
              </a:r>
              <a:r>
                <a:rPr b="1" lang="ru-RU" sz="3000" spc="-1" strike="noStrike">
                  <a:solidFill>
                    <a:srgbClr val="6600cc"/>
                  </a:solidFill>
                  <a:latin typeface="Georgia"/>
                </a:rPr>
                <a:t> </a:t>
              </a:r>
              <a:r>
                <a:rPr b="1" lang="ru-RU" sz="3000" spc="-1" strike="noStrike">
                  <a:solidFill>
                    <a:srgbClr val="ff0000"/>
                  </a:solidFill>
                  <a:latin typeface="Georgia"/>
                </a:rPr>
                <a:t>пожалуйста!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21"/>
            <p:cNvGrpSpPr/>
            <p:nvPr/>
          </p:nvGrpSpPr>
          <p:grpSpPr>
            <a:xfrm>
              <a:off x="2133360" y="2577960"/>
              <a:ext cx="1055160" cy="606600"/>
              <a:chOff x="2133360" y="2577960"/>
              <a:chExt cx="1055160" cy="606600"/>
            </a:xfrm>
          </p:grpSpPr>
          <p:sp>
            <p:nvSpPr>
              <p:cNvPr id="246" name="Oval 22"/>
              <p:cNvSpPr/>
              <p:nvPr/>
            </p:nvSpPr>
            <p:spPr>
              <a:xfrm>
                <a:off x="2286000" y="2577960"/>
                <a:ext cx="298800" cy="241920"/>
              </a:xfrm>
              <a:prstGeom prst="ellipse">
                <a:avLst/>
              </a:prstGeom>
              <a:solidFill>
                <a:srgbClr val="b4dc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23"/>
              <p:cNvSpPr/>
              <p:nvPr/>
            </p:nvSpPr>
            <p:spPr>
              <a:xfrm flipH="1">
                <a:off x="2133360" y="2699640"/>
                <a:ext cx="301680" cy="484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24"/>
              <p:cNvSpPr/>
              <p:nvPr/>
            </p:nvSpPr>
            <p:spPr>
              <a:xfrm>
                <a:off x="2435040" y="2699640"/>
                <a:ext cx="753480" cy="119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" name="Group 25"/>
          <p:cNvGrpSpPr/>
          <p:nvPr/>
        </p:nvGrpSpPr>
        <p:grpSpPr>
          <a:xfrm>
            <a:off x="5885280" y="1459800"/>
            <a:ext cx="3218760" cy="1568520"/>
            <a:chOff x="5885280" y="1459800"/>
            <a:chExt cx="3218760" cy="1568520"/>
          </a:xfrm>
        </p:grpSpPr>
        <p:sp>
          <p:nvSpPr>
            <p:cNvPr id="250" name="Text Box 26"/>
            <p:cNvSpPr/>
            <p:nvPr/>
          </p:nvSpPr>
          <p:spPr>
            <a:xfrm rot="1064400">
              <a:off x="5892840" y="2002680"/>
              <a:ext cx="3203280" cy="550800"/>
            </a:xfrm>
            <a:prstGeom prst="rect">
              <a:avLst/>
            </a:prstGeom>
            <a:solidFill>
              <a:srgbClr val="59a8d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Georgia"/>
                </a:rPr>
                <a:t>Здравствуйте!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Group 27"/>
            <p:cNvGrpSpPr/>
            <p:nvPr/>
          </p:nvGrpSpPr>
          <p:grpSpPr>
            <a:xfrm>
              <a:off x="7026120" y="1459800"/>
              <a:ext cx="667800" cy="603720"/>
              <a:chOff x="7026120" y="1459800"/>
              <a:chExt cx="667800" cy="603720"/>
            </a:xfrm>
          </p:grpSpPr>
          <p:sp>
            <p:nvSpPr>
              <p:cNvPr id="252" name="Oval 28"/>
              <p:cNvSpPr/>
              <p:nvPr/>
            </p:nvSpPr>
            <p:spPr>
              <a:xfrm rot="2310600">
                <a:off x="7279200" y="1516320"/>
                <a:ext cx="259200" cy="219960"/>
              </a:xfrm>
              <a:prstGeom prst="ellipse">
                <a:avLst/>
              </a:prstGeom>
              <a:solidFill>
                <a:srgbClr val="b4dc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29"/>
              <p:cNvSpPr/>
              <p:nvPr/>
            </p:nvSpPr>
            <p:spPr>
              <a:xfrm flipH="1">
                <a:off x="7026120" y="1707480"/>
                <a:ext cx="348840" cy="135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30"/>
              <p:cNvSpPr/>
              <p:nvPr/>
            </p:nvSpPr>
            <p:spPr>
              <a:xfrm>
                <a:off x="7374960" y="1707480"/>
                <a:ext cx="318960" cy="356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Group 44"/>
          <p:cNvGrpSpPr/>
          <p:nvPr/>
        </p:nvGrpSpPr>
        <p:grpSpPr>
          <a:xfrm>
            <a:off x="4347720" y="2923200"/>
            <a:ext cx="3461760" cy="1095120"/>
            <a:chOff x="4347720" y="2923200"/>
            <a:chExt cx="3461760" cy="1095120"/>
          </a:xfrm>
        </p:grpSpPr>
        <p:sp>
          <p:nvSpPr>
            <p:cNvPr id="256" name="Text Box 32"/>
            <p:cNvSpPr/>
            <p:nvPr/>
          </p:nvSpPr>
          <p:spPr>
            <a:xfrm rot="21398400">
              <a:off x="4361760" y="3336840"/>
              <a:ext cx="3433680" cy="581400"/>
            </a:xfrm>
            <a:prstGeom prst="rect">
              <a:avLst/>
            </a:prstGeom>
            <a:solidFill>
              <a:srgbClr val="59a8d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Georgia"/>
                </a:rPr>
                <a:t>До свидания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33"/>
            <p:cNvGrpSpPr/>
            <p:nvPr/>
          </p:nvGrpSpPr>
          <p:grpSpPr>
            <a:xfrm>
              <a:off x="5666400" y="2923200"/>
              <a:ext cx="861120" cy="453960"/>
              <a:chOff x="5666400" y="2923200"/>
              <a:chExt cx="861120" cy="453960"/>
            </a:xfrm>
          </p:grpSpPr>
          <p:sp>
            <p:nvSpPr>
              <p:cNvPr id="258" name="Oval 34"/>
              <p:cNvSpPr/>
              <p:nvPr/>
            </p:nvSpPr>
            <p:spPr>
              <a:xfrm rot="1044600">
                <a:off x="5895000" y="2952360"/>
                <a:ext cx="228240" cy="204480"/>
              </a:xfrm>
              <a:prstGeom prst="ellipse">
                <a:avLst/>
              </a:prstGeom>
              <a:solidFill>
                <a:srgbClr val="b4dc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35"/>
              <p:cNvSpPr/>
              <p:nvPr/>
            </p:nvSpPr>
            <p:spPr>
              <a:xfrm flipH="1">
                <a:off x="5666400" y="3055680"/>
                <a:ext cx="342000" cy="321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6"/>
              <p:cNvSpPr/>
              <p:nvPr/>
            </p:nvSpPr>
            <p:spPr>
              <a:xfrm>
                <a:off x="6008400" y="3055680"/>
                <a:ext cx="51912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Group 37"/>
          <p:cNvGrpSpPr/>
          <p:nvPr/>
        </p:nvGrpSpPr>
        <p:grpSpPr>
          <a:xfrm>
            <a:off x="4497480" y="4662000"/>
            <a:ext cx="2921760" cy="1622520"/>
            <a:chOff x="4497480" y="4662000"/>
            <a:chExt cx="2921760" cy="1622520"/>
          </a:xfrm>
        </p:grpSpPr>
        <p:sp>
          <p:nvSpPr>
            <p:cNvPr id="262" name="Text Box 38"/>
            <p:cNvSpPr/>
            <p:nvPr/>
          </p:nvSpPr>
          <p:spPr>
            <a:xfrm rot="20353800">
              <a:off x="4517640" y="5151600"/>
              <a:ext cx="2881080" cy="642600"/>
            </a:xfrm>
            <a:prstGeom prst="rect">
              <a:avLst/>
            </a:prstGeom>
            <a:solidFill>
              <a:srgbClr val="59a8d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Georgia"/>
                </a:rPr>
                <a:t>Извинит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39"/>
            <p:cNvGrpSpPr/>
            <p:nvPr/>
          </p:nvGrpSpPr>
          <p:grpSpPr>
            <a:xfrm>
              <a:off x="5314680" y="4869000"/>
              <a:ext cx="718560" cy="503640"/>
              <a:chOff x="5314680" y="4869000"/>
              <a:chExt cx="718560" cy="503640"/>
            </a:xfrm>
          </p:grpSpPr>
          <p:sp>
            <p:nvSpPr>
              <p:cNvPr id="264" name="Oval 40"/>
              <p:cNvSpPr/>
              <p:nvPr/>
            </p:nvSpPr>
            <p:spPr>
              <a:xfrm>
                <a:off x="5531400" y="4869000"/>
                <a:ext cx="190440" cy="220680"/>
              </a:xfrm>
              <a:prstGeom prst="ellipse">
                <a:avLst/>
              </a:prstGeom>
              <a:solidFill>
                <a:srgbClr val="b4dc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41"/>
              <p:cNvSpPr/>
              <p:nvPr/>
            </p:nvSpPr>
            <p:spPr>
              <a:xfrm flipH="1">
                <a:off x="5314680" y="5012280"/>
                <a:ext cx="287280" cy="36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42"/>
              <p:cNvSpPr/>
              <p:nvPr/>
            </p:nvSpPr>
            <p:spPr>
              <a:xfrm>
                <a:off x="5601960" y="5013360"/>
                <a:ext cx="431280" cy="71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4437000"/>
            <a:ext cx="50418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Georgia"/>
              </a:rPr>
              <a:t>Запомни!</a:t>
            </a:r>
            <a:endParaRPr b="1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43000" y="73152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Здравствуйт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Добрый день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Доброе утро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Добрый вечер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До свида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Извинит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Georgia"/>
              </a:rPr>
              <a:t>Спасибо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219640" y="2060280"/>
            <a:ext cx="323856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85c00"/>
                </a:solidFill>
                <a:latin typeface="Georgia"/>
              </a:rPr>
              <a:t>Благодарю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85c00"/>
                </a:solidFill>
                <a:latin typeface="Georgia"/>
              </a:rPr>
              <a:t>Будьте добры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85c00"/>
                </a:solidFill>
                <a:latin typeface="Georgia"/>
              </a:rPr>
              <a:t>Если  вас  не затрудни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85c00"/>
                </a:solidFill>
                <a:latin typeface="Georgia"/>
              </a:rPr>
              <a:t>Простит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85c00"/>
                </a:solidFill>
                <a:latin typeface="Georgia"/>
              </a:rPr>
              <a:t>Пожалуйст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85c00"/>
                </a:solidFill>
                <a:latin typeface="Georgia"/>
              </a:rPr>
              <a:t>Будьте любезны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0" name="Picture 6" descr="MCj04324170000[1]"/>
          <p:cNvPicPr/>
          <p:nvPr/>
        </p:nvPicPr>
        <p:blipFill>
          <a:blip r:embed="rId1"/>
          <a:stretch/>
        </p:blipFill>
        <p:spPr>
          <a:xfrm>
            <a:off x="3203640" y="5661000"/>
            <a:ext cx="16239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404640"/>
            <a:ext cx="8712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 algn="ct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Georgia"/>
              </a:rPr>
              <a:t>Вставьте нужные по смыслу слова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ДЕВОЧКА ВСТРЕТИЛА УЧИТЕЛЬНИЦУ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И ПОЗДОРОВАЛАСЬ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ЗДРАВСТВУЙТЕ!</a:t>
            </a: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МИША УХОДИЛ ОТ ДРУГА И СКАЗАЛ ЕМУ: «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ПОКА</a:t>
            </a: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!»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А ЕГО РОДИТЕЛЯМ:  «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ДО СВИДАНИЯ!</a:t>
            </a: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В БУФЕТЕ ИГОРЬ НЕЧАЯННО ТОЛКНУЛ ТАНЮ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И ПРОИЗНЁС:  «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ИЗВИНИ, ПОЖАЛУЙСТА!</a:t>
            </a: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ПОСЛЕ ОБЕДА СЫН СКАЗАЛ МАМЕ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СПАСИБО, ОЧЕНЬ ВКУСНО!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2" name="Picture 4" descr="b23"/>
          <p:cNvPicPr/>
          <p:nvPr/>
        </p:nvPicPr>
        <p:blipFill>
          <a:blip r:embed="rId2"/>
          <a:stretch/>
        </p:blipFill>
        <p:spPr>
          <a:xfrm>
            <a:off x="6659640" y="5013360"/>
            <a:ext cx="2160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</cp:lastModifiedBy>
  <dcterms:modified xsi:type="dcterms:W3CDTF">2014-03-15T21:40:45Z</dcterms:modified>
  <cp:revision>62</cp:revision>
  <dc:subject/>
  <dc:title>PowerPoint Presentation</dc:title>
</cp:coreProperties>
</file>