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3E05-E897-4684-815F-1FE7D4F7F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4DBD-AB51-45A0-A0BC-3EBB09220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A4ED-CF35-4F02-8282-52178429E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5872-C3F1-4370-98FD-F84301E31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B3C5-D456-4E6B-8E63-31CC5DFC5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874F-0750-455C-AC00-70CD4A7B4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50AA-94AD-402C-ACAB-954EDC72F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DF5C-16C8-413B-B133-B99262B20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BA49-1E13-4893-81E5-2CAA28159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9A50-ED56-4599-A06D-4CF176F9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1D6B-4E0B-44A4-96F2-0BFE1386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8BF4-514F-47DF-89A1-6DD95DEB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50000">
              <a:srgbClr val="66ffff"/>
            </a:gs>
            <a:gs pos="100000">
              <a:srgbClr val="00cc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F8152D8-B2AC-4692-B25A-F95E5A01FA16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ПРЕДЕЛЯЕМ ТЕМУ И ПРОБЛЕМУ У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84200" y="720720"/>
            <a:ext cx="40147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нтошка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бы защититься от бактерий и не заболеть, нужно всё время принимать лекарства,  убивающие бактерии, – даже здоровым люд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84920" y="764640"/>
            <a:ext cx="4014720" cy="39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иолог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езнее укреплять здоровье с помощью упражнений, закаливания и правильного пит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539640" y="4941720"/>
            <a:ext cx="8361360" cy="19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КАК ТЫ ДУМАЕШЬ, КТО ИЗ НИХ ПРАВ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СФОРМУЛИРУЙТЕ, КАКОЙ ВОПРОС МЫ ДОЛЖНЫ ОБСУДИТЬ, ЧТОБЫ УСТАНОВИТЬ,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КТО ИЗ НИХ ПРАВ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13880" y="128520"/>
            <a:ext cx="7967880" cy="651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Микробы – не только бактерии, но и микроскопические грибы и вирусы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Микробиология – это наука изучающая и включающая в себя бактериологию, вирусологию и некоторые другие науки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Эпидемия – массовое и инфекционное заболевание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20240"/>
            <a:ext cx="82296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ЕРЕЧИСЛИТЕ ПРИЗНАКИ ЗАБОЛЕВА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11120" y="1260000"/>
            <a:ext cx="8229600" cy="51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698400"/>
                <a:tab algn="l" pos="1054080"/>
                <a:tab algn="l" pos="1407960"/>
                <a:tab algn="l" pos="1763640"/>
                <a:tab algn="l" pos="2120760"/>
                <a:tab algn="l" pos="2476440"/>
                <a:tab algn="l" pos="2830680"/>
                <a:tab algn="l" pos="3186000"/>
                <a:tab algn="l" pos="3543480"/>
                <a:tab algn="l" pos="3898800"/>
                <a:tab algn="l" pos="4254480"/>
                <a:tab algn="l" pos="460836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ешние признаки болезне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698400"/>
                <a:tab algn="l" pos="1054080"/>
                <a:tab algn="l" pos="1407960"/>
                <a:tab algn="l" pos="1763640"/>
                <a:tab algn="l" pos="2120760"/>
                <a:tab algn="l" pos="2476440"/>
                <a:tab algn="l" pos="2830680"/>
                <a:tab algn="l" pos="3186000"/>
                <a:tab algn="l" pos="3543480"/>
                <a:tab algn="l" pos="3898800"/>
                <a:tab algn="l" pos="4254480"/>
                <a:tab algn="l" pos="460836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окраснение или побледнение кожи повышение температуры тел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698400"/>
                <a:tab algn="l" pos="1054080"/>
                <a:tab algn="l" pos="1407960"/>
                <a:tab algn="l" pos="1763640"/>
                <a:tab algn="l" pos="2120760"/>
                <a:tab algn="l" pos="2476440"/>
                <a:tab algn="l" pos="2830680"/>
                <a:tab algn="l" pos="3186000"/>
                <a:tab algn="l" pos="3543480"/>
                <a:tab algn="l" pos="3898800"/>
                <a:tab algn="l" pos="4254480"/>
                <a:tab algn="l" pos="460836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изменение цвета белков глаз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698400"/>
                <a:tab algn="l" pos="1054080"/>
                <a:tab algn="l" pos="1407960"/>
                <a:tab algn="l" pos="1763640"/>
                <a:tab algn="l" pos="2120760"/>
                <a:tab algn="l" pos="2476440"/>
                <a:tab algn="l" pos="2830680"/>
                <a:tab algn="l" pos="3186000"/>
                <a:tab algn="l" pos="3543480"/>
                <a:tab algn="l" pos="3898800"/>
                <a:tab algn="l" pos="4254480"/>
                <a:tab algn="l" pos="460836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жар и озноб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698400"/>
                <a:tab algn="l" pos="1054080"/>
                <a:tab algn="l" pos="1407960"/>
                <a:tab algn="l" pos="1763640"/>
                <a:tab algn="l" pos="2120760"/>
                <a:tab algn="l" pos="2476440"/>
                <a:tab algn="l" pos="2830680"/>
                <a:tab algn="l" pos="3186000"/>
                <a:tab algn="l" pos="3543480"/>
                <a:tab algn="l" pos="3898800"/>
                <a:tab algn="l" pos="4254480"/>
                <a:tab algn="l" pos="460836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боли в разных органах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698400"/>
                <a:tab algn="l" pos="1054080"/>
                <a:tab algn="l" pos="1407960"/>
                <a:tab algn="l" pos="1763640"/>
                <a:tab algn="l" pos="2120760"/>
                <a:tab algn="l" pos="2476440"/>
                <a:tab algn="l" pos="2830680"/>
                <a:tab algn="l" pos="3186000"/>
                <a:tab algn="l" pos="3543480"/>
                <a:tab algn="l" pos="3898800"/>
                <a:tab algn="l" pos="4254480"/>
                <a:tab algn="l" pos="460836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лабость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698400"/>
                <a:tab algn="l" pos="1054080"/>
                <a:tab algn="l" pos="1407960"/>
                <a:tab algn="l" pos="1763640"/>
                <a:tab algn="l" pos="2120760"/>
                <a:tab algn="l" pos="2476440"/>
                <a:tab algn="l" pos="2830680"/>
                <a:tab algn="l" pos="3186000"/>
                <a:tab algn="l" pos="3543480"/>
                <a:tab algn="l" pos="3898800"/>
                <a:tab algn="l" pos="4254480"/>
                <a:tab algn="l" pos="460836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онос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698400"/>
                <a:tab algn="l" pos="1054080"/>
                <a:tab algn="l" pos="1407960"/>
                <a:tab algn="l" pos="1763640"/>
                <a:tab algn="l" pos="2120760"/>
                <a:tab algn="l" pos="2476440"/>
                <a:tab algn="l" pos="2830680"/>
                <a:tab algn="l" pos="3186000"/>
                <a:tab algn="l" pos="3543480"/>
                <a:tab algn="l" pos="3898800"/>
                <a:tab algn="l" pos="4254480"/>
                <a:tab algn="l" pos="460836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рвот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698400"/>
                <a:tab algn="l" pos="1054080"/>
                <a:tab algn="l" pos="1407960"/>
                <a:tab algn="l" pos="1763640"/>
                <a:tab algn="l" pos="2120760"/>
                <a:tab algn="l" pos="2476440"/>
                <a:tab algn="l" pos="2830680"/>
                <a:tab algn="l" pos="3186000"/>
                <a:tab algn="l" pos="3543480"/>
                <a:tab algn="l" pos="3898800"/>
                <a:tab algn="l" pos="4254480"/>
                <a:tab algn="l" pos="460836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ып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698400"/>
                <a:tab algn="l" pos="1054080"/>
                <a:tab algn="l" pos="1407960"/>
                <a:tab algn="l" pos="1763640"/>
                <a:tab algn="l" pos="2120760"/>
                <a:tab algn="l" pos="2476440"/>
                <a:tab algn="l" pos="2830680"/>
                <a:tab algn="l" pos="3186000"/>
                <a:tab algn="l" pos="3543480"/>
                <a:tab algn="l" pos="3898800"/>
                <a:tab algn="l" pos="4254480"/>
                <a:tab algn="l" pos="460836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нарывы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4000" y="115560"/>
            <a:ext cx="822636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ГИГИЕНИЧЕСКИЕ ПРАВИЛА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(ЧТО НАДО ДЕЛАТЬ, ЧТОБЫ НЕ ЗАРАЗИТЬС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Object 2"/>
          <p:cNvGraphicFramePr/>
          <p:nvPr/>
        </p:nvGraphicFramePr>
        <p:xfrm>
          <a:off x="4626000" y="1619280"/>
          <a:ext cx="4014720" cy="452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26000" y="1619280"/>
                    <a:ext cx="4014720" cy="452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8920" y="946080"/>
            <a:ext cx="4319640" cy="62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ОСОБ ПОПАДАНИЯ БАКТЕРИЙ В ОРГАН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РЫ В ВОЗДУХЕ И НА ПОВЕРХНОСТЯХ — ЧЕРЕЗ РАНКИ НА КОЖ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РЫ И БАКТЕРИИ В СЛЮНЕ И КРОВИ ЧЕЛОВЕКА — ЧЕРЕЗ СЛИЗИСТЫЕ ОБОЛОЧКИ, РАНКИ НА КОЖ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РЫ И БАКТЕРИИ В СЛЮНЕ И КРОВИ ЖИВОТНЫХ-ПЕРЕНОСЧИКОВ — ПРИ УКУ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РЫ В ПОЧВЕ, НА НЕМЫТЫХ ФРУКТАХ И ОВОЩ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2080" y="1052280"/>
            <a:ext cx="4014720" cy="55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РЫ ПРОФИЛАК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ТРИВАЕМ ПОМЕЩ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СИМ МАСКУ ПРИ ЗАБОЛЕВАН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ЕМ РУ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ЛАЖНАЯ УБОРКА ПОМЕЩ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НИЧТОЖЕНИЕ ЖИВОТНЫХ-ПЕРЕНОСЧ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ЕМ ФРУКТЫ И ОВОЩ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1"/>
          <p:cNvSpPr/>
          <p:nvPr/>
        </p:nvSpPr>
        <p:spPr>
          <a:xfrm>
            <a:off x="457200" y="128520"/>
            <a:ext cx="8226360" cy="59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Домашнее задание: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§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2, вопрос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4,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5 письменно.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27240"/>
            <a:ext cx="777240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Тема урока: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Бактерии в организме чело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60360" y="6144840"/>
            <a:ext cx="305928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©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ОО «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Баласс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201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39640" y="104616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К ЛУЧШЕ ЗАЩИТИТЬСЯ ОТ БАКТЕРИЙ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73160"/>
            <a:ext cx="8229600" cy="108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Расскажите, что вы уже знаете из своего жизненного опыта о вреде и пользе бактерий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5075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я каких инфекционн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езней ты знае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чем люди моют рук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5364000" y="2217600"/>
            <a:ext cx="3780000" cy="2075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1619280" y="2995560"/>
            <a:ext cx="2454120" cy="2665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3"/>
          <a:stretch/>
        </p:blipFill>
        <p:spPr>
          <a:xfrm>
            <a:off x="5869080" y="4383000"/>
            <a:ext cx="3240000" cy="247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акте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езные бакте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считывается более 400 ви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ивут в слюне, на коже, в кишечнике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4720" y="1356840"/>
            <a:ext cx="40417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9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редные или опасные бакте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зывают заразные инфекционные боле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зентерия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лера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руцеллез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фтерия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олбняк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ума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Прямая со стрелкой 7"/>
          <p:cNvCxnSpPr/>
          <p:nvPr/>
        </p:nvCxnSpPr>
        <p:spPr>
          <a:xfrm flipH="1">
            <a:off x="1928520" y="1000080"/>
            <a:ext cx="1357920" cy="572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9" name="Прямая со стрелкой 9"/>
          <p:cNvCxnSpPr/>
          <p:nvPr/>
        </p:nvCxnSpPr>
        <p:spPr>
          <a:xfrm>
            <a:off x="6000840" y="857160"/>
            <a:ext cx="1357920" cy="572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72072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судите в паре ситуацию: Миша заболел ангиной, и врач, осмотрев горло мальчика, назначил ему антибиотики и обязательный приём молочнокислых продуктов с бактериальной флор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ПОЧЕМУ МИША ДОЛЖЕН ПИТЬ КЕФИР ИЛИ РЯЖЕНКУ С БАКТЕРИЯМ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15640" y="178920"/>
            <a:ext cx="8783640" cy="59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МОЛОЧНОКИСЛЫХ ПРОДУКТАХ С БАКТЕРИАЛЬНОЙ ФЛОРОЙ — КЕФИРЕ, ЙОГУРТЕ, РЯЖЕНКЕ, ПРОСТОКВАШЕ — СОДЕРЖАТСЯ ПОЛЕЗНЫЕ БАКТЕРИИ, КОТОРЫЕ ПОМОГАЮТ НАШЕМУ ОРГАНИЗМУ БОРОТЬСЯ С ВРЕДНЫМИ, БОЛЕЗНЕТВОРНЫМИ БАКТЕРИЯМИ. КОГДА МЫ ПРИНИМАЕМ АНТИБИОТИКИ, ОНИ УНИЧТОЖАЮТ ВСЕ БАКТЕРИИ – И ВРЕДНЫЕ, И ПОЛЕЗ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ЧТОБЫ ВОССТАНОВИТЬ ПОПУЛЯЦИЮ ПОЛЕЗНЫХ БАКТЕРИЙ В ОРГАНИЗМЕ, НАДО ПИТЬ КИСЛОМОЛОЧНЫЕ ПРОДУКТЫ С БАКТЕРИАЛЬНОЙ ФЛОР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356000" y="384120"/>
            <a:ext cx="4680000" cy="27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ЛЕЗНЫЕ БАКТЕРИИ НА КОЖЕ ЧЕЛО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0" y="272880"/>
            <a:ext cx="4500720" cy="3327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3959280" y="3225960"/>
            <a:ext cx="5184720" cy="36320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0" y="3780000"/>
            <a:ext cx="3917880" cy="15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ПРОИЗОЙДЁТ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И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НИЧТОЖИТЬ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11120" y="179280"/>
            <a:ext cx="822960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МЕСТО ПОЛЕЗНЫХ БАКТЕРИЙ НА КОЖЕ РАЗМНОЖАТСЯ ВРЕД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2301840" y="2314440"/>
            <a:ext cx="4897440" cy="3444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5:46:50Z</dcterms:created>
  <dc:creator>Lena</dc:creator>
  <dc:description/>
  <dc:language>en-US</dc:language>
  <cp:lastModifiedBy>Administrator</cp:lastModifiedBy>
  <dcterms:modified xsi:type="dcterms:W3CDTF">2013-11-21T10:06:32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