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5BE-230F-4E40-9F0F-A8EDE8AC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36E-58D4-42C0-8259-92987D6C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3D5-CFD2-4CBC-BA4E-62823EF2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647-1A54-4A47-BBA7-4354AA6F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717-68B8-487D-B000-600F931C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EB1-D210-4CD5-86BA-EB88F2CE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3B80-1887-4985-B2C7-58104FF3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AA2-0034-4278-B54F-A856DA5C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9A1-BBCE-4286-BF3B-570381A4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674-BCBB-4294-B36F-D3C14AF6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4A7-1549-472C-BB5B-B756D5EA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775-3933-4AF1-8388-1122BE16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66ffff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B7857E-137B-4049-955C-095C8C83588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ПРЕДЕЛЯЕМ ТЕМУ И ПРОБЛЕМУ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4200" y="720720"/>
            <a:ext cx="40147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тошк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защититься от бактерий и не заболеть, нужно всё время принимать лекарства,  убивающие бактерии, – даже здоровым люд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84920" y="764640"/>
            <a:ext cx="4014720" cy="39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иолог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знее укреплять здоровье с помощью упражнений, закаливания и правильного пит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39640" y="4941720"/>
            <a:ext cx="836136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КАК ТЫ ДУМАЕШЬ, КТО ИЗ НИХ ПРАВ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СФОРМУЛИРУЙТЕ, КАКОЙ ВОПРОС МЫ ДОЛЖНЫ ОБСУДИТЬ, ЧТОБЫ УСТАНОВИТЬ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КТО ИЗ НИХ ПРА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3880" y="128520"/>
            <a:ext cx="7967880" cy="65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Микробы – не только бактерии, но и микроскопические грибы и вирус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Микробиология – это наука изучающая и включающая в себя бактериологию, вирусологию и некоторые другие наук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Эпидемия – массовое и инфекционное заболевание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024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ЧИСЛИТЕ ПРИЗНАКИ ЗАБОЛЕВ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1120" y="126000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шние признаки болезн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краснение или побледнение кожи повышение температуры тел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зменение цвета белков глаз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жар и озно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ли в разных органа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лаб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но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во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ып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рыв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4000" y="115560"/>
            <a:ext cx="82263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ГИЕНИЧЕСКИЕ ПРАВИЛА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ЧТО НАДО ДЕЛАТЬ, ЧТОБЫ НЕ ЗАРАЗИТЬ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2"/>
          <p:cNvGraphicFramePr/>
          <p:nvPr/>
        </p:nvGraphicFramePr>
        <p:xfrm>
          <a:off x="4626000" y="1619280"/>
          <a:ext cx="4014720" cy="452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6000" y="1619280"/>
                    <a:ext cx="401472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946080"/>
            <a:ext cx="4319640" cy="62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 ПОПАДАНИЯ БАКТЕРИЙ В ОРГА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РЫ В ВОЗДУХЕ И НА ПОВЕРХНОСТЯХ — ЧЕРЕЗ РАНКИ НА К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РЫ И БАКТЕРИИ В СЛЮНЕ И КРОВИ ЧЕЛОВЕКА — ЧЕРЕЗ СЛИЗИСТЫЕ ОБОЛОЧКИ, РАНКИ НА К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РЫ И БАКТЕРИИ В СЛЮНЕ И КРОВИ ЖИВОТНЫХ-ПЕРЕНОСЧИКОВ — ПРИ УКУ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РЫ В ПОЧВЕ, НА НЕМЫТЫХ ФРУКТАХ И ОВОЩ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52280"/>
            <a:ext cx="401472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РЫ ПРОФИЛА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ТРИВАЕМ ПОМ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СИМ МАСКУ ПРИ ЗАБОЛЕВА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ЕМ Р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ЖНАЯ УБОРКА ПО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ИЧТОЖЕНИЕ ЖИВОТНЫХ-ПЕРЕНОСЧ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ЕМ ФРУКТЫ И ОВ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457200" y="128520"/>
            <a:ext cx="8226360" cy="59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, вопрос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4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 письменно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2724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ма урока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актерии в организме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60360" y="6144840"/>
            <a:ext cx="305928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ОО 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Баласс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201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104616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ЛУЧШЕ ЗАЩИТИТЬСЯ ОТ БАКТЕРИ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0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Расскажите, что вы уже знаете из своего жизненного опыта о вреде и пользе бактери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507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я каких инфекцио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зней ты зна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ем люди моют ру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5364000" y="2217600"/>
            <a:ext cx="3780000" cy="2075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1619280" y="2995560"/>
            <a:ext cx="2454120" cy="2665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5869080" y="4383000"/>
            <a:ext cx="3240000" cy="24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езные бакте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читывается более 4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ут в слюне, на коже, в кишечник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4720" y="1356840"/>
            <a:ext cx="404172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дные или опасные бакте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ывают заразные инфекционные боле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зентери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ер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уцеллез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фтери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бняк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ма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Прямая со стрелкой 7"/>
          <p:cNvCxnSpPr/>
          <p:nvPr/>
        </p:nvCxnSpPr>
        <p:spPr>
          <a:xfrm flipH="1">
            <a:off x="1928520" y="1000080"/>
            <a:ext cx="1357920" cy="572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Прямая со стрелкой 9"/>
          <p:cNvCxnSpPr/>
          <p:nvPr/>
        </p:nvCxnSpPr>
        <p:spPr>
          <a:xfrm>
            <a:off x="6000840" y="857160"/>
            <a:ext cx="1357920" cy="572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72072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удите в паре ситуацию: Миша заболел ангиной, и врач, осмотрев горло мальчика, назначил ему антибиотики и обязательный приём молочнокислых продуктов с бактериальной фло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ЧЕМУ МИША ДОЛЖЕН ПИТЬ КЕФИР ИЛИ РЯЖЕНКУ С БАКТЕРИЯ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15640" y="178920"/>
            <a:ext cx="878364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ОЛОЧНОКИСЛЫХ ПРОДУКТАХ С БАКТЕРИАЛЬНОЙ ФЛОРОЙ — КЕФИРЕ, ЙОГУРТЕ, РЯЖЕНКЕ, ПРОСТОКВАШЕ — СОДЕРЖАТСЯ ПОЛЕЗНЫЕ БАКТЕРИИ, КОТОРЫЕ ПОМОГАЮТ НАШЕМУ ОРГАНИЗМУ БОРОТЬСЯ С ВРЕДНЫМИ, БОЛЕЗНЕТВОРНЫМИ БАКТЕРИЯМИ. КОГДА МЫ ПРИНИМАЕМ АНТИБИОТИКИ, ОНИ УНИЧТОЖАЮТ ВСЕ БАКТЕРИИ – И ВРЕДНЫЕ, И ПОЛЕЗ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ТОБЫ ВОССТАНОВИТЬ ПОПУЛЯЦИЮ ПОЛЕЗНЫХ БАКТЕРИЙ В ОРГАНИЗМЕ, НАДО ПИТЬ КИСЛОМОЛОЧНЫЕ ПРОДУКТЫ С БАКТЕРИАЛЬНОЙ ФЛОР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56000" y="384120"/>
            <a:ext cx="468000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ЕЗНЫЕ БАКТЕРИИ НА КОЖЕ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272880"/>
            <a:ext cx="4500720" cy="332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3959280" y="3225960"/>
            <a:ext cx="5184720" cy="36320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0" y="3780000"/>
            <a:ext cx="391788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ПРОИЗОЙДЁ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И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НИЧТОЖИ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1120" y="179280"/>
            <a:ext cx="822960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МЕСТО ПОЛЕЗНЫХ БАКТЕРИЙ НА КОЖЕ РАЗМНОЖАТСЯ ВРЕД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301840" y="2314440"/>
            <a:ext cx="4897440" cy="3444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5:46:50Z</dcterms:created>
  <dc:creator>Lena</dc:creator>
  <dc:description/>
  <dc:language>en-US</dc:language>
  <cp:lastModifiedBy>Administrator</cp:lastModifiedBy>
  <dcterms:modified xsi:type="dcterms:W3CDTF">2013-11-21T10:06:3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