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6BA-45E6-402C-9559-350230E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D41-A935-49DF-9DC5-85F16423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B8D-C180-4F12-89D1-EB12D05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7C3-CD6E-4945-BAF7-86AF7CFF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0BD9-F5E7-4291-B285-06391A15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7AEB-4476-4867-94DE-7B4297B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5795-4B2C-4FBA-8120-2118FC1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C26D-F939-479E-B838-A15E249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96A-A84F-4582-8269-AB1D385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E598-2A3A-46A3-AEA2-BDC08136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D2FE-2B2E-468C-9D6A-B6E903B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BCB-8E6E-4C98-960C-66106362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C85A-0154-48C5-A864-1E4FDC6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55FB-0336-4CDF-86E2-DC044F2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E7E9-3EFF-4D4B-B624-95E8AA99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34AD-F4EC-4A21-ABA4-AF10B9A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67D-79C8-4A0D-9CC1-75C6CA7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A28-199B-429C-8F52-8D9731B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33B-6F6C-4E3D-B683-9E02FEF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004-D5EF-451A-AD99-17891495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73B-2A8E-47BD-B915-85078628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4A8-DA1C-4703-87DC-843FDE3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95F-0F73-47D1-97B8-E26D323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704-CB36-4C65-95CE-6DA33F6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96D-ACCA-4E6B-9E9C-8E0EFB40F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C18-EF57-4B23-9A22-8E1E47A207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imes New Roman"/>
              </a:rPr>
              <a:t>Проверочная работа (верю-не верю)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В человеческом организме есть полезные бакте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бактериальная клетка имеет яд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наука занимающаяся изучение бактерий и микроскопических грибов и вирусов называется микологи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холера, дифтерия, корь оспа- это инфекционные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Comic Sans MS"/>
              </a:rPr>
              <a:t>бактерии нельзя увидеть без микроско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4. Бактерии в промышленност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1628640"/>
            <a:ext cx="822960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Люди используют бактерии в производстве лекарств, пищи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нужных в технике веще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Бактерии перерабатывают дешёвое сырьё (уксус, нефть, природный газ, отходы пищевой промышленности) в другие необходимые человеку ве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УЧЁНЫЕ-МИКРОБИОЛО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5400" y="1440000"/>
            <a:ext cx="3863880" cy="391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319640" y="1440000"/>
            <a:ext cx="3779640" cy="3958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466560" y="5759280"/>
            <a:ext cx="2773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86200" y="5722920"/>
            <a:ext cx="277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0" y="1916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араграф 13 учить в тетради все определения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роектная деятельность. Вклад ученых в изучение клетки, микроорганизмов. А)  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Б) уметь рассказ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Годы жизни, деятельность- открытия, премии, фо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1" lang="ru-RU" sz="3200" spc="-1" strike="noStrike">
                <a:solidFill>
                  <a:srgbClr val="fffdd1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чтобы защититься от бактерий нужно все время принимать лекарст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лекрства уничтожает и полезные и вредные бактер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бактерии заражают человека только воздушным путе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9.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массовое и инфекционное заболевание людей называется эпидемие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бактерии могут создавать колонии.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8000" y="404640"/>
            <a:ext cx="3959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угали вы меня рассказами о болезнях. Вот бы взять все микробы на Земле и уничтожить!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995640" y="331920"/>
            <a:ext cx="500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Биолог: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К счастью, это невозможно, ведь без бактерий животные и растения Земли погибли бы. Да и ты остался бы за завтраком без своего любимого йогурта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250920" y="1484280"/>
            <a:ext cx="7561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О чем биолог ве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468360" y="4508640"/>
            <a:ext cx="8136000" cy="18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Предположите тему сегодняшнего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Какую проблему будем обсуждать сегодня 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692280"/>
            <a:ext cx="77724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БАКТЕРИИ В ПРИРОДЕ И ПРОМЫШЛ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539640" y="1773360"/>
            <a:ext cx="8228160" cy="59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 : «КАКОВА РОЛЬ БАКТЕР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 ПРИРОДЕ И ЖИЗНИ ЧЕЛОВЕКА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Бактерии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cxnSp>
        <p:nvCxnSpPr>
          <p:cNvPr id="130" name="Прямая со стрелкой 3"/>
          <p:cNvCxnSpPr/>
          <p:nvPr/>
        </p:nvCxnSpPr>
        <p:spPr>
          <a:xfrm flipH="1">
            <a:off x="1402560" y="981000"/>
            <a:ext cx="1801080" cy="115344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1" name="Прямая со стрелкой 7"/>
          <p:cNvCxnSpPr/>
          <p:nvPr/>
        </p:nvCxnSpPr>
        <p:spPr>
          <a:xfrm flipH="1">
            <a:off x="3779280" y="1196640"/>
            <a:ext cx="361080" cy="187236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2" name="Прямая со стрелкой 9"/>
          <p:cNvCxnSpPr/>
          <p:nvPr/>
        </p:nvCxnSpPr>
        <p:spPr>
          <a:xfrm>
            <a:off x="5292360" y="1341360"/>
            <a:ext cx="1151640" cy="151200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33" name="Прямая со стрелкой 11"/>
          <p:cNvCxnSpPr/>
          <p:nvPr/>
        </p:nvCxnSpPr>
        <p:spPr>
          <a:xfrm>
            <a:off x="5940360" y="907560"/>
            <a:ext cx="936000" cy="79308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34" name="Скругленный прямоугольник 14"/>
          <p:cNvSpPr/>
          <p:nvPr/>
        </p:nvSpPr>
        <p:spPr>
          <a:xfrm>
            <a:off x="0" y="2708280"/>
            <a:ext cx="262728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разложения и гни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2700360" y="3284640"/>
            <a:ext cx="2592360" cy="3240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240000"/>
              <a:gd name="textAreaBottom" fmla="*/ 3113640 h 3240000"/>
            </a:gdLst>
            <a:ahLst/>
            <a:rect l="textAreaLeft" t="textAreaTop" r="textAreaRight" b="textAreaBottom"/>
            <a:pathLst>
              <a:path w="21600" h="26996">
                <a:moveTo>
                  <a:pt x="3600" y="0"/>
                </a:moveTo>
                <a:arcTo wR="3600" hR="3600" stAng="16200000" swAng="-5400000"/>
                <a:lnTo>
                  <a:pt x="0" y="23396"/>
                </a:lnTo>
                <a:arcTo wR="3600" hR="3600" stAng="10800000" swAng="-5400000"/>
                <a:lnTo>
                  <a:pt x="18000" y="26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Почвенные или азотфиксирующие или клубеньковые бак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Скругленный прямоугольник 16"/>
          <p:cNvSpPr/>
          <p:nvPr/>
        </p:nvSpPr>
        <p:spPr>
          <a:xfrm>
            <a:off x="5508720" y="3789360"/>
            <a:ext cx="273528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и продукты п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Скругленный прямоугольник 19"/>
          <p:cNvSpPr/>
          <p:nvPr/>
        </p:nvSpPr>
        <p:spPr>
          <a:xfrm>
            <a:off x="6948360" y="981000"/>
            <a:ext cx="2016360" cy="223200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2232000"/>
              <a:gd name="textAreaBottom" fmla="*/ 2133720 h 223200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бактерии в промышле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1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dd1"/>
                </a:solidFill>
                <a:latin typeface="Times New Roman"/>
                <a:ea typeface="Times New Roman"/>
              </a:rPr>
              <a:t>1. Бактерии разложения и гни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611280" y="2060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ктерии – важнейшее звено общего круговорота веществ в природе. В почве содержится огромное число бактерий – сотни миллионов в 1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апротрофные бактерии гниения превращают в перегной. Они санитары нашей плане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211640" y="5013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ктерии принимают участие в  выветривании горных пород и минералов. Так, железобактерии сформировали крупные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отложения железных 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611280" y="333360"/>
            <a:ext cx="80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  <a:ea typeface="Times New Roman"/>
              </a:rPr>
              <a:t>2. Азотфиксирующие (почвенные) бакте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Текст 2"/>
          <p:cNvSpPr/>
          <p:nvPr/>
        </p:nvSpPr>
        <p:spPr>
          <a:xfrm>
            <a:off x="179280" y="162864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я получают от них азот, а те в замен отдают  угле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4205160" y="2276640"/>
            <a:ext cx="4784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780000" y="900000"/>
            <a:ext cx="5364000" cy="4140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370400" y="5219640"/>
            <a:ext cx="427032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МБИОТИЧЕСКИЕ БАК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0" y="1773360"/>
            <a:ext cx="378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Симбиоз – тесная полезная связь как одному так и другому организ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Азот – газ составляющий 70% веса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3. Молочнокислые бакте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1916280"/>
            <a:ext cx="5905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5" descr="Молочнокислые бактерии"/>
          <p:cNvPicPr/>
          <p:nvPr/>
        </p:nvPicPr>
        <p:blipFill>
          <a:blip r:embed="rId1"/>
          <a:stretch/>
        </p:blipFill>
        <p:spPr>
          <a:xfrm>
            <a:off x="6283440" y="2190600"/>
            <a:ext cx="2514600" cy="206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Йогурт"/>
          <p:cNvPicPr/>
          <p:nvPr/>
        </p:nvPicPr>
        <p:blipFill>
          <a:blip r:embed="rId2"/>
          <a:stretch/>
        </p:blipFill>
        <p:spPr>
          <a:xfrm>
            <a:off x="6084720" y="4292640"/>
            <a:ext cx="38354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7:20:30Z</dcterms:created>
  <dc:creator>DOMPK</dc:creator>
  <dc:description/>
  <dc:language>en-US</dc:language>
  <cp:lastModifiedBy>DOMPK</cp:lastModifiedBy>
  <dcterms:modified xsi:type="dcterms:W3CDTF">2013-11-28T10:52:12Z</dcterms:modified>
  <cp:revision>2</cp:revision>
  <dc:subject/>
  <dc:title>Проверочная работа (верю-верю)</dc:title>
</cp:coreProperties>
</file>