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EB4-260A-4B9C-92FE-90CC77C5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85D-8E09-4C19-A63D-B644E64B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C69-2A8A-4A60-95EC-90C167EF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51D-1C65-41E9-BE61-FF50BBAA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19DB-6ABD-4B11-9E49-208A6B39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6204-1B99-46C8-8FB0-1E17061B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43D7-1892-49F2-8DE0-9C00194C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8B23-72C2-480E-9329-0CCFAD28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8D3F-0902-4F75-BDB3-14E4233C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1CA9-4AAA-4463-A9A1-AE94788F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75B2-ABD4-4932-8A1A-BFF11B9A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671-B461-4CC2-86A7-98F18657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920A-93DC-428F-8B85-85627738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14D3-DDD0-446A-8617-C3C55B4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782C-825F-4994-9FCB-08073C3C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AA94-A00F-4297-A88B-86235D75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4E05-A078-40B8-9442-DD54C612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33B-B830-450D-844B-96DD1232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236-9670-4B6C-9453-21A6D606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731-8C4C-4FE6-B05A-C2F26865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7FA-C5A9-4810-9999-BF074999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7E8-5ED7-479E-8B1E-CB853F9C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746-6984-40AC-ADD4-353E44CB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C85-F4BF-41D2-B71D-C2D318BF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C0A1-5A32-497E-8D4C-1540D94D65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F950-7101-45D8-8DB8-100D258DC5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1616"/>
                </a:solidFill>
                <a:latin typeface="Times New Roman"/>
              </a:rPr>
              <a:t>Проверочная работа (верю-не верю)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Comic Sans MS"/>
              </a:rPr>
              <a:t>В человеческом организме есть полезные бакте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Comic Sans MS"/>
              </a:rPr>
              <a:t>бактериальная клетка имеет ядр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Comic Sans MS"/>
              </a:rPr>
              <a:t>наука занимающаяся изучение бактерий и микроскопических грибов и вирусов называется микологи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Comic Sans MS"/>
              </a:rPr>
              <a:t>холера, дифтерия, корь оспа- это инфекционные заболе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Comic Sans MS"/>
              </a:rPr>
              <a:t>бактерии нельзя увидеть без микроско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4. Бактерии в промышленности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68360" y="1628640"/>
            <a:ext cx="822960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Люди используют бактерии в производстве лекарств, пищи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нужных в технике вещест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Бактерии перерабатывают дешёвое сырьё (уксус, нефть, природный газ, отходы пищевой промышленности) в другие необходимые человеку вещ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УЧЁНЫЕ-МИКРОБИОЛО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95400" y="1440000"/>
            <a:ext cx="3863880" cy="3914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4319640" y="1440000"/>
            <a:ext cx="3779640" cy="3958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466560" y="5759280"/>
            <a:ext cx="2773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И ПАС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786200" y="5722920"/>
            <a:ext cx="27734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БЕРТ КО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0" y="1916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Параграф 13 учить в тетради все определения зн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Проектная деятельность. Вклад ученых в изучение клетки, микроорганизмов. А)  презен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Б) уметь рассказ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Годы жизни, деятельность- открытия, премии, фо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6.</a:t>
            </a:r>
            <a:r>
              <a:rPr b="1" lang="ru-RU" sz="3200" spc="-1" strike="noStrike">
                <a:solidFill>
                  <a:srgbClr val="fffdd1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чтобы защититься от бактерий нужно все время принимать лекарств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7.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лекрства уничтожает и полезные и вредные бактери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8.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бактерии заражают человека только воздушным путем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9. 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массовое и инфекционное заболевание людей называется эпидемие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10.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бактерии могут создавать колонии.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08000" y="404640"/>
            <a:ext cx="3959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тош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угали вы меня рассказами о болезнях. Вот бы взять все микробы на Земле и уничтожить!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3995640" y="331920"/>
            <a:ext cx="500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161616"/>
                </a:solidFill>
                <a:latin typeface="Times New Roman"/>
              </a:rPr>
              <a:t>Биолог: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К счастью, это невозможно, ведь без бактерий животные и растения Земли погибли бы. Да и ты остался бы за завтраком без своего любимого йогурта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кругленный прямоугольник 3"/>
          <p:cNvSpPr/>
          <p:nvPr/>
        </p:nvSpPr>
        <p:spPr>
          <a:xfrm>
            <a:off x="250920" y="1484280"/>
            <a:ext cx="7561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О чем биолог ведет реч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Скругленный прямоугольник 4"/>
          <p:cNvSpPr/>
          <p:nvPr/>
        </p:nvSpPr>
        <p:spPr>
          <a:xfrm>
            <a:off x="468360" y="4508640"/>
            <a:ext cx="8136000" cy="18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Предположите тему сегодняшнего уро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Какую проблему будем обсуждать сегодня на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611280" y="692280"/>
            <a:ext cx="77724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БАКТЕРИИ В ПРИРОДЕ И ПРОМЫШЛЕН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539640" y="1773360"/>
            <a:ext cx="8228160" cy="59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блема : «КАКОВА РОЛЬ БАКТЕРИ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 ПРИРОДЕ И ЖИЗНИ ЧЕЛОВЕКА?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Бактерии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cxnSp>
        <p:nvCxnSpPr>
          <p:cNvPr id="130" name="Прямая со стрелкой 3"/>
          <p:cNvCxnSpPr/>
          <p:nvPr/>
        </p:nvCxnSpPr>
        <p:spPr>
          <a:xfrm flipH="1">
            <a:off x="1402560" y="981000"/>
            <a:ext cx="1801080" cy="115344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131" name="Прямая со стрелкой 7"/>
          <p:cNvCxnSpPr/>
          <p:nvPr/>
        </p:nvCxnSpPr>
        <p:spPr>
          <a:xfrm flipH="1">
            <a:off x="3779280" y="1196640"/>
            <a:ext cx="361080" cy="187236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132" name="Прямая со стрелкой 9"/>
          <p:cNvCxnSpPr/>
          <p:nvPr/>
        </p:nvCxnSpPr>
        <p:spPr>
          <a:xfrm>
            <a:off x="5292360" y="1341360"/>
            <a:ext cx="1151640" cy="151200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133" name="Прямая со стрелкой 11"/>
          <p:cNvCxnSpPr/>
          <p:nvPr/>
        </p:nvCxnSpPr>
        <p:spPr>
          <a:xfrm>
            <a:off x="5940360" y="907560"/>
            <a:ext cx="936000" cy="79308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134" name="Скругленный прямоугольник 14"/>
          <p:cNvSpPr/>
          <p:nvPr/>
        </p:nvSpPr>
        <p:spPr>
          <a:xfrm>
            <a:off x="0" y="2708280"/>
            <a:ext cx="2627280" cy="23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Бактерии разложения и гни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Скругленный прямоугольник 15"/>
          <p:cNvSpPr/>
          <p:nvPr/>
        </p:nvSpPr>
        <p:spPr>
          <a:xfrm>
            <a:off x="2700360" y="3284640"/>
            <a:ext cx="2592360" cy="3240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240000"/>
              <a:gd name="textAreaBottom" fmla="*/ 3113640 h 3240000"/>
            </a:gdLst>
            <a:ahLst/>
            <a:rect l="textAreaLeft" t="textAreaTop" r="textAreaRight" b="textAreaBottom"/>
            <a:pathLst>
              <a:path w="21600" h="26996">
                <a:moveTo>
                  <a:pt x="3600" y="0"/>
                </a:moveTo>
                <a:arcTo wR="3600" hR="3600" stAng="16200000" swAng="-5400000"/>
                <a:lnTo>
                  <a:pt x="0" y="23396"/>
                </a:lnTo>
                <a:arcTo wR="3600" hR="3600" stAng="10800000" swAng="-5400000"/>
                <a:lnTo>
                  <a:pt x="18000" y="26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Почвенные или азотфиксирующие или клубеньковые бак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Скругленный прямоугольник 16"/>
          <p:cNvSpPr/>
          <p:nvPr/>
        </p:nvSpPr>
        <p:spPr>
          <a:xfrm>
            <a:off x="5508720" y="3789360"/>
            <a:ext cx="2735280" cy="24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Бактерии и продукты п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Скругленный прямоугольник 19"/>
          <p:cNvSpPr/>
          <p:nvPr/>
        </p:nvSpPr>
        <p:spPr>
          <a:xfrm>
            <a:off x="6948360" y="981000"/>
            <a:ext cx="2016360" cy="223200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2232000"/>
              <a:gd name="textAreaBottom" fmla="*/ 2133720 h 2232000"/>
            </a:gdLst>
            <a:ahLst/>
            <a:rect l="textAreaLeft" t="textAreaTop" r="textAreaRight" b="textAreaBottom"/>
            <a:pathLst>
              <a:path w="21600" h="23910">
                <a:moveTo>
                  <a:pt x="3600" y="0"/>
                </a:moveTo>
                <a:arcTo wR="3600" hR="3600" stAng="16200000" swAng="-5400000"/>
                <a:lnTo>
                  <a:pt x="0" y="20310"/>
                </a:lnTo>
                <a:arcTo wR="3600" hR="3600" stAng="10800000" swAng="-5400000"/>
                <a:lnTo>
                  <a:pt x="18000" y="23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бактерии в промышлен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1"/>
          <p:cNvSpPr/>
          <p:nvPr/>
        </p:nvSpPr>
        <p:spPr>
          <a:xfrm>
            <a:off x="457200" y="704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dd1"/>
                </a:solidFill>
                <a:latin typeface="Times New Roman"/>
                <a:ea typeface="Times New Roman"/>
              </a:rPr>
              <a:t>1. Бактерии разложения и гни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611280" y="20606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Бактерии – важнейшее звено общего круговорота веществ в природе. В почве содержится огромное число бактерий – сотни миллионов в 1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апротрофные бактерии гниения превращают в перегной. Они санитары нашей плане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211640" y="501336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Бактерии принимают участие в  выветривании горных пород и минералов. Так, железобактерии сформировали крупные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отложения железных р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1"/>
          <p:cNvSpPr/>
          <p:nvPr/>
        </p:nvSpPr>
        <p:spPr>
          <a:xfrm>
            <a:off x="611280" y="333360"/>
            <a:ext cx="806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  <a:ea typeface="Times New Roman"/>
              </a:rPr>
              <a:t>2. Азотфиксирующие (почвенные) бактер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Текст 2"/>
          <p:cNvSpPr/>
          <p:nvPr/>
        </p:nvSpPr>
        <p:spPr>
          <a:xfrm>
            <a:off x="179280" y="1628640"/>
            <a:ext cx="4032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ЛУБЕНЬКОВЫЕ БАКТЕРИИ - род бактерий, образующих на корнях многих бобовых растений клубеньки и фиксирующих молекулярный азот воздуха в условиях симбиоза с растением. Вступают в симбиоз с бобовыми растениями. Поселяясь в корнях бобовых, они вызывают образование на них клубеньков, за что и получили название клубеньковых бактерий. Растения получают от них азот, а те в замен отдают  угле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4205160" y="2276640"/>
            <a:ext cx="4784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780000" y="900000"/>
            <a:ext cx="5364000" cy="4140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4370400" y="5219640"/>
            <a:ext cx="427032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ИМБИОТИЧЕСКИЕ БАК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0" y="1773360"/>
            <a:ext cx="378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Симбиоз – тесная полезная связь как одному так и другому организ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Азот – газ составляющий 70% веса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457200" y="704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3. Молочнокислые бактер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250920" y="1916280"/>
            <a:ext cx="59054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олочнокислые бактерии участвуют в создании </a:t>
            </a:r>
            <a:r>
              <a:rPr b="0" i="1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исломолочных продуктов</a:t>
            </a: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. Кисломолочные продукты - группа молочных продуктов, вырабатываемых из цельного коровьего молока или его производных (сливок, обезжиренного молока и сыворотки) путём сквашивания заквасками. Молочнокислые продукты изготовляются также из молока овец, коз, кобыл и других животны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5" descr="Молочнокислые бактерии"/>
          <p:cNvPicPr/>
          <p:nvPr/>
        </p:nvPicPr>
        <p:blipFill>
          <a:blip r:embed="rId1"/>
          <a:stretch/>
        </p:blipFill>
        <p:spPr>
          <a:xfrm>
            <a:off x="6283440" y="2190600"/>
            <a:ext cx="2514600" cy="206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Йогурт"/>
          <p:cNvPicPr/>
          <p:nvPr/>
        </p:nvPicPr>
        <p:blipFill>
          <a:blip r:embed="rId2"/>
          <a:stretch/>
        </p:blipFill>
        <p:spPr>
          <a:xfrm>
            <a:off x="6084720" y="4292640"/>
            <a:ext cx="38354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7:20:30Z</dcterms:created>
  <dc:creator>DOMPK</dc:creator>
  <dc:description/>
  <dc:language>en-US</dc:language>
  <cp:lastModifiedBy>DOMPK</cp:lastModifiedBy>
  <dcterms:modified xsi:type="dcterms:W3CDTF">2013-11-28T10:52:12Z</dcterms:modified>
  <cp:revision>2</cp:revision>
  <dc:subject/>
  <dc:title>Проверочная работа (верю-верю)</dc:title>
</cp:coreProperties>
</file>