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F41-269B-4803-945A-D55B4772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1FC-8C5B-47B6-BAA4-87A863BA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698-0E95-41C6-8584-3A1F425D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676-491F-4CBD-9E8B-C3188D9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4F19-92FB-49B1-8373-451F1D02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9F7-525C-4843-BFB6-2949136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837-9036-4D31-8D37-FBB1CFEF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812-6423-4A24-AAD8-820A3D3A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213-92EE-405D-AEBF-027CAFEF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D9E7-BD3A-4F69-956E-910D7940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E93C-9C67-421F-94B5-BAA9452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EDC-2D30-4134-B2AB-CF8C49A4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E5CA-8A92-40AF-BFD4-DC9919A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6193-48E3-47D9-8C51-E298E2D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DA90-BC6B-4FC4-B8A1-C6FBD52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07C-25C3-47DF-ADA2-F53E30C0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BC0A-C000-4977-8050-C8D3C789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10D-1E89-45AD-804D-B06B460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31B-856B-4142-BBA7-BD81FFF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FCF-358D-4EE9-975A-EE221847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823-834D-4D83-BAF6-022AED3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656-A1A7-420B-A04F-C423A0C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A6E-676E-4144-B6E6-51307AF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981-80C5-4679-9DC3-2DCAABC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9FA-77AE-4BD3-B0DD-C497CB8A6D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10D6-5F80-470F-B68B-93A12ACB68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А. С. Пушкин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19 октябр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4E81-5A28-4120-8E97-251F0530DB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. Велле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Перпендикуля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… он первый стал писать таким языком, что им можно было разговаривать. И вот в этом простом языке не нужно искать какой-то необыкновенной выразительности, какого-то необыкновенного блеска… Не в том гениальность, чтобы все блестело, а в том гениальность, чтобы было то, что надо. Это все равно, что требовать от автомата Калашникова, чтобы он был инкрустирован стразами, чтобы там была какая-то золотая чеканка, чтобы он был отшлифован до ясного зеркального блеска. От автомата Калашникова этого не требуется. От него требуется, чтобы он стрелял в любых условиях. Все, остальное не важн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22C-4383-4FCA-8F33-4DDC4191D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19 октября» (1827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заботах жизни, царской служб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на пирах разгульной дружбы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сладких таинствах любв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бурях, и в житейском горе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краю чужом, в пустынном мор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 мрачных пропастях земл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DD8-3476-472D-AD58-97C5AA5D7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ихотворение «19 октября» - это благословение и перечень ситуаций, в которых человеку нужна Божья помощ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чень этот дан строго систематизирова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47640" y="2349360"/>
          <a:ext cx="6096240" cy="4214880"/>
        </p:xfrm>
        <a:graphic>
          <a:graphicData uri="http://schemas.openxmlformats.org/drawingml/2006/table">
            <a:tbl>
              <a:tblPr/>
              <a:tblGrid>
                <a:gridCol w="720720"/>
                <a:gridCol w="2664000"/>
                <a:gridCol w="271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гативные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итивные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тейские б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боты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тейское г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арская служба (карье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й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иры др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стынное море (одиночеств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инства люб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рачные пропасти земли (смер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659-D777-428C-A189-22F9F97C47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компонента, по которым узнается настоящая поэз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лагословен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излучение любви сквозь сло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орочеств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ткрытие истин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уггестивност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энергия волевого вну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У этого стихотворения всечеловеческая адресованность, смысл его универсален - оно всегда злободнев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такое истинная поэз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915-5384-47D6-BC4D-F8BED0D58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н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лиз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стихотворен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19 октября» (182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иографический комментар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оль пейзажа, с которого начинается стихотвор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ирический сю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ысл формы стихотв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дея стихотвор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оль антитез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Юмор в стихотвор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начение компози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ысл последней строф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557-D7BF-4EF9-96F9-9AC80B6A0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осознание этих  те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ражается в стихотворен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19 октября» (182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заботах жизни, царской служб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на пирах разгульной дружбы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сладких таинствах любв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г помочь вам, друзья мо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бурях, и в житейском гор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раю чужом, в пустынном мор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мрачных пропастях земл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1E7-6FBF-488B-A342-167F5326BA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7:35:29Z</dcterms:created>
  <dc:creator> Ульрих</dc:creator>
  <dc:description/>
  <dc:language>en-US</dc:language>
  <cp:lastModifiedBy>Admin</cp:lastModifiedBy>
  <dcterms:modified xsi:type="dcterms:W3CDTF">2010-01-24T15:35:32Z</dcterms:modified>
  <cp:revision>5</cp:revision>
  <dc:subject/>
  <dc:title>А. С. Пушкин</dc:title>
</cp:coreProperties>
</file>