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CD0-BBAA-4DC9-9557-5041CCAD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BB5-DBFC-4D10-9BA0-2EBC2993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C98D-5EF8-42AE-BA06-D403EC88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9F47-BA96-492D-9155-D7FDC7C4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851C-3792-42B2-B655-1682B444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8F91-4A22-4ED1-B627-E2CE1A23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FA5B-D9A2-4EB4-8C9B-ABA6AB03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FE86-DB81-48E9-B60E-29326C74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9388-4B94-4D49-9C6C-3363A551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6290-FF55-4FCA-BABB-71459FA6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F0DF-3C37-4D16-957C-164E6973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AA3-A487-48D0-BC82-CC5E0363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F65E-EEA0-4295-AA9B-C7E8B6CF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97A6-B357-4DA9-BCC2-98D62DC2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57E4-F59E-4439-9D37-E9602AB4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0A53-8BB7-4ED8-84EF-AA7D550F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617A-50A5-43FD-B86E-9E82DC04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3CF2-F159-4AA1-A0FB-60A69CDC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60D-13D5-420B-AD17-533E200F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C68-05EE-4250-AF48-4F4805A1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C4B6-4730-4B18-8A71-9FA4B7F0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3EFE-B6D4-41EB-A67D-1721F090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DAF4-D61E-427B-A591-B274DCC5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437-8155-4950-B850-3A3C869D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FC20-CC63-4F52-899D-216EC189345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E91E-25AD-4DC3-BE83-BE2F6620657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А. С. Пушкин</a:t>
            </a:r>
            <a:endParaRPr b="0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Стихотворе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«19 октября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20C6-2600-4D35-950B-4FE823256F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. Веллер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Перпендикуляр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«… он первый стал писать таким языком, что им можно было разговаривать. И вот в этом простом языке не нужно искать какой-то необыкновенной выразительности, какого-то необыкновенного блеска… Не в том гениальность, чтобы все блестело, а в том гениальность, чтобы было то, что надо. Это все равно, что требовать от автомата Калашникова, чтобы он был инкрустирован стразами, чтобы там была какая-то золотая чеканка, чтобы он был отшлифован до ясного зеркального блеска. От автомата Калашникова этого не требуется. От него требуется, чтобы он стрелял в любых условиях. Все, остальное не важно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6A8-DB91-4870-A93F-BB30E428EE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«19 октября» (1827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ог помочь вам, друзья мои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 заботах жизни, царской служб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 на пирах разгульной дружбы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 в сладких таинствах любви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ог помочь вам, друзья мои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 в бурях, и в житейском горе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 краю чужом, в пустынном море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 в мрачных пропастях земли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90E-4997-4E6C-969F-454AF57D7C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тихотворение «19 октября» - это благословение и перечень ситуаций, в которых человеку нужна Божья помощ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ечень этот дан строго систематизирова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547640" y="2349360"/>
          <a:ext cx="6096240" cy="4214880"/>
        </p:xfrm>
        <a:graphic>
          <a:graphicData uri="http://schemas.openxmlformats.org/drawingml/2006/table">
            <a:tbl>
              <a:tblPr/>
              <a:tblGrid>
                <a:gridCol w="720720"/>
                <a:gridCol w="2664000"/>
                <a:gridCol w="2711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гативные ситу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зитивные ситу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итейские бу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боты жи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итейское го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арская служба (карье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рай чуж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иры друж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устынное море (одиночеств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аинства люб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рачные пропасти земли (смерт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76A-8E77-4E19-88A1-BD50E041BB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и компонента, по которым узнается настоящая поэз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Благословени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излучение любви сквозь слов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орочеств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открытие истин жиз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Суггестивност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энергия волевого внуш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У этого стихотворения всечеловеческая адресованность, смысл его универсален - оно всегда злободнев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то такое истинная поэзи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DD62-109F-49BC-8F66-A7F047EA15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лан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нализ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стихотворени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«19 октября» (182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иографический комментар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оль пейзажа, с которого начинается стихотворе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Лирический сюже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мысл формы стихотвор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дея стихотвор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оль антитез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Юмор в стихотворе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Значение компози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мысл последней строф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4AEA-489B-4048-8BE9-5B7984B1E9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осознание этих  тем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ражается в стихотворени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19 октября» (1827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ог помочь вам, друзья мо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заботах жизни, царской служб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 на пирах разгульной дружбы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 в сладких таинствах любви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ог помочь вам, друзья мо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 в бурях, и в житейском горе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краю чужом, в пустынном море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 в мрачных пропастях земли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AAC9-0F9C-443E-A5D1-47C90AB604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7:35:29Z</dcterms:created>
  <dc:creator> Ульрих</dc:creator>
  <dc:description/>
  <dc:language>en-US</dc:language>
  <cp:lastModifiedBy>Admin</cp:lastModifiedBy>
  <dcterms:modified xsi:type="dcterms:W3CDTF">2010-01-24T15:35:32Z</dcterms:modified>
  <cp:revision>5</cp:revision>
  <dc:subject/>
  <dc:title>А. С. Пушкин</dc:title>
</cp:coreProperties>
</file>