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gif" ContentType="image/gi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4E89-799C-4347-BC2E-97C2F56DB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55E4-63AB-4086-A10D-ED0833CA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46993C-EEA3-49CF-8034-65D749FE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C63D1C-AC12-467F-B097-A5CB6292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12FF6D-DF85-4EAF-9A03-9C2E41A0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FF9F9-46E7-4A39-9066-45F1268C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BBBF1-D322-499D-A155-64F7B42F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5C3EDC-81FA-4BF0-AE92-3CEB9DC9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8148CB-50E5-4B2F-87FD-84838F53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CE76CE-C447-4B13-91E8-44A1C58FF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44977-964F-4DAC-9967-44B6FBA8B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853F14-38E9-4047-A9A6-2FD0917A0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7B3F-7C41-4D49-83B2-22AB28B7D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7496FF-FC66-44DC-BFC7-2B77D1F7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EC6C7A-F36F-41E3-A3E8-73EA5B64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31B536-3895-457E-8BE8-56F37A7D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970E96-F654-448A-B768-838F1460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128D19-06DD-4FFC-8FD6-1E449375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F2DF8F-BE79-4B1D-89BB-FA6F62D0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5E5BE5-E8DB-4483-9204-CCE40540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C1425C-6D40-442A-B3A5-2AB0B8D4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ECFA3A-C8CD-4A3C-911C-A3641FD1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C5BDE9-6270-4F9E-BDF2-1EA799970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D90D-2556-49E3-B39A-9FCFC9CF2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1C9454-27DE-4D4F-9410-CDE6D5233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F7767-EA32-4AAC-9AEF-44E342061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17C17E-D8F8-493E-842B-86D450B3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504C43-0E25-4794-B467-8C1BFE22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A35EB-D349-4613-898F-C0285B38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8908B-56F3-488D-A6C2-7BA6430C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AAF74-D2AF-4837-96F4-F382226E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5E20D-3581-4687-85EE-C74410B2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CF9564-3373-4CF8-BE54-2530249A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1CC80A-BAFF-4B0D-BFDA-862D352A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9851-B70E-4EF3-B36E-B4868FCA3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10EAB-2033-415D-B717-6637121B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12FA1-38F3-46B4-B418-8A591D9D3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949D1C-BF3F-46EB-8658-AE57B6BC0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F7204A1-52B2-4325-A8EF-599508529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14D7CBD-D99E-4A8F-B800-C68FF619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94D1C28-5020-4132-A3F3-CFB91EED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AE423BB-8CB9-4A6E-B998-D28C6C23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3E5D54D-9469-4C78-B605-0FF2602C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6033EC6-D0E3-4E3C-86D6-6C92B39D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ED1806C-4FD5-4981-BC36-5757AAB0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9579-E6D1-41D9-BD79-D1A4FC71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94C5456-B3CD-4248-B12F-D9173E50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FEF9A69-A1D5-45A5-A12C-39281100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BEED3FC-1F4F-465F-AEDE-25AB9C62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44D8DF4-95CF-4563-B7BD-E584F7BCB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EDE2EB4-1EDD-4EC4-8ED6-358C7F22C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D27BA7-BFA4-470A-8D8E-06D937D8A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AF32B2-9ECE-4EC6-A5BC-4095106A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C8F5D0-FDC3-44B1-B50A-19C55E7F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50B7A3-F8E2-4B85-B708-7C9FBC55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6F9DDC-1737-4935-93A7-E874E895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BA00-FA79-48D5-B70C-67FE786A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1EC2A6-B48E-4115-A631-BE82CCE7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E1BC79-DD72-4766-A6FE-DA386C22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DB19DC-3F43-4B09-8838-97AD5626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8AAB02-5715-43B4-8881-3D849AE3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FFFD97-3E84-497C-98CD-3753A35C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5FFDE0-E625-4962-9CEF-24A593FF3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1972B8-0F9A-4049-AE14-85D7674EB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588FFE-43E8-41A5-944D-70786C36E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9A0E5F-43FF-47CA-85DA-F537A0FD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CC801B-4A06-42D8-9E75-CA88DD59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85F6-F98C-4090-810A-E756379E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B5AFCA-841E-427D-BF44-A38F414F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8F4F6D-FEBA-4F40-94D2-F6608DD5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072029-8E5C-4698-9488-2C294E97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12CA95-9929-41D2-97C5-7FF0B762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93E114-D7F8-4253-8283-CB29CAFE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0BFEFF-DB09-4BF3-AAF0-46D715E2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D49FE2-4048-4944-ADC6-CF95E0B4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0FD302-8F3A-4BA8-A5D3-7221FE2F9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E1ECB1-FB4F-4E4A-A28F-510A6D632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0B95E7-909D-40C8-911D-6E79A67E5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B3D7-ED29-45F6-B71D-53B27559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46BD98-C95D-42EB-9A9D-95AEC0A4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254EF6-361A-4FF3-9898-AE4F058B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294E20-77BF-43AC-AFB0-356A1B7E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BD6DDD-99F3-4D1A-A019-74792409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9BD3B5-EFED-417E-A2FF-5124A7BE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1BEB93-2662-40B6-9655-47D6A688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7C4E7A-21E3-4157-92D0-B0F39426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140C8B-01E4-417C-93F9-27757BAB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2F0293-FFC4-47F4-B786-D31ACE0E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4BC4AC-0C9E-4B5C-AEBD-48C8A9586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7031-B65B-4D82-9B1B-3D8132B9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A8A28A-7E6B-4F53-B639-570D6AD8F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249095-B267-4FA4-8C77-AE516E670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A8C9B6-0B6D-4504-A16D-4879457D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1AAFEF-B4D9-4402-A85B-7E4108B0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315960-5259-4CEB-9F10-B4CD637F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8BDA81-E53F-402C-A3D5-2851ABCD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3045C6-5E50-43E9-945A-5F2F0128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FC05F5-F9FF-4CC4-B892-525BD4EF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FA1027-DDEB-4014-B375-34B79414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77B48C-5838-4AA6-AE65-AD4FF462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F7D7-2E30-4229-A942-A1E2575C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202F54-86A9-4A0D-A332-C33291C7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0D879F-11CE-4C79-9884-AD5DCB698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7BC740-A017-4DC1-9138-B90F9EA9F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BCCCDD-D0DC-4F5A-A5CB-518A32B85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35A7D9-DB56-414F-B33E-3A4491C0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B2671E-4407-425E-8C57-6A38D1A7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96ECC7-8B35-4DF2-B906-D5921E2C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8AEE7F-6717-4385-91AF-F106EFE9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4F5623-196E-48FA-8264-6167658B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D7B329-B382-4A8C-9CDE-AE7E708F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EA89-7C38-4453-AD63-2D4630F8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96D9-E16B-4C6F-8BB5-4C5AA53E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D6571C-2987-410A-86EA-438619FD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5C0B07-A08E-4E74-AC0D-3439C088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E27DCD-AB95-45AC-A787-66CC8FC4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116680-633B-42EB-9C09-2D20E8D6A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4EFC78-82A3-46E0-AD9E-8A11658E3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173F55-91FF-440E-A664-7C908FA3D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15837A-C36C-4B6F-BFF8-E52C9A18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F9331F-A84A-4ED1-8254-F616DB4B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5B4299-D1E4-470A-8864-8D2B7FB7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EC53B7-31FB-4078-8064-C9A0F6B3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F431-654B-43D3-A3FA-24AFBC63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4C6ABE-E99B-4287-B26D-6527229E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0E2BF8-CDF7-4550-877A-C8302681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FF4851-68DA-4F4E-BB5D-757346F1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4E5459-EEF9-4EC4-978E-F6724B13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9711F7-ACED-4E57-984D-5A6E2562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E59367-5BA5-40B6-9E11-79E05EA69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D79CA2-34D1-4808-80FB-41C3125AC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A03BD8-851A-4475-A053-46C0AAA6B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C17125-5AE1-4300-BADC-2500E728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6E0C2C-B2BF-436B-A82D-E8F1158A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0234-A598-4D69-9551-3E29D4F5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664559-56A6-46D2-A8D9-DFD817AD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D3BE7B-A0A6-4C23-9699-862B1BA7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8CEB6D-843E-483C-B134-909A8989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4CCC6B-A503-4F05-95AB-15C9E832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1C75BB-8E92-4F48-B43E-F4FFDE2C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5CC4A7-747D-430C-BCA8-0579A4E1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DF669C-34EE-4D1F-A231-A015631C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9B1AB4-EE01-4FE7-8969-6C6DA04D0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9FFD67-C00D-46A3-962D-84C9201EE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E0738E-E463-42E5-BA44-78BD7D739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6E4C-CE87-4703-978D-8EA709BFE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DD5FE3-3B04-4327-9029-84811DAF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B3F128-CF17-4F09-8EBE-0E95E294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38EEC7-9657-4FD4-AB14-5CF9EFFF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ECEDD1-BCF8-4FA6-A24F-AC4DE867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881ECC-53DE-4476-961E-67CECD1C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DCB8A4-332C-45DB-9800-A47BBF61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A7E479-7B41-44E3-BAA2-8E516220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E0D188-3B06-4E24-9A1F-43F3DB0A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A41BC9-F216-484A-AC64-D44CD314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0E2F2B-AF6B-4BE7-837B-4F1AAC2FC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B67D2-8062-40AD-895F-679A93307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E0F2DB-E5B1-41F5-BE9E-4B59A643D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1A8878-0BC2-4342-B714-908B33956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20997F-2707-42A6-A4A4-57B230E3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5B172E-3423-41C9-B898-C93AA51B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E7726F-CCC3-4255-B423-AAB2E36C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1914E2-6842-40AD-A1EE-5D62F5EC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A3BB1B-EB94-4B77-96BC-F5A9C47C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619F28-9FDC-4BAF-A48B-18870BEE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B3D043-7FFF-429A-B299-68B7EE35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332CAC-7065-4C60-8B37-D9A20C31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2BA6C-4A25-4EDF-B416-E281280B5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0605A8-D62A-4337-ACD3-17E9A0DD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30EBEE-F622-44AA-8963-945DE891E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B68C78-E69A-487E-907E-8A06717AA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15862F-BE6E-4C5D-9E2C-D15224A99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14C838-C8BC-4CB4-A4F2-88B704B2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38D15B-85B4-42A1-9FBF-37D0B727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977BF6-DBCD-4233-9868-E82C6560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2BEDD8-255C-4155-9B90-BC566D77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516066-15B6-4AE5-B66D-4148A4A4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DF5FDB-2B54-449A-AD27-0ECE12D7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420CE-7076-4449-9A80-ED84FA33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8C72E7-55AA-4E72-B713-269231D0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8A1075-9D9C-4F82-8FAD-95E58A8B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E35A92-DF69-422B-A4A9-B0D1F9EB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74E39C-E7E3-486A-9E1A-746BAE5BD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6E0EB8-BC28-4776-A3A7-1C312ECA3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29B9EA-BE07-4A10-86A7-461C4ECAA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473998-F668-4964-98C1-24AC7C1E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2F596C-5136-4C94-A81D-FAB3E28D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ECF8E7-B989-4E49-93F5-6525B989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86A2B1-126C-48A7-8FFE-D59FEBDE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EEDEC-13E5-4F97-A95D-E9707C2A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A709E3-475D-470D-954F-C41BEF13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00F79C-8620-4C80-9B68-2BF220AA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CADE9A-1914-471C-8A20-FBB21689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EAA420-D743-478B-AD3C-7CFE1438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3F7F8B-9A35-4A18-ABB7-01AB5491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A727AF-5479-4F5A-AE5F-C8F9655A7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D9DF12-9192-4549-A855-02EB3A454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7B3CD-E395-4B57-B92F-205AB32E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09E81-1F8F-4A33-B3DA-3AA47D0D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899E-898F-46E4-94D1-48960B1F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6AAC4-C9B5-42EC-9975-0C0EB1F0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5714F-5E4D-4879-A2F0-F871C29F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13DDB-93ED-4A73-A6A4-9538956C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0360A-BCEE-4E28-98AD-A59806E4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9CE9C-7506-45CF-995E-E7D4D4A2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D7BE5-C30D-4B23-BF4F-C87F2FAAA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33272-5501-4775-8EB9-26617E5AB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E36CF-0A0F-4D25-9EFC-36115AC09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7B59A-55F6-40F5-9BC3-ADA5191C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7C489-D9A1-4AC3-A944-FD6A7C2F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C4FD-E333-45D9-8653-E62E5154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03458-1CCF-4422-9440-77D1B90C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50E00-07CB-4C1F-8D98-64784A8B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83534-76F0-4BD6-95FD-93A72466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2B8C2-25CC-4A3F-915E-9E4CB13C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EA00A-9776-468C-B3A7-5C5400A5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AEABB-7B8B-4F59-9058-3C815041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EA69C-4234-43FF-87A0-70A925B4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EB75B-D3CE-4BC2-800C-AEC91C5C8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B0B8E-39E3-4E82-BD9C-50310A3E8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24DC6-6CD8-4B1E-8F8B-A1B2518D8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E350-A6DB-42C7-87C1-FAB664C2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333C2-726D-4F67-BB9D-D0A2E300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4E848-E945-407A-8E3B-540600B9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107D6-6DAE-494F-A290-FA06EAD8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14E03-6B6A-4651-BF24-2A5CAD35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5176B-E9C6-4353-82EB-A76569B8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A850E-0571-4932-AD49-6D142637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72585-896E-4F23-BB1B-2083B448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853B8-12BF-4A0B-B969-D11F1C75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C4278-1F7F-4C81-AE75-5679D524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24125-DDE6-4525-BE49-FA7F9F4B9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2906-F596-4746-89C9-8757A7FD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71594-DB6C-4C33-848D-3EEDF0C7F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73436-569B-4AF3-BA7D-3581D4B7C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64648-A164-47AB-A0AB-8859A7DB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34FD3-540F-427D-8609-A3A803CF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C2960-EF04-4344-843A-1227CE23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20D6F-349B-4C4B-9C84-594D81EB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563BD-A967-42AC-99EE-E33626F6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E4AEE-E0EE-4804-8F93-E70A13E1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A19DD-02CD-4145-98C4-8FD7CDF6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58800-7873-4BC2-91E1-4C251AFC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B333-B077-47A7-AEEF-D524E8C2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5DE8B-29C1-4264-A25E-B7E6C465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126FB-EC0C-4BE2-94F5-929A94141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5263A-B1BB-400D-8F79-116D6C9D1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CA27F-9289-4BC6-8784-4802027E0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E8ADB-A1C9-4E9C-A897-C2DD29D8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ED4F5-6A0D-4609-BF5A-1F8E085B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F15CE-5002-4492-B752-6AE50439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14647-D502-43CA-A9C3-E4DEEA18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CBCC8-B5B0-4848-B83A-34F044E8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67AF1-64BA-4F4A-85E2-7FC7C5BD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7904-ADBF-4E82-B6AB-E481A037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EED5B-A164-414C-930A-F485ECDE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35771-A9B9-4127-9D56-3456E665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8B263-0F2E-45FF-A31A-F0DEF1DE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0A50D-5A6B-4C8B-8E4E-9998703E0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FA2E7-1228-471C-8A63-F1CFE803C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435D7-CF47-4FEA-BB8E-03C17601D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047A6-D6CA-4365-A86F-35400FAB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C2F83-2C36-47DE-8A14-5BF00B83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CF085-6254-4E10-87AA-5567271A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C8152-D695-4D9A-8EA4-DDF44AFB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D488-EF6E-488D-A7B9-1F5AC61A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3DE28-7BCD-4578-8B5D-94AF0844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209E5-00D2-4228-82BD-F49B1788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FBBFB-8079-406D-B0D1-84D91F00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C593B-8E21-4508-8540-4ACD7A86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B32E7-7DBC-400B-A119-146645E2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53B71-5D10-41AA-A34D-61FA0C571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2819E-1885-4066-B50A-5BE458B13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DA0A71-9BDF-431E-8E21-962B40A15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9B9172-2AB6-4FE1-9CF4-D5614F89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C0837-3629-4113-864D-B96A9730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FCBC-2AE5-41E9-8DD3-817ED2BB2D2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21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22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23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4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5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6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7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8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9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0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1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2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3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34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35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6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7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8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9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0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1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2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3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4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5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6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7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8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9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0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1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2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53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54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5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6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7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8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9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0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1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2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3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4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5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6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7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8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9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0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71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72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3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4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5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6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7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8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579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80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581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582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583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4658-E2B4-47A4-928F-7D621AA4C1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26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7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8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9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0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1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31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32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D5FE-BD3C-4B02-B739-6D1558430A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63D2-3436-4FAC-A321-11E808E05F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5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716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7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>
                <a:gd name="textAreaLeft" fmla="*/ 0 w 13452480"/>
                <a:gd name="textAreaRight" fmla="*/ 13452840 w 13452480"/>
                <a:gd name="textAreaTop" fmla="*/ 0 h 10794960"/>
                <a:gd name="textAreaBottom" fmla="*/ 10795320 h 1079496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dt" idx="3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ftr" idx="38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 type="sldNum" idx="3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0975-F3FB-44B1-992A-11D9B534035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9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760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1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 type="dt" idx="4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 type="ftr" idx="4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 type="sldNum" idx="4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FBA3-644A-44A7-BDDD-B856A08CE93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04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5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4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4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4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463A-DA0B-4CA8-A64A-457EBD72CC5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7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48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9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 type="dt" idx="4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 type="ftr" idx="4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 type="sldNum" idx="4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F60B-4FF9-440F-8A34-6FC9178C024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1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92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3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 type="dt" idx="4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 type="ftr" idx="5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 type="sldNum" idx="5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8DE6-9820-436E-9526-A49C654AC31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5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936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37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 type="dt" idx="5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 type="ftr" idx="5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 type="sldNum" idx="5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F630-8F34-4AD2-A036-CBF78B2E0FF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9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980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1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dt" idx="5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 type="ftr" idx="5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 type="sldNum" idx="5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2215-AF56-45C9-BFE3-A00EF73DBB0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25DC-8AA0-40AF-BD43-35C8F5FBE0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3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024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5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 type="dt" idx="5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 type="ftr" idx="5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 type="sldNum" idx="6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9D43-FD01-40D0-9BCC-C9E7FA5D35E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068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9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6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6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6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F5B3-1B0A-4438-8A72-6E5A73B7F09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1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112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13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14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15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16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17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18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19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0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1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2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3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4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5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6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2AD2-A3E7-4AF7-BCE3-C60C624F63C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6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17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7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7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17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17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117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18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8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82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18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18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8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9709-6F54-4F78-A3C4-481EEA9523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21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22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23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4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5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6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7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8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9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0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1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2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3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34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35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6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7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8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9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0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1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2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3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4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5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6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7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8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9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0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1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2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53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54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5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6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7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8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9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0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1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2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3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4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5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6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7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8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9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0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71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72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3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4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5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6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7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8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79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80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81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82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83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1C93-3543-4975-8B98-AFCCCE01ED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26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7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8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0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1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2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3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34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B88B-3845-4671-84C2-472F561A4C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10D9-668D-469B-B349-CBFF45853C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1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8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88B0-9329-4EDE-A725-D4F5AAE60A3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E8BD-C318-4F4E-8E4B-FCA3B121213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170C-CA7E-45C6-B15F-E015A94E91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43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4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5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46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47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8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9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0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1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2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3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4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5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6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7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8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9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60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1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2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3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4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5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6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7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8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9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0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71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72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3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4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5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6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77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8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05E9-6D76-49B9-AFEA-C4DEACBB896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TextBox 1"/>
          <p:cNvSpPr/>
          <p:nvPr/>
        </p:nvSpPr>
        <p:spPr>
          <a:xfrm>
            <a:off x="0" y="0"/>
            <a:ext cx="9144000" cy="71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Биологический</a:t>
            </a:r>
            <a:r>
              <a:rPr b="1" lang="ru-RU" sz="4000" spc="-1" strike="noStrike">
                <a:solidFill>
                  <a:srgbClr val="ff0000"/>
                </a:solidFill>
                <a:latin typeface="Arial Black"/>
              </a:rPr>
              <a:t> диктан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Бактерии разложения и  гниения считаются……бактериям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Тесная и полезная связь как одному так и другому организму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Почвенные или клубеньковые бактерии поселяются на корнях….растен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Почвенные, клубеньковые или….бактери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Бактерии растениям дает азот, а растения бактериям…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TextBox 3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6. Участвует в создании кисломолочных продуктов….бактери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4" name="Скругленный прямоугольник 4"/>
          <p:cNvSpPr/>
          <p:nvPr/>
        </p:nvSpPr>
        <p:spPr>
          <a:xfrm>
            <a:off x="250920" y="1052640"/>
            <a:ext cx="8893080" cy="580536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тветы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апротрофн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мбио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обов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зотфиксирующ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глевод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олочнокисл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ценка «5» – 6 правильных ответ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ценка «4» – 5 правильных ответ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ценка «3» – 4 правильных ответ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TextBox 1"/>
          <p:cNvSpPr/>
          <p:nvPr/>
        </p:nvSpPr>
        <p:spPr>
          <a:xfrm>
            <a:off x="324000" y="33336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говор Антошки с биологом стр 8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6" name="Скругленный прямоугольник 2"/>
          <p:cNvSpPr/>
          <p:nvPr/>
        </p:nvSpPr>
        <p:spPr>
          <a:xfrm>
            <a:off x="395280" y="1413000"/>
            <a:ext cx="8424720" cy="230328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Тема урока: « Клетки ядерных организмов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7" name="Скругленный прямоугольник 3"/>
          <p:cNvSpPr/>
          <p:nvPr/>
        </p:nvSpPr>
        <p:spPr>
          <a:xfrm>
            <a:off x="755640" y="4221000"/>
            <a:ext cx="7920000" cy="230364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ная ситуация: Как устроена клетка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21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летка – элементарная единица живой системы, обладающая всеми признаками живого.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39" name="Picture 2" descr="http://im4-tub-ru.yandex.net/i?id=140434912-18-72&amp;n=21"/>
          <p:cNvPicPr/>
          <p:nvPr/>
        </p:nvPicPr>
        <p:blipFill>
          <a:blip r:embed="rId1"/>
          <a:stretch/>
        </p:blipFill>
        <p:spPr>
          <a:xfrm>
            <a:off x="2050920" y="2276640"/>
            <a:ext cx="475308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Функции эукариотической клетк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cxnSp>
        <p:nvCxnSpPr>
          <p:cNvPr id="1241" name="Прямая со стрелкой 3"/>
          <p:cNvCxnSpPr/>
          <p:nvPr/>
        </p:nvCxnSpPr>
        <p:spPr>
          <a:xfrm flipH="1">
            <a:off x="1042560" y="1628280"/>
            <a:ext cx="1153440" cy="1008720"/>
          </a:xfrm>
          <a:prstGeom prst="straightConnector1">
            <a:avLst/>
          </a:prstGeom>
          <a:ln w="38160">
            <a:solidFill>
              <a:srgbClr val="4d4d4d"/>
            </a:solidFill>
            <a:miter/>
            <a:tailEnd len="med" type="arrow" w="med"/>
          </a:ln>
        </p:spPr>
      </p:cxnSp>
      <p:cxnSp>
        <p:nvCxnSpPr>
          <p:cNvPr id="1242" name="Прямая со стрелкой 5"/>
          <p:cNvCxnSpPr/>
          <p:nvPr/>
        </p:nvCxnSpPr>
        <p:spPr>
          <a:xfrm flipH="1">
            <a:off x="2842560" y="1628280"/>
            <a:ext cx="865800" cy="2592720"/>
          </a:xfrm>
          <a:prstGeom prst="straightConnector1">
            <a:avLst/>
          </a:prstGeom>
          <a:ln w="38160">
            <a:solidFill>
              <a:srgbClr val="4d4d4d"/>
            </a:solidFill>
            <a:miter/>
            <a:tailEnd len="med" type="arrow" w="med"/>
          </a:ln>
        </p:spPr>
      </p:cxnSp>
      <p:cxnSp>
        <p:nvCxnSpPr>
          <p:cNvPr id="1243" name="Прямая со стрелкой 7"/>
          <p:cNvCxnSpPr/>
          <p:nvPr/>
        </p:nvCxnSpPr>
        <p:spPr>
          <a:xfrm>
            <a:off x="4500360" y="1628640"/>
            <a:ext cx="1080" cy="3888720"/>
          </a:xfrm>
          <a:prstGeom prst="straightConnector1">
            <a:avLst/>
          </a:prstGeom>
          <a:ln w="38160">
            <a:solidFill>
              <a:srgbClr val="4d4d4d"/>
            </a:solidFill>
            <a:miter/>
            <a:tailEnd len="med" type="arrow" w="med"/>
          </a:ln>
        </p:spPr>
      </p:cxnSp>
      <p:cxnSp>
        <p:nvCxnSpPr>
          <p:cNvPr id="1244" name="Прямая со стрелкой 9"/>
          <p:cNvCxnSpPr/>
          <p:nvPr/>
        </p:nvCxnSpPr>
        <p:spPr>
          <a:xfrm>
            <a:off x="5796000" y="1557000"/>
            <a:ext cx="505440" cy="1367640"/>
          </a:xfrm>
          <a:prstGeom prst="straightConnector1">
            <a:avLst/>
          </a:prstGeom>
          <a:ln w="38160">
            <a:solidFill>
              <a:srgbClr val="4d4d4d"/>
            </a:solidFill>
            <a:miter/>
            <a:tailEnd len="med" type="arrow" w="med"/>
          </a:ln>
        </p:spPr>
      </p:cxnSp>
      <p:cxnSp>
        <p:nvCxnSpPr>
          <p:cNvPr id="1245" name="Прямая со стрелкой 11"/>
          <p:cNvCxnSpPr/>
          <p:nvPr/>
        </p:nvCxnSpPr>
        <p:spPr>
          <a:xfrm>
            <a:off x="5724000" y="1125360"/>
            <a:ext cx="1512360" cy="432720"/>
          </a:xfrm>
          <a:prstGeom prst="straightConnector1">
            <a:avLst/>
          </a:prstGeom>
          <a:ln w="38160">
            <a:solidFill>
              <a:srgbClr val="4d4d4d"/>
            </a:solidFill>
            <a:miter/>
            <a:tailEnd len="med" type="arrow" w="med"/>
          </a:ln>
        </p:spPr>
      </p:cxnSp>
      <p:sp>
        <p:nvSpPr>
          <p:cNvPr id="1246" name="Скругленный прямоугольник 12"/>
          <p:cNvSpPr/>
          <p:nvPr/>
        </p:nvSpPr>
        <p:spPr>
          <a:xfrm>
            <a:off x="0" y="2708280"/>
            <a:ext cx="2556000" cy="115236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амозащитная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7" name="Скругленный прямоугольник 13"/>
          <p:cNvSpPr/>
          <p:nvPr/>
        </p:nvSpPr>
        <p:spPr>
          <a:xfrm>
            <a:off x="395280" y="4221000"/>
            <a:ext cx="3313080" cy="129564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нос веществ в клетку и из не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8" name="Скругленный прямоугольник 14"/>
          <p:cNvSpPr/>
          <p:nvPr/>
        </p:nvSpPr>
        <p:spPr>
          <a:xfrm>
            <a:off x="1403280" y="5661000"/>
            <a:ext cx="4392720" cy="119700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влечение энергии из пищ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9" name="Скругленный прямоугольник 15"/>
          <p:cNvSpPr/>
          <p:nvPr/>
        </p:nvSpPr>
        <p:spPr>
          <a:xfrm>
            <a:off x="4500720" y="3068640"/>
            <a:ext cx="2808000" cy="165564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хранение инструкций по управлению работой клетк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0" name="Скругленный прямоугольник 19"/>
          <p:cNvSpPr/>
          <p:nvPr/>
        </p:nvSpPr>
        <p:spPr>
          <a:xfrm>
            <a:off x="6804000" y="1844640"/>
            <a:ext cx="2340000" cy="79236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здание новых белко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251" name="Прямая со стрелкой 21"/>
          <p:cNvCxnSpPr/>
          <p:nvPr/>
        </p:nvCxnSpPr>
        <p:spPr>
          <a:xfrm>
            <a:off x="6516720" y="2133720"/>
            <a:ext cx="1512000" cy="2591280"/>
          </a:xfrm>
          <a:prstGeom prst="straightConnector1">
            <a:avLst/>
          </a:prstGeom>
          <a:ln w="38160">
            <a:solidFill>
              <a:srgbClr val="4d4d4d"/>
            </a:solidFill>
            <a:miter/>
            <a:tailEnd len="med" type="arrow" w="med"/>
          </a:ln>
        </p:spPr>
      </p:cxnSp>
      <p:sp>
        <p:nvSpPr>
          <p:cNvPr id="1252" name="Скругленный прямоугольник 22"/>
          <p:cNvSpPr/>
          <p:nvPr/>
        </p:nvSpPr>
        <p:spPr>
          <a:xfrm>
            <a:off x="6156360" y="4797360"/>
            <a:ext cx="2987640" cy="129564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еспечение связи между частями клетк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TextBox 1"/>
          <p:cNvSpPr/>
          <p:nvPr/>
        </p:nvSpPr>
        <p:spPr>
          <a:xfrm>
            <a:off x="250920" y="260280"/>
            <a:ext cx="8713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 Клеточная стенка – осуществляет защитную функцию от проникновения  чужеродных вещест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 Цитоплазматическая мембрана – осуществляет перенос веществ в клетку и из клетк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 Митохондрии – пузырьки из мембраны с многочисленными выступами внутри, осуществляется процесс дыхани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 Ядро – часть клетки, ответственная за хранение ДНК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. Рибосомы – комочки синтезирующие молекулы белк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TextBox 1"/>
          <p:cNvSpPr/>
          <p:nvPr/>
        </p:nvSpPr>
        <p:spPr>
          <a:xfrm>
            <a:off x="395280" y="33336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 Цитоплазма – жидкое содержимое клетки напрестанно протекает внутри цитоплазматической мембран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55" name="Group 4"/>
          <p:cNvGrpSpPr/>
          <p:nvPr/>
        </p:nvGrpSpPr>
        <p:grpSpPr>
          <a:xfrm>
            <a:off x="2050920" y="1484280"/>
            <a:ext cx="5255640" cy="5112720"/>
            <a:chOff x="2050920" y="1484280"/>
            <a:chExt cx="5255640" cy="5112720"/>
          </a:xfrm>
        </p:grpSpPr>
        <p:pic>
          <p:nvPicPr>
            <p:cNvPr id="1256" name="Picture 5" descr="Движение-цмтоплазмы"/>
            <p:cNvPicPr/>
            <p:nvPr/>
          </p:nvPicPr>
          <p:blipFill>
            <a:blip r:embed="rId1"/>
            <a:stretch/>
          </p:blipFill>
          <p:spPr>
            <a:xfrm>
              <a:off x="2260800" y="1484280"/>
              <a:ext cx="5045760" cy="49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7" name="AutoShape 6"/>
            <p:cNvSpPr/>
            <p:nvPr/>
          </p:nvSpPr>
          <p:spPr>
            <a:xfrm>
              <a:off x="2050920" y="1861560"/>
              <a:ext cx="5101920" cy="4735440"/>
            </a:xfrm>
            <a:custGeom>
              <a:avLst/>
              <a:gdLst>
                <a:gd name="textAreaLeft" fmla="*/ 745920 w 5101920"/>
                <a:gd name="textAreaRight" fmla="*/ 4356000 w 5101920"/>
                <a:gd name="textAreaTop" fmla="*/ 691920 h 4735440"/>
                <a:gd name="textAreaBottom" fmla="*/ 4043520 h 473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047" y="10800"/>
                  </a:moveTo>
                  <a:cubicBezTo>
                    <a:pt x="1047" y="16186"/>
                    <a:pt x="5414" y="20553"/>
                    <a:pt x="10800" y="20553"/>
                  </a:cubicBezTo>
                  <a:cubicBezTo>
                    <a:pt x="16186" y="20553"/>
                    <a:pt x="20553" y="16186"/>
                    <a:pt x="20553" y="10800"/>
                  </a:cubicBezTo>
                  <a:cubicBezTo>
                    <a:pt x="20553" y="5414"/>
                    <a:pt x="16186" y="1047"/>
                    <a:pt x="10800" y="1047"/>
                  </a:cubicBezTo>
                  <a:cubicBezTo>
                    <a:pt x="5414" y="1047"/>
                    <a:pt x="1047" y="5414"/>
                    <a:pt x="1047" y="10800"/>
                  </a:cubicBezTo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8" name="Picture 8" descr="http://im6-tub-ru.yandex.net/i?id=7258914-57-72&amp;n=21"/>
          <p:cNvPicPr/>
          <p:nvPr/>
        </p:nvPicPr>
        <p:blipFill>
          <a:blip r:embed="rId1"/>
          <a:stretch/>
        </p:blipFill>
        <p:spPr>
          <a:xfrm>
            <a:off x="239760" y="260280"/>
            <a:ext cx="5083200" cy="6408720"/>
          </a:xfrm>
          <a:prstGeom prst="rect">
            <a:avLst/>
          </a:prstGeom>
          <a:ln w="0">
            <a:noFill/>
          </a:ln>
        </p:spPr>
      </p:pic>
      <p:sp>
        <p:nvSpPr>
          <p:cNvPr id="1259" name="Скругленный прямоугольник 5"/>
          <p:cNvSpPr/>
          <p:nvPr/>
        </p:nvSpPr>
        <p:spPr>
          <a:xfrm>
            <a:off x="5364000" y="333360"/>
            <a:ext cx="3780000" cy="6191280"/>
          </a:xfrm>
          <a:custGeom>
            <a:avLst/>
            <a:gdLst>
              <a:gd name="textAreaLeft" fmla="*/ 184320 w 3780000"/>
              <a:gd name="textAreaRight" fmla="*/ 3595680 w 3780000"/>
              <a:gd name="textAreaTop" fmla="*/ 184320 h 6191280"/>
              <a:gd name="textAreaBottom" fmla="*/ 6006960 h 6191280"/>
            </a:gdLst>
            <a:ahLst/>
            <a:rect l="textAreaLeft" t="textAreaTop" r="textAreaRight" b="textAreaBottom"/>
            <a:pathLst>
              <a:path w="21600" h="35377">
                <a:moveTo>
                  <a:pt x="3600" y="0"/>
                </a:moveTo>
                <a:arcTo wR="3600" hR="3600" stAng="16200000" swAng="-5400000"/>
                <a:lnTo>
                  <a:pt x="0" y="31777"/>
                </a:lnTo>
                <a:arcTo wR="3600" hR="3600" stAng="10800000" swAng="-5400000"/>
                <a:lnTo>
                  <a:pt x="18000" y="353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ПС – эндоплазматическа сеть трубки и цистерны, образованные мембраной, на которой синтезируются белки, жиры и углевод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5T09:43:24Z</dcterms:created>
  <dc:creator>DOMPK</dc:creator>
  <dc:description/>
  <dc:language>en-US</dc:language>
  <cp:lastModifiedBy>DOMPK</cp:lastModifiedBy>
  <dcterms:modified xsi:type="dcterms:W3CDTF">2013-12-05T10:50:58Z</dcterms:modified>
  <cp:revision>2</cp:revision>
  <dc:subject/>
  <dc:title>Слайд 1</dc:title>
</cp:coreProperties>
</file>