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749-9230-493C-9168-18CC50E2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D20-5041-4205-8520-0F37629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96FA2-89F7-44C4-8ABF-43E1C84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BD2C9-A4B3-4511-BAF8-49F1B050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AC04B-89B9-44AD-9E85-1809360A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BD70C-83D5-4BFB-86DD-E81F426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B6126-1799-4C50-96D6-696F6CD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D6FC0-3A58-4FAE-A57E-3D28CD2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6C32A-6BB3-4377-A2C9-D24B18FB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A1FD8-0E55-4578-BD2E-849FA206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4BEE8-36D0-43E1-A3B8-92FA483C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DA683-9C93-4696-8A04-B14FB792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6AC-3EF3-4948-B429-B5143CB8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523D2-FB14-4809-9136-1CD91EE5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FF022-9E28-47C9-8D35-28FCBB8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94A3D-CDBB-4FCD-808B-CF98DA1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8EDBB-527F-4F02-9B36-6BAD156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AE856-62F5-4BED-BAFE-3E6E7EE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9752B-A7C2-4C19-839D-BFBAB8A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300C3-F56B-4C2D-9A1C-3762ECD6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F15F0-DC41-4E12-9413-9CEE5F9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2F7F-48C9-44DC-98A7-E8A9489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B2AE5-0673-4E72-8C4D-3749B2FC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2DD-EEB0-4C86-BBAC-759F4355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863D0-148C-4A84-86C4-72C7B88D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A9C76-0180-4A6F-8D80-AFE030A3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11856-C6A4-4345-9385-E35838C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8A55D-64CE-4B02-8C3A-7DC36E1D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87010-5D4E-4D65-B904-A4FBFE53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C1159-4723-4AFE-B37D-052DB6CF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6443A-4C9A-4C14-8EA4-47EDC39B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02315-CB4B-4184-85A5-5FA5416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A8E88-5945-40DD-AE4B-268569D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2FA05-A48C-417C-9743-9FABEBE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B464-64CB-42A2-AD8E-A589CAAF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A0753-6F2D-4B08-9A70-30E002C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9974C-5249-4621-B7FA-B732CE4B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63EEB-11BE-4417-823E-93F73088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04D264-5D86-4505-B4E2-2C6EE08B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8CD595-5276-453C-8A15-8CB5A7D0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ED0C8E-80F6-4445-AC9E-F1CBD1C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291864-20A7-4B10-879A-809D04A6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B84D0C-C1C4-4CD7-BC65-A0B53A0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986199-3FF5-4483-9447-9E6B600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CFEB1B-1FDC-438F-BE0C-7C8AC98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688F-09C8-4678-A994-91D9B220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D844ED-E162-45DA-97FB-80B03BE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90E530-F13C-4E54-B95A-9F30DD5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80B0AD-E349-4AAA-8393-780A0EC7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3E2232-E4A8-4C80-9598-6528069C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4CB28C-05C9-4779-9E1E-1FB738F4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FD435-B856-40C8-88EA-63B924F0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D4A69-7351-4348-821B-8F3DF92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86109-116A-4DC2-9A44-977C7EC6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73544-8A3B-49FD-8C57-C03DC07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1C7A3-909C-4A1A-922B-C3755EF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DED-ED60-46B3-8FA3-86011308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B6ECE-ED25-46EA-9FA2-B3581737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E2D22-9657-4404-9662-1F36933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B34F4-F076-40F7-937B-5DA15C9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058E0-E093-419B-94A6-B0231EB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AE8D6-3E5C-4444-80D2-EFAE0D1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D1F28-A6E2-402E-BD43-F4106599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D2238-D846-462D-900E-BC45BCBA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460E9-60D1-4913-882E-FADF333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0D249-16C5-482A-8829-CA7F8A5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7DAFC-C310-48D3-BA90-B28A8657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70B-FF9F-40FA-B1F4-7CBB92A0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6A788-B1A3-4530-BACE-425A23ED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A36DF-198B-458F-AEAA-4AA85A0C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978BE-E538-41BB-A734-17C6DD29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D7918-CF69-4EED-9673-8EAA659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AA8EA-4F69-4E5B-8464-9B60D6E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3BD6B-B012-4602-8B08-53F565E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47111-5D54-43A0-BDCC-D2F2B7FE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5EF12-D1B1-444E-B30A-EA480BEE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36987-CE49-43CE-B66A-8E5C34B4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CE01D-59A2-4245-8013-BB63BB41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01AA-800A-4184-9356-8324B86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126F3-305F-40B8-A0FD-55602F9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EE081-F0FC-4292-98C9-D5033F1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86716-81A5-48FF-B073-811779C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C3AF3-43BB-4035-B543-DCF0B86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5754F-386E-481B-A1B3-E9A4854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5CDE5-8C51-4C03-8E94-C6DE2FD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CE48F-6C07-4DB1-A576-BB30B74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6BB7C-911E-4400-BFE4-25243E1B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786EE-8BCC-4B3B-9390-B102F210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8E312-CF80-4760-B8F0-D32E3C3A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0EE2-461D-4E33-A381-D22A599C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3E33C-8370-43E0-8690-7AE89B11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F4CE4-5494-4E38-A2AF-078BD2B0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2EBA2-E3E8-46A5-92AC-4424E1D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E8BC8-9569-4385-BEA9-8EB3CF94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EAA9C-32EC-40BF-9404-B3D228BC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1FD20-BE9B-4BF9-81A1-5F2443C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45FE5-7192-447F-980F-AEA21CAA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E427F-FDF9-4EF4-A9DE-88A0367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E2F5B-9001-4A8B-B9EF-C361402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087CA-1B68-4EA7-9A71-A16C7D4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AA9-9149-4D77-AABD-849DF0E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C6117-5587-44E6-9F6A-028A003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02EB6-D12C-4F40-A933-49CC095F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658EB-3B33-4CDB-96AA-E1F79BCB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4FF53-B1D6-414B-A51B-40B649C3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B71D1-CCA7-418A-AAB1-76CBB7FE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0A85A-BAF1-4C93-AB44-7E7D549D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92F12-418F-47D0-B4E8-C8A7EAC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6E851-FE5A-40DE-AECA-D522ADF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278AB6-2521-40B7-BAAA-382202AB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CBE75-88DE-47B1-A6DD-6CA6C52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DBC-A54C-457C-A086-D6A8A52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7D9-F520-440D-A5D9-7ADB7EE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841CD-AB94-4EB6-B78D-8287A29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D6D4E-257A-4188-B36F-E0246F3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A3887-B0DC-44EC-9191-98388902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14700-5A39-4B66-975D-D5E0AEE9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24FF9-D61E-4B0B-8B39-81BAE681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C50FE-8C0A-48FF-84B2-E23DA8C6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88460-A27D-4CBA-873B-8060AF4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67330-2B48-4A4B-AD65-A0F4F4B9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BC78A-BD53-4B96-8C36-6CF59E6D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82728-C400-48A8-9809-2379046E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1EA9-5266-4A39-B73F-77DCE6A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9C62A-53F7-47C8-B8A8-B254BFD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D9783-AE14-41BA-B8C9-D24E4C9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DF972-DB15-49FA-BD1D-06382D5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8EC7E-A853-4116-9024-C1F39D3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B999F-83BC-4C8C-8361-6BF4B5F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9FD89-247D-4465-89CF-F2D6D549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2FDC4-CD51-4C66-9BA1-ECCE60EB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31D42-0AC9-4B8C-BBF1-ED715B1D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D63A5-8A0F-419D-B348-7867F257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F587B-46E8-4053-96AC-DC1D5510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0AD-744D-4C8D-A5D2-5BADF6EE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DACCB-ED7B-4C7C-B981-4CF9E6D9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6E8F2-96F4-4E54-87EF-3C0685FF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B73FC-4AC5-41E6-B6EE-A87E72B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6F827-1679-4B38-910D-93B757D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E4EBE-3BBC-4E98-8BCC-10A06DDD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BDF35-6FB8-4BCD-B3CD-087B679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67F33-1646-412B-AF81-4C35E7F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1433E-BFDF-4368-9F41-CE304195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5F0C1-0C0F-4CE8-82DA-EE68DA75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3C1F9-E70A-4C77-8C68-A65763CC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F35-7873-453A-8B32-73298EFE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2D519-5C1B-4D87-ADF5-7D967A7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5A73E-43DF-49ED-B40A-38D02DD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16387-EE57-4AAC-9E11-E1FDA823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0253D-071F-4E79-9B23-A7871BF2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5DFB5-2970-4092-B58F-9D9C7EAE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3160DF-BF58-41B5-9A8A-F844C3E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40DD4-E8E0-4EF3-BC40-3B3BCD2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6AA69-1445-426E-AC1E-C8974BB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C8E80-69C2-4EBB-90C6-3A0D4724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A3863-F703-4E8A-9C35-41385E52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8862-2DCF-41F7-BBEB-69161F67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97ED3-3EA8-4186-B4D7-B07C77B8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B0CAF-63A0-4554-8EC9-983CFEA7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ABDEC-6A97-4A04-A0C9-EC7FC41A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B71AB-A5B6-4DC4-BF14-DEF2F82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272E2-BF8D-4157-B6C6-21EB1440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4DDE4-8E08-4AE3-A8E2-FEDBB7E9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D1815-1BE2-4355-BD84-D737DED2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4680C-ACEA-4911-9B4E-A51D245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B1312-A149-49BC-A5F1-E3611CE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11747C-41EB-4DA5-A68B-AB41047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AA6B-83DD-440D-8F53-8263E1CF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357BA-8B11-4AA6-89CE-C2716F4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AB8A3-ADDD-461A-AEC8-F39E2DE0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C9148-77BF-42B9-B6F6-4D762B65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B160A0-A204-46E0-B888-DFB488C2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2C52E3-C918-42FD-A3E1-66AF905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5A53C-9922-4687-8E6A-03CBEDA2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56B0F-F866-445A-8D82-A46D20E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0464D0-C3C0-4111-ABE7-740271C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35BECE-3AB1-40B9-9448-A633E9AE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BFC0C-2DB5-453B-B4E1-00FF8EE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DD27-5700-4008-943B-42E3E091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1F77F3-BA39-4624-883D-4F8A0E70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E455D-2C3D-4308-8EF4-1F5FB22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17AE74-2920-4393-A77A-5D599889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81D77-FE9A-49BA-8D69-A853CDB7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CDDFE-CADF-4338-9049-5CC37426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DAE8DF-B3D2-44D0-9F4F-0510CCF1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A6E8B3-A0DA-4607-87F7-A7FDB10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64A3E8-EB9E-4271-BE1D-EFEA8F72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02D104-7EAB-4F46-8F09-5CD706FE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BCB0BB-30E4-4BC6-9799-55E7F0DE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A2A2-9B8F-4E1C-8ABA-B26B840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D8422-26D4-4882-8B96-FD1FF209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8B0C1F-1941-4AD5-BF6C-B8418A25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BB35E2-69BD-4BC5-A519-7119EAA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A4A0A-6AEE-471E-8779-2294E1AA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FCDB5-6AFF-4997-8AC8-E97DC0F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C9E80E-8937-47FA-AC1D-8B00F399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92EB3-D9BB-4F2E-B6B9-300A026C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D848-907B-4FC7-9654-EAF87DE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63B1-DAB6-4EC1-82DB-E1741F73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1C4-7223-4B7E-AF72-05B3ACC2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F784-6BDA-49E5-8310-E47CCDC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045C-73C7-4160-AB8A-C04D1DD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FBB8-0A8D-4B74-9A6F-255BC24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43AD-73AD-4715-B8C5-35FB0F9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8E1C-2DE7-4DEB-B179-0E92C6E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02F1-FF26-4324-A567-1AC26E90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1069-A769-45A3-8486-FDC8CE62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8654-CF93-465E-B214-7BFF069F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0236-025D-4A5B-8C85-9842323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F0E3-04AC-4804-A397-39CB46F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0F4-5182-4815-80CA-1452283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C5B3-40AF-4C46-9D07-C534B24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D7C5-85EB-43C0-BD66-F9B361A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3DA2-E4BC-44E4-ADC1-8CDC8F0E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497C-0C79-4F92-9D85-374C1C1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EDF5-FDBF-48C0-8BC4-AB27479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D0A8-208C-40EC-B2E1-C1E7A6B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9FCA-A946-45EF-A32E-73B00CF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939A-0E07-4813-A368-8983739A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7490-AF39-46DB-AA2C-4E0488E4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859D-E5B6-492B-8C51-4B5DE9F0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5D5-69A8-497E-A340-D68B168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251B-33AA-4898-8362-1D3761F9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E4BA-2244-4DF6-8729-030A7A02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25CF-65A9-4CC4-90C4-75C4207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0832-4E0A-4C8E-98A6-991B427D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FF7B-AC7A-4444-AA8A-6B86B399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8C35-B30A-42B2-907E-A007DE8C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3F78-FAD0-4AD7-9BF3-B77AAEE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18656-31D8-4391-8CFA-2E7CD18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4E4C-52AB-4A23-BF13-DAC649FA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A0E3-FD12-4747-AC9E-9B34B3B1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8F5-0801-49D7-A104-C6DF0AB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1BBE0-7E57-4C85-A2C0-6F9D02C6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D97F-D56A-42C9-A8C7-47B843EA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98FC-EFD4-46BE-8A26-C108B63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9139-004C-4512-B8E6-D1477E61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A2C1-B9FF-4D08-BA59-35964BA9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BC619-5B45-407B-8E18-EA1F8390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F54D-9AEE-42BC-AE49-709E8435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3491-9D32-49D2-9E5C-6996583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C573-199D-485D-B583-3C8D6A3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2391-27CB-45F5-B26C-ADE1A37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8FF-6208-41AB-B600-8A6AB8C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463F-BD8C-418C-8687-85F6A64E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AD60A-17AC-4372-A8F6-897360F3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B7C2-56D4-4D5B-83EF-C4965431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9BDA-2C2B-4FFA-89C0-336E3E01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0DFC-ACC8-4970-A8B0-D66A7E93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A23A-BF08-484D-B235-519E54F5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F992-34F2-40BC-A854-00A12A75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F00B1-9ACF-44B2-9B24-284326B9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D348-DC41-4A6B-B70C-9104545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321A-8846-4BEC-87E3-868A2C6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57B-4C6C-42AD-985E-DC2E637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6A7E-A16A-4DAF-BA15-ED10CAF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23DCB-98F7-421F-8BBB-72DD214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4AAF-C23E-4CDF-AB1D-AB551DE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DD429-1BFE-44D3-9468-471A0B3D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313B9-6893-41AE-931F-BA44D6B6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C74A-9BB4-4ADC-99B0-622D264E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4060-4141-4563-BE80-78AAEE1B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B4C28-B643-4908-8C16-E6B7680E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B00C-2402-4399-A621-6F03350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932F4-C157-48E5-ADD2-9579F3F1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C52-1BF8-492D-B47E-9CF7B4C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9E72-BA7D-4134-8B25-05B26D8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F86CF-E93E-4CE0-AD8E-37DDFDE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73CAC-73EF-4F71-A456-24B1F715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BC9DD-9FD0-4713-89BD-6BA8958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F2F4-1EA2-41DC-A7F1-8199AAB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E5359-2BF3-4C2C-B5B5-87017672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8DD52-CE1F-451B-BFE3-FCEB3624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8E19C-D2A1-44D6-889F-DBE4A7B9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72D40-8DC5-4B01-9DED-FEECED6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5F827-29FA-4D4B-8DE1-DD35539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F4CB-10EE-485F-AE87-BA08FB80E0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7FF1-AFC3-4A16-91B1-DD458B84B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8B93-6500-4F04-88E7-3E4283F33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D07D-31D4-4CFB-A228-FD305B4C2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1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B033-2823-4F5A-9659-1E9177930D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76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8F9-6376-469F-8FBE-7F9642A9E4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0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E69E-9BAF-448A-B83A-2FF52F5651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4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0AC-1E2F-4212-B680-3260469F64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2CD-8CA3-4693-A3D0-6076B0546A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5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5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5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9F6-3CBE-4DF5-87E4-72462F5843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5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3836-8416-48B7-BD61-3C37022530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A89B-D575-48C0-BCB7-EC0B64BD9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AE15-CF46-422B-95B1-A128B1A6BB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98D-12BC-47B9-9299-5A37BE595D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1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38B-C30C-4A40-A2AE-8FAB1FCD7B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7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8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8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8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C380-52B2-42C8-B561-B6D48618AE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B9D-EC0E-418F-9BAE-620AE601C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BEA1-FDDC-4A15-861F-58222DE61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6756-1063-4782-BF62-0314D0412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A687-CA69-468E-8142-CEC5FC84A4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C5A2-A0D6-4C67-9B0E-6C15CC90F6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A50B-574C-4F58-92CD-E0DC855451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4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575-503B-4E56-A492-E1D5084628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Box 1"/>
          <p:cNvSpPr/>
          <p:nvPr/>
        </p:nvSpPr>
        <p:spPr>
          <a:xfrm>
            <a:off x="0" y="0"/>
            <a:ext cx="9144000" cy="71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Биологический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дикт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Бактерии разложения и  гниения считаются……бактерия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сная и полезная связь как одному так и другому организму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чвенные или клубеньковые бактерии поселяются на корнях….раст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чвенные, клубеньковые или….бак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Бактерии растениям дает азот, а растения бактериям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6. Участвует в создании кисломолочных продуктов….бак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Скругленный прямоугольник 4"/>
          <p:cNvSpPr/>
          <p:nvPr/>
        </p:nvSpPr>
        <p:spPr>
          <a:xfrm>
            <a:off x="250920" y="1052640"/>
            <a:ext cx="8893080" cy="5805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протроф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био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б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зотфиксиру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чнокис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«5» – 6 правильных от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«4» – 5 правильных от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«3» – 4 правильных от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Box 1"/>
          <p:cNvSpPr/>
          <p:nvPr/>
        </p:nvSpPr>
        <p:spPr>
          <a:xfrm>
            <a:off x="324000" y="33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говор Антошки с биологом стр 8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Скругленный прямоугольник 2"/>
          <p:cNvSpPr/>
          <p:nvPr/>
        </p:nvSpPr>
        <p:spPr>
          <a:xfrm>
            <a:off x="395280" y="1413000"/>
            <a:ext cx="8424720" cy="2303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а урока: « Клетки ядерных организмов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Скругленный прямоугольник 3"/>
          <p:cNvSpPr/>
          <p:nvPr/>
        </p:nvSpPr>
        <p:spPr>
          <a:xfrm>
            <a:off x="755640" y="4221000"/>
            <a:ext cx="7920000" cy="2303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ная ситуация: Как устроена клетк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1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етка – элементарная единица живой системы, обладающая всеми признаками живого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9" name="Picture 2" descr="http://im4-tub-ru.yandex.net/i?id=140434912-18-72&amp;n=21"/>
          <p:cNvPicPr/>
          <p:nvPr/>
        </p:nvPicPr>
        <p:blipFill>
          <a:blip r:embed="rId1"/>
          <a:stretch/>
        </p:blipFill>
        <p:spPr>
          <a:xfrm>
            <a:off x="2050920" y="2276640"/>
            <a:ext cx="47530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ункции эукариотической клет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cxnSp>
        <p:nvCxnSpPr>
          <p:cNvPr id="1241" name="Прямая со стрелкой 3"/>
          <p:cNvCxnSpPr/>
          <p:nvPr/>
        </p:nvCxnSpPr>
        <p:spPr>
          <a:xfrm flipH="1">
            <a:off x="1042560" y="1628280"/>
            <a:ext cx="1153440" cy="1008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2" name="Прямая со стрелкой 5"/>
          <p:cNvCxnSpPr/>
          <p:nvPr/>
        </p:nvCxnSpPr>
        <p:spPr>
          <a:xfrm flipH="1">
            <a:off x="2842560" y="1628280"/>
            <a:ext cx="865800" cy="2592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3" name="Прямая со стрелкой 7"/>
          <p:cNvCxnSpPr/>
          <p:nvPr/>
        </p:nvCxnSpPr>
        <p:spPr>
          <a:xfrm>
            <a:off x="4500360" y="1628640"/>
            <a:ext cx="1080" cy="3888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4" name="Прямая со стрелкой 9"/>
          <p:cNvCxnSpPr/>
          <p:nvPr/>
        </p:nvCxnSpPr>
        <p:spPr>
          <a:xfrm>
            <a:off x="5796000" y="1557000"/>
            <a:ext cx="505440" cy="136764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5" name="Прямая со стрелкой 11"/>
          <p:cNvCxnSpPr/>
          <p:nvPr/>
        </p:nvCxnSpPr>
        <p:spPr>
          <a:xfrm>
            <a:off x="5724000" y="1125360"/>
            <a:ext cx="1512360" cy="432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sp>
        <p:nvSpPr>
          <p:cNvPr id="1246" name="Скругленный прямоугольник 12"/>
          <p:cNvSpPr/>
          <p:nvPr/>
        </p:nvSpPr>
        <p:spPr>
          <a:xfrm>
            <a:off x="0" y="2708280"/>
            <a:ext cx="2556000" cy="11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защитна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Скругленный прямоугольник 13"/>
          <p:cNvSpPr/>
          <p:nvPr/>
        </p:nvSpPr>
        <p:spPr>
          <a:xfrm>
            <a:off x="395280" y="4221000"/>
            <a:ext cx="331308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нос веществ в клетку и из не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8" name="Скругленный прямоугольник 14"/>
          <p:cNvSpPr/>
          <p:nvPr/>
        </p:nvSpPr>
        <p:spPr>
          <a:xfrm>
            <a:off x="1403280" y="5661000"/>
            <a:ext cx="4392720" cy="1197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лечение энергии из пищ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9" name="Скругленный прямоугольник 15"/>
          <p:cNvSpPr/>
          <p:nvPr/>
        </p:nvSpPr>
        <p:spPr>
          <a:xfrm>
            <a:off x="4500720" y="3068640"/>
            <a:ext cx="2808000" cy="165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хранение инструкций по управлению работой клет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0" name="Скругленный прямоугольник 19"/>
          <p:cNvSpPr/>
          <p:nvPr/>
        </p:nvSpPr>
        <p:spPr>
          <a:xfrm>
            <a:off x="6804000" y="1844640"/>
            <a:ext cx="2340000" cy="79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новых бел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251" name="Прямая со стрелкой 21"/>
          <p:cNvCxnSpPr/>
          <p:nvPr/>
        </p:nvCxnSpPr>
        <p:spPr>
          <a:xfrm>
            <a:off x="6516720" y="2133720"/>
            <a:ext cx="1512000" cy="259128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sp>
        <p:nvSpPr>
          <p:cNvPr id="1252" name="Скругленный прямоугольник 22"/>
          <p:cNvSpPr/>
          <p:nvPr/>
        </p:nvSpPr>
        <p:spPr>
          <a:xfrm>
            <a:off x="6156360" y="4797360"/>
            <a:ext cx="298764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ение связи между частями клет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Box 1"/>
          <p:cNvSpPr/>
          <p:nvPr/>
        </p:nvSpPr>
        <p:spPr>
          <a:xfrm>
            <a:off x="250920" y="26028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леточная стенка – осуществляет защитную функцию от проникновения  чужеродных веще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Цитоплазматическая мембрана – осуществляет перенос веществ в клетку и из кл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Митохондрии – пузырьки из мембраны с многочисленными выступами внутри, осуществляется процесс дых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Ядро – часть клетки, ответственная за хранение ДН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Рибосомы – комочки синтезирующие молекулы бел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Box 1"/>
          <p:cNvSpPr/>
          <p:nvPr/>
        </p:nvSpPr>
        <p:spPr>
          <a:xfrm>
            <a:off x="395280" y="333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Цитоплазма – жидкое содержимое клетки напрестанно протекает внутри цитоплазматической мемб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5" name="Group 4"/>
          <p:cNvGrpSpPr/>
          <p:nvPr/>
        </p:nvGrpSpPr>
        <p:grpSpPr>
          <a:xfrm>
            <a:off x="2050920" y="1484280"/>
            <a:ext cx="5255640" cy="5112720"/>
            <a:chOff x="2050920" y="1484280"/>
            <a:chExt cx="5255640" cy="5112720"/>
          </a:xfrm>
        </p:grpSpPr>
        <p:pic>
          <p:nvPicPr>
            <p:cNvPr id="1256" name="Picture 5" descr="Движение-цмтоплазмы"/>
            <p:cNvPicPr/>
            <p:nvPr/>
          </p:nvPicPr>
          <p:blipFill>
            <a:blip r:embed="rId1"/>
            <a:stretch/>
          </p:blipFill>
          <p:spPr>
            <a:xfrm>
              <a:off x="2260800" y="1484280"/>
              <a:ext cx="5045760" cy="49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AutoShape 6"/>
            <p:cNvSpPr/>
            <p:nvPr/>
          </p:nvSpPr>
          <p:spPr>
            <a:xfrm>
              <a:off x="2050920" y="1861560"/>
              <a:ext cx="5101920" cy="4735440"/>
            </a:xfrm>
            <a:custGeom>
              <a:avLst/>
              <a:gdLst>
                <a:gd name="textAreaLeft" fmla="*/ 745920 w 5101920"/>
                <a:gd name="textAreaRight" fmla="*/ 4356000 w 5101920"/>
                <a:gd name="textAreaTop" fmla="*/ 691920 h 4735440"/>
                <a:gd name="textAreaBottom" fmla="*/ 4043520 h 47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8" descr="http://im6-tub-ru.yandex.net/i?id=7258914-57-72&amp;n=21"/>
          <p:cNvPicPr/>
          <p:nvPr/>
        </p:nvPicPr>
        <p:blipFill>
          <a:blip r:embed="rId1"/>
          <a:stretch/>
        </p:blipFill>
        <p:spPr>
          <a:xfrm>
            <a:off x="239760" y="260280"/>
            <a:ext cx="5083200" cy="6408720"/>
          </a:xfrm>
          <a:prstGeom prst="rect">
            <a:avLst/>
          </a:prstGeom>
          <a:ln w="0">
            <a:noFill/>
          </a:ln>
        </p:spPr>
      </p:pic>
      <p:sp>
        <p:nvSpPr>
          <p:cNvPr id="1259" name="Скругленный прямоугольник 5"/>
          <p:cNvSpPr/>
          <p:nvPr/>
        </p:nvSpPr>
        <p:spPr>
          <a:xfrm>
            <a:off x="5364000" y="333360"/>
            <a:ext cx="3780000" cy="6191280"/>
          </a:xfrm>
          <a:custGeom>
            <a:avLst/>
            <a:gdLst>
              <a:gd name="textAreaLeft" fmla="*/ 184320 w 3780000"/>
              <a:gd name="textAreaRight" fmla="*/ 3595680 w 3780000"/>
              <a:gd name="textAreaTop" fmla="*/ 184320 h 6191280"/>
              <a:gd name="textAreaBottom" fmla="*/ 6006960 h 6191280"/>
            </a:gdLst>
            <a:ahLst/>
            <a:rect l="textAreaLeft" t="textAreaTop" r="textAreaRight" b="textAreaBottom"/>
            <a:pathLst>
              <a:path w="21600" h="35377">
                <a:moveTo>
                  <a:pt x="3600" y="0"/>
                </a:moveTo>
                <a:arcTo wR="3600" hR="3600" stAng="16200000" swAng="-5400000"/>
                <a:lnTo>
                  <a:pt x="0" y="31777"/>
                </a:lnTo>
                <a:arcTo wR="3600" hR="3600" stAng="10800000" swAng="-5400000"/>
                <a:lnTo>
                  <a:pt x="18000" y="353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ПС – эндоплазматическа сеть трубки и цистерны, образованные мембраной, на которой синтезируются белки, жиры и углев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9:43:24Z</dcterms:created>
  <dc:creator>DOMPK</dc:creator>
  <dc:description/>
  <dc:language>en-US</dc:language>
  <cp:lastModifiedBy>DOMPK</cp:lastModifiedBy>
  <dcterms:modified xsi:type="dcterms:W3CDTF">2013-12-05T10:50:58Z</dcterms:modified>
  <cp:revision>2</cp:revision>
  <dc:subject/>
  <dc:title>Слайд 1</dc:title>
</cp:coreProperties>
</file>