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128-E3D1-4217-8A42-A6C0C91D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302-9C65-4E2B-9B23-7D6DE8C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86A-5005-4BE7-BCA7-CED221DA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6DD-F69F-4278-9005-2A038115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CAF-9851-44D4-B9F8-34DE7DB8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B9FD-AAD5-450B-8D4D-F07F205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BE9B-9E30-453B-9692-60B687FA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31D-FDB3-46B5-8E95-1B2B80D1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0E0-4BA6-4CC2-BB5E-75192AD9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059-ECA0-4887-B90C-533172C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3A4B-A98D-4DDA-B773-C2203BB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AD0-F364-4ABC-A38E-75D016A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33C-0B77-46E9-946F-F2DA3DC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0C6-5282-40A1-AD44-9D4BD6C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9128-8975-4D19-A7D9-BDA5FC9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B9E-30CA-4229-9CAF-4023A261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0F5-CF1E-4F80-A3AD-C6062063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84B-CB5D-46F7-B03E-58ED7B23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D5B-AC0C-42CA-AE7F-4F315996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A6C-CA31-42D3-BDA0-4878DF4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6B2-DCF5-406F-B236-AFE93D0C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B70-D72E-4FE5-8775-965AD9C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895-FE30-4AAC-8F77-73F1E3A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C7E-58BE-442C-8E3B-094E42A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1A0-604B-48FF-A271-C74319CCB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E14-7EE3-4757-A61E-6C2801683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9640" y="1595520"/>
            <a:ext cx="792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728640"/>
                <a:tab algn="l" pos="1082520"/>
                <a:tab algn="l" pos="1438200"/>
                <a:tab algn="l" pos="1795320"/>
                <a:tab algn="l" pos="2151000"/>
                <a:tab algn="l" pos="2505240"/>
                <a:tab algn="l" pos="2860560"/>
                <a:tab algn="l" pos="3218040"/>
                <a:tab algn="l" pos="3573360"/>
                <a:tab algn="l" pos="3929040"/>
                <a:tab algn="l" pos="42829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о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Мы каждый год собираем подосиновики в одном и том же месте. Сколько мы их ни собираем, они не исчез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68360" y="3780000"/>
            <a:ext cx="8170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Это связано с одним очень важным свойством живых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20720" y="5478480"/>
            <a:ext cx="802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 каком свойстве живых организ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оминает биолог? Что нового ты узнаеш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57200" y="81000"/>
            <a:ext cx="82249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робле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ему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1916280"/>
            <a:ext cx="76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МНОЖЕНИЕ ГРИ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457200" y="3213000"/>
            <a:ext cx="82249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к грибы восстанавливают свою числен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24000" y="2421000"/>
            <a:ext cx="799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8360" y="2421000"/>
            <a:ext cx="755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68360" y="234936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 воспроизвед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 половое, бесполо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 увеличивает, сохраня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змножение – это процесс воспроизведения новых особей с целью увеличения и сохранения численности ви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3"/>
          <p:cNvCxnSpPr>
            <a:stCxn id="93" idx="2"/>
          </p:cNvCxnSpPr>
          <p:nvPr/>
        </p:nvCxnSpPr>
        <p:spPr>
          <a:xfrm flipH="1">
            <a:off x="2986920" y="1417680"/>
            <a:ext cx="1585080" cy="114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5"/>
          <p:cNvCxnSpPr>
            <a:stCxn id="93" idx="2"/>
          </p:cNvCxnSpPr>
          <p:nvPr/>
        </p:nvCxnSpPr>
        <p:spPr>
          <a:xfrm>
            <a:off x="4571640" y="1417320"/>
            <a:ext cx="18010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Скругленный прямоугольник 6"/>
          <p:cNvSpPr/>
          <p:nvPr/>
        </p:nvSpPr>
        <p:spPr>
          <a:xfrm>
            <a:off x="395280" y="263700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еспол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7"/>
          <p:cNvSpPr/>
          <p:nvPr/>
        </p:nvSpPr>
        <p:spPr>
          <a:xfrm>
            <a:off x="5867280" y="2708280"/>
            <a:ext cx="30258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в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9"/>
          <p:cNvCxnSpPr>
            <a:stCxn id="96" idx="2"/>
          </p:cNvCxnSpPr>
          <p:nvPr/>
        </p:nvCxnSpPr>
        <p:spPr>
          <a:xfrm flipH="1">
            <a:off x="1115280" y="3428640"/>
            <a:ext cx="57708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11"/>
          <p:cNvCxnSpPr>
            <a:stCxn id="96" idx="2"/>
          </p:cNvCxnSpPr>
          <p:nvPr/>
        </p:nvCxnSpPr>
        <p:spPr>
          <a:xfrm>
            <a:off x="1692360" y="3428640"/>
            <a:ext cx="252000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Скругленный прямоугольник 12"/>
          <p:cNvSpPr/>
          <p:nvPr/>
        </p:nvSpPr>
        <p:spPr>
          <a:xfrm>
            <a:off x="179280" y="4797360"/>
            <a:ext cx="345600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егетатив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3995640" y="4437000"/>
            <a:ext cx="316872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 помощи с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408560" cy="33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859280" y="900000"/>
            <a:ext cx="3927600" cy="46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179280" y="3575160"/>
            <a:ext cx="489744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3836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799080" cy="257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0" y="3959280"/>
            <a:ext cx="431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068880" y="3780000"/>
            <a:ext cx="2751120" cy="3020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50920" y="36036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4140360" y="338040"/>
            <a:ext cx="4860720" cy="200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1627200" y="2508120"/>
            <a:ext cx="7373880" cy="4330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39640" y="2700360"/>
            <a:ext cx="72072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457200" y="12708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1733400"/>
            <a:ext cx="82281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ы размножаются обрывками гиф, отдельными клетками и спорами. Из многочисленных спор приживаются немногие, но споры могут улететь далеко от родительского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6:28:07Z</dcterms:created>
  <dc:creator>DOMPK</dc:creator>
  <dc:description/>
  <dc:language>en-US</dc:language>
  <cp:lastModifiedBy>DOMPK</cp:lastModifiedBy>
  <dcterms:modified xsi:type="dcterms:W3CDTF">2013-12-18T06:51:21Z</dcterms:modified>
  <cp:revision>1</cp:revision>
  <dc:subject/>
  <dc:title>Слайд 1</dc:title>
</cp:coreProperties>
</file>