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699-F9F4-4A7F-AE5A-ACD58D1E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EA1-D30F-412C-BEFD-E503F68F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9C6-42B1-4C2C-8770-F5537770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AE3-8A84-4514-B997-7BDA5190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1F95-415A-4A66-A2B0-C17B7ACC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7441-900D-4700-A28E-44B35670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E4CE-8349-41ED-A685-BD75A76B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B6E3-E9FE-4FF2-A2FC-5EE62FB9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C3E4-F201-4FF0-AA37-67FD1A54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C6DD-3AAC-4275-839C-77B85A66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37ED-70FE-4C91-A9D2-9DAC372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993-3593-45B0-868D-05709E8B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527F-CE34-475F-886E-9EFB88F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AC0B-A29F-4067-BB98-C45672B4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9697-3E5C-4567-8CD4-6C4C3E2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0132-189B-461E-86D4-19BECF42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4E82-EC22-464C-AB22-C878E117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D94-8DAC-4651-A2AD-9DA21290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3E8-2C94-42B0-8C9F-C615C129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2FC-CEBA-4C56-AAE8-E8410BCF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61C-B266-4779-9770-971EBB5E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3BA-CDBE-4B11-92EA-88E9D6CF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66D-8BEA-4399-BE6C-1A0C2FF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811-37D3-4A8B-9D8C-7B81C186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B7B1-84AC-411B-97CF-3FB2F75C3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57A-174F-4BA1-8D6F-41E2B6195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539640" y="1595520"/>
            <a:ext cx="792000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72960"/>
                <a:tab algn="l" pos="728640"/>
                <a:tab algn="l" pos="1082520"/>
                <a:tab algn="l" pos="1438200"/>
                <a:tab algn="l" pos="1795320"/>
                <a:tab algn="l" pos="2151000"/>
                <a:tab algn="l" pos="2505240"/>
                <a:tab algn="l" pos="2860560"/>
                <a:tab algn="l" pos="3218040"/>
                <a:tab algn="l" pos="3573360"/>
                <a:tab algn="l" pos="3929040"/>
                <a:tab algn="l" pos="428292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то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Мы каждый год собираем подосиновики в одном и том же месте. Сколько мы их ни собираем, они не исчез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68360" y="3780000"/>
            <a:ext cx="8170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ло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Это связано с одним очень важным свойством живых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20720" y="5478480"/>
            <a:ext cx="8028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 каком свойстве живых организ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оминает биолог? Что нового ты узнаешь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457200" y="81000"/>
            <a:ext cx="82249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яем проблем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ему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1916280"/>
            <a:ext cx="76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МНОЖЕНИЕ ГРИ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457200" y="3213000"/>
            <a:ext cx="822492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ак грибы восстанавливают свою числен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кве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ножение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324000" y="2421000"/>
            <a:ext cx="799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68360" y="2421000"/>
            <a:ext cx="755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68360" y="234936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1. воспроизвед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. половое, бесполо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. увеличивает, сохраня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азмножение – это процесс воспроизведения новых особей с целью увеличения и сохранения численности ви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н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3"/>
          <p:cNvCxnSpPr>
            <a:stCxn id="93" idx="2"/>
          </p:cNvCxnSpPr>
          <p:nvPr/>
        </p:nvCxnSpPr>
        <p:spPr>
          <a:xfrm flipH="1">
            <a:off x="2986920" y="1417680"/>
            <a:ext cx="1585080" cy="114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5"/>
          <p:cNvCxnSpPr>
            <a:stCxn id="93" idx="2"/>
          </p:cNvCxnSpPr>
          <p:nvPr/>
        </p:nvCxnSpPr>
        <p:spPr>
          <a:xfrm>
            <a:off x="4571640" y="1417320"/>
            <a:ext cx="18010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Скругленный прямоугольник 6"/>
          <p:cNvSpPr/>
          <p:nvPr/>
        </p:nvSpPr>
        <p:spPr>
          <a:xfrm>
            <a:off x="395280" y="263700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Беспол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7"/>
          <p:cNvSpPr/>
          <p:nvPr/>
        </p:nvSpPr>
        <p:spPr>
          <a:xfrm>
            <a:off x="5867280" y="2708280"/>
            <a:ext cx="30258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лов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9"/>
          <p:cNvCxnSpPr>
            <a:stCxn id="96" idx="2"/>
          </p:cNvCxnSpPr>
          <p:nvPr/>
        </p:nvCxnSpPr>
        <p:spPr>
          <a:xfrm flipH="1">
            <a:off x="1115280" y="3428640"/>
            <a:ext cx="57708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11"/>
          <p:cNvCxnSpPr>
            <a:stCxn id="96" idx="2"/>
          </p:cNvCxnSpPr>
          <p:nvPr/>
        </p:nvCxnSpPr>
        <p:spPr>
          <a:xfrm>
            <a:off x="1692360" y="3428640"/>
            <a:ext cx="2520000" cy="5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Скругленный прямоугольник 12"/>
          <p:cNvSpPr/>
          <p:nvPr/>
        </p:nvSpPr>
        <p:spPr>
          <a:xfrm>
            <a:off x="179280" y="4797360"/>
            <a:ext cx="345600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егетатив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3"/>
          <p:cNvSpPr/>
          <p:nvPr/>
        </p:nvSpPr>
        <p:spPr>
          <a:xfrm>
            <a:off x="3995640" y="4437000"/>
            <a:ext cx="316872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 помощи сп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4408560" cy="33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859280" y="900000"/>
            <a:ext cx="3927600" cy="468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179280" y="3575160"/>
            <a:ext cx="489744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43836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799080" cy="257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0" y="3959280"/>
            <a:ext cx="4319640" cy="273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6068880" y="3780000"/>
            <a:ext cx="2751120" cy="3020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50920" y="36036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4140360" y="338040"/>
            <a:ext cx="4860720" cy="200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1627200" y="2508120"/>
            <a:ext cx="7373880" cy="4330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539640" y="2700360"/>
            <a:ext cx="72072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457200" y="127080"/>
            <a:ext cx="8228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1733400"/>
            <a:ext cx="82281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бы размножаются обрывками гиф, отдельными клетками и спорами. Из многочисленных спор приживаются немногие, но споры могут улететь далеко от родительского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6:28:07Z</dcterms:created>
  <dc:creator>DOMPK</dc:creator>
  <dc:description/>
  <dc:language>en-US</dc:language>
  <cp:lastModifiedBy>DOMPK</cp:lastModifiedBy>
  <dcterms:modified xsi:type="dcterms:W3CDTF">2013-12-18T06:51:21Z</dcterms:modified>
  <cp:revision>1</cp:revision>
  <dc:subject/>
  <dc:title>Слайд 1</dc:title>
</cp:coreProperties>
</file>